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093-E64B-441A-B4DE-C75BA5F1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031-2E8F-4A7E-A4B8-D3BD63AA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70FBA-0466-4C67-BA07-B3F9F056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C1095-51D4-442F-918D-118D045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A597E-3CAF-4980-B8F8-5BCA388D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9BFCC-B1BB-4BC8-807E-A5449F1F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5789D-62DB-46B1-8272-6874C22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3690D-8813-4EFD-ACF8-E1D7CD28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3D5CE-272E-40C8-9A65-995F369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F9061-9C21-4D43-9FCD-2CFCE115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94D1E-116A-46E7-AD93-8CF6899D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99A80-6F57-4404-ADFF-21770C9E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B81-410E-4EF1-ABBE-5401DA63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EBF38-2C9C-4DCB-8779-81DAB9F8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CD7BC-0682-4240-9947-D0926885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02B95-1CBF-4F37-8497-DE9451CD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69A73-7A5C-47F0-B8DB-362556D3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9CE98-C1F7-42A4-AFDF-89012BF6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550E5-3141-466C-A809-4E922CE2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19210-CEDB-4A76-8D05-D529C75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C01DA-760E-4F3D-87D2-D79DCB37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D751D-7F32-41B3-AA52-9338615E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F4590-E0A0-432D-95F7-30D1283C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FD7-0DA3-4347-A206-2F6CB043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7A1DD-504C-4BB1-8031-65EA9E3A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294DA-FBC0-4693-91CB-BCE5D6CA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F03E9-32A7-4E3C-9214-C13DDBF2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96617-7C37-4B16-BDBF-5CA09206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4D8DD-F13A-4435-A85E-7AC34EF7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3ECDB-D643-46E6-87A3-3456AB90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FF6C2-805C-4094-85F4-70E23B8D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62066-AD5F-4851-9EE6-76154758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8C89A-4EA7-4D88-B5F0-5CA0BA0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FE75C-06B3-4617-B9C6-6565559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D7C0-E3FE-40F5-A6A0-2EF5D9AE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1FF1D-F056-421B-971D-8511EFF6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2FD3A-D69B-4995-A667-77606C23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41649-CB68-4816-A01B-58163C1E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52BF-4629-431C-BAE9-386EF77F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DEF9-E7C7-4E58-8176-F96B2756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5442-4591-4F6F-945E-2300AEDC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FEB1-493B-429E-811D-FA5542D7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B23-2887-4DDE-9008-8BD75220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903-D099-419B-8041-6A1330AF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DA6-DA8E-433A-BFC6-DF692946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3AF3-DCD4-46F0-84FD-D7C3630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B07F-5733-49E7-B929-BAE8F5A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AEEB-B98C-4131-9755-E93C81C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583D-EE6E-4721-B39C-BC494B8E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251F-DAED-4AE0-B677-672162B0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EDB5-241B-433B-B95C-BACFC0C9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E1AD-5F89-4B2F-A256-6011899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29E6-960E-4197-8867-C92C4FD0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4378-6677-4D98-9D1F-32972098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8BA4-CF2B-41FC-8F62-2DC3AB92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805-AB9C-4B32-A21D-42659FEE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81A0-DC42-4D82-B619-1E185489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4476-278B-4D3E-8332-1DC69DB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94CD-2932-479A-88CB-F66C700C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DF02-7018-4EFF-A6A8-8214F343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6297-8F49-48EE-AFD1-9A39001D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F154-38C0-47EC-BD0A-107545BE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69AB-9D68-4AC7-91B0-5DEE07E1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D0A7D-F285-4EED-A0A1-463662BB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0F5B-707D-40AF-B062-0F6E6582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0B2C-D301-429F-9ED3-379C91E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C3D-A67F-401C-BDB1-8AD1A06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DB73B-DEE4-4386-9AB0-4A7D816E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F11E9-FE66-45A6-AA4C-CDBB5F2D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1763-8CD4-4BD3-AB85-C6F92708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BA90-0424-4F3F-A8D3-5ACAF66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C4BF-FF4C-4B6E-BC0F-6271366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3A32-F08E-4F58-8B16-A907D31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52265-DFA5-47F3-9E8C-C2759266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2E0CF-93EE-470F-8848-703BBF83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3749-D1B5-49AA-A771-1A854809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3E30D-3DA7-4489-BF93-C34C3D19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B56-E8C1-454B-80D7-50801870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B138-3185-4BE8-A7B3-9F6D159A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5E43D-CB77-4CBA-9E34-0ABEE491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394D2-D8AB-4E28-9249-408FA9D6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37B5E-540E-48E2-993D-31608FF2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EB2B8-115D-471E-900F-D51DC7CD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4A2E-10D8-49D3-B743-001DD98B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C6FB7-BCEF-4A0E-ACF9-4FBCB62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27805-2E24-4121-8655-BE6E268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EEA4-AB19-49D7-A8E9-28E39645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27B8-ECCC-40D0-A8C6-1506F804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1E4-FA35-4D9F-AFB1-FC0CF5C6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6382A-7831-46BB-9300-AD0FE23D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554B9-F5E2-487E-A6A2-201178EA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6A5F-BBD5-46CD-9876-BAA74CF0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CC91-7982-4B4A-A794-668518C1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4C649-D281-4979-88E6-C9D847C2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FDD9-FF36-4A0D-843C-2861528A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AB4CA-FDF1-4DC4-971D-6B1CD80C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676BD-F40F-4366-B7C2-488D51F3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AC6A4-D254-47DD-9623-F5E7BC8C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A11F0-5DAC-4E8D-9572-098D98D1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164-3056-4A2C-8DC5-DD45003F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144B9-4B27-4D73-BA94-639B4361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D88BC-17BB-47F0-B8AF-C7E6488A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A27DB-FE23-4506-AC0B-91A2602C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FD372-4B0F-46C5-9AAC-3C42328A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45469-856C-4B58-A45C-E8D9AA3A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F05A-DC44-433D-A9E8-8663B06D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9927C-36BC-4965-92E9-0033FD81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5996-B366-4BBB-A29C-B71DB23C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D1AC6-25DE-4EDC-AEE6-87783D59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B2B2E-416F-4475-B16D-B684DFB0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7A3-49F5-48DE-B3E9-D190259C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E9566-49ED-45A2-9F90-AF826012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2FEDE-4B65-4649-8E92-C903A02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00E9E-AF4D-4C5C-B34E-FDC750F6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6AD48-7C72-4467-BA3F-9B8DF2D3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5CDE6-6F88-4325-BE5F-2A583102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DE5AB-57E7-41D6-A0A1-D3AED2A6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D3A06-549A-4144-88B7-916CB940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FF1C9-DCBE-4F4F-9378-531F4F2F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8296D-940D-45EA-8E44-13764A54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8B348-64DB-4EDC-8727-8E9710FD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267-5267-4666-BFC6-57A966B4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10546-DC20-48BB-A55F-D6D5196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B8707-E740-4B0A-AF72-FB280E78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E65A7-68E2-47CE-928E-EF3E226F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8387C-BD9D-495F-B3CE-68AF601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15781-7749-4527-95DD-9A9CB4D7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9E342-1B12-488D-8797-1C5F2805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0416A-EF8B-4173-A040-156F8BC6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73AAF-A74E-4572-8B2E-CEB1A330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92338-266F-4C6B-9623-F07A6412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B3D85-1DF7-45B8-980C-F3962060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《人才测评》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1786-C774-40A5-A992-987EC499F1D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BF5E-562A-48C8-A85A-54DDAA4A936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C850-3922-4886-9610-96780D84025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6FD9-EBFA-4147-9511-889E9489648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331-7476-4D69-B5AC-0434CB55750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EA0B-4F43-4324-B944-A7314FC234A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C0B8-350E-4147-B196-3F0A6794A62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0BA-B0B2-47BB-BFAA-EF30BA94EDD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FDEE-7BC5-45E4-9A5B-9E7B5F52A57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51A7-C2FA-4082-9BC9-40AE9FD4EF8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B61D-80DF-48C8-8931-80D9B35FBCD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文本框 24578"/>
          <p:cNvSpPr/>
          <p:nvPr/>
        </p:nvSpPr>
        <p:spPr>
          <a:xfrm>
            <a:off x="1219320" y="1828800"/>
            <a:ext cx="71690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招聘面试工作手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矩形 24580"/>
          <p:cNvSpPr/>
          <p:nvPr/>
        </p:nvSpPr>
        <p:spPr>
          <a:xfrm>
            <a:off x="193824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矩形 24581"/>
          <p:cNvSpPr/>
          <p:nvPr/>
        </p:nvSpPr>
        <p:spPr>
          <a:xfrm>
            <a:off x="1078920" y="6126480"/>
            <a:ext cx="713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本资料选自国内最具含金量，最全面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人力资源顶级方法与实操大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-201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铂金版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资料每年升级，全国各地免费送货，货到付款，详情咨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1445773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（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无需验证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—————————————————————————————————————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EFB4-505B-452A-853E-0152F43746E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对象 5121"/>
          <p:cNvGraphicFramePr/>
          <p:nvPr/>
        </p:nvGraphicFramePr>
        <p:xfrm>
          <a:off x="609480" y="685800"/>
          <a:ext cx="7886880" cy="32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3" name="对象 5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88688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7D4-C763-43C1-BDC7-2D21BCF8954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19457"/>
          <p:cNvSpPr/>
          <p:nvPr/>
        </p:nvSpPr>
        <p:spPr>
          <a:xfrm>
            <a:off x="114300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公司招聘流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文本框 19458"/>
          <p:cNvSpPr/>
          <p:nvPr/>
        </p:nvSpPr>
        <p:spPr>
          <a:xfrm>
            <a:off x="533520" y="1600200"/>
            <a:ext cx="1295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填写人力需求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19459"/>
          <p:cNvSpPr/>
          <p:nvPr/>
        </p:nvSpPr>
        <p:spPr>
          <a:xfrm>
            <a:off x="3429000" y="1523880"/>
            <a:ext cx="1219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发布内外招聘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文本框 19460"/>
          <p:cNvSpPr/>
          <p:nvPr/>
        </p:nvSpPr>
        <p:spPr>
          <a:xfrm>
            <a:off x="1828800" y="2971800"/>
            <a:ext cx="1219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管总经理批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文本框 19461"/>
          <p:cNvSpPr/>
          <p:nvPr/>
        </p:nvSpPr>
        <p:spPr>
          <a:xfrm>
            <a:off x="4648320" y="2971800"/>
            <a:ext cx="1523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整理筛选应聘者资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文本框 19462"/>
          <p:cNvSpPr/>
          <p:nvPr/>
        </p:nvSpPr>
        <p:spPr>
          <a:xfrm>
            <a:off x="7086600" y="1676520"/>
            <a:ext cx="1219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交用人部门复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19463"/>
          <p:cNvSpPr/>
          <p:nvPr/>
        </p:nvSpPr>
        <p:spPr>
          <a:xfrm>
            <a:off x="7086600" y="2819520"/>
            <a:ext cx="12193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排面试时间地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19464"/>
          <p:cNvSpPr/>
          <p:nvPr/>
        </p:nvSpPr>
        <p:spPr>
          <a:xfrm>
            <a:off x="7086600" y="4038480"/>
            <a:ext cx="1219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面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笔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19465"/>
          <p:cNvSpPr/>
          <p:nvPr/>
        </p:nvSpPr>
        <p:spPr>
          <a:xfrm>
            <a:off x="7162920" y="5486400"/>
            <a:ext cx="1218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决定录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文本框 19466"/>
          <p:cNvSpPr/>
          <p:nvPr/>
        </p:nvSpPr>
        <p:spPr>
          <a:xfrm>
            <a:off x="4800600" y="5334120"/>
            <a:ext cx="160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力资源部通知上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文本框 19467"/>
          <p:cNvSpPr/>
          <p:nvPr/>
        </p:nvSpPr>
        <p:spPr>
          <a:xfrm>
            <a:off x="3200400" y="4495680"/>
            <a:ext cx="1219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文本框 19468"/>
          <p:cNvSpPr/>
          <p:nvPr/>
        </p:nvSpPr>
        <p:spPr>
          <a:xfrm>
            <a:off x="1676520" y="5334120"/>
            <a:ext cx="1218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入职培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直接连接符 19469"/>
          <p:cNvSpPr/>
          <p:nvPr/>
        </p:nvSpPr>
        <p:spPr>
          <a:xfrm>
            <a:off x="1066680" y="2286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直接连接符 19470"/>
          <p:cNvSpPr/>
          <p:nvPr/>
        </p:nvSpPr>
        <p:spPr>
          <a:xfrm>
            <a:off x="1066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直接连接符 19471"/>
          <p:cNvSpPr/>
          <p:nvPr/>
        </p:nvSpPr>
        <p:spPr>
          <a:xfrm flipV="1">
            <a:off x="266688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直接连接符 19472"/>
          <p:cNvSpPr/>
          <p:nvPr/>
        </p:nvSpPr>
        <p:spPr>
          <a:xfrm>
            <a:off x="266688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直接连接符 19473"/>
          <p:cNvSpPr/>
          <p:nvPr/>
        </p:nvSpPr>
        <p:spPr>
          <a:xfrm>
            <a:off x="403848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直接连接符 19474"/>
          <p:cNvSpPr/>
          <p:nvPr/>
        </p:nvSpPr>
        <p:spPr>
          <a:xfrm>
            <a:off x="40384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直接连接符 19475"/>
          <p:cNvSpPr/>
          <p:nvPr/>
        </p:nvSpPr>
        <p:spPr>
          <a:xfrm flipV="1">
            <a:off x="563868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直接连接符 19476"/>
          <p:cNvSpPr/>
          <p:nvPr/>
        </p:nvSpPr>
        <p:spPr>
          <a:xfrm>
            <a:off x="5638680" y="2057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直接连接符 19477"/>
          <p:cNvSpPr/>
          <p:nvPr/>
        </p:nvSpPr>
        <p:spPr>
          <a:xfrm>
            <a:off x="76201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直接连接符 19478"/>
          <p:cNvSpPr/>
          <p:nvPr/>
        </p:nvSpPr>
        <p:spPr>
          <a:xfrm>
            <a:off x="76201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直接连接符 19479"/>
          <p:cNvSpPr/>
          <p:nvPr/>
        </p:nvSpPr>
        <p:spPr>
          <a:xfrm>
            <a:off x="762012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直接连接符 19480"/>
          <p:cNvSpPr/>
          <p:nvPr/>
        </p:nvSpPr>
        <p:spPr>
          <a:xfrm flipH="1">
            <a:off x="6400440" y="5715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直接连接符 19481"/>
          <p:cNvSpPr/>
          <p:nvPr/>
        </p:nvSpPr>
        <p:spPr>
          <a:xfrm flipV="1">
            <a:off x="55627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直接连接符 19482"/>
          <p:cNvSpPr/>
          <p:nvPr/>
        </p:nvSpPr>
        <p:spPr>
          <a:xfrm flipH="1">
            <a:off x="441936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直接连接符 19483"/>
          <p:cNvSpPr/>
          <p:nvPr/>
        </p:nvSpPr>
        <p:spPr>
          <a:xfrm flipH="1">
            <a:off x="25142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直接连接符 19484"/>
          <p:cNvSpPr/>
          <p:nvPr/>
        </p:nvSpPr>
        <p:spPr>
          <a:xfrm>
            <a:off x="25146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8179-96CC-459F-875A-B2DF2C7A03A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对象 20524"/>
          <p:cNvGraphicFramePr/>
          <p:nvPr/>
        </p:nvGraphicFramePr>
        <p:xfrm>
          <a:off x="277920" y="914400"/>
          <a:ext cx="886608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7" name="对象 205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914400"/>
                    <a:ext cx="88660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CADD-3FB4-42DE-B0C5-EE7B3515AE2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对象 6145"/>
          <p:cNvGraphicFramePr/>
          <p:nvPr/>
        </p:nvGraphicFramePr>
        <p:xfrm>
          <a:off x="914400" y="533520"/>
          <a:ext cx="769608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对象 61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6960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279E-CD0D-4655-8C59-8C7DD298457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对象 7169"/>
          <p:cNvGraphicFramePr/>
          <p:nvPr/>
        </p:nvGraphicFramePr>
        <p:xfrm>
          <a:off x="609480" y="609480"/>
          <a:ext cx="792504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5" name="对象 7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9250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C69-2A88-4BFB-8FD4-93E1CAAE96A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对象 11265"/>
          <p:cNvGraphicFramePr/>
          <p:nvPr/>
        </p:nvGraphicFramePr>
        <p:xfrm>
          <a:off x="457200" y="857160"/>
          <a:ext cx="68007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9" name="对象 112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57160"/>
                    <a:ext cx="6800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对象 11266"/>
          <p:cNvGraphicFramePr/>
          <p:nvPr/>
        </p:nvGraphicFramePr>
        <p:xfrm>
          <a:off x="533520" y="609480"/>
          <a:ext cx="7772400" cy="5639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1" name="对象 112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609480"/>
                    <a:ext cx="77724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370F-204A-4B5D-82A8-B53F41BBA70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对象 12290"/>
          <p:cNvGraphicFramePr/>
          <p:nvPr/>
        </p:nvGraphicFramePr>
        <p:xfrm>
          <a:off x="457200" y="533520"/>
          <a:ext cx="8001000" cy="57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对象 122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001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3E0B-FB62-474F-AAE4-B15EE2852E6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对象 13315"/>
          <p:cNvGraphicFramePr/>
          <p:nvPr/>
        </p:nvGraphicFramePr>
        <p:xfrm>
          <a:off x="533520" y="685800"/>
          <a:ext cx="80769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9" name="对象 133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85800"/>
                    <a:ext cx="80769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919-452B-4068-950E-B45EDF27339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对象 14338"/>
          <p:cNvGraphicFramePr/>
          <p:nvPr/>
        </p:nvGraphicFramePr>
        <p:xfrm>
          <a:off x="914400" y="457200"/>
          <a:ext cx="746748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3" name="对象 143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4674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234B-8BEF-4F3C-B2DE-11D3E0A3A55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6" name="对象 15361"/>
          <p:cNvGraphicFramePr/>
          <p:nvPr/>
        </p:nvGraphicFramePr>
        <p:xfrm>
          <a:off x="609480" y="533520"/>
          <a:ext cx="8001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7" name="对象 153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20E-45E1-4AF7-A0D7-27081332253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对象 2049"/>
          <p:cNvGraphicFramePr/>
          <p:nvPr/>
        </p:nvGraphicFramePr>
        <p:xfrm>
          <a:off x="127080" y="457200"/>
          <a:ext cx="44974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对象 20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457200"/>
                    <a:ext cx="4497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对象 2050"/>
          <p:cNvGraphicFramePr/>
          <p:nvPr/>
        </p:nvGraphicFramePr>
        <p:xfrm>
          <a:off x="4724280" y="838080"/>
          <a:ext cx="4168800" cy="548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9" name="对象 20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838080"/>
                    <a:ext cx="4168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655C-82F8-455A-8463-B58526EB04B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对象 16385"/>
          <p:cNvGraphicFramePr/>
          <p:nvPr/>
        </p:nvGraphicFramePr>
        <p:xfrm>
          <a:off x="457200" y="609480"/>
          <a:ext cx="81532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1" name="对象 16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153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8040-D0F7-402B-BCFD-0EC34CFBED1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4" name="对象 17409"/>
          <p:cNvGraphicFramePr/>
          <p:nvPr/>
        </p:nvGraphicFramePr>
        <p:xfrm>
          <a:off x="533520" y="533520"/>
          <a:ext cx="8001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5" name="对象 174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EDAC-2DC4-4BAA-8D4D-6037A4184AD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对象 18434"/>
          <p:cNvGraphicFramePr/>
          <p:nvPr/>
        </p:nvGraphicFramePr>
        <p:xfrm>
          <a:off x="457200" y="533520"/>
          <a:ext cx="792468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9" name="对象 184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7924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矩形 18436"/>
          <p:cNvSpPr/>
          <p:nvPr/>
        </p:nvSpPr>
        <p:spPr>
          <a:xfrm>
            <a:off x="193824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CD88-0BDE-49EA-936E-15B841AE75E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23554"/>
          <p:cNvSpPr/>
          <p:nvPr/>
        </p:nvSpPr>
        <p:spPr>
          <a:xfrm>
            <a:off x="762120" y="457200"/>
            <a:ext cx="73911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五年后你认为自己的发展如何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为什么你认为自己能在这个岗位上做得更好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如果你是主管的话，你应该怎样解决这个问题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如果被聘用，你认为首先改变的是什么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介绍一下你采用何种方法来评价你每一份应聘的工作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举具体例子说明你在以前的工作中是如何克服遇到的棘手难题的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告诉我你在开始上一份工作之后所采取的第一个行动是什么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EF67-D44B-4B5E-BA11-987AC328023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对象 21505"/>
          <p:cNvGraphicFramePr/>
          <p:nvPr/>
        </p:nvGraphicFramePr>
        <p:xfrm>
          <a:off x="609480" y="457200"/>
          <a:ext cx="815364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对象 2150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8153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7" name="图片 21507" descr=""/>
          <p:cNvPicPr/>
          <p:nvPr/>
        </p:nvPicPr>
        <p:blipFill>
          <a:blip r:embed="rId3"/>
          <a:stretch/>
        </p:blipFill>
        <p:spPr>
          <a:xfrm>
            <a:off x="1143000" y="30492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46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69E7-C657-4576-A117-8B5349A1103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对象 22529"/>
          <p:cNvGraphicFramePr/>
          <p:nvPr/>
        </p:nvGraphicFramePr>
        <p:xfrm>
          <a:off x="609480" y="609480"/>
          <a:ext cx="8001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对象 225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8001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A31E-0CE5-4A65-B462-B56106891D37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对象 3073"/>
          <p:cNvGraphicFramePr/>
          <p:nvPr/>
        </p:nvGraphicFramePr>
        <p:xfrm>
          <a:off x="457200" y="304920"/>
          <a:ext cx="8229600" cy="1226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对象 30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229600" cy="122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对象 3074"/>
          <p:cNvGraphicFramePr/>
          <p:nvPr/>
        </p:nvGraphicFramePr>
        <p:xfrm>
          <a:off x="380880" y="380880"/>
          <a:ext cx="8001000" cy="6019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7" name="对象 30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80880"/>
                    <a:ext cx="8001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547F-416F-4E00-822F-7E124B2A94C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对象 4097"/>
          <p:cNvGraphicFramePr/>
          <p:nvPr/>
        </p:nvGraphicFramePr>
        <p:xfrm>
          <a:off x="533520" y="380880"/>
          <a:ext cx="8115120" cy="1209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对象 40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15120" cy="120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对象 4099"/>
          <p:cNvGraphicFramePr/>
          <p:nvPr/>
        </p:nvGraphicFramePr>
        <p:xfrm>
          <a:off x="457200" y="533520"/>
          <a:ext cx="8229600" cy="52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3" name="对象 40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520"/>
                    <a:ext cx="8229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E5D3-D998-4A56-8BA8-1391832EDA8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对象 9217"/>
          <p:cNvGraphicFramePr/>
          <p:nvPr/>
        </p:nvGraphicFramePr>
        <p:xfrm>
          <a:off x="609480" y="647640"/>
          <a:ext cx="7677360" cy="775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7" name="对象 92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47640"/>
                    <a:ext cx="7677360" cy="77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对象 9218"/>
          <p:cNvGraphicFramePr/>
          <p:nvPr/>
        </p:nvGraphicFramePr>
        <p:xfrm>
          <a:off x="533520" y="457200"/>
          <a:ext cx="7981920" cy="596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9" name="对象 92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57200"/>
                    <a:ext cx="798192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对象 9219"/>
          <p:cNvGraphicFramePr/>
          <p:nvPr/>
        </p:nvGraphicFramePr>
        <p:xfrm>
          <a:off x="609480" y="457200"/>
          <a:ext cx="7543800" cy="586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1" name="对象 92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57200"/>
                    <a:ext cx="7543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2827-5DF4-4768-BBA2-3FF151BBC8D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对象 10241"/>
          <p:cNvGraphicFramePr/>
          <p:nvPr/>
        </p:nvGraphicFramePr>
        <p:xfrm>
          <a:off x="228600" y="990720"/>
          <a:ext cx="838188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对象 102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818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对象 10242"/>
          <p:cNvGraphicFramePr/>
          <p:nvPr/>
        </p:nvGraphicFramePr>
        <p:xfrm>
          <a:off x="533520" y="1390680"/>
          <a:ext cx="6686280" cy="497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7" name="对象 102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390680"/>
                    <a:ext cx="668628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对象 10243"/>
          <p:cNvGraphicFramePr/>
          <p:nvPr/>
        </p:nvGraphicFramePr>
        <p:xfrm>
          <a:off x="609480" y="533520"/>
          <a:ext cx="8001000" cy="5638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对象 102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33520"/>
                    <a:ext cx="8001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62A1-9C8C-4C01-AD59-9A173C0CC557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5:29:30Z</dcterms:created>
  <dc:creator>onjobedu</dc:creator>
  <dc:description/>
  <dc:language>en-US</dc:language>
  <cp:lastModifiedBy>忠信技术</cp:lastModifiedBy>
  <dcterms:modified xsi:type="dcterms:W3CDTF">2017-08-06T14:28:07Z</dcterms:modified>
  <cp:revision>17</cp:revision>
  <dc:subject/>
  <dc:title>onjobed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