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7.wmf" ContentType="image/x-wmf"/>
  <Override PartName="/ppt/media/image15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110B-1221-48B5-AB80-A94A46E00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8E20-E75F-4EA7-B10F-E3AAA5C83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6725F2-B91C-49CB-987D-544590E2D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A90B87-9453-4EBE-B462-B13D00E25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AD4305-ECAC-4B74-A23A-01ED5DB13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C723E3-DE0C-4976-960E-3A3EB31E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A8358F-E574-490B-8D58-268D301C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6A421E-637B-4577-ADF1-6F36E513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9E8888-4442-4DBA-96A3-5DE2B3693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C37036-4428-47CB-B62C-298E1B7D4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DA9CAC-03AF-46C6-B241-6C037091D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BFA070-24D2-4EA0-96EE-5856C51AD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D371-426E-43CC-9FA2-0F92B657A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DD5AA4-1D93-4C95-9F50-9843CF3BA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4BA52C-D0CF-4BB0-99E6-4B6D3BF70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F3CA7E-179F-4079-B905-6AB0120CF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5901B8-FA33-46E4-951B-9C08B2E8E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1F0074-A479-4136-BF56-1E669A6A1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A6463A-74A9-4F91-B747-14745EDB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9355D5-411C-407A-B7A5-2E2E25D10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7BA7A0-23BD-4A76-860C-4C445C7D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C0A6CA-1422-4173-B8DB-E4C1F4A3C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EDDAA0-9B5B-4F39-AE91-8C0BF667F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6F70-176C-4BAF-ADBB-318C1F2E2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C1EA21-BAE5-4874-99EA-D7AEAFDFE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4D2DEB-3A3F-44C6-9134-7641A86ED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624F0F-5A50-4805-8973-7921F1C60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D59B50-CFCB-469B-A2D2-8B27AB346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481DDB-2B7C-4AA0-93B1-DB6F98FC2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AD5ABF-9F84-45FC-924A-C21ED6803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C742D9-CC74-4694-A0CC-A44459026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EDCCC1-6762-40DD-8FC0-143BD8797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1FC757-2197-4498-8646-F71CEB679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BF221A-4B68-46C7-AFD9-CDB9AB6F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90E84-3577-49ED-9150-4FD3EBA99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1F9832-0319-47D2-A4D5-1EAF24759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A17F03-723B-418B-AF7E-21102D900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9895C0-EDFD-4355-972B-2D23CCE9D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0B519-F95E-4993-95AE-0EEA04BA2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A1050-1C92-45F8-ADCB-032C2C507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E99A7-4FD3-46A1-B749-94BA341C3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00BAE-A06E-4A92-BC16-56B8D2B65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B4E28-271A-4515-9F61-BB0664041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585CE-F0B4-4ED9-81BD-F14171E1C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5ED2-A9C7-4E78-A862-C0CA12553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75874-0474-44FF-8857-A0E699E2D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9F0D9-C9D7-41F6-9CF4-21D7F34A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77BF2-51C0-4054-8927-53D70C254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7D309-AF4F-4927-BE8B-53689D11F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1A6FC-CB04-4262-8054-C6CA46007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DD996-B975-4292-85F2-A98C7869D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26894-2614-4112-A5B9-A1F2275BC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298C7-1540-4FBF-97F5-D3CE50BA4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9B220-2F22-4596-B3BE-6313E2D5D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CB1CA-0BB2-414C-B70D-1ACCEA13A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881B-8E8F-43FE-A724-F3E204A45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A0AA1-2519-4025-9487-8E895679B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0A3F1-2238-4FD3-8300-4920ED40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13293-7F27-4EF1-890A-D3807238D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DC3C2-ADAF-4A75-950C-952257057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9C547-63F2-4AEA-A70A-2EA9453BC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975DC-642D-45A1-A401-3C577A537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3E9B3-0EBC-44EB-A3E8-3C54304E7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FC1FE-0DCF-4373-AC74-B19BF9097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0A5CB-04D3-41C9-B08C-25EBF6BA7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6A603-1337-4E7A-839F-55AC83BC0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E9E8-08D3-48FA-8493-ACB83168E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71C70-F48D-4026-A753-C8F823DC9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CFAA6-06B5-48BC-8A88-77E0544D9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030A4-3D1B-45EF-A61A-D5D8D5119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FE8C4-A45F-4DB4-90C8-BDC0FDBF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C8B46-0AD3-4E8A-9DE3-98AC09F7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04315-0AFB-4948-885B-07E6FC09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ABF17-D33A-4801-B3BE-8F9832960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D4BD1-8B2A-42D9-AEFB-271C8A4E1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69CF6-CD65-465D-B8D6-52DADF5A9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1A23BA-BED0-44F0-9DFE-1916BADFF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EB69-C574-4CAB-91E7-C381D325B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BD6C4D-1A8B-4323-BE9E-5125528F5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54B0B3-E808-47B4-B73A-3F4BF7C97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4EF44-84BB-4690-8B39-88E20A8F5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554E3-E32A-4C3F-B0FE-75EC266DB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2C501F-5949-49D0-975A-45E8F705A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F0095D-B216-4490-8E90-C4FB1979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0C6F91-9018-4078-8AA1-EB0EAA4A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5A920-4CC5-487C-8DE9-94CDF646F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B7677-FB55-4132-A35B-4EC8F658E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91F066-9BD4-445C-9377-272895BE2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E1AF-6E81-4B96-B440-D561EDB5D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3F7620-62CD-42A5-82CC-1CBF4C7F4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73841-7301-4345-A9DE-16EECF011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A6E4EB-BD2E-4136-A14E-A09FA8625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974E30-2AB5-4D83-B1CA-B23739302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7BBCC-61E5-4F88-B9B0-A98936546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0FFFA6-6912-44F5-B152-A5606A37C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9B290D-16A1-4AFC-B1B5-F95A3EC83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C0D4B0-B44A-4DE8-816D-EC81A9C7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3F529E-A34B-471B-87B4-50D78DFE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80FF36-DE76-49A7-8398-94682FD5D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F5AC-CD4F-41BA-880D-BD8AD85D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8888F-D2D2-47A3-AAAA-9BF36E731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ABEAF5-37C2-4DBE-ADAF-9ED4E9716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69DBBC-8523-4C74-B6F6-F7CC776F2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FC304F-F1F2-4992-AF5A-3F1747A7E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81FAD6-193C-4FF8-AE0E-C55B7A0B1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1F38FC-13F7-4CA6-A389-F28865148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B2FD31-F985-4A81-9858-0B6F47DEB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454E9B-2788-425C-A32C-BDED21650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A4A9D3-8793-4F3C-B934-9770BE33A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6F754B-66B0-4708-A49E-5386DA958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20A5-783E-42EB-BC9F-C6694E8B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E1C067-42BD-42C9-B67A-DD67E69FF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657048-6BD5-464B-9E6D-07C9B928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D8798C-C2A2-4FEF-90F7-88997E989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1737AA-72EE-4595-9B15-CAAE656DD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97AD65-E83E-4AEE-9B24-157D3A5DB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1B9BFE-A0E0-4C8D-BE7F-C0D18C7BC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C16437-F2FC-4DE3-96DA-3EC876AAC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9AED77-1EB5-4A62-9B28-5399F3B84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C293CE-7C16-4B96-8B29-E81DCE019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A9FBFD-8DE1-4F1B-9E07-686459298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AB0F-DB1B-4830-A19B-ED8713B4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0E833B-8FD1-4F29-BC3D-BB049AC3F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069BB1-086A-44E9-A254-8E40169C5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407277-3452-44A5-80E4-61B061B4B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31652E-986C-4519-B02A-F9F31C99D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1F684F-3C03-459C-8D18-366310ECC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728CDB-E722-4424-9FC7-1DD18B809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1BBC97-A1A5-4075-9D96-8D0889651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15D751-B98D-4831-B507-5CDBBCC5D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02DE83-399C-45FE-A4DE-385EE4D02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9B646C-5D81-4107-B3D8-78B40616A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人才测评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》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R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人力资源大全微信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ours1314di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E4192-B764-4AF5-8220-F6909A2B88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DD9F8-ECA5-4F5C-AB32-934F33C3AF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727DC-1400-450E-83C9-A315FC20ED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90B64-E30E-414E-A0C5-84C0671E0C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3F1EF-0BEB-497C-BE02-A8A4FD032F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4308D-770F-4DDA-AC81-A7CFD96C10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BACF2-1F8D-4880-B1C3-F6281F5AB1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2BAEB-14F4-4D6C-8B2A-064705C7CB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BC174-58DA-45ED-B770-6AAA01B76E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40D8C-3A34-47E9-94C6-45A35C0CC0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234EF-1769-4B9F-8425-89DAB6984F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4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1" name="Object 2"/>
          <p:cNvGraphicFramePr/>
          <p:nvPr/>
        </p:nvGraphicFramePr>
        <p:xfrm>
          <a:off x="127080" y="457200"/>
          <a:ext cx="4497480" cy="594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080" y="457200"/>
                    <a:ext cx="449748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3" name="Object 3"/>
          <p:cNvGraphicFramePr/>
          <p:nvPr/>
        </p:nvGraphicFramePr>
        <p:xfrm>
          <a:off x="4724280" y="838080"/>
          <a:ext cx="4168800" cy="54864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838080"/>
                    <a:ext cx="41688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5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9CFD4-16E0-4DDE-96FF-B5B697DB1D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2"/>
          <p:cNvSpPr/>
          <p:nvPr/>
        </p:nvSpPr>
        <p:spPr>
          <a:xfrm>
            <a:off x="1143000" y="380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公司招聘流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3"/>
          <p:cNvSpPr/>
          <p:nvPr/>
        </p:nvSpPr>
        <p:spPr>
          <a:xfrm>
            <a:off x="533520" y="1600200"/>
            <a:ext cx="12952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填写人力需求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4"/>
          <p:cNvSpPr/>
          <p:nvPr/>
        </p:nvSpPr>
        <p:spPr>
          <a:xfrm>
            <a:off x="3429000" y="1523880"/>
            <a:ext cx="12193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发布内外招聘信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5"/>
          <p:cNvSpPr/>
          <p:nvPr/>
        </p:nvSpPr>
        <p:spPr>
          <a:xfrm>
            <a:off x="1828800" y="2971800"/>
            <a:ext cx="121932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主管总经理批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6"/>
          <p:cNvSpPr/>
          <p:nvPr/>
        </p:nvSpPr>
        <p:spPr>
          <a:xfrm>
            <a:off x="4648320" y="2971800"/>
            <a:ext cx="15238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整理筛选应聘者资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7"/>
          <p:cNvSpPr/>
          <p:nvPr/>
        </p:nvSpPr>
        <p:spPr>
          <a:xfrm>
            <a:off x="7086600" y="1676520"/>
            <a:ext cx="121932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交用人部门复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8"/>
          <p:cNvSpPr/>
          <p:nvPr/>
        </p:nvSpPr>
        <p:spPr>
          <a:xfrm>
            <a:off x="7086600" y="2819520"/>
            <a:ext cx="121932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安排面试时间地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9"/>
          <p:cNvSpPr/>
          <p:nvPr/>
        </p:nvSpPr>
        <p:spPr>
          <a:xfrm>
            <a:off x="7086600" y="4038480"/>
            <a:ext cx="12193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面试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笔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10"/>
          <p:cNvSpPr/>
          <p:nvPr/>
        </p:nvSpPr>
        <p:spPr>
          <a:xfrm>
            <a:off x="7162920" y="5486400"/>
            <a:ext cx="12189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决定录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 Box 11"/>
          <p:cNvSpPr/>
          <p:nvPr/>
        </p:nvSpPr>
        <p:spPr>
          <a:xfrm>
            <a:off x="4800600" y="5334120"/>
            <a:ext cx="1600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人力资源部通知上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Text Box 12"/>
          <p:cNvSpPr/>
          <p:nvPr/>
        </p:nvSpPr>
        <p:spPr>
          <a:xfrm>
            <a:off x="3200400" y="4495680"/>
            <a:ext cx="12193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调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13"/>
          <p:cNvSpPr/>
          <p:nvPr/>
        </p:nvSpPr>
        <p:spPr>
          <a:xfrm>
            <a:off x="1676520" y="5334120"/>
            <a:ext cx="12189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入职培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Line 14"/>
          <p:cNvSpPr/>
          <p:nvPr/>
        </p:nvSpPr>
        <p:spPr>
          <a:xfrm>
            <a:off x="1066680" y="22860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Line 15"/>
          <p:cNvSpPr/>
          <p:nvPr/>
        </p:nvSpPr>
        <p:spPr>
          <a:xfrm>
            <a:off x="1066680" y="32767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Line 16"/>
          <p:cNvSpPr/>
          <p:nvPr/>
        </p:nvSpPr>
        <p:spPr>
          <a:xfrm flipV="1">
            <a:off x="2666880" y="19810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Line 17"/>
          <p:cNvSpPr/>
          <p:nvPr/>
        </p:nvSpPr>
        <p:spPr>
          <a:xfrm>
            <a:off x="2666880" y="19810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Line 18"/>
          <p:cNvSpPr/>
          <p:nvPr/>
        </p:nvSpPr>
        <p:spPr>
          <a:xfrm>
            <a:off x="4038480" y="21337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Line 19"/>
          <p:cNvSpPr/>
          <p:nvPr/>
        </p:nvSpPr>
        <p:spPr>
          <a:xfrm>
            <a:off x="4038480" y="34290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Line 20"/>
          <p:cNvSpPr/>
          <p:nvPr/>
        </p:nvSpPr>
        <p:spPr>
          <a:xfrm flipV="1">
            <a:off x="5638680" y="20574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Line 21"/>
          <p:cNvSpPr/>
          <p:nvPr/>
        </p:nvSpPr>
        <p:spPr>
          <a:xfrm>
            <a:off x="5638680" y="20574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Line 22"/>
          <p:cNvSpPr/>
          <p:nvPr/>
        </p:nvSpPr>
        <p:spPr>
          <a:xfrm>
            <a:off x="7620120" y="2362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Line 23"/>
          <p:cNvSpPr/>
          <p:nvPr/>
        </p:nvSpPr>
        <p:spPr>
          <a:xfrm>
            <a:off x="7620120" y="3505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Line 24"/>
          <p:cNvSpPr/>
          <p:nvPr/>
        </p:nvSpPr>
        <p:spPr>
          <a:xfrm>
            <a:off x="7620120" y="47242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Line 25"/>
          <p:cNvSpPr/>
          <p:nvPr/>
        </p:nvSpPr>
        <p:spPr>
          <a:xfrm flipH="1">
            <a:off x="6400440" y="57150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Line 26"/>
          <p:cNvSpPr/>
          <p:nvPr/>
        </p:nvSpPr>
        <p:spPr>
          <a:xfrm flipV="1">
            <a:off x="5562720" y="4724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Line 27"/>
          <p:cNvSpPr/>
          <p:nvPr/>
        </p:nvSpPr>
        <p:spPr>
          <a:xfrm flipH="1">
            <a:off x="4419360" y="47242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Line 28"/>
          <p:cNvSpPr/>
          <p:nvPr/>
        </p:nvSpPr>
        <p:spPr>
          <a:xfrm flipH="1">
            <a:off x="2514240" y="4724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Line 29"/>
          <p:cNvSpPr/>
          <p:nvPr/>
        </p:nvSpPr>
        <p:spPr>
          <a:xfrm>
            <a:off x="2514600" y="4724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B7E7D-225F-45F1-B3D3-C309AFF5EE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1" name="Object 45"/>
          <p:cNvGraphicFramePr/>
          <p:nvPr/>
        </p:nvGraphicFramePr>
        <p:xfrm>
          <a:off x="277920" y="914400"/>
          <a:ext cx="8866080" cy="549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2" name="Object 4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920" y="914400"/>
                    <a:ext cx="8866080" cy="549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3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1761F-6F67-48AB-8076-9D1A30FEC7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5" name="Object 2"/>
          <p:cNvGraphicFramePr/>
          <p:nvPr/>
        </p:nvGraphicFramePr>
        <p:xfrm>
          <a:off x="914400" y="533520"/>
          <a:ext cx="7696080" cy="541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33520"/>
                    <a:ext cx="769608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7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43C4A-C6A2-47D5-989E-12132B73EB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9" name="Object 2"/>
          <p:cNvGraphicFramePr/>
          <p:nvPr/>
        </p:nvGraphicFramePr>
        <p:xfrm>
          <a:off x="609480" y="609480"/>
          <a:ext cx="7925040" cy="556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609480"/>
                    <a:ext cx="792504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1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96EA5-C6C4-4528-A13B-F7DF980894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3" name="Object 2"/>
          <p:cNvGraphicFramePr/>
          <p:nvPr/>
        </p:nvGraphicFramePr>
        <p:xfrm>
          <a:off x="457200" y="857160"/>
          <a:ext cx="6800760" cy="640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857160"/>
                    <a:ext cx="680076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5" name="Object 3"/>
          <p:cNvGraphicFramePr/>
          <p:nvPr/>
        </p:nvGraphicFramePr>
        <p:xfrm>
          <a:off x="533520" y="609480"/>
          <a:ext cx="7772400" cy="5639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4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609480"/>
                    <a:ext cx="7772400" cy="56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7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B4F7A-3872-4FF7-94B5-5F69A72120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9" name="Object 3"/>
          <p:cNvGraphicFramePr/>
          <p:nvPr/>
        </p:nvGraphicFramePr>
        <p:xfrm>
          <a:off x="457200" y="533520"/>
          <a:ext cx="8001000" cy="579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001000" cy="57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1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74725-FAEE-448B-B6A6-8D893D9B3C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3" name="Object 4"/>
          <p:cNvGraphicFramePr/>
          <p:nvPr/>
        </p:nvGraphicFramePr>
        <p:xfrm>
          <a:off x="533520" y="685800"/>
          <a:ext cx="8076960" cy="541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685800"/>
                    <a:ext cx="807696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5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660F2-887D-4F89-B289-4B8DD11DAE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7" name="Object 3"/>
          <p:cNvGraphicFramePr/>
          <p:nvPr/>
        </p:nvGraphicFramePr>
        <p:xfrm>
          <a:off x="914400" y="457200"/>
          <a:ext cx="7467480" cy="586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457200"/>
                    <a:ext cx="746748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9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69CC0-9824-4E29-BD66-5C7E82DD1E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1" name="Object 2"/>
          <p:cNvGraphicFramePr/>
          <p:nvPr/>
        </p:nvGraphicFramePr>
        <p:xfrm>
          <a:off x="609480" y="533520"/>
          <a:ext cx="800100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533520"/>
                    <a:ext cx="80010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3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8C403-C230-4AD2-B80F-5C3F5FEED3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5" name="Object 2"/>
          <p:cNvGraphicFramePr/>
          <p:nvPr/>
        </p:nvGraphicFramePr>
        <p:xfrm>
          <a:off x="457200" y="609480"/>
          <a:ext cx="8153280" cy="579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9480"/>
                    <a:ext cx="815328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7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26FD3-E474-44E3-83BB-38DC04437C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3"/>
          <p:cNvSpPr/>
          <p:nvPr/>
        </p:nvSpPr>
        <p:spPr>
          <a:xfrm>
            <a:off x="762120" y="457200"/>
            <a:ext cx="739116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A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五年后你认为自己的发展如何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为什么你认为自己能在这个岗位上做得更好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如果你是主管的话，你应该怎样解决这个问题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如果被聘用，你认为首先改变的是什么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B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请介绍一下你采用何种方法来评价你每一份应聘的工作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请举具体例子说明你在以前的工作中是如何克服遇到的棘手难题的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请告诉我你在开始上一份工作之后所采取的第一个行动是什么？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25AD0-3A97-48C3-B244-1E26630D91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9" name="Object 2"/>
          <p:cNvGraphicFramePr/>
          <p:nvPr/>
        </p:nvGraphicFramePr>
        <p:xfrm>
          <a:off x="533520" y="533520"/>
          <a:ext cx="800100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533520"/>
                    <a:ext cx="80010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1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D943B-6432-42C5-B517-2501E4C161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3" name="Object 3"/>
          <p:cNvGraphicFramePr/>
          <p:nvPr/>
        </p:nvGraphicFramePr>
        <p:xfrm>
          <a:off x="457200" y="533520"/>
          <a:ext cx="7924680" cy="312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792468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5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31CA7-93A3-4F25-9777-0BB87EC7EF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0" name="Object 1026"/>
          <p:cNvGraphicFramePr/>
          <p:nvPr/>
        </p:nvGraphicFramePr>
        <p:xfrm>
          <a:off x="609480" y="457200"/>
          <a:ext cx="8153640" cy="563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1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57200"/>
                    <a:ext cx="815364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2" name="Picture 1028" descr=""/>
          <p:cNvPicPr/>
          <p:nvPr/>
        </p:nvPicPr>
        <p:blipFill>
          <a:blip r:embed="rId3"/>
          <a:stretch/>
        </p:blipFill>
        <p:spPr>
          <a:xfrm>
            <a:off x="1143000" y="304920"/>
            <a:ext cx="1219320" cy="1371600"/>
          </a:xfrm>
          <a:prstGeom prst="rect">
            <a:avLst/>
          </a:prstGeom>
          <a:ln w="0">
            <a:noFill/>
          </a:ln>
        </p:spPr>
      </p:pic>
      <p:sp>
        <p:nvSpPr>
          <p:cNvPr id="463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80C2B-002A-4F20-9C03-C635D18592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5" name="Object 1026"/>
          <p:cNvGraphicFramePr/>
          <p:nvPr/>
        </p:nvGraphicFramePr>
        <p:xfrm>
          <a:off x="609480" y="609480"/>
          <a:ext cx="8001000" cy="502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6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609480"/>
                    <a:ext cx="8001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7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EA977-F6B8-4D41-964A-CE3D0438DC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9" name="Object 2"/>
          <p:cNvGraphicFramePr/>
          <p:nvPr/>
        </p:nvGraphicFramePr>
        <p:xfrm>
          <a:off x="457200" y="304920"/>
          <a:ext cx="8229600" cy="12268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04920"/>
                    <a:ext cx="8229600" cy="1226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1" name="Object 3"/>
          <p:cNvGraphicFramePr/>
          <p:nvPr/>
        </p:nvGraphicFramePr>
        <p:xfrm>
          <a:off x="380880" y="380880"/>
          <a:ext cx="8001000" cy="60199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7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380880"/>
                    <a:ext cx="800100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3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58B0D-3299-4B8A-93DC-92C7F5086D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5" name="Object 2"/>
          <p:cNvGraphicFramePr/>
          <p:nvPr/>
        </p:nvGraphicFramePr>
        <p:xfrm>
          <a:off x="533520" y="380880"/>
          <a:ext cx="8115120" cy="1209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80880"/>
                    <a:ext cx="8115120" cy="120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7" name="Object 4"/>
          <p:cNvGraphicFramePr/>
          <p:nvPr/>
        </p:nvGraphicFramePr>
        <p:xfrm>
          <a:off x="457200" y="533520"/>
          <a:ext cx="8229600" cy="5257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7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533520"/>
                    <a:ext cx="822960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9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09C1D-F755-43CF-A06D-B47FEFF4C1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1" name="Object 2"/>
          <p:cNvGraphicFramePr/>
          <p:nvPr/>
        </p:nvGraphicFramePr>
        <p:xfrm>
          <a:off x="609480" y="647640"/>
          <a:ext cx="7677360" cy="7753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647640"/>
                    <a:ext cx="7677360" cy="775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3" name="Object 3"/>
          <p:cNvGraphicFramePr/>
          <p:nvPr/>
        </p:nvGraphicFramePr>
        <p:xfrm>
          <a:off x="533520" y="457200"/>
          <a:ext cx="7981920" cy="59626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8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457200"/>
                    <a:ext cx="798192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5" name="Object 4"/>
          <p:cNvGraphicFramePr/>
          <p:nvPr/>
        </p:nvGraphicFramePr>
        <p:xfrm>
          <a:off x="609480" y="457200"/>
          <a:ext cx="7543800" cy="58672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86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457200"/>
                    <a:ext cx="754380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7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22EC0-25B5-4CE9-A81A-804D055035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9" name="Object 1026"/>
          <p:cNvGraphicFramePr/>
          <p:nvPr/>
        </p:nvGraphicFramePr>
        <p:xfrm>
          <a:off x="228600" y="990720"/>
          <a:ext cx="8381880" cy="5067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0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90720"/>
                    <a:ext cx="8381880" cy="50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1" name="Object 1027"/>
          <p:cNvGraphicFramePr/>
          <p:nvPr/>
        </p:nvGraphicFramePr>
        <p:xfrm>
          <a:off x="533520" y="1390680"/>
          <a:ext cx="6686280" cy="4971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92" name="Object 10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1390680"/>
                    <a:ext cx="6686280" cy="49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Object 1028"/>
          <p:cNvGraphicFramePr/>
          <p:nvPr/>
        </p:nvGraphicFramePr>
        <p:xfrm>
          <a:off x="609480" y="533520"/>
          <a:ext cx="8001000" cy="56386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94" name="Object 102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533520"/>
                    <a:ext cx="800100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5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E04D2-B466-4AFC-9044-9053C3AC79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7" name="Object 2"/>
          <p:cNvGraphicFramePr/>
          <p:nvPr/>
        </p:nvGraphicFramePr>
        <p:xfrm>
          <a:off x="609480" y="685800"/>
          <a:ext cx="7886880" cy="321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685800"/>
                    <a:ext cx="7886880" cy="32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9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CB9AF-79A4-40E0-980A-34103E764C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5T05:29:30Z</dcterms:created>
  <dc:creator>MANDY</dc:creator>
  <dc:description/>
  <dc:language>en-US</dc:language>
  <cp:lastModifiedBy>忠信技术</cp:lastModifiedBy>
  <dcterms:modified xsi:type="dcterms:W3CDTF">2017-08-06T14:27:38Z</dcterms:modified>
  <cp:revision>9</cp:revision>
  <dc:subject/>
  <dc:title>没有幻灯片标题</dc:title>
</cp:coreProperties>
</file>