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企业文化建立大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力资源大全微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s1314di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企业文化建立大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力资源大全微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s1314di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F80F-581B-42B1-B889-110C0AE4C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F85B-D5B1-40E3-AA84-87CDAEE5D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E0BB-F312-445E-804A-FAFEA37F3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05FE-C299-4CB3-A30C-842C7C4B0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1D9D-5502-4A92-9601-1D60F1A81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7430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11"/>
          <p:cNvSpPr/>
          <p:nvPr/>
        </p:nvSpPr>
        <p:spPr>
          <a:xfrm>
            <a:off x="4114800" y="643428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面试安排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971640" y="1963800"/>
            <a:ext cx="7034040" cy="35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我介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人展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组讨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部分    自我介绍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6286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向在座的同学及考官简要介绍您的基本信息（包括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姓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毕业院校与专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实习经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，并告诉大家，您在生活中或学习中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所解决的一个比较复杂的问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547640" y="4076640"/>
            <a:ext cx="66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请合理安排演讲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序：自告奋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7632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部分    个人展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898560" y="1954080"/>
            <a:ext cx="72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一页幻灯片中将出现五个问题。请您选择其中的一个，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钟的时间思考，然后给我们一个您认为最“有创意”的答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898560" y="400536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备时间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发言时间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序：自告奋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7632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部分    个人展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19120" y="1267200"/>
            <a:ext cx="80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5040" indent="-365040"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棵杨树从小树苗长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高的大树需要多少水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519120" y="2196000"/>
            <a:ext cx="80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5040" indent="-365040"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植玫瑰花、百合花、土豆和胡萝卜哪一种最挣钱？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39640" y="3126240"/>
            <a:ext cx="80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5040" indent="-365040"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才能在没有电、也不点火的村子里晚上读书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539640" y="4056480"/>
            <a:ext cx="80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5040" indent="-365040"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部电梯，在它的使用寿命之内会运行多少米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539640" y="4986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5040" indent="-365040"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间杂乱无比的屋子需要收拾，从什么地方下手比较好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24000" y="981000"/>
            <a:ext cx="5029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图为陕西境内某小型城市地图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7632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三部分    小组讨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5940360" y="1268280"/>
            <a:ext cx="144000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573440" y="1268280"/>
            <a:ext cx="935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940360" y="2781360"/>
            <a:ext cx="144000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2916360" y="2781360"/>
            <a:ext cx="259236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2916360" y="1268280"/>
            <a:ext cx="143964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4067280" y="4221000"/>
            <a:ext cx="1439640" cy="216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1403280" y="4221000"/>
            <a:ext cx="237672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1403280" y="1268280"/>
            <a:ext cx="1295640" cy="2737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1403280" y="5661000"/>
            <a:ext cx="2376720" cy="72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5940360" y="4221000"/>
            <a:ext cx="1440000" cy="43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5940360" y="4797360"/>
            <a:ext cx="1440000" cy="43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5940360" y="5516640"/>
            <a:ext cx="1440000" cy="86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427640" y="29908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市政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2771640" y="36385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银行建筑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6227640" y="2997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公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1474920" y="458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居民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0"/>
          <p:cNvSpPr/>
          <p:nvPr/>
        </p:nvSpPr>
        <p:spPr>
          <a:xfrm>
            <a:off x="4500720" y="2781360"/>
            <a:ext cx="1008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2916360" y="3573360"/>
            <a:ext cx="1584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5940360" y="2781360"/>
            <a:ext cx="1440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5940360" y="36385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自由市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5940360" y="4221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体商业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594036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体商业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4284720" y="4430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医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00360" y="4221000"/>
            <a:ext cx="1079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8"/>
          <p:cNvSpPr/>
          <p:nvPr/>
        </p:nvSpPr>
        <p:spPr>
          <a:xfrm>
            <a:off x="4067280" y="4221000"/>
            <a:ext cx="144144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9"/>
          <p:cNvSpPr/>
          <p:nvPr/>
        </p:nvSpPr>
        <p:spPr>
          <a:xfrm>
            <a:off x="3059280" y="14065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居民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0"/>
          <p:cNvSpPr/>
          <p:nvPr/>
        </p:nvSpPr>
        <p:spPr>
          <a:xfrm>
            <a:off x="2916360" y="1268280"/>
            <a:ext cx="1439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1"/>
          <p:cNvSpPr/>
          <p:nvPr/>
        </p:nvSpPr>
        <p:spPr>
          <a:xfrm>
            <a:off x="1403280" y="4221000"/>
            <a:ext cx="12970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2916360" y="29908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机关建筑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3"/>
          <p:cNvSpPr/>
          <p:nvPr/>
        </p:nvSpPr>
        <p:spPr>
          <a:xfrm>
            <a:off x="4427640" y="36385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电影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4"/>
          <p:cNvSpPr/>
          <p:nvPr/>
        </p:nvSpPr>
        <p:spPr>
          <a:xfrm>
            <a:off x="6083280" y="16938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居民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5"/>
          <p:cNvSpPr/>
          <p:nvPr/>
        </p:nvSpPr>
        <p:spPr>
          <a:xfrm>
            <a:off x="1403280" y="1268280"/>
            <a:ext cx="129708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6"/>
          <p:cNvSpPr/>
          <p:nvPr/>
        </p:nvSpPr>
        <p:spPr>
          <a:xfrm>
            <a:off x="1287360" y="1557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儿童游乐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7"/>
          <p:cNvSpPr/>
          <p:nvPr/>
        </p:nvSpPr>
        <p:spPr>
          <a:xfrm>
            <a:off x="4470480" y="16225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市中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8"/>
          <p:cNvSpPr/>
          <p:nvPr/>
        </p:nvSpPr>
        <p:spPr>
          <a:xfrm>
            <a:off x="1446120" y="58705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市高等职业技术学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9"/>
          <p:cNvSpPr/>
          <p:nvPr/>
        </p:nvSpPr>
        <p:spPr>
          <a:xfrm>
            <a:off x="2050920" y="2276640"/>
            <a:ext cx="64944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0"/>
          <p:cNvSpPr/>
          <p:nvPr/>
        </p:nvSpPr>
        <p:spPr>
          <a:xfrm>
            <a:off x="1898280" y="2421000"/>
            <a:ext cx="7290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主要商业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1"/>
          <p:cNvSpPr/>
          <p:nvPr/>
        </p:nvSpPr>
        <p:spPr>
          <a:xfrm>
            <a:off x="3995640" y="5516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体育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2"/>
          <p:cNvSpPr/>
          <p:nvPr/>
        </p:nvSpPr>
        <p:spPr>
          <a:xfrm>
            <a:off x="6084720" y="5734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居民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3"/>
          <p:cNvSpPr/>
          <p:nvPr/>
        </p:nvSpPr>
        <p:spPr>
          <a:xfrm>
            <a:off x="2627280" y="43578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书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4"/>
          <p:cNvSpPr/>
          <p:nvPr/>
        </p:nvSpPr>
        <p:spPr>
          <a:xfrm>
            <a:off x="2627280" y="49338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博物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5"/>
          <p:cNvSpPr/>
          <p:nvPr/>
        </p:nvSpPr>
        <p:spPr>
          <a:xfrm>
            <a:off x="3059280" y="19828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市小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6"/>
          <p:cNvSpPr/>
          <p:nvPr/>
        </p:nvSpPr>
        <p:spPr>
          <a:xfrm>
            <a:off x="1403280" y="2276640"/>
            <a:ext cx="647640" cy="9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7"/>
          <p:cNvSpPr/>
          <p:nvPr/>
        </p:nvSpPr>
        <p:spPr>
          <a:xfrm>
            <a:off x="1090440" y="3213000"/>
            <a:ext cx="10033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街心花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8"/>
          <p:cNvSpPr/>
          <p:nvPr/>
        </p:nvSpPr>
        <p:spPr>
          <a:xfrm>
            <a:off x="1277640" y="2205000"/>
            <a:ext cx="729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幼儿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7632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三部分    小组讨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6560" y="1197000"/>
            <a:ext cx="7777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交通拥堵的问题一直是大中型城市面临的重要难题。假设在座各位就是某城市的交通规划小组，请通过讨论明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828720" y="2630520"/>
            <a:ext cx="755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交通拥堵的治理，应从哪几方面下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请结合日常生活的体会，充分发挥思考能动性，给出几条切实可行的规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改进措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468360" y="4940280"/>
            <a:ext cx="7777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用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分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时间完成整体团队讨论，并派出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一名代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讨论结束后进行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分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汇报发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979640" y="2421000"/>
            <a:ext cx="5400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0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谢 谢 大 家！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02:36:46Z</dcterms:created>
  <dc:creator/>
  <dc:description/>
  <dc:language>en-US</dc:language>
  <cp:lastModifiedBy>忠信技术</cp:lastModifiedBy>
  <dcterms:modified xsi:type="dcterms:W3CDTF">2017-08-06T14:28:50Z</dcterms:modified>
  <cp:revision>70</cp:revision>
  <dc:subject/>
  <dc:title>面试安排</dc:title>
</cp:coreProperties>
</file>