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498-473A-4E3B-A905-42372F6A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79C-DBB7-43AE-A299-E20879EB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FE5FD-8628-4152-A56D-3494C36A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97753-03D1-4315-B45F-BB8C935F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B2FF0-C662-45CB-A6F6-E9F0C6F8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143FD-9195-493C-A853-160C0AB5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3894-CB0D-4719-AF9E-C7B5817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097B3-0F09-40E4-9D47-4CD484A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839CF-273F-486F-963A-40537448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38D80-034C-4A5C-AD04-AEDCF30F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AF449-AF9D-4820-BFD0-0B1D4A1A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5D8FF-2AA8-4911-95A8-B26B28EC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93F-EB94-4F5F-9CC9-48FA665D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8084E-A7D9-4A84-819B-A3C84AA1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FA985-053D-44D3-9F6B-1F8D4A6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39C68-73CC-4D0F-B55B-54A7DFAC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1459C-902D-4AE8-87D4-3772B938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847CE-11DD-446D-9464-B1E23E03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0EBBD-69E1-4579-BCF4-32C02CE6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19091-0A32-474D-9C5E-8A95416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F65BE-1E84-4200-AA27-5E6D568B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23405-1CC3-4D7B-9888-46857B58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BED33-745E-4426-AB77-EA0D6496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EC2-FFC1-4518-9D9B-5E8102FC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49A8A-048B-4058-A7C6-B96CDDD5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9EBBB-C6A9-46EE-9597-EE3F5777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3EE5-48D4-49EA-BBB0-1787B3A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9C051-09FA-4D49-AB84-BA9CB0EA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434E3-A015-42AA-97A4-27A99BA5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13BC9-A613-4960-B682-55DF4D42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2AD59-B79D-4FBF-B332-C53A951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10ED-DD08-47CE-B62A-2BC76533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0695F-7F3E-4D64-814B-357E9C23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47477-8363-4AD3-91EE-D16A16E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E9ED-0A90-4155-B10B-58A5351B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69081-7FFA-4E40-8B3D-C8A5AAB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83246-4C97-473F-B5D6-FFF15766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CE09F-CBEF-41E7-99E5-BB1F81E5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CC8B4-715C-4E61-B5E5-0A01ADE4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74687-1D6A-4180-A424-7B8D2294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2E3C4-482A-453B-98B1-30D99E37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4A852-2816-4210-8630-F51908A6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10D77-AC00-405A-8699-EC170D00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58950-D852-48F7-8AB5-C38DAE4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A1DD8-DCE8-455D-8272-156DA15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7F56-516B-4BF7-AF60-233CF17F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D24D7-D297-4C8E-BC9D-725C1B6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43D66-4CDB-4776-965D-1059D69C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D8017-DBFA-42A4-B405-5D9183E6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DE85E-DE34-4D6E-8659-6A9928B3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FA355-FE72-4A57-9927-6305F19E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5B9-AC53-49E6-8224-52574D1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9D9E-546E-4705-9F43-6BE8A3AD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EECB-5818-4F7C-88B9-89168B86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6FF3-61F8-40AF-AF45-A882C01A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100-461E-4AD4-AF90-486A02F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842-7E0E-411E-BB60-072F1002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B9F4-CEE4-40A2-8A24-19BA9C28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B390-493A-4D41-8DB7-89B4F6FC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84D9-C034-4D44-876A-7F1289BC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73A4-F75A-45FE-9F43-63BAB1D9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2E77-11E0-4D3E-9AD2-47760E41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CC9E-C3B7-42E0-A8D9-3F3A1A65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EEDB-1062-4D6D-89A7-DE6751E4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D17D-5A0A-4B36-9494-6084C16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D4E2-F3AA-4A71-9CA1-9F325D8A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10D4-2AB0-4EEF-8D51-A44573B2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AA1-F2F1-4CD9-A185-0ED8BCFE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3A11-88E4-4EE2-9E02-8F62C1E9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D63D-ECC0-486A-A36E-E7B917B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B64E-44E8-4782-AC9B-157BF52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422D-D6BF-464F-8B20-E4392B5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1731-040D-4631-8B5E-D0D366C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AEE7-48ED-416F-AC7D-2718F5BF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D323-62B7-422D-A32E-CAFE1C50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AB1F-98F0-4528-A710-18F8D62D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AF7AF-B8B0-44C5-84AF-135366BC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BD0EF-F44C-4E1C-B8BB-A02E4C8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C68-DD32-4394-918C-EEB1FB08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5128-4551-4EA1-A2F4-1C640EA1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41EEE-C7BC-4C95-B7F1-2A3979EF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05AFA-14CF-4EE3-9AA7-49D10983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FC15-DDA2-47A7-B239-5E8E0735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E256-1578-470C-A941-7E977959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2C8C-945E-40DE-9098-B9286E68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0682-A7B0-4770-ADE9-FC1FA35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AB14-BEF0-4845-A87D-8FDE5E24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976E-7753-46F3-9DF9-498A65A2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35F4-E2DD-430C-B75D-4D1157EA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01A-B837-45DF-BAB6-9E876D1C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32511-AB6E-4FF6-A201-339271E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97C1-5DEC-4616-8FEC-0496B7D2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B714-7CBD-47BD-AB62-B5E48B39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0125-E7AB-470A-B69D-2D40AF4F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2922B-AB72-4C81-ADFB-402EC603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74EE8-0D3D-41A6-9E38-9871C9B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865E-FD7E-4B34-9D3A-9D14164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5353-3A38-41DA-A87D-A2A0117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D3650-F947-4A01-BD2C-63118446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D1EA-4F75-405A-A799-859E6945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E0A-DE6F-421C-A1C7-C8D01831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85A9E-938F-4BC5-B4E7-9918AF13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C55E6-147E-4E07-8D22-44D87011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1761-EE5B-4B4E-A2CC-476B260C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AA7A9-2D02-4D38-892F-D46BE31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8E90-3B43-4446-BD8C-69333D6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CEA5-79DB-44AD-A2F0-0F35A00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8810-376E-49C2-BD7F-539EBC7E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4CFFD-E7CB-4ACC-BBB0-BCCAF6B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1DB68-ABD4-4A85-9480-EA036C4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606E5-3720-4F1F-B119-F6EDA79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F3E-996D-4800-B16E-150470C2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6F3C4-BEF7-444F-BDC7-7F0AD8EC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E9596-8EEA-4C28-B122-609C4601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54478-5FC2-4DA8-8B67-B3C9905F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4ABA-F2AB-4FA8-BEA5-716432B4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A480-B7F9-4459-8690-0227043F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E3F21-1651-48B1-BCC1-F8639592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4464-E943-4C79-BECB-1F33138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4B025-0A3A-4419-BB4F-1136AB91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3B65A-5513-404F-8F3F-B445C5B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032C5-28AC-4CFC-9DDB-B53B2919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E88-E636-42BF-B0CD-0B68402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980F-25CB-4078-B677-D51ED96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97F7-06D0-4CA3-8E69-1A0CB46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C7EE-493F-46DE-B98F-E754A82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D10E3-3F77-41A3-86A8-BCCE25BA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2441-71E6-4BF7-903B-E15C985D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D1566-9766-4D2D-A5D1-AB933A97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8C1F3-2743-4C5C-975A-D689663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29AF5-B5D9-4B43-B961-D64B3B49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4C9D9-BD38-46D3-9AD1-5A1AC97D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10A0-1E87-42AA-9435-81DBDCA7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1FC-6A9E-4657-9B1E-04410E49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CDDA6-AEC3-4D56-A4CE-CE9CB81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54C32-0DF7-40F9-8CB9-4299CC5C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633DD-F0DE-46CE-B995-D0756E3C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E4D48-2895-4E85-AE0E-0D46466B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A9D3-4ED3-428B-B500-C633E8A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E463A-41C5-4E01-AFD7-A74F1138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415E1-EC27-4AA2-9A29-501C948D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31655-9CF8-4880-8681-EF7C637C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3B6C7-F66D-4D6C-A170-C1A9C331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59678-35B5-49F9-9546-F0A9D897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才测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589B-58BD-4EDC-A6D6-33784AEE2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1436-02FB-42A2-BDB8-C2D3C591E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678C-1EA0-45E8-8C65-7FFABFDA9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1ECE-230E-4DF7-9AEF-DE822454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才测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B63F-E219-42E9-BA2E-D04E7B6A5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039B-320D-4A38-ADAA-295B99055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21CD-23DA-4300-950A-1938F3C2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130-C0A5-4D5A-B505-30368DB80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05F3-6B6B-4E5F-84D7-B239CA819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F227-F1D3-4733-B7DE-E616C5D14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CEE5-4986-4972-9563-C7BCB524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D85-AE6A-477F-8E62-8AD837F47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三德医疗策划岗位复试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2FD-2EBF-4061-B33A-B3821DBE1D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人才测评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》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R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人力资源大全微信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urs1314di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请利用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钟的时间详细阅读和思考，回答以下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个问题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请谈一下你最欣赏的一句某品牌的广告语？说明欣赏的原因？（限时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公司历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年研发、生产的新型医用妇科炎症治疗器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产品，已于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获得成功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产品的技术含量领先于国内同类产品，并已获得国家专利，准备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0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推广全国市场，请针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产品的营销运作模式方面谈一下你的想法？（限时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2627-6B9F-47A1-9385-47FEEBA8E3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587240" y="4647960"/>
            <a:ext cx="7404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请为此组图片写一句标题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8" name="Picture 6" descr="730517,s_20070805220000071"/>
          <p:cNvPicPr/>
          <p:nvPr/>
        </p:nvPicPr>
        <p:blipFill>
          <a:blip r:embed="rId1"/>
          <a:stretch/>
        </p:blipFill>
        <p:spPr>
          <a:xfrm>
            <a:off x="304920" y="1600200"/>
            <a:ext cx="2361960" cy="22050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630666012"/>
          <p:cNvPicPr/>
          <p:nvPr/>
        </p:nvPicPr>
        <p:blipFill>
          <a:blip r:embed="rId2"/>
          <a:srcRect l="0" t="35611" r="0" b="0"/>
          <a:stretch/>
        </p:blipFill>
        <p:spPr>
          <a:xfrm>
            <a:off x="3124080" y="1600200"/>
            <a:ext cx="2362320" cy="2205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8" descr="MIL87032"/>
          <p:cNvPicPr/>
          <p:nvPr/>
        </p:nvPicPr>
        <p:blipFill>
          <a:blip r:embed="rId3"/>
          <a:stretch/>
        </p:blipFill>
        <p:spPr>
          <a:xfrm>
            <a:off x="5943600" y="16002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031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5D72-C62D-4D6A-AFA7-8C4387266C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000"/>
          <p:cNvPicPr/>
          <p:nvPr/>
        </p:nvPicPr>
        <p:blipFill>
          <a:blip r:embed="rId1"/>
          <a:stretch/>
        </p:blipFill>
        <p:spPr>
          <a:xfrm>
            <a:off x="1066680" y="1305000"/>
            <a:ext cx="7162920" cy="4029120"/>
          </a:xfrm>
          <a:prstGeom prst="rect">
            <a:avLst/>
          </a:prstGeom>
          <a:ln w="0">
            <a:noFill/>
          </a:ln>
        </p:spPr>
      </p:pic>
      <p:sp>
        <p:nvSpPr>
          <p:cNvPr id="1034" name="Text Box 5"/>
          <p:cNvSpPr/>
          <p:nvPr/>
        </p:nvSpPr>
        <p:spPr>
          <a:xfrm>
            <a:off x="3483360" y="57913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您如何看待此图片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518-4304-41F2-B144-868AA30739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4" descr="125eu"/>
          <p:cNvPicPr/>
          <p:nvPr/>
        </p:nvPicPr>
        <p:blipFill>
          <a:blip r:embed="rId1"/>
          <a:stretch/>
        </p:blipFill>
        <p:spPr>
          <a:xfrm>
            <a:off x="1143000" y="609480"/>
            <a:ext cx="5715000" cy="461016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5"/>
          <p:cNvSpPr/>
          <p:nvPr/>
        </p:nvSpPr>
        <p:spPr>
          <a:xfrm>
            <a:off x="4561920" y="548640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如此图片为某产品广告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您认为该产品会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C644-9B7A-4B11-A8AE-B1E9BA71F9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7696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07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月中旬，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007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中国第八届医疗器械博览会将在广州召开，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公司已预订了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个展位，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公司计划针对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产品制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部专题片，在展会中播放，请根据你的理解规划该专题片拍摄、制作的方向和要点？（限时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917-0C79-4723-B6E8-7A1DDFE5A7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忠信技术</cp:lastModifiedBy>
  <dcterms:modified xsi:type="dcterms:W3CDTF">2017-08-06T14:28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