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7C90B-DB8A-4FD3-B7D8-5E044D646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A78D3-83FE-47D3-BEA8-27FD59A16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E82AE4-ACF1-4992-B46C-6A4C88988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78EE30-4B46-4614-B18F-6F79AA5DD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0AE7AC-1760-4539-B641-4478C9300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A9919F-6A1D-4BE8-A606-AD83F67E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142F02-6BCA-4A15-ACB1-F8353A90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0706BF-987B-432E-9B27-3AF95C20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66A736-0117-4E94-8204-E407540EC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5ED630-85F0-4E02-9EE3-26010BB1D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B1CC35-6184-4E5E-95BA-6608511B1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2636B29-3BC4-44FB-A004-B651F21C0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D65DF-FEC1-4272-9141-E8243BC45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FF61EC2-F6E9-49DF-9D12-B7619B6B8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4F7FA24-69C2-4F9C-8024-598A12E6A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A550148-3500-450A-B87F-49EF8969A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384CB8B-4270-4FEC-8F55-D8E84D703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2DECC73-1EE4-4F79-9BAF-8AD5A4984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898DB08-586F-4961-9C76-F9E622C2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265AAE3-0C14-4C53-BF91-5A40F938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7073325-EFAB-42B2-B9E0-A456CC2A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BAAA74A-1BCF-43EC-8AF7-7415F6F52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6A67626-F513-4FFB-894B-5F3CE795A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94E2C-8BA6-4A98-A894-C4CBFCE9C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7C43D58-1EAC-4554-9932-74FF29A30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62705DC-489A-4959-9C7A-073438935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CCE2606-0081-4DAA-A82C-2D0ABA943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D492318-8168-4E9D-8CB5-1CCC040B1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C12376B-C40C-4C89-88E6-909BA4D9F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DBD3763-F4C4-432E-9711-CC973715E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7FC9A14-D716-4C40-A366-0E2907DCF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1E42B68-1302-40A5-A1F8-E6820B48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E5B6E6A-C339-4214-9EA0-ABFC6D83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A4396B7-9D9F-4CEB-B699-EFAD7167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0F812-A506-4463-BE9E-9EA97F21F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9D506BC-13B4-4F2F-9EEB-0320DF25A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2065EB4-7C9C-4BFE-A52E-B3CD9480A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F7B8E54-17B3-471B-9885-96D072F3F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C2405DE-C498-443B-ABB2-6DB9FFA42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18D6086-8DC6-4D23-A86F-EA442C4A9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88950F5-4AA1-46F9-85D4-1A85AFA75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8A40E81-A6D0-428C-8F88-B4E0FE6A4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25A16E7-2601-4AB5-9DF7-AB1AAF938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282C3B7-4281-4D91-AEE3-AD47C774C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43884B3-D020-4E9B-BB7E-9E212240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EA14F-4F7B-4697-AECB-446139FEC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5EB0325-0470-4B6B-97D9-B4A202CE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61EE92E-614C-4D8A-B7D0-8469C917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A116E82-83C4-4F49-A82C-6FD391472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02BA568-7D7B-45E0-A50E-498CBC960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1DB0586-47BC-4C1E-8F2E-2FE2B8534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FECF5-8F56-4B88-9405-BFB517D4C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DA75E-44E4-48F1-8D46-4EA8572C4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145EF-481F-4971-8E77-D3F931FE5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DA35E-F0B3-482E-9963-B6E43E76B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C11F5-B47C-46A8-9040-B04B7E3A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0C2FB-A1EF-4117-A144-BBFDF0802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DCF24-BD75-485E-BBB8-EAFEF7BB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75226-C532-407C-913C-006F548C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FE274-D55C-4DBF-8C3B-A7E820663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0930A-AD21-4FE5-A6FA-E5DD2B58B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7C4E0-3DE4-4FD7-80B5-96D039764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C4E999-54AA-4000-A4B6-5FD06103D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5D78D5-1878-4225-9F30-13C2319F3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A8726A-D303-40C8-BBC3-C289C4774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EAA419-02FB-4043-AD85-73E58A019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DDE51F-A1D0-4E53-8E46-3BC144516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C5EF3-BF46-4F2F-8F70-7244752C1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A40045-CB7B-4CA1-8B42-0982A1D20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94EECB-4FEA-4E7B-BA76-F960635A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82CC3A-E1E6-4D20-A701-80BFAC79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3291D1-2684-4BBA-B90E-19346204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4FA5B4-0540-4E5F-B309-60DD7D544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F48746-F8F3-4EB8-B0B5-91045DCA8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899803-1D2D-43A8-9872-BB5F1B058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C2CDE8-54FC-420C-92CF-85173DA4A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9AC275-8EF4-44C3-8FC5-EB7E13C6E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3F44C5-6F9D-451C-A3F3-E59D3D262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56612-89B0-4D95-A8A7-D3E6C107E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4CA15C-57DA-4601-878C-1E753F107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8E43B4-A3D8-438D-BE1B-F7FB8B7C2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34C8B0-EB75-431A-B604-A7DE1B3D8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B66DE3-21D7-4368-9E51-2BE79A19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B0DAAD-B109-44D8-97E7-45B1BD82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1ED712-812E-4F73-B51B-1384144E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EC66FA-15B5-4CA3-A334-FC0209CE9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106FF6-3EBE-489A-8056-31FEA868D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8963F9-A659-43DB-A28B-C3C9CF267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1D0587-7BD8-4F74-8011-C7E153750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B0300-4420-4A32-BB42-D5070CFBE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72A91E-B06C-4ECC-B7F3-2DB610B9B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AC2EAB-97BB-4804-9A7D-FA6B402D0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F7073C-15D9-4611-819D-0CE5F0287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0A8EB8-75FB-416C-8948-4E76CD078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863B29-471D-4967-8F58-6648BB299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EED4B9-C03F-4C0A-A494-5BFED9AF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0A614A-8344-42E1-9439-3892C63D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82CDB7-BB88-4C38-A744-FFCD8EA8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DC9DAF-3C9E-465E-BAF7-05BFAB135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E75504-CFF2-487E-811C-AD8EC6D09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FD6AB-CBA5-431F-A68E-F05D40E11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20F3D7-F0D1-4B9B-9666-F6F13BF3B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F2C0AE-329A-4C22-833E-A0B74BA6C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B36667-A651-41B1-844D-F9C0EFA7A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A94E8A-2B57-49F3-94F7-2321E6702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3E5914-2EDE-4C5D-97AA-5CBF86946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5A5E62-1071-4EAE-B133-305EEDBB2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71F8EA-E247-4BE7-AE09-4EA141125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66EF5E-9AB0-453E-B808-1261A35B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3BAA0B-C501-4CC7-ADC9-43D23B74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2C7675-B253-4B29-95D6-054FE861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7750D-65EB-4BEB-AED5-AD80D443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855411-7263-4F12-8A51-6C90FBEC2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789BE3-72EF-4870-A2ED-1DAE7F2F2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169044-C485-41C0-B438-22A3C6A34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F5D900-8544-47CE-99DC-3B89EFCD9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704CF1-52FA-4765-88BE-66B03B51D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C56FE4-E27D-4FB1-AB40-F44EC863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AF1CC5-BD69-460F-9A16-497F22D20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8513D5-C5E7-487D-BB62-3F6CBD046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64566E-BAAC-4A3F-8D1D-E5E696BB9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1B25E6-1657-4C33-8F71-EA40E4B4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4F4CD-AE37-4178-AC99-8E350B46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EAFF4D-83CE-4744-AC21-0F27CEE0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429FC0-E76A-4D69-92C5-7ACDA40A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070225-2224-4DE0-B138-7367282FF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EB84BF-6B04-4086-809D-8483DBD28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3B7A4F-FFDE-4F2E-AB9D-D3CB2877A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E72845-191D-4ED1-98BC-36B5B2FA1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657E2E-24A0-4FAC-AB6B-650F90B06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DEC341-1CF6-40BE-970C-6CB0234C0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CFB93A-8511-470A-A7DE-19C82E2D8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75DF3A-7B3A-4018-BF61-D14B22377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53682-BFB1-4098-BC11-55C48023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54489D-BF96-40CD-B3CF-52A6033C2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408F46-E12B-448D-864B-C2D2179A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DCEC5A-7EFE-43A3-8D87-DA1ADE1A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A934FB-3D5D-4FDD-9297-CFDCEC21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929259-183F-4D20-9353-2FD43E5AE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156F24-AE68-4D2E-8F3D-8E7C14F52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5666EE-A254-41E6-8E68-946196DED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836DFD-86D0-4FFA-B71D-5E8E302AE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E47711-FE7E-458D-9127-0E4AAF35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A064A9-83F4-449D-BB8E-DAD6794AA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人才测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R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人力资源大全微信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s1314di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7FA19-5CDD-4BB8-99D4-03998D3C24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6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5ABE0-046E-4792-AF17-497DB04961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15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ftr" idx="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6554D-45B4-43BB-BED7-1B7871F47C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66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ftr" idx="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6D53D-954B-4183-87B2-B57A3382FD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人才测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R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人力资源大全微信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s1314di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461DC-1C79-431D-B710-D816AF6FA2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1735A-E7C7-47EE-AC26-05DD711198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0398A-342A-4FF4-8018-E10CC298EA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D16CA-9CC7-4729-8E71-0EB1587E94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60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F97B0-7357-4F73-874F-C2E3817A65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1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CEF93-827C-432D-A4D9-A6C92E8C10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6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ftr" idx="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1132-F018-4B0E-9445-A56846417E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61015-8103-45EC-B448-E218CA015D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Arial"/>
              </a:rPr>
              <a:t>三德医疗招聘复试题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岗位：总经理助理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灯片编号占位符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DD533-0A18-4659-A720-E5B6E7283B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人才测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》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人力资源大全微信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s1314di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个公司中由于进入的时间先后形成如下管理格局：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管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, 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管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个人能力排序为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&gt;C&gt;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分别假设你的身份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,B,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下一步你会采取什么行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4"/>
          <p:cNvSpPr/>
          <p:nvPr/>
        </p:nvSpPr>
        <p:spPr>
          <a:xfrm>
            <a:off x="2205360" y="4903920"/>
            <a:ext cx="50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7d"/>
                </a:solidFill>
                <a:latin typeface="Arial"/>
              </a:rPr>
              <a:t>若个人能力排序为：</a:t>
            </a: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C&gt;A&gt;B</a:t>
            </a:r>
            <a:r>
              <a:rPr b="1" lang="zh-CN" sz="3600" spc="-1" strike="noStrike">
                <a:solidFill>
                  <a:srgbClr val="00007d"/>
                </a:solidFill>
                <a:latin typeface="Arial"/>
              </a:rPr>
              <a:t>呢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灯片编号占位符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8A45E-906B-4495-BAF8-FB42723466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4"/>
          <p:cNvSpPr/>
          <p:nvPr/>
        </p:nvSpPr>
        <p:spPr>
          <a:xfrm>
            <a:off x="45720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负责协调的项目组中有一个成员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与你意见不统一。你会采取什么行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若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意见项目组大多数人反对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仍拒绝改正，你怎么办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若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意见得到大多数人的支持，而你坚信自己是对的，又该怎么办？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灯片编号占位符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D8254-0F63-4287-B4B9-BAA0FDB465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当总经理因急事出差在飞机上时。。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上海某医院在使用本公司医疗设备时出现医疗事故，患者至今未脱离危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采购部经理报告：某医疗器械供应商的总经理将于今日途经本市，停留一晚。此供应商是本公司欲合作的重要伙伴。双方均有意向签订全国总代理合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销售公司报告：与一集团客户将签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万元的销售合同，客户提出分五期付款。第一期为合同签订时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二期为货到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三期、四期为每月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余款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月后一次性付清。毛利率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此客户要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时内回复，否则取消合作。根据公司要求，货款可分两期支付，分别为到货前、到货后各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应聘人力资源经理的目标人选已经与您约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面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现在的时间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，公司各部门例会正在进行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总经理将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下飞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果您是总经理助理，你将如何处理以上事务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灯片编号占位符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BC5E7-0737-4951-912C-69DB27E985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笔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营业员小姐由于工作失误，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元的笔记本电脑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元错卖给李先生，王小姐的经理怎么写信给李先生试图将钱要回来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钟内完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灯片编号占位符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2AAF7-B9D8-46A9-8F34-FBEED518A1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忠信技术</cp:lastModifiedBy>
  <dcterms:modified xsi:type="dcterms:W3CDTF">2017-08-06T14:28:42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