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10.jpeg" ContentType="image/jpeg"/>
  <Override PartName="/ppt/media/image5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375"/>
              </a:spcAft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375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18440" cy="6845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2006640" y="6654600"/>
            <a:ext cx="10666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5400" indent="-95400">
              <a:lnSpc>
                <a:spcPct val="90000"/>
              </a:lnSpc>
              <a:buClr>
                <a:srgbClr val="ffffff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enry He, 2000</a:t>
            </a:r>
            <a:endParaRPr b="1" lang="en-US" sz="1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" name="Text Box 18"/>
          <p:cNvSpPr/>
          <p:nvPr/>
        </p:nvSpPr>
        <p:spPr>
          <a:xfrm>
            <a:off x="0" y="6583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ragonGat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Rectangle 23"/>
          <p:cNvSpPr/>
          <p:nvPr/>
        </p:nvSpPr>
        <p:spPr>
          <a:xfrm>
            <a:off x="0" y="0"/>
            <a:ext cx="6629400" cy="609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eaea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" name="Text Box 24"/>
          <p:cNvSpPr/>
          <p:nvPr/>
        </p:nvSpPr>
        <p:spPr>
          <a:xfrm>
            <a:off x="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99"/>
          <p:cNvSpPr/>
          <p:nvPr/>
        </p:nvSpPr>
        <p:spPr>
          <a:xfrm>
            <a:off x="1037880" y="152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SimHei"/>
                <a:ea typeface="SimHei"/>
              </a:rPr>
              <a:t>网络时代的人力资源管理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" name="Rectangle 500"/>
          <p:cNvSpPr/>
          <p:nvPr/>
        </p:nvSpPr>
        <p:spPr>
          <a:xfrm>
            <a:off x="220968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SimHei"/>
                <a:ea typeface="SimHei"/>
              </a:rPr>
              <a:t>网络招聘技术</a:t>
            </a:r>
            <a:endParaRPr b="1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3" name="Rectangle 501"/>
          <p:cNvSpPr/>
          <p:nvPr/>
        </p:nvSpPr>
        <p:spPr>
          <a:xfrm>
            <a:off x="3270960" y="41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SimHei"/>
                <a:ea typeface="SimHei"/>
              </a:rPr>
              <a:t>贺鸿鸣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44" name="Picture 503" descr="purpsm"/>
          <p:cNvPicPr/>
          <p:nvPr/>
        </p:nvPicPr>
        <p:blipFill>
          <a:blip r:embed="rId1"/>
          <a:stretch/>
        </p:blipFill>
        <p:spPr>
          <a:xfrm>
            <a:off x="304920" y="2057400"/>
            <a:ext cx="1569960" cy="2438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04"/>
          <p:cNvSpPr/>
          <p:nvPr/>
        </p:nvSpPr>
        <p:spPr>
          <a:xfrm>
            <a:off x="1979640" y="4581360"/>
            <a:ext cx="669600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———————————————————————————————————————</a:t>
            </a:r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本资料选自国内最具含金量，最全面的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《</a:t>
            </a: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人力资源顶级方法与实操大全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-2010</a:t>
            </a: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实战精华版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》</a:t>
            </a:r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资料每年升级，全国各地免费送货，货到付款，详情咨询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qq</a:t>
            </a: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：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514457731</a:t>
            </a: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（加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qq</a:t>
            </a: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无需验证）</a:t>
            </a:r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76720" y="1371600"/>
            <a:ext cx="5553000" cy="46483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1294920" y="1294920"/>
            <a:ext cx="312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公司内部网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人才网站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公司主页发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专业的站点发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200" spc="-1" strike="noStrike">
                <a:solidFill>
                  <a:srgbClr val="6161cb"/>
                </a:solidFill>
                <a:latin typeface="Arial"/>
              </a:rPr>
              <a:t>BBS</a:t>
            </a: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寻找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聊天室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寻找个人主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网上猎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自己做猎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哪里寻找人才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76720" y="1371600"/>
            <a:ext cx="5553000" cy="46483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1294920" y="129528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公司主页发布招聘信息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71440"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Arial"/>
              </a:rPr>
              <a:t>在首页明显位置的链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71440"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Arial"/>
              </a:rPr>
              <a:t>将企业文化，人力资源政策以及更多的能让求职者了解的信息发布在主页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71440"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Arial"/>
              </a:rPr>
              <a:t>最好能有在线填写简历，在线测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专业的站点发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71440"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Arial"/>
              </a:rPr>
              <a:t>招聘信息链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200" spc="-1" strike="noStrike">
                <a:solidFill>
                  <a:srgbClr val="6161cb"/>
                </a:solidFill>
                <a:latin typeface="Arial"/>
              </a:rPr>
              <a:t>BBS</a:t>
            </a:r>
            <a:r>
              <a:rPr b="1" lang="zh-CN" sz="2200" spc="-1" strike="noStrike">
                <a:solidFill>
                  <a:srgbClr val="6161cb"/>
                </a:solidFill>
                <a:latin typeface="Arial"/>
              </a:rPr>
              <a:t>寻找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71440"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Arial"/>
              </a:rPr>
              <a:t>专业的</a:t>
            </a:r>
            <a:r>
              <a:rPr b="0" lang="en-US" sz="1800" spc="-1" strike="noStrike">
                <a:solidFill>
                  <a:srgbClr val="6161cb"/>
                </a:solidFill>
                <a:latin typeface="Arial"/>
              </a:rPr>
              <a:t>BBS</a:t>
            </a:r>
            <a:r>
              <a:rPr b="0" lang="zh-CN" sz="1800" spc="-1" strike="noStrike">
                <a:solidFill>
                  <a:srgbClr val="6161cb"/>
                </a:solidFill>
                <a:latin typeface="Arial"/>
              </a:rPr>
              <a:t>站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71440"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Arial"/>
              </a:rPr>
              <a:t>专业的“斑竹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招聘需注意的地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295280" y="1294920"/>
            <a:ext cx="5943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5640" indent="-395640">
              <a:lnSpc>
                <a:spcPct val="90000"/>
              </a:lnSpc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_x000b__x000c_"/>
              </a:rPr>
              <a:t>如何利用好人才网站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68560">
              <a:lnSpc>
                <a:spcPct val="9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怎样挑选人才网站？挑选的标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68560">
              <a:lnSpc>
                <a:spcPct val="9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如何更好的发挥人才网站的优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68560">
              <a:lnSpc>
                <a:spcPct val="9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如何筛选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68560">
              <a:lnSpc>
                <a:spcPct val="9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登记会员时应注意哪些问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68560">
              <a:lnSpc>
                <a:spcPct val="9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如何利用收藏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68560">
              <a:lnSpc>
                <a:spcPct val="9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如何发布招聘信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68560">
              <a:lnSpc>
                <a:spcPct val="9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发出的招聘意向，查看求职意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68560">
              <a:lnSpc>
                <a:spcPct val="9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转发给面试人员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何利用好人才网站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1295280" y="1294920"/>
            <a:ext cx="5943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100000"/>
              </a:lnSpc>
              <a:spcAft>
                <a:spcPts val="137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200" spc="-1" strike="noStrike">
                <a:solidFill>
                  <a:srgbClr val="6161cb"/>
                </a:solidFill>
                <a:latin typeface="_x000b__x000c_"/>
              </a:rPr>
              <a:t>大型人才网站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71440">
              <a:lnSpc>
                <a:spcPct val="10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广州：</a:t>
            </a:r>
            <a:r>
              <a:rPr b="0" lang="en-GB" sz="1800" spc="-1" strike="noStrike">
                <a:solidFill>
                  <a:srgbClr val="6161cb"/>
                </a:solidFill>
                <a:latin typeface="_x000b__x000c_"/>
              </a:rPr>
              <a:t>www.sch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71440">
              <a:lnSpc>
                <a:spcPct val="100000"/>
              </a:lnSpc>
              <a:spcAft>
                <a:spcPts val="1001"/>
              </a:spcAft>
              <a:buClr>
                <a:srgbClr val="0019d1"/>
              </a:buClr>
              <a:buSzPct val="75000"/>
              <a:buFont typeface="Wingdings" charset="2"/>
              <a:buChar char="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600" spc="-1" strike="noStrike">
                <a:solidFill>
                  <a:srgbClr val="6161cb"/>
                </a:solidFill>
                <a:latin typeface="_x000b__x000c_"/>
              </a:rPr>
              <a:t>www.job21s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71440">
              <a:lnSpc>
                <a:spcPct val="100000"/>
              </a:lnSpc>
              <a:spcAft>
                <a:spcPts val="1001"/>
              </a:spcAft>
              <a:buClr>
                <a:srgbClr val="0019d1"/>
              </a:buClr>
              <a:buSzPct val="75000"/>
              <a:buFont typeface="Wingdings" charset="2"/>
              <a:buChar char="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600" spc="-1" strike="noStrike">
                <a:solidFill>
                  <a:srgbClr val="6161cb"/>
                </a:solidFill>
                <a:latin typeface="_x000b__x000c_"/>
              </a:rPr>
              <a:t>www.dragongate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71440">
              <a:lnSpc>
                <a:spcPct val="100000"/>
              </a:lnSpc>
              <a:spcAft>
                <a:spcPts val="1001"/>
              </a:spcAft>
              <a:buClr>
                <a:srgbClr val="0019d1"/>
              </a:buClr>
              <a:buSzPct val="75000"/>
              <a:buFont typeface="Wingdings" charset="2"/>
              <a:buChar char="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600" spc="-1" strike="noStrike">
                <a:solidFill>
                  <a:srgbClr val="6161cb"/>
                </a:solidFill>
                <a:latin typeface="_x000b__x000c_"/>
              </a:rPr>
              <a:t>www.job168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71440">
              <a:lnSpc>
                <a:spcPct val="10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东莞：</a:t>
            </a:r>
            <a:r>
              <a:rPr b="0" lang="en-GB" sz="1800" spc="-1" strike="noStrike">
                <a:solidFill>
                  <a:srgbClr val="6161cb"/>
                </a:solidFill>
                <a:latin typeface="_x000b__x000c_"/>
              </a:rPr>
              <a:t>www.jobc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71440">
              <a:lnSpc>
                <a:spcPct val="10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深圳：</a:t>
            </a:r>
            <a:r>
              <a:rPr b="0" lang="en-GB" sz="1800" spc="-1" strike="noStrike">
                <a:solidFill>
                  <a:srgbClr val="6161cb"/>
                </a:solidFill>
                <a:latin typeface="_x000b__x000c_"/>
              </a:rPr>
              <a:t>www.cjol.com;www.china-pr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71440">
              <a:lnSpc>
                <a:spcPct val="100000"/>
              </a:lnSpc>
              <a:spcAft>
                <a:spcPts val="1125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800" spc="-1" strike="noStrike">
                <a:solidFill>
                  <a:srgbClr val="6161cb"/>
                </a:solidFill>
                <a:latin typeface="_x000b__x000c_"/>
              </a:rPr>
              <a:t>上海：</a:t>
            </a:r>
            <a:r>
              <a:rPr b="0" lang="en-GB" sz="1800" spc="-1" strike="noStrike">
                <a:solidFill>
                  <a:srgbClr val="6161cb"/>
                </a:solidFill>
                <a:latin typeface="_x000b__x000c_"/>
              </a:rPr>
              <a:t>www.hr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71440">
              <a:lnSpc>
                <a:spcPct val="100000"/>
              </a:lnSpc>
              <a:spcAft>
                <a:spcPts val="1001"/>
              </a:spcAft>
              <a:buClr>
                <a:srgbClr val="0019d1"/>
              </a:buClr>
              <a:buSzPct val="75000"/>
              <a:buFont typeface="Wingdings" charset="2"/>
              <a:buChar char="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600" spc="-1" strike="noStrike">
                <a:solidFill>
                  <a:srgbClr val="6161cb"/>
                </a:solidFill>
                <a:latin typeface="_x000b__x000c_"/>
              </a:rPr>
              <a:t>www.zhaopin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71440">
              <a:lnSpc>
                <a:spcPct val="100000"/>
              </a:lnSpc>
              <a:spcAft>
                <a:spcPts val="1001"/>
              </a:spcAft>
              <a:buClr>
                <a:srgbClr val="0019d1"/>
              </a:buClr>
              <a:buSzPct val="75000"/>
              <a:buFont typeface="Wingdings" charset="2"/>
              <a:buChar char="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600" spc="-1" strike="noStrike">
                <a:solidFill>
                  <a:srgbClr val="6161cb"/>
                </a:solidFill>
                <a:latin typeface="_x000b__x000c_"/>
              </a:rPr>
              <a:t>www.lietou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71440">
              <a:spcAft>
                <a:spcPts val="1001"/>
              </a:spcAft>
              <a:buClr>
                <a:srgbClr val="0019d1"/>
              </a:buClr>
              <a:buSzPct val="75000"/>
              <a:buFont typeface="Wingdings" charset="2"/>
              <a:buChar char=""/>
              <a:tabLst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600" spc="-1" strike="noStrike">
                <a:solidFill>
                  <a:srgbClr val="6161cb"/>
                </a:solidFill>
                <a:latin typeface="Arial"/>
              </a:rPr>
              <a:t>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有哪些人才网站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0" y="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线招聘管理系统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514600" y="1600200"/>
            <a:ext cx="3962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建立统一的数据库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定时查询人才信息，收集，储备人才资料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跟踪人才资料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电子面试与面试报告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与薪酬等系统接口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与工作分析</a:t>
            </a:r>
            <a:r>
              <a:rPr b="1" lang="en-US" sz="2000" spc="-1" strike="noStrike">
                <a:solidFill>
                  <a:srgbClr val="6161cb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组织计划接口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招聘工作报告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42" name="Picture 4" descr="C:\My Documents\HENRY_HE\training\image\purpsm.gif"/>
          <p:cNvPicPr/>
          <p:nvPr/>
        </p:nvPicPr>
        <p:blipFill>
          <a:blip r:embed="rId1"/>
          <a:stretch/>
        </p:blipFill>
        <p:spPr>
          <a:xfrm>
            <a:off x="457200" y="3657600"/>
            <a:ext cx="1484280" cy="231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1295280" y="1294920"/>
            <a:ext cx="5943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63960" indent="-363960">
              <a:lnSpc>
                <a:spcPct val="90000"/>
              </a:lnSpc>
              <a:spcAft>
                <a:spcPts val="1562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500" spc="-1" strike="noStrike">
                <a:solidFill>
                  <a:srgbClr val="6161cb"/>
                </a:solidFill>
                <a:latin typeface="_x000b__x000c_"/>
              </a:rPr>
              <a:t>通过搜索引擎查找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960" indent="-363960">
              <a:lnSpc>
                <a:spcPct val="90000"/>
              </a:lnSpc>
              <a:spcAft>
                <a:spcPts val="1562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500" spc="-1" strike="noStrike">
                <a:solidFill>
                  <a:srgbClr val="6161cb"/>
                </a:solidFill>
                <a:latin typeface="_x000b__x000c_"/>
              </a:rPr>
              <a:t>管理专业站点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14960" indent="-246960">
              <a:lnSpc>
                <a:spcPct val="90000"/>
              </a:lnSpc>
              <a:spcAft>
                <a:spcPts val="1001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600" spc="-1" strike="noStrike">
                <a:solidFill>
                  <a:srgbClr val="6161cb"/>
                </a:solidFill>
                <a:latin typeface="_x000b__x000c_"/>
              </a:rPr>
              <a:t>世界经理人文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960" indent="-246960">
              <a:lnSpc>
                <a:spcPct val="90000"/>
              </a:lnSpc>
              <a:spcAft>
                <a:spcPts val="1001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600" spc="-1" strike="noStrike">
                <a:solidFill>
                  <a:srgbClr val="6161cb"/>
                </a:solidFill>
                <a:latin typeface="_x000b__x000c_"/>
              </a:rPr>
              <a:t>CEO&amp;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960" indent="-246960">
              <a:lnSpc>
                <a:spcPct val="90000"/>
              </a:lnSpc>
              <a:spcAft>
                <a:spcPts val="1001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600" spc="-1" strike="noStrike">
                <a:solidFill>
                  <a:srgbClr val="6161cb"/>
                </a:solidFill>
                <a:latin typeface="_x000b__x000c_"/>
              </a:rPr>
              <a:t>中国经营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960" indent="-246960">
              <a:lnSpc>
                <a:spcPct val="90000"/>
              </a:lnSpc>
              <a:spcAft>
                <a:spcPts val="1001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600" spc="-1" strike="noStrike">
                <a:solidFill>
                  <a:srgbClr val="6161cb"/>
                </a:solidFill>
                <a:latin typeface="_x000b__x000c_"/>
              </a:rPr>
              <a:t>睿商在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960" indent="-246960">
              <a:lnSpc>
                <a:spcPct val="90000"/>
              </a:lnSpc>
              <a:spcAft>
                <a:spcPts val="1001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zh-CN" sz="1600" spc="-1" strike="noStrike">
                <a:solidFill>
                  <a:srgbClr val="6161cb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960" indent="-363960">
              <a:lnSpc>
                <a:spcPct val="90000"/>
              </a:lnSpc>
              <a:spcAft>
                <a:spcPts val="1562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500" spc="-1" strike="noStrike">
                <a:solidFill>
                  <a:srgbClr val="6161cb"/>
                </a:solidFill>
                <a:latin typeface="_x000b__x000c_"/>
              </a:rPr>
              <a:t>IT</a:t>
            </a:r>
            <a:r>
              <a:rPr b="1" lang="zh-CN" sz="2500" spc="-1" strike="noStrike">
                <a:solidFill>
                  <a:srgbClr val="6161cb"/>
                </a:solidFill>
                <a:latin typeface="_x000b__x000c_"/>
              </a:rPr>
              <a:t>专业站点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14960" indent="-246960">
              <a:lnSpc>
                <a:spcPct val="90000"/>
              </a:lnSpc>
              <a:spcAft>
                <a:spcPts val="1001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600" spc="-1" strike="noStrike">
                <a:solidFill>
                  <a:srgbClr val="6161cb"/>
                </a:solidFill>
                <a:latin typeface="_x000b__x000c_"/>
              </a:rPr>
              <a:t>Chinabyt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960" indent="-246960">
              <a:lnSpc>
                <a:spcPct val="90000"/>
              </a:lnSpc>
              <a:spcAft>
                <a:spcPts val="1001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GB" sz="1600" spc="-1" strike="noStrike">
                <a:solidFill>
                  <a:srgbClr val="6161cb"/>
                </a:solidFill>
                <a:latin typeface="_x000b__x000c_"/>
              </a:rPr>
              <a:t>Yesite.com</a:t>
            </a:r>
            <a:r>
              <a:rPr b="0" lang="zh-CN" sz="1600" spc="-1" strike="noStrike">
                <a:solidFill>
                  <a:srgbClr val="6161cb"/>
                </a:solidFill>
                <a:latin typeface="_x000b__x000c_"/>
              </a:rPr>
              <a:t>品网频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960" indent="-246960">
              <a:lnSpc>
                <a:spcPct val="90000"/>
              </a:lnSpc>
              <a:spcAft>
                <a:spcPts val="1001"/>
              </a:spcAft>
              <a:buClr>
                <a:srgbClr val="0019d1"/>
              </a:buClr>
              <a:buSzPct val="80000"/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600" spc="-1" strike="noStrike">
                <a:solidFill>
                  <a:srgbClr val="6161cb"/>
                </a:solidFill>
                <a:latin typeface="Arial"/>
              </a:rPr>
              <a:t>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960" indent="-363960">
              <a:lnSpc>
                <a:spcPct val="90000"/>
              </a:lnSpc>
              <a:spcAft>
                <a:spcPts val="150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400" spc="-1" strike="noStrike">
                <a:solidFill>
                  <a:srgbClr val="6161cb"/>
                </a:solidFill>
                <a:latin typeface="_x000b__x000c_"/>
              </a:rPr>
              <a:t>个人主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有哪些专业网站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电子面试与在线测评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2977200" y="1523880"/>
            <a:ext cx="4231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＠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OICQ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www.oicq.com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＠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ICQ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＠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聊天室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＠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IVR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Interactive Voice Response)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＠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NETMEETING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＠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视像面试（异地）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＠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在线测评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533520" y="3657600"/>
            <a:ext cx="1676160" cy="2438280"/>
          </a:xfrm>
          <a:prstGeom prst="rect">
            <a:avLst/>
          </a:prstGeom>
          <a:solidFill>
            <a:srgbClr val="977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48" name="Picture 11" descr="C:\My Documents\HENRY_HE\training\image\smfeed.gif"/>
          <p:cNvPicPr/>
          <p:nvPr/>
        </p:nvPicPr>
        <p:blipFill>
          <a:blip r:embed="rId1"/>
          <a:stretch/>
        </p:blipFill>
        <p:spPr>
          <a:xfrm>
            <a:off x="609480" y="3505320"/>
            <a:ext cx="1614600" cy="2514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0" y="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面试时常问的一些问题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4036320" y="1295280"/>
            <a:ext cx="124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你认为自己作为一名优秀的员工你已经具备了哪些条件？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你对目前或最后的那份工作感到最满意和最不满意的地方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是什么？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与哪些人一起工作会让你不愉快？你会怎样处理这些问题？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你个人的优点有哪些？能不能举例说明？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你个人的缺点呢？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你用什么方法克服你的缺点？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从哪几个方面可以感觉出你的同事们都非常愿意而且愉快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地与你一起工作？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在过去的两年里，你曾经有过哪些转变？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你希望自己在三年或五年以后的职位发展到哪一个层次或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状况？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你是如何处理压力的？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。您还有哪些才能我们还没谈到，但对这份工作会有正面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影响？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4"/>
          <p:cNvSpPr/>
          <p:nvPr/>
        </p:nvSpPr>
        <p:spPr>
          <a:xfrm>
            <a:off x="0" y="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公司内部招聘与内部网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2057400" y="1066680"/>
            <a:ext cx="6629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公司内部网与内部征才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12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1800" spc="-1" strike="noStrike">
                <a:solidFill>
                  <a:srgbClr val="6161cb"/>
                </a:solidFill>
                <a:latin typeface="Arial"/>
                <a:ea typeface="宋体"/>
              </a:rPr>
              <a:t>内部征才与公司文化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12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12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53" name="Picture 7" descr="C:\My Documents\HENRY_HE\training\image\purpsm.gif"/>
          <p:cNvPicPr/>
          <p:nvPr/>
        </p:nvPicPr>
        <p:blipFill>
          <a:blip r:embed="rId1"/>
          <a:stretch/>
        </p:blipFill>
        <p:spPr>
          <a:xfrm>
            <a:off x="457200" y="3657600"/>
            <a:ext cx="1484280" cy="231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招聘效果评估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3657600" y="190512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招聘评估指标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面试报告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56" name="Picture 5" descr="C:\My Documents\HENRY_HE\training\image\smpress.gif"/>
          <p:cNvPicPr/>
          <p:nvPr/>
        </p:nvPicPr>
        <p:blipFill>
          <a:blip r:embed="rId1"/>
          <a:stretch/>
        </p:blipFill>
        <p:spPr>
          <a:xfrm>
            <a:off x="533520" y="2438280"/>
            <a:ext cx="2206440" cy="3581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120" y="0"/>
            <a:ext cx="2781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次研讨会的目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2"/>
          <p:cNvSpPr/>
          <p:nvPr/>
        </p:nvSpPr>
        <p:spPr>
          <a:xfrm>
            <a:off x="1035000" y="1204920"/>
            <a:ext cx="5869080" cy="4815000"/>
          </a:xfrm>
          <a:custGeom>
            <a:avLst/>
            <a:gdLst/>
            <a:ahLst/>
            <a:rect l="l" t="t" r="r" b="b"/>
            <a:pathLst>
              <a:path w="7394" h="3033">
                <a:moveTo>
                  <a:pt x="308" y="0"/>
                </a:moveTo>
                <a:lnTo>
                  <a:pt x="7394" y="209"/>
                </a:lnTo>
                <a:lnTo>
                  <a:pt x="7063" y="3033"/>
                </a:lnTo>
                <a:lnTo>
                  <a:pt x="0" y="2812"/>
                </a:lnTo>
                <a:lnTo>
                  <a:pt x="308" y="0"/>
                </a:lnTo>
                <a:close/>
              </a:path>
            </a:pathLst>
          </a:custGeom>
          <a:solidFill>
            <a:srgbClr val="c0c0c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" name="Freeform 23"/>
          <p:cNvSpPr/>
          <p:nvPr/>
        </p:nvSpPr>
        <p:spPr>
          <a:xfrm>
            <a:off x="1015920" y="1225440"/>
            <a:ext cx="5869080" cy="4816440"/>
          </a:xfrm>
          <a:custGeom>
            <a:avLst/>
            <a:gdLst/>
            <a:ahLst/>
            <a:rect l="l" t="t" r="r" b="b"/>
            <a:pathLst>
              <a:path w="7394" h="3034">
                <a:moveTo>
                  <a:pt x="7086" y="0"/>
                </a:moveTo>
                <a:lnTo>
                  <a:pt x="0" y="209"/>
                </a:lnTo>
                <a:lnTo>
                  <a:pt x="331" y="3034"/>
                </a:lnTo>
                <a:lnTo>
                  <a:pt x="7394" y="2811"/>
                </a:lnTo>
                <a:lnTo>
                  <a:pt x="7086" y="0"/>
                </a:lnTo>
                <a:close/>
              </a:path>
            </a:pathLst>
          </a:custGeom>
          <a:solidFill>
            <a:srgbClr val="80808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1157400" y="1387440"/>
            <a:ext cx="5603760" cy="448632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" name="Freeform 25"/>
          <p:cNvSpPr/>
          <p:nvPr/>
        </p:nvSpPr>
        <p:spPr>
          <a:xfrm>
            <a:off x="6858000" y="4267080"/>
            <a:ext cx="473040" cy="622440"/>
          </a:xfrm>
          <a:custGeom>
            <a:avLst/>
            <a:gdLst/>
            <a:ahLst/>
            <a:rect l="l" t="t" r="r" b="b"/>
            <a:pathLst>
              <a:path w="595" h="392">
                <a:moveTo>
                  <a:pt x="0" y="50"/>
                </a:moveTo>
                <a:lnTo>
                  <a:pt x="595" y="392"/>
                </a:lnTo>
                <a:lnTo>
                  <a:pt x="32" y="0"/>
                </a:lnTo>
                <a:lnTo>
                  <a:pt x="0" y="50"/>
                </a:lnTo>
                <a:close/>
              </a:path>
            </a:pathLst>
          </a:custGeom>
          <a:solidFill>
            <a:srgbClr val="c0c0c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51" name="Object 11"/>
          <p:cNvGraphicFramePr/>
          <p:nvPr/>
        </p:nvGraphicFramePr>
        <p:xfrm>
          <a:off x="7162920" y="3809880"/>
          <a:ext cx="121752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809880"/>
                    <a:ext cx="121752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20"/>
          <p:cNvSpPr/>
          <p:nvPr/>
        </p:nvSpPr>
        <p:spPr>
          <a:xfrm>
            <a:off x="1905120" y="190512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_x000b__x000c_"/>
              </a:rPr>
              <a:t>★</a:t>
            </a: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网络时代的招聘战略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_x000b__x000c_"/>
              </a:rPr>
              <a:t>★</a:t>
            </a:r>
            <a:r>
              <a:rPr b="1" lang="zh-CN" sz="1800" spc="-1" strike="noStrike">
                <a:solidFill>
                  <a:srgbClr val="000099"/>
                </a:solidFill>
                <a:latin typeface="_x000b__x000c_"/>
                <a:ea typeface="_x000b__x000c_"/>
              </a:rPr>
              <a:t>学习互联网</a:t>
            </a:r>
            <a:r>
              <a:rPr b="1" lang="en-US" sz="1800" spc="-1" strike="noStrike">
                <a:solidFill>
                  <a:srgbClr val="000099"/>
                </a:solidFill>
                <a:latin typeface="_x000b__x000c_"/>
                <a:ea typeface="_x000b__x000c_"/>
              </a:rPr>
              <a:t>/</a:t>
            </a:r>
            <a:r>
              <a:rPr b="1" lang="zh-CN" sz="1800" spc="-1" strike="noStrike">
                <a:solidFill>
                  <a:srgbClr val="000099"/>
                </a:solidFill>
                <a:latin typeface="_x000b__x000c_"/>
                <a:ea typeface="_x000b__x000c_"/>
              </a:rPr>
              <a:t>企业内部网</a:t>
            </a:r>
            <a:r>
              <a:rPr b="1" lang="en-US" sz="1800" spc="-1" strike="noStrike">
                <a:solidFill>
                  <a:srgbClr val="000099"/>
                </a:solidFill>
                <a:latin typeface="_x000b__x000c_"/>
                <a:ea typeface="_x000b__x000c_"/>
              </a:rPr>
              <a:t>/</a:t>
            </a:r>
            <a:r>
              <a:rPr b="1" lang="zh-CN" sz="1800" spc="-1" strike="noStrike">
                <a:solidFill>
                  <a:srgbClr val="000099"/>
                </a:solidFill>
                <a:latin typeface="_x000b__x000c_"/>
                <a:ea typeface="_x000b__x000c_"/>
              </a:rPr>
              <a:t>招聘技术，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_x000b__x000c_"/>
                <a:ea typeface="_x000b__x000c_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_x000b__x000c_"/>
                <a:ea typeface="_x000b__x000c_"/>
              </a:rPr>
              <a:t>提高招聘效率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_x000b__x000c_"/>
              </a:rPr>
              <a:t>★</a:t>
            </a:r>
            <a:r>
              <a:rPr b="1" lang="zh-CN" sz="1800" spc="-1" strike="noStrike">
                <a:solidFill>
                  <a:srgbClr val="000099"/>
                </a:solidFill>
                <a:latin typeface="_x000b__x000c_"/>
                <a:ea typeface="_x000b__x000c_"/>
              </a:rPr>
              <a:t>学习电子面试技巧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_x000b__x000c_"/>
              </a:rPr>
              <a:t>★</a:t>
            </a:r>
            <a:r>
              <a:rPr b="1" lang="zh-CN" sz="1800" spc="-1" strike="noStrike">
                <a:solidFill>
                  <a:srgbClr val="000099"/>
                </a:solidFill>
                <a:latin typeface="_x000b__x000c_"/>
                <a:ea typeface="_x000b__x000c_"/>
              </a:rPr>
              <a:t>学习网络猎头，自己做猎头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_x000b__x000c_"/>
              </a:rPr>
              <a:t>★</a:t>
            </a:r>
            <a:r>
              <a:rPr b="1" lang="zh-CN" sz="1800" spc="-1" strike="noStrike">
                <a:solidFill>
                  <a:srgbClr val="000099"/>
                </a:solidFill>
                <a:latin typeface="_x000b__x000c_"/>
                <a:ea typeface="_x000b__x000c_"/>
              </a:rPr>
              <a:t>建立自己的网络人才库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99"/>
                </a:solidFill>
                <a:latin typeface="_x000b__x000c_"/>
                <a:ea typeface="_x000b__x000c_"/>
              </a:rPr>
              <a:t>★虚拟员工的网络化管理。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招聘后续工作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609480" y="152388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试用期内的有效沟通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  <a:ea typeface="宋体"/>
              </a:rPr>
              <a:t>新员工天地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  <a:ea typeface="宋体"/>
              </a:rPr>
              <a:t>新员工介绍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  <a:ea typeface="宋体"/>
              </a:rPr>
              <a:t>新员工讨论区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  <a:ea typeface="宋体"/>
              </a:rPr>
              <a:t>新员工恳谈会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  <a:ea typeface="宋体"/>
              </a:rPr>
              <a:t>新员工培训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marL="399960" indent="-399960">
              <a:lnSpc>
                <a:spcPct val="130000"/>
              </a:lnSpc>
              <a:spcAft>
                <a:spcPts val="125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559" name="Object 21"/>
          <p:cNvGraphicFramePr/>
          <p:nvPr/>
        </p:nvGraphicFramePr>
        <p:xfrm>
          <a:off x="3200400" y="580248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580248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3"/>
          <p:cNvSpPr/>
          <p:nvPr/>
        </p:nvSpPr>
        <p:spPr>
          <a:xfrm>
            <a:off x="152280" y="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键绩效指标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4449960" y="54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员工结构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6494040" y="4800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缺勤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7118640" y="3505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人员流动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6737760" y="236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组织结构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809680" y="1447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招聘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331200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人员配置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8" name="Text Box 14"/>
          <p:cNvSpPr/>
          <p:nvPr/>
        </p:nvSpPr>
        <p:spPr>
          <a:xfrm>
            <a:off x="1466280" y="2286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薪酬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1847160" y="373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培训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2761560" y="4952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Times New Roman"/>
              </a:rPr>
              <a:t>资格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71" name="Picture 17" descr="C:\My Documents\HENRY_HE\training\image\CC01.JPG"/>
          <p:cNvPicPr/>
          <p:nvPr/>
        </p:nvPicPr>
        <p:blipFill>
          <a:blip r:embed="rId1"/>
          <a:stretch/>
        </p:blipFill>
        <p:spPr>
          <a:xfrm>
            <a:off x="1295280" y="2666880"/>
            <a:ext cx="765360" cy="716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8" descr="C:\My Documents\HENRY_HE\training\image\FDBK.JPG"/>
          <p:cNvPicPr/>
          <p:nvPr/>
        </p:nvPicPr>
        <p:blipFill>
          <a:blip r:embed="rId2"/>
          <a:stretch/>
        </p:blipFill>
        <p:spPr>
          <a:xfrm>
            <a:off x="6553080" y="2666880"/>
            <a:ext cx="663840" cy="6638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9" descr="C:\My Documents\HENRY_HE\training\image\LOCK.JPG"/>
          <p:cNvPicPr/>
          <p:nvPr/>
        </p:nvPicPr>
        <p:blipFill>
          <a:blip r:embed="rId3"/>
          <a:stretch/>
        </p:blipFill>
        <p:spPr>
          <a:xfrm>
            <a:off x="7162920" y="396252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0" descr="C:\My Documents\HENRY_HE\training\image\mail1.gif"/>
          <p:cNvPicPr/>
          <p:nvPr/>
        </p:nvPicPr>
        <p:blipFill>
          <a:blip r:embed="rId4"/>
          <a:stretch/>
        </p:blipFill>
        <p:spPr>
          <a:xfrm>
            <a:off x="2514600" y="5334120"/>
            <a:ext cx="1131840" cy="7426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1" descr="C:\My Documents\HENRY_HE\training\image\LADDER.JPG"/>
          <p:cNvPicPr/>
          <p:nvPr/>
        </p:nvPicPr>
        <p:blipFill>
          <a:blip r:embed="rId5"/>
          <a:stretch/>
        </p:blipFill>
        <p:spPr>
          <a:xfrm>
            <a:off x="3352680" y="1600200"/>
            <a:ext cx="663840" cy="663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2" descr="C:\My Documents\HENRY_HE\training\image\purpsm.gif"/>
          <p:cNvPicPr/>
          <p:nvPr/>
        </p:nvPicPr>
        <p:blipFill>
          <a:blip r:embed="rId6"/>
          <a:stretch/>
        </p:blipFill>
        <p:spPr>
          <a:xfrm>
            <a:off x="4572000" y="5867280"/>
            <a:ext cx="490680" cy="7621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3" descr="C:\My Documents\HENRY_HE\training\image\smpress.gif"/>
          <p:cNvPicPr/>
          <p:nvPr/>
        </p:nvPicPr>
        <p:blipFill>
          <a:blip r:embed="rId7"/>
          <a:stretch/>
        </p:blipFill>
        <p:spPr>
          <a:xfrm>
            <a:off x="6400800" y="5181480"/>
            <a:ext cx="506520" cy="789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4" descr="C:\My Documents\HENRY_HE\training\image\smfeed.gif"/>
          <p:cNvPicPr/>
          <p:nvPr/>
        </p:nvPicPr>
        <p:blipFill>
          <a:blip r:embed="rId8"/>
          <a:stretch/>
        </p:blipFill>
        <p:spPr>
          <a:xfrm>
            <a:off x="5943600" y="1752480"/>
            <a:ext cx="457200" cy="7128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5" descr="C:\My Documents\HENRY_HE\training\image\HANDS.JPG"/>
          <p:cNvPicPr/>
          <p:nvPr/>
        </p:nvPicPr>
        <p:blipFill>
          <a:blip r:embed="rId9"/>
          <a:stretch/>
        </p:blipFill>
        <p:spPr>
          <a:xfrm>
            <a:off x="1676520" y="4038480"/>
            <a:ext cx="674640" cy="6638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6" descr="C:\My Documents\HENRY_HE\training\image\MEN01.JPG"/>
          <p:cNvPicPr/>
          <p:nvPr/>
        </p:nvPicPr>
        <p:blipFill>
          <a:blip r:embed="rId10"/>
          <a:stretch/>
        </p:blipFill>
        <p:spPr>
          <a:xfrm>
            <a:off x="3733920" y="3048120"/>
            <a:ext cx="1841400" cy="1269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4"/>
          <p:cNvSpPr/>
          <p:nvPr/>
        </p:nvSpPr>
        <p:spPr>
          <a:xfrm>
            <a:off x="3124800" y="2125440"/>
            <a:ext cx="268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THE END</a:t>
            </a:r>
            <a:endParaRPr b="1" lang="en-US" sz="4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THANKS</a:t>
            </a:r>
            <a:endParaRPr b="1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82" name="Rectangle 23"/>
          <p:cNvSpPr/>
          <p:nvPr/>
        </p:nvSpPr>
        <p:spPr>
          <a:xfrm>
            <a:off x="1547640" y="3789360"/>
            <a:ext cx="6696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———————————————————————————————————————</a:t>
            </a:r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本资料选自国内最具含金量，最全面的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《</a:t>
            </a: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人力资源顶级方法与实操大全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-2010</a:t>
            </a: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实战精华版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》</a:t>
            </a:r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资料每年升级，全国各地免费送货，货到付款，详情咨询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qq</a:t>
            </a: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：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514457731</a:t>
            </a: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（加</a:t>
            </a:r>
            <a:r>
              <a:rPr b="0" lang="en-US" sz="1200" spc="-1" strike="noStrike">
                <a:solidFill>
                  <a:srgbClr val="ff0066"/>
                </a:solidFill>
                <a:latin typeface="宋体"/>
              </a:rPr>
              <a:t>qq</a:t>
            </a:r>
            <a:r>
              <a:rPr b="0" lang="zh-CN" sz="1200" spc="-1" strike="noStrike">
                <a:solidFill>
                  <a:srgbClr val="ff0066"/>
                </a:solidFill>
                <a:latin typeface="宋体"/>
              </a:rPr>
              <a:t>无需验证）</a:t>
            </a:r>
            <a:endParaRPr b="1" lang="en-US" sz="1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27"/>
          <p:cNvGrpSpPr/>
          <p:nvPr/>
        </p:nvGrpSpPr>
        <p:grpSpPr>
          <a:xfrm>
            <a:off x="0" y="2286000"/>
            <a:ext cx="9143640" cy="4266360"/>
            <a:chOff x="0" y="2286000"/>
            <a:chExt cx="9143640" cy="4266360"/>
          </a:xfrm>
        </p:grpSpPr>
        <p:sp>
          <p:nvSpPr>
            <p:cNvPr id="55" name="Rectangle 1028"/>
            <p:cNvSpPr/>
            <p:nvPr/>
          </p:nvSpPr>
          <p:spPr>
            <a:xfrm>
              <a:off x="0" y="2286000"/>
              <a:ext cx="9143640" cy="8892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6" name="Rectangle 1029"/>
            <p:cNvSpPr/>
            <p:nvPr/>
          </p:nvSpPr>
          <p:spPr>
            <a:xfrm>
              <a:off x="0" y="2374920"/>
              <a:ext cx="9143640" cy="8892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7" name="Rectangle 1030"/>
            <p:cNvSpPr/>
            <p:nvPr/>
          </p:nvSpPr>
          <p:spPr>
            <a:xfrm>
              <a:off x="0" y="2464200"/>
              <a:ext cx="9143640" cy="8712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8" name="Rectangle 1031"/>
            <p:cNvSpPr/>
            <p:nvPr/>
          </p:nvSpPr>
          <p:spPr>
            <a:xfrm>
              <a:off x="0" y="2551680"/>
              <a:ext cx="9143640" cy="88920"/>
            </a:xfrm>
            <a:prstGeom prst="rect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59" name="Rectangle 1032"/>
            <p:cNvSpPr/>
            <p:nvPr/>
          </p:nvSpPr>
          <p:spPr>
            <a:xfrm>
              <a:off x="0" y="2640960"/>
              <a:ext cx="9143640" cy="88920"/>
            </a:xfrm>
            <a:prstGeom prst="rect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0" name="Rectangle 1033"/>
            <p:cNvSpPr/>
            <p:nvPr/>
          </p:nvSpPr>
          <p:spPr>
            <a:xfrm>
              <a:off x="0" y="2730240"/>
              <a:ext cx="9143640" cy="88920"/>
            </a:xfrm>
            <a:prstGeom prst="rect">
              <a:avLst/>
            </a:prstGeom>
            <a:solidFill>
              <a:srgbClr val="fc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1" name="Rectangle 1034"/>
            <p:cNvSpPr/>
            <p:nvPr/>
          </p:nvSpPr>
          <p:spPr>
            <a:xfrm>
              <a:off x="0" y="2819520"/>
              <a:ext cx="9143640" cy="88920"/>
            </a:xfrm>
            <a:prstGeom prst="rect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2" name="Rectangle 1035"/>
            <p:cNvSpPr/>
            <p:nvPr/>
          </p:nvSpPr>
          <p:spPr>
            <a:xfrm>
              <a:off x="0" y="2908800"/>
              <a:ext cx="9143640" cy="88920"/>
            </a:xfrm>
            <a:prstGeom prst="rect">
              <a:avLst/>
            </a:prstGeom>
            <a:solidFill>
              <a:srgbClr val="fb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3" name="Rectangle 1036"/>
            <p:cNvSpPr/>
            <p:nvPr/>
          </p:nvSpPr>
          <p:spPr>
            <a:xfrm>
              <a:off x="0" y="2998080"/>
              <a:ext cx="9143640" cy="88920"/>
            </a:xfrm>
            <a:prstGeom prst="rect">
              <a:avLst/>
            </a:prstGeom>
            <a:solidFill>
              <a:srgbClr val="fa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4" name="Rectangle 1037"/>
            <p:cNvSpPr/>
            <p:nvPr/>
          </p:nvSpPr>
          <p:spPr>
            <a:xfrm>
              <a:off x="0" y="3087360"/>
              <a:ext cx="9143640" cy="87120"/>
            </a:xfrm>
            <a:prstGeom prst="rect">
              <a:avLst/>
            </a:prstGeom>
            <a:solidFill>
              <a:srgbClr val="f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5" name="Rectangle 1038"/>
            <p:cNvSpPr/>
            <p:nvPr/>
          </p:nvSpPr>
          <p:spPr>
            <a:xfrm>
              <a:off x="0" y="3174480"/>
              <a:ext cx="9143640" cy="88920"/>
            </a:xfrm>
            <a:prstGeom prst="rect">
              <a:avLst/>
            </a:prstGeom>
            <a:solidFill>
              <a:srgbClr val="f8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6" name="Rectangle 1039"/>
            <p:cNvSpPr/>
            <p:nvPr/>
          </p:nvSpPr>
          <p:spPr>
            <a:xfrm>
              <a:off x="0" y="3263760"/>
              <a:ext cx="9143640" cy="87120"/>
            </a:xfrm>
            <a:prstGeom prst="rect">
              <a:avLst/>
            </a:prstGeom>
            <a:solidFill>
              <a:srgbClr val="f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7" name="Rectangle 1040"/>
            <p:cNvSpPr/>
            <p:nvPr/>
          </p:nvSpPr>
          <p:spPr>
            <a:xfrm>
              <a:off x="0" y="3351240"/>
              <a:ext cx="9143640" cy="88920"/>
            </a:xfrm>
            <a:prstGeom prst="rect">
              <a:avLst/>
            </a:prstGeom>
            <a:solidFill>
              <a:srgbClr val="f6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8" name="Rectangle 1041"/>
            <p:cNvSpPr/>
            <p:nvPr/>
          </p:nvSpPr>
          <p:spPr>
            <a:xfrm>
              <a:off x="0" y="3440520"/>
              <a:ext cx="9143640" cy="88920"/>
            </a:xfrm>
            <a:prstGeom prst="rect">
              <a:avLst/>
            </a:prstGeom>
            <a:solidFill>
              <a:srgbClr val="f5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69" name="Rectangle 1042"/>
            <p:cNvSpPr/>
            <p:nvPr/>
          </p:nvSpPr>
          <p:spPr>
            <a:xfrm>
              <a:off x="0" y="3529800"/>
              <a:ext cx="9143640" cy="88920"/>
            </a:xfrm>
            <a:prstGeom prst="rect">
              <a:avLst/>
            </a:prstGeom>
            <a:solidFill>
              <a:srgbClr val="f3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0" name="Rectangle 1043"/>
            <p:cNvSpPr/>
            <p:nvPr/>
          </p:nvSpPr>
          <p:spPr>
            <a:xfrm>
              <a:off x="0" y="3618720"/>
              <a:ext cx="9143640" cy="88920"/>
            </a:xfrm>
            <a:prstGeom prst="rect">
              <a:avLst/>
            </a:prstGeom>
            <a:solidFill>
              <a:srgbClr val="f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1" name="Rectangle 1044"/>
            <p:cNvSpPr/>
            <p:nvPr/>
          </p:nvSpPr>
          <p:spPr>
            <a:xfrm>
              <a:off x="0" y="3708000"/>
              <a:ext cx="9143640" cy="87120"/>
            </a:xfrm>
            <a:prstGeom prst="rect">
              <a:avLst/>
            </a:prstGeom>
            <a:solidFill>
              <a:srgbClr val="f0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2" name="Rectangle 1045"/>
            <p:cNvSpPr/>
            <p:nvPr/>
          </p:nvSpPr>
          <p:spPr>
            <a:xfrm>
              <a:off x="0" y="3795480"/>
              <a:ext cx="9143640" cy="88920"/>
            </a:xfrm>
            <a:prstGeom prst="rect">
              <a:avLst/>
            </a:prstGeom>
            <a:solidFill>
              <a:srgbClr val="ee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3" name="Rectangle 1046"/>
            <p:cNvSpPr/>
            <p:nvPr/>
          </p:nvSpPr>
          <p:spPr>
            <a:xfrm>
              <a:off x="0" y="3884760"/>
              <a:ext cx="9143640" cy="88920"/>
            </a:xfrm>
            <a:prstGeom prst="rect">
              <a:avLst/>
            </a:prstGeom>
            <a:solidFill>
              <a:srgbClr val="ed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4" name="Rectangle 1047"/>
            <p:cNvSpPr/>
            <p:nvPr/>
          </p:nvSpPr>
          <p:spPr>
            <a:xfrm>
              <a:off x="0" y="3974040"/>
              <a:ext cx="9143640" cy="88920"/>
            </a:xfrm>
            <a:prstGeom prst="rect">
              <a:avLst/>
            </a:prstGeom>
            <a:solidFill>
              <a:srgbClr val="eb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5" name="Rectangle 1048"/>
            <p:cNvSpPr/>
            <p:nvPr/>
          </p:nvSpPr>
          <p:spPr>
            <a:xfrm>
              <a:off x="0" y="4063320"/>
              <a:ext cx="9143640" cy="88920"/>
            </a:xfrm>
            <a:prstGeom prst="rect">
              <a:avLst/>
            </a:prstGeom>
            <a:solidFill>
              <a:srgbClr val="e9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6" name="Rectangle 1049"/>
            <p:cNvSpPr/>
            <p:nvPr/>
          </p:nvSpPr>
          <p:spPr>
            <a:xfrm>
              <a:off x="0" y="4152600"/>
              <a:ext cx="9143640" cy="88920"/>
            </a:xfrm>
            <a:prstGeom prst="rect">
              <a:avLst/>
            </a:prstGeom>
            <a:solidFill>
              <a:srgbClr val="e7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7" name="Rectangle 1050"/>
            <p:cNvSpPr/>
            <p:nvPr/>
          </p:nvSpPr>
          <p:spPr>
            <a:xfrm>
              <a:off x="0" y="4241880"/>
              <a:ext cx="9143640" cy="88920"/>
            </a:xfrm>
            <a:prstGeom prst="rect">
              <a:avLst/>
            </a:prstGeom>
            <a:solidFill>
              <a:srgbClr val="e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8" name="Rectangle 1051"/>
            <p:cNvSpPr/>
            <p:nvPr/>
          </p:nvSpPr>
          <p:spPr>
            <a:xfrm>
              <a:off x="0" y="4331160"/>
              <a:ext cx="9143640" cy="87120"/>
            </a:xfrm>
            <a:prstGeom prst="rect">
              <a:avLst/>
            </a:prstGeom>
            <a:solidFill>
              <a:srgbClr val="e2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79" name="Rectangle 1052"/>
            <p:cNvSpPr/>
            <p:nvPr/>
          </p:nvSpPr>
          <p:spPr>
            <a:xfrm>
              <a:off x="0" y="4418280"/>
              <a:ext cx="9143640" cy="88920"/>
            </a:xfrm>
            <a:prstGeom prst="rect">
              <a:avLst/>
            </a:prstGeom>
            <a:solidFill>
              <a:srgbClr val="e0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80" name="Rectangle 1053"/>
            <p:cNvSpPr/>
            <p:nvPr/>
          </p:nvSpPr>
          <p:spPr>
            <a:xfrm>
              <a:off x="0" y="4507560"/>
              <a:ext cx="9143640" cy="88920"/>
            </a:xfrm>
            <a:prstGeom prst="rect">
              <a:avLst/>
            </a:prstGeom>
            <a:solidFill>
              <a:srgbClr val="de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81" name="Rectangle 1054"/>
            <p:cNvSpPr/>
            <p:nvPr/>
          </p:nvSpPr>
          <p:spPr>
            <a:xfrm>
              <a:off x="0" y="4596840"/>
              <a:ext cx="9143640" cy="88920"/>
            </a:xfrm>
            <a:prstGeom prst="rect">
              <a:avLst/>
            </a:prstGeom>
            <a:solidFill>
              <a:srgbClr val="dc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82" name="Rectangle 1055"/>
            <p:cNvSpPr/>
            <p:nvPr/>
          </p:nvSpPr>
          <p:spPr>
            <a:xfrm>
              <a:off x="0" y="4686120"/>
              <a:ext cx="9143640" cy="88920"/>
            </a:xfrm>
            <a:prstGeom prst="rect">
              <a:avLst/>
            </a:prstGeom>
            <a:solidFill>
              <a:srgbClr val="da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83" name="Rectangle 1056"/>
            <p:cNvSpPr/>
            <p:nvPr/>
          </p:nvSpPr>
          <p:spPr>
            <a:xfrm>
              <a:off x="0" y="4775400"/>
              <a:ext cx="9143640" cy="88920"/>
            </a:xfrm>
            <a:prstGeom prst="rect">
              <a:avLst/>
            </a:prstGeom>
            <a:solidFill>
              <a:srgbClr val="d7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84" name="Rectangle 1057"/>
            <p:cNvSpPr/>
            <p:nvPr/>
          </p:nvSpPr>
          <p:spPr>
            <a:xfrm>
              <a:off x="0" y="4864680"/>
              <a:ext cx="9143640" cy="88920"/>
            </a:xfrm>
            <a:prstGeom prst="rect">
              <a:avLst/>
            </a:prstGeom>
            <a:solidFill>
              <a:srgbClr val="d5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85" name="Rectangle 1058"/>
            <p:cNvSpPr/>
            <p:nvPr/>
          </p:nvSpPr>
          <p:spPr>
            <a:xfrm>
              <a:off x="0" y="4953960"/>
              <a:ext cx="9143640" cy="87120"/>
            </a:xfrm>
            <a:prstGeom prst="rect">
              <a:avLst/>
            </a:prstGeom>
            <a:solidFill>
              <a:srgbClr val="d3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86" name="Rectangle 1059"/>
            <p:cNvSpPr/>
            <p:nvPr/>
          </p:nvSpPr>
          <p:spPr>
            <a:xfrm>
              <a:off x="0" y="5041080"/>
              <a:ext cx="9143640" cy="88920"/>
            </a:xfrm>
            <a:prstGeom prst="rect">
              <a:avLst/>
            </a:prstGeom>
            <a:solidFill>
              <a:srgbClr val="d1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87" name="Rectangle 1060"/>
            <p:cNvSpPr/>
            <p:nvPr/>
          </p:nvSpPr>
          <p:spPr>
            <a:xfrm>
              <a:off x="0" y="5130360"/>
              <a:ext cx="9143640" cy="88920"/>
            </a:xfrm>
            <a:prstGeom prst="rect">
              <a:avLst/>
            </a:prstGeom>
            <a:solidFill>
              <a:srgbClr val="cf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88" name="Rectangle 1061"/>
            <p:cNvSpPr/>
            <p:nvPr/>
          </p:nvSpPr>
          <p:spPr>
            <a:xfrm>
              <a:off x="0" y="5219640"/>
              <a:ext cx="9143640" cy="88920"/>
            </a:xfrm>
            <a:prstGeom prst="rect">
              <a:avLst/>
            </a:prstGeom>
            <a:solidFill>
              <a:srgbClr val="ce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89" name="Rectangle 1062"/>
            <p:cNvSpPr/>
            <p:nvPr/>
          </p:nvSpPr>
          <p:spPr>
            <a:xfrm>
              <a:off x="0" y="5308920"/>
              <a:ext cx="9143640" cy="88920"/>
            </a:xfrm>
            <a:prstGeom prst="rect">
              <a:avLst/>
            </a:prstGeom>
            <a:solidFill>
              <a:srgbClr val="cc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90" name="Rectangle 1063"/>
            <p:cNvSpPr/>
            <p:nvPr/>
          </p:nvSpPr>
          <p:spPr>
            <a:xfrm>
              <a:off x="0" y="5398200"/>
              <a:ext cx="9143640" cy="87120"/>
            </a:xfrm>
            <a:prstGeom prst="rect">
              <a:avLst/>
            </a:prstGeom>
            <a:solidFill>
              <a:srgbClr val="ca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91" name="Rectangle 1064"/>
            <p:cNvSpPr/>
            <p:nvPr/>
          </p:nvSpPr>
          <p:spPr>
            <a:xfrm>
              <a:off x="0" y="5485680"/>
              <a:ext cx="9143640" cy="88920"/>
            </a:xfrm>
            <a:prstGeom prst="rect">
              <a:avLst/>
            </a:prstGeom>
            <a:solidFill>
              <a:srgbClr val="c9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92" name="Rectangle 1065"/>
            <p:cNvSpPr/>
            <p:nvPr/>
          </p:nvSpPr>
          <p:spPr>
            <a:xfrm>
              <a:off x="0" y="5574960"/>
              <a:ext cx="9143640" cy="87480"/>
            </a:xfrm>
            <a:prstGeom prst="rect">
              <a:avLst/>
            </a:prstGeom>
            <a:solidFill>
              <a:srgbClr val="c8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93" name="Rectangle 1066"/>
            <p:cNvSpPr/>
            <p:nvPr/>
          </p:nvSpPr>
          <p:spPr>
            <a:xfrm>
              <a:off x="0" y="5662440"/>
              <a:ext cx="9143640" cy="88920"/>
            </a:xfrm>
            <a:prstGeom prst="rect">
              <a:avLst/>
            </a:prstGeom>
            <a:solidFill>
              <a:srgbClr val="c6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94" name="Rectangle 1067"/>
            <p:cNvSpPr/>
            <p:nvPr/>
          </p:nvSpPr>
          <p:spPr>
            <a:xfrm>
              <a:off x="0" y="5751720"/>
              <a:ext cx="9143640" cy="88560"/>
            </a:xfrm>
            <a:prstGeom prst="rect">
              <a:avLst/>
            </a:prstGeom>
            <a:solidFill>
              <a:srgbClr val="c5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95" name="Rectangle 1068"/>
            <p:cNvSpPr/>
            <p:nvPr/>
          </p:nvSpPr>
          <p:spPr>
            <a:xfrm>
              <a:off x="0" y="5840640"/>
              <a:ext cx="9143640" cy="88920"/>
            </a:xfrm>
            <a:prstGeom prst="rect">
              <a:avLst/>
            </a:prstGeom>
            <a:solidFill>
              <a:srgbClr val="c4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96" name="Rectangle 1069"/>
            <p:cNvSpPr/>
            <p:nvPr/>
          </p:nvSpPr>
          <p:spPr>
            <a:xfrm>
              <a:off x="0" y="5929920"/>
              <a:ext cx="9143640" cy="88920"/>
            </a:xfrm>
            <a:prstGeom prst="rect">
              <a:avLst/>
            </a:prstGeom>
            <a:solidFill>
              <a:srgbClr val="c3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97" name="Rectangle 1070"/>
            <p:cNvSpPr/>
            <p:nvPr/>
          </p:nvSpPr>
          <p:spPr>
            <a:xfrm>
              <a:off x="0" y="6019200"/>
              <a:ext cx="9143640" cy="88920"/>
            </a:xfrm>
            <a:prstGeom prst="rect">
              <a:avLst/>
            </a:prstGeom>
            <a:solidFill>
              <a:srgbClr val="c2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98" name="Rectangle 1071"/>
            <p:cNvSpPr/>
            <p:nvPr/>
          </p:nvSpPr>
          <p:spPr>
            <a:xfrm>
              <a:off x="0" y="6108480"/>
              <a:ext cx="9143640" cy="88920"/>
            </a:xfrm>
            <a:prstGeom prst="rect">
              <a:avLst/>
            </a:prstGeom>
            <a:solidFill>
              <a:srgbClr val="c2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99" name="Rectangle 1072"/>
            <p:cNvSpPr/>
            <p:nvPr/>
          </p:nvSpPr>
          <p:spPr>
            <a:xfrm>
              <a:off x="0" y="6197760"/>
              <a:ext cx="9143640" cy="87120"/>
            </a:xfrm>
            <a:prstGeom prst="rect">
              <a:avLst/>
            </a:prstGeom>
            <a:solidFill>
              <a:srgbClr val="c1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00" name="Rectangle 1073"/>
            <p:cNvSpPr/>
            <p:nvPr/>
          </p:nvSpPr>
          <p:spPr>
            <a:xfrm>
              <a:off x="0" y="6284880"/>
              <a:ext cx="9143640" cy="8892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01" name="Rectangle 1074"/>
            <p:cNvSpPr/>
            <p:nvPr/>
          </p:nvSpPr>
          <p:spPr>
            <a:xfrm>
              <a:off x="0" y="6374160"/>
              <a:ext cx="9143640" cy="88920"/>
            </a:xfrm>
            <a:prstGeom prst="rect">
              <a:avLst/>
            </a:prstGeom>
            <a:solidFill>
              <a:srgbClr val="c0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02" name="Rectangle 1075"/>
            <p:cNvSpPr/>
            <p:nvPr/>
          </p:nvSpPr>
          <p:spPr>
            <a:xfrm>
              <a:off x="0" y="6463440"/>
              <a:ext cx="9143640" cy="88920"/>
            </a:xfrm>
            <a:prstGeom prst="rect">
              <a:avLst/>
            </a:prstGeom>
            <a:solidFill>
              <a:srgbClr val="c0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03" name="Rectangle 1076"/>
            <p:cNvSpPr/>
            <p:nvPr/>
          </p:nvSpPr>
          <p:spPr>
            <a:xfrm>
              <a:off x="0" y="2286000"/>
              <a:ext cx="9141840" cy="4265280"/>
            </a:xfrm>
            <a:prstGeom prst="rect">
              <a:avLst/>
            </a:prstGeom>
            <a:solidFill>
              <a:srgbClr val="c0ce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04" name="Rectangle 1077"/>
            <p:cNvSpPr/>
            <p:nvPr/>
          </p:nvSpPr>
          <p:spPr>
            <a:xfrm>
              <a:off x="0" y="2286000"/>
              <a:ext cx="9141840" cy="426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05" name="Rectangle 1078"/>
            <p:cNvSpPr/>
            <p:nvPr/>
          </p:nvSpPr>
          <p:spPr>
            <a:xfrm>
              <a:off x="0" y="2286000"/>
              <a:ext cx="9143640" cy="8892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06" name="Rectangle 1079"/>
            <p:cNvSpPr/>
            <p:nvPr/>
          </p:nvSpPr>
          <p:spPr>
            <a:xfrm>
              <a:off x="0" y="2374920"/>
              <a:ext cx="9143640" cy="8892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07" name="Rectangle 1080"/>
            <p:cNvSpPr/>
            <p:nvPr/>
          </p:nvSpPr>
          <p:spPr>
            <a:xfrm>
              <a:off x="0" y="2464200"/>
              <a:ext cx="9143640" cy="8712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08" name="Rectangle 1081"/>
            <p:cNvSpPr/>
            <p:nvPr/>
          </p:nvSpPr>
          <p:spPr>
            <a:xfrm>
              <a:off x="0" y="2551680"/>
              <a:ext cx="9143640" cy="88920"/>
            </a:xfrm>
            <a:prstGeom prst="rect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09" name="Rectangle 1082"/>
            <p:cNvSpPr/>
            <p:nvPr/>
          </p:nvSpPr>
          <p:spPr>
            <a:xfrm>
              <a:off x="0" y="2640960"/>
              <a:ext cx="9143640" cy="88920"/>
            </a:xfrm>
            <a:prstGeom prst="rect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10" name="Rectangle 1083"/>
            <p:cNvSpPr/>
            <p:nvPr/>
          </p:nvSpPr>
          <p:spPr>
            <a:xfrm>
              <a:off x="0" y="2730240"/>
              <a:ext cx="9143640" cy="88920"/>
            </a:xfrm>
            <a:prstGeom prst="rect">
              <a:avLst/>
            </a:prstGeom>
            <a:solidFill>
              <a:srgbClr val="fc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11" name="Rectangle 1084"/>
            <p:cNvSpPr/>
            <p:nvPr/>
          </p:nvSpPr>
          <p:spPr>
            <a:xfrm>
              <a:off x="0" y="2819520"/>
              <a:ext cx="9143640" cy="88920"/>
            </a:xfrm>
            <a:prstGeom prst="rect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12" name="Rectangle 1085"/>
            <p:cNvSpPr/>
            <p:nvPr/>
          </p:nvSpPr>
          <p:spPr>
            <a:xfrm>
              <a:off x="0" y="2908800"/>
              <a:ext cx="9143640" cy="88920"/>
            </a:xfrm>
            <a:prstGeom prst="rect">
              <a:avLst/>
            </a:prstGeom>
            <a:solidFill>
              <a:srgbClr val="fb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13" name="Rectangle 1086"/>
            <p:cNvSpPr/>
            <p:nvPr/>
          </p:nvSpPr>
          <p:spPr>
            <a:xfrm>
              <a:off x="0" y="2998080"/>
              <a:ext cx="9143640" cy="88920"/>
            </a:xfrm>
            <a:prstGeom prst="rect">
              <a:avLst/>
            </a:prstGeom>
            <a:solidFill>
              <a:srgbClr val="fa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14" name="Rectangle 1087"/>
            <p:cNvSpPr/>
            <p:nvPr/>
          </p:nvSpPr>
          <p:spPr>
            <a:xfrm>
              <a:off x="0" y="3087360"/>
              <a:ext cx="9143640" cy="87120"/>
            </a:xfrm>
            <a:prstGeom prst="rect">
              <a:avLst/>
            </a:prstGeom>
            <a:solidFill>
              <a:srgbClr val="f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15" name="Rectangle 1088"/>
            <p:cNvSpPr/>
            <p:nvPr/>
          </p:nvSpPr>
          <p:spPr>
            <a:xfrm>
              <a:off x="0" y="3174480"/>
              <a:ext cx="9143640" cy="88920"/>
            </a:xfrm>
            <a:prstGeom prst="rect">
              <a:avLst/>
            </a:prstGeom>
            <a:solidFill>
              <a:srgbClr val="f8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16" name="Rectangle 1089"/>
            <p:cNvSpPr/>
            <p:nvPr/>
          </p:nvSpPr>
          <p:spPr>
            <a:xfrm>
              <a:off x="0" y="3263760"/>
              <a:ext cx="9143640" cy="87120"/>
            </a:xfrm>
            <a:prstGeom prst="rect">
              <a:avLst/>
            </a:prstGeom>
            <a:solidFill>
              <a:srgbClr val="f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17" name="Rectangle 1090"/>
            <p:cNvSpPr/>
            <p:nvPr/>
          </p:nvSpPr>
          <p:spPr>
            <a:xfrm>
              <a:off x="0" y="3351240"/>
              <a:ext cx="9143640" cy="88920"/>
            </a:xfrm>
            <a:prstGeom prst="rect">
              <a:avLst/>
            </a:prstGeom>
            <a:solidFill>
              <a:srgbClr val="f6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18" name="Rectangle 1091"/>
            <p:cNvSpPr/>
            <p:nvPr/>
          </p:nvSpPr>
          <p:spPr>
            <a:xfrm>
              <a:off x="0" y="3440520"/>
              <a:ext cx="9143640" cy="88920"/>
            </a:xfrm>
            <a:prstGeom prst="rect">
              <a:avLst/>
            </a:prstGeom>
            <a:solidFill>
              <a:srgbClr val="f5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19" name="Rectangle 1092"/>
            <p:cNvSpPr/>
            <p:nvPr/>
          </p:nvSpPr>
          <p:spPr>
            <a:xfrm>
              <a:off x="0" y="3529800"/>
              <a:ext cx="9143640" cy="88920"/>
            </a:xfrm>
            <a:prstGeom prst="rect">
              <a:avLst/>
            </a:prstGeom>
            <a:solidFill>
              <a:srgbClr val="f3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20" name="Rectangle 1093"/>
            <p:cNvSpPr/>
            <p:nvPr/>
          </p:nvSpPr>
          <p:spPr>
            <a:xfrm>
              <a:off x="0" y="3618720"/>
              <a:ext cx="9143640" cy="88920"/>
            </a:xfrm>
            <a:prstGeom prst="rect">
              <a:avLst/>
            </a:prstGeom>
            <a:solidFill>
              <a:srgbClr val="f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21" name="Rectangle 1094"/>
            <p:cNvSpPr/>
            <p:nvPr/>
          </p:nvSpPr>
          <p:spPr>
            <a:xfrm>
              <a:off x="0" y="3708000"/>
              <a:ext cx="9143640" cy="87120"/>
            </a:xfrm>
            <a:prstGeom prst="rect">
              <a:avLst/>
            </a:prstGeom>
            <a:solidFill>
              <a:srgbClr val="f0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22" name="Rectangle 1095"/>
            <p:cNvSpPr/>
            <p:nvPr/>
          </p:nvSpPr>
          <p:spPr>
            <a:xfrm>
              <a:off x="0" y="3795480"/>
              <a:ext cx="9143640" cy="88920"/>
            </a:xfrm>
            <a:prstGeom prst="rect">
              <a:avLst/>
            </a:prstGeom>
            <a:solidFill>
              <a:srgbClr val="ee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23" name="Rectangle 1096"/>
            <p:cNvSpPr/>
            <p:nvPr/>
          </p:nvSpPr>
          <p:spPr>
            <a:xfrm>
              <a:off x="0" y="3884760"/>
              <a:ext cx="9143640" cy="88920"/>
            </a:xfrm>
            <a:prstGeom prst="rect">
              <a:avLst/>
            </a:prstGeom>
            <a:solidFill>
              <a:srgbClr val="ed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24" name="Rectangle 1097"/>
            <p:cNvSpPr/>
            <p:nvPr/>
          </p:nvSpPr>
          <p:spPr>
            <a:xfrm>
              <a:off x="0" y="3974040"/>
              <a:ext cx="9143640" cy="88920"/>
            </a:xfrm>
            <a:prstGeom prst="rect">
              <a:avLst/>
            </a:prstGeom>
            <a:solidFill>
              <a:srgbClr val="eb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25" name="Rectangle 1098"/>
            <p:cNvSpPr/>
            <p:nvPr/>
          </p:nvSpPr>
          <p:spPr>
            <a:xfrm>
              <a:off x="0" y="4063320"/>
              <a:ext cx="9143640" cy="88920"/>
            </a:xfrm>
            <a:prstGeom prst="rect">
              <a:avLst/>
            </a:prstGeom>
            <a:solidFill>
              <a:srgbClr val="e9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26" name="Rectangle 1099"/>
            <p:cNvSpPr/>
            <p:nvPr/>
          </p:nvSpPr>
          <p:spPr>
            <a:xfrm>
              <a:off x="0" y="4152600"/>
              <a:ext cx="9143640" cy="88920"/>
            </a:xfrm>
            <a:prstGeom prst="rect">
              <a:avLst/>
            </a:prstGeom>
            <a:solidFill>
              <a:srgbClr val="e7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27" name="Rectangle 1100"/>
            <p:cNvSpPr/>
            <p:nvPr/>
          </p:nvSpPr>
          <p:spPr>
            <a:xfrm>
              <a:off x="0" y="4241880"/>
              <a:ext cx="9143640" cy="88920"/>
            </a:xfrm>
            <a:prstGeom prst="rect">
              <a:avLst/>
            </a:prstGeom>
            <a:solidFill>
              <a:srgbClr val="e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28" name="Rectangle 1101"/>
            <p:cNvSpPr/>
            <p:nvPr/>
          </p:nvSpPr>
          <p:spPr>
            <a:xfrm>
              <a:off x="0" y="4331160"/>
              <a:ext cx="9143640" cy="87120"/>
            </a:xfrm>
            <a:prstGeom prst="rect">
              <a:avLst/>
            </a:prstGeom>
            <a:solidFill>
              <a:srgbClr val="e2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29" name="Rectangle 1102"/>
            <p:cNvSpPr/>
            <p:nvPr/>
          </p:nvSpPr>
          <p:spPr>
            <a:xfrm>
              <a:off x="0" y="4418280"/>
              <a:ext cx="9143640" cy="88920"/>
            </a:xfrm>
            <a:prstGeom prst="rect">
              <a:avLst/>
            </a:prstGeom>
            <a:solidFill>
              <a:srgbClr val="e0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30" name="Rectangle 1103"/>
            <p:cNvSpPr/>
            <p:nvPr/>
          </p:nvSpPr>
          <p:spPr>
            <a:xfrm>
              <a:off x="0" y="4507560"/>
              <a:ext cx="9143640" cy="88920"/>
            </a:xfrm>
            <a:prstGeom prst="rect">
              <a:avLst/>
            </a:prstGeom>
            <a:solidFill>
              <a:srgbClr val="de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31" name="Rectangle 1104"/>
            <p:cNvSpPr/>
            <p:nvPr/>
          </p:nvSpPr>
          <p:spPr>
            <a:xfrm>
              <a:off x="0" y="4596840"/>
              <a:ext cx="9143640" cy="88920"/>
            </a:xfrm>
            <a:prstGeom prst="rect">
              <a:avLst/>
            </a:prstGeom>
            <a:solidFill>
              <a:srgbClr val="dc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32" name="Rectangle 1105"/>
            <p:cNvSpPr/>
            <p:nvPr/>
          </p:nvSpPr>
          <p:spPr>
            <a:xfrm>
              <a:off x="0" y="4686120"/>
              <a:ext cx="9143640" cy="88920"/>
            </a:xfrm>
            <a:prstGeom prst="rect">
              <a:avLst/>
            </a:prstGeom>
            <a:solidFill>
              <a:srgbClr val="da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33" name="Rectangle 1106"/>
            <p:cNvSpPr/>
            <p:nvPr/>
          </p:nvSpPr>
          <p:spPr>
            <a:xfrm>
              <a:off x="0" y="4775400"/>
              <a:ext cx="9143640" cy="88920"/>
            </a:xfrm>
            <a:prstGeom prst="rect">
              <a:avLst/>
            </a:prstGeom>
            <a:solidFill>
              <a:srgbClr val="d7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34" name="Rectangle 1107"/>
            <p:cNvSpPr/>
            <p:nvPr/>
          </p:nvSpPr>
          <p:spPr>
            <a:xfrm>
              <a:off x="0" y="4864680"/>
              <a:ext cx="9143640" cy="88920"/>
            </a:xfrm>
            <a:prstGeom prst="rect">
              <a:avLst/>
            </a:prstGeom>
            <a:solidFill>
              <a:srgbClr val="d5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35" name="Rectangle 1108"/>
            <p:cNvSpPr/>
            <p:nvPr/>
          </p:nvSpPr>
          <p:spPr>
            <a:xfrm>
              <a:off x="0" y="4953960"/>
              <a:ext cx="9143640" cy="87120"/>
            </a:xfrm>
            <a:prstGeom prst="rect">
              <a:avLst/>
            </a:prstGeom>
            <a:solidFill>
              <a:srgbClr val="d3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36" name="Rectangle 1109"/>
            <p:cNvSpPr/>
            <p:nvPr/>
          </p:nvSpPr>
          <p:spPr>
            <a:xfrm>
              <a:off x="0" y="5041080"/>
              <a:ext cx="9143640" cy="88920"/>
            </a:xfrm>
            <a:prstGeom prst="rect">
              <a:avLst/>
            </a:prstGeom>
            <a:solidFill>
              <a:srgbClr val="d1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37" name="Rectangle 1110"/>
            <p:cNvSpPr/>
            <p:nvPr/>
          </p:nvSpPr>
          <p:spPr>
            <a:xfrm>
              <a:off x="0" y="5130360"/>
              <a:ext cx="9143640" cy="88920"/>
            </a:xfrm>
            <a:prstGeom prst="rect">
              <a:avLst/>
            </a:prstGeom>
            <a:solidFill>
              <a:srgbClr val="cf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38" name="Rectangle 1111"/>
            <p:cNvSpPr/>
            <p:nvPr/>
          </p:nvSpPr>
          <p:spPr>
            <a:xfrm>
              <a:off x="0" y="5219640"/>
              <a:ext cx="9143640" cy="88920"/>
            </a:xfrm>
            <a:prstGeom prst="rect">
              <a:avLst/>
            </a:prstGeom>
            <a:solidFill>
              <a:srgbClr val="ce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39" name="Rectangle 1112"/>
            <p:cNvSpPr/>
            <p:nvPr/>
          </p:nvSpPr>
          <p:spPr>
            <a:xfrm>
              <a:off x="0" y="5308920"/>
              <a:ext cx="9143640" cy="88920"/>
            </a:xfrm>
            <a:prstGeom prst="rect">
              <a:avLst/>
            </a:prstGeom>
            <a:solidFill>
              <a:srgbClr val="cc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40" name="Rectangle 1113"/>
            <p:cNvSpPr/>
            <p:nvPr/>
          </p:nvSpPr>
          <p:spPr>
            <a:xfrm>
              <a:off x="0" y="5398200"/>
              <a:ext cx="9143640" cy="87120"/>
            </a:xfrm>
            <a:prstGeom prst="rect">
              <a:avLst/>
            </a:prstGeom>
            <a:solidFill>
              <a:srgbClr val="ca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41" name="Rectangle 1114"/>
            <p:cNvSpPr/>
            <p:nvPr/>
          </p:nvSpPr>
          <p:spPr>
            <a:xfrm>
              <a:off x="0" y="5485680"/>
              <a:ext cx="9143640" cy="88920"/>
            </a:xfrm>
            <a:prstGeom prst="rect">
              <a:avLst/>
            </a:prstGeom>
            <a:solidFill>
              <a:srgbClr val="c9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42" name="Rectangle 1115"/>
            <p:cNvSpPr/>
            <p:nvPr/>
          </p:nvSpPr>
          <p:spPr>
            <a:xfrm>
              <a:off x="0" y="5574960"/>
              <a:ext cx="9143640" cy="87480"/>
            </a:xfrm>
            <a:prstGeom prst="rect">
              <a:avLst/>
            </a:prstGeom>
            <a:solidFill>
              <a:srgbClr val="c8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43" name="Rectangle 1116"/>
            <p:cNvSpPr/>
            <p:nvPr/>
          </p:nvSpPr>
          <p:spPr>
            <a:xfrm>
              <a:off x="0" y="5662440"/>
              <a:ext cx="9143640" cy="88920"/>
            </a:xfrm>
            <a:prstGeom prst="rect">
              <a:avLst/>
            </a:prstGeom>
            <a:solidFill>
              <a:srgbClr val="c6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44" name="Rectangle 1117"/>
            <p:cNvSpPr/>
            <p:nvPr/>
          </p:nvSpPr>
          <p:spPr>
            <a:xfrm>
              <a:off x="0" y="5751720"/>
              <a:ext cx="9143640" cy="88560"/>
            </a:xfrm>
            <a:prstGeom prst="rect">
              <a:avLst/>
            </a:prstGeom>
            <a:solidFill>
              <a:srgbClr val="c5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45" name="Rectangle 1118"/>
            <p:cNvSpPr/>
            <p:nvPr/>
          </p:nvSpPr>
          <p:spPr>
            <a:xfrm>
              <a:off x="0" y="5840640"/>
              <a:ext cx="9143640" cy="88920"/>
            </a:xfrm>
            <a:prstGeom prst="rect">
              <a:avLst/>
            </a:prstGeom>
            <a:solidFill>
              <a:srgbClr val="c4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46" name="Rectangle 1119"/>
            <p:cNvSpPr/>
            <p:nvPr/>
          </p:nvSpPr>
          <p:spPr>
            <a:xfrm>
              <a:off x="0" y="5929920"/>
              <a:ext cx="9143640" cy="88920"/>
            </a:xfrm>
            <a:prstGeom prst="rect">
              <a:avLst/>
            </a:prstGeom>
            <a:solidFill>
              <a:srgbClr val="c3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47" name="Rectangle 1120"/>
            <p:cNvSpPr/>
            <p:nvPr/>
          </p:nvSpPr>
          <p:spPr>
            <a:xfrm>
              <a:off x="0" y="6019200"/>
              <a:ext cx="9143640" cy="88920"/>
            </a:xfrm>
            <a:prstGeom prst="rect">
              <a:avLst/>
            </a:prstGeom>
            <a:solidFill>
              <a:srgbClr val="c2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48" name="Rectangle 1121"/>
            <p:cNvSpPr/>
            <p:nvPr/>
          </p:nvSpPr>
          <p:spPr>
            <a:xfrm>
              <a:off x="0" y="6108480"/>
              <a:ext cx="9143640" cy="88920"/>
            </a:xfrm>
            <a:prstGeom prst="rect">
              <a:avLst/>
            </a:prstGeom>
            <a:solidFill>
              <a:srgbClr val="c2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49" name="Rectangle 1122"/>
            <p:cNvSpPr/>
            <p:nvPr/>
          </p:nvSpPr>
          <p:spPr>
            <a:xfrm>
              <a:off x="0" y="6197760"/>
              <a:ext cx="9143640" cy="87120"/>
            </a:xfrm>
            <a:prstGeom prst="rect">
              <a:avLst/>
            </a:prstGeom>
            <a:solidFill>
              <a:srgbClr val="c1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50" name="Rectangle 1123"/>
            <p:cNvSpPr/>
            <p:nvPr/>
          </p:nvSpPr>
          <p:spPr>
            <a:xfrm>
              <a:off x="0" y="6284880"/>
              <a:ext cx="9143640" cy="8892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51" name="Rectangle 1124"/>
            <p:cNvSpPr/>
            <p:nvPr/>
          </p:nvSpPr>
          <p:spPr>
            <a:xfrm>
              <a:off x="0" y="6374160"/>
              <a:ext cx="9143640" cy="88920"/>
            </a:xfrm>
            <a:prstGeom prst="rect">
              <a:avLst/>
            </a:prstGeom>
            <a:solidFill>
              <a:srgbClr val="c0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152" name="Rectangle 1125"/>
            <p:cNvSpPr/>
            <p:nvPr/>
          </p:nvSpPr>
          <p:spPr>
            <a:xfrm>
              <a:off x="0" y="6463440"/>
              <a:ext cx="9143640" cy="88920"/>
            </a:xfrm>
            <a:prstGeom prst="rect">
              <a:avLst/>
            </a:prstGeom>
            <a:solidFill>
              <a:srgbClr val="c0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153" name="Group 1126"/>
          <p:cNvGrpSpPr/>
          <p:nvPr/>
        </p:nvGrpSpPr>
        <p:grpSpPr>
          <a:xfrm>
            <a:off x="965160" y="2874960"/>
            <a:ext cx="7313760" cy="2458440"/>
            <a:chOff x="965160" y="2874960"/>
            <a:chExt cx="7313760" cy="2458440"/>
          </a:xfrm>
        </p:grpSpPr>
        <p:grpSp>
          <p:nvGrpSpPr>
            <p:cNvPr id="154" name="Group 1127"/>
            <p:cNvGrpSpPr/>
            <p:nvPr/>
          </p:nvGrpSpPr>
          <p:grpSpPr>
            <a:xfrm>
              <a:off x="974880" y="2886840"/>
              <a:ext cx="7304040" cy="2446560"/>
              <a:chOff x="974880" y="2886840"/>
              <a:chExt cx="7304040" cy="2446560"/>
            </a:xfrm>
          </p:grpSpPr>
          <p:sp>
            <p:nvSpPr>
              <p:cNvPr id="155" name="Freeform 1128"/>
              <p:cNvSpPr/>
              <p:nvPr/>
            </p:nvSpPr>
            <p:spPr>
              <a:xfrm>
                <a:off x="2720880" y="4323600"/>
                <a:ext cx="901800" cy="1009800"/>
              </a:xfrm>
              <a:custGeom>
                <a:avLst/>
                <a:gdLst/>
                <a:ahLst/>
                <a:rect l="l" t="t" r="r" b="b"/>
                <a:pathLst>
                  <a:path w="1136" h="1329">
                    <a:moveTo>
                      <a:pt x="37" y="85"/>
                    </a:moveTo>
                    <a:lnTo>
                      <a:pt x="16" y="141"/>
                    </a:lnTo>
                    <a:lnTo>
                      <a:pt x="0" y="222"/>
                    </a:lnTo>
                    <a:lnTo>
                      <a:pt x="4" y="304"/>
                    </a:lnTo>
                    <a:lnTo>
                      <a:pt x="28" y="372"/>
                    </a:lnTo>
                    <a:lnTo>
                      <a:pt x="53" y="396"/>
                    </a:lnTo>
                    <a:lnTo>
                      <a:pt x="85" y="421"/>
                    </a:lnTo>
                    <a:lnTo>
                      <a:pt x="118" y="443"/>
                    </a:lnTo>
                    <a:lnTo>
                      <a:pt x="148" y="468"/>
                    </a:lnTo>
                    <a:lnTo>
                      <a:pt x="176" y="490"/>
                    </a:lnTo>
                    <a:lnTo>
                      <a:pt x="208" y="511"/>
                    </a:lnTo>
                    <a:lnTo>
                      <a:pt x="224" y="534"/>
                    </a:lnTo>
                    <a:lnTo>
                      <a:pt x="240" y="558"/>
                    </a:lnTo>
                    <a:lnTo>
                      <a:pt x="256" y="609"/>
                    </a:lnTo>
                    <a:lnTo>
                      <a:pt x="258" y="668"/>
                    </a:lnTo>
                    <a:lnTo>
                      <a:pt x="253" y="726"/>
                    </a:lnTo>
                    <a:lnTo>
                      <a:pt x="233" y="791"/>
                    </a:lnTo>
                    <a:lnTo>
                      <a:pt x="217" y="832"/>
                    </a:lnTo>
                    <a:lnTo>
                      <a:pt x="212" y="871"/>
                    </a:lnTo>
                    <a:lnTo>
                      <a:pt x="208" y="914"/>
                    </a:lnTo>
                    <a:lnTo>
                      <a:pt x="205" y="953"/>
                    </a:lnTo>
                    <a:lnTo>
                      <a:pt x="199" y="990"/>
                    </a:lnTo>
                    <a:lnTo>
                      <a:pt x="196" y="1027"/>
                    </a:lnTo>
                    <a:lnTo>
                      <a:pt x="189" y="1059"/>
                    </a:lnTo>
                    <a:lnTo>
                      <a:pt x="183" y="1084"/>
                    </a:lnTo>
                    <a:lnTo>
                      <a:pt x="167" y="1112"/>
                    </a:lnTo>
                    <a:lnTo>
                      <a:pt x="158" y="1139"/>
                    </a:lnTo>
                    <a:lnTo>
                      <a:pt x="148" y="1166"/>
                    </a:lnTo>
                    <a:lnTo>
                      <a:pt x="160" y="1196"/>
                    </a:lnTo>
                    <a:lnTo>
                      <a:pt x="176" y="1223"/>
                    </a:lnTo>
                    <a:lnTo>
                      <a:pt x="205" y="1260"/>
                    </a:lnTo>
                    <a:lnTo>
                      <a:pt x="230" y="1293"/>
                    </a:lnTo>
                    <a:lnTo>
                      <a:pt x="258" y="1313"/>
                    </a:lnTo>
                    <a:lnTo>
                      <a:pt x="278" y="1317"/>
                    </a:lnTo>
                    <a:lnTo>
                      <a:pt x="294" y="1321"/>
                    </a:lnTo>
                    <a:lnTo>
                      <a:pt x="312" y="1327"/>
                    </a:lnTo>
                    <a:lnTo>
                      <a:pt x="331" y="1327"/>
                    </a:lnTo>
                    <a:lnTo>
                      <a:pt x="353" y="1329"/>
                    </a:lnTo>
                    <a:lnTo>
                      <a:pt x="367" y="1329"/>
                    </a:lnTo>
                    <a:lnTo>
                      <a:pt x="381" y="1327"/>
                    </a:lnTo>
                    <a:lnTo>
                      <a:pt x="392" y="1323"/>
                    </a:lnTo>
                    <a:lnTo>
                      <a:pt x="392" y="1313"/>
                    </a:lnTo>
                    <a:lnTo>
                      <a:pt x="381" y="1307"/>
                    </a:lnTo>
                    <a:lnTo>
                      <a:pt x="372" y="1301"/>
                    </a:lnTo>
                    <a:lnTo>
                      <a:pt x="356" y="1288"/>
                    </a:lnTo>
                    <a:lnTo>
                      <a:pt x="340" y="1272"/>
                    </a:lnTo>
                    <a:lnTo>
                      <a:pt x="331" y="1252"/>
                    </a:lnTo>
                    <a:lnTo>
                      <a:pt x="326" y="1223"/>
                    </a:lnTo>
                    <a:lnTo>
                      <a:pt x="328" y="1188"/>
                    </a:lnTo>
                    <a:lnTo>
                      <a:pt x="340" y="1153"/>
                    </a:lnTo>
                    <a:lnTo>
                      <a:pt x="360" y="1131"/>
                    </a:lnTo>
                    <a:lnTo>
                      <a:pt x="385" y="1113"/>
                    </a:lnTo>
                    <a:lnTo>
                      <a:pt x="413" y="1096"/>
                    </a:lnTo>
                    <a:lnTo>
                      <a:pt x="445" y="1074"/>
                    </a:lnTo>
                    <a:lnTo>
                      <a:pt x="461" y="1049"/>
                    </a:lnTo>
                    <a:lnTo>
                      <a:pt x="477" y="1022"/>
                    </a:lnTo>
                    <a:lnTo>
                      <a:pt x="491" y="998"/>
                    </a:lnTo>
                    <a:lnTo>
                      <a:pt x="507" y="975"/>
                    </a:lnTo>
                    <a:lnTo>
                      <a:pt x="531" y="967"/>
                    </a:lnTo>
                    <a:lnTo>
                      <a:pt x="556" y="957"/>
                    </a:lnTo>
                    <a:lnTo>
                      <a:pt x="580" y="949"/>
                    </a:lnTo>
                    <a:lnTo>
                      <a:pt x="602" y="935"/>
                    </a:lnTo>
                    <a:lnTo>
                      <a:pt x="625" y="916"/>
                    </a:lnTo>
                    <a:lnTo>
                      <a:pt x="645" y="898"/>
                    </a:lnTo>
                    <a:lnTo>
                      <a:pt x="662" y="885"/>
                    </a:lnTo>
                    <a:lnTo>
                      <a:pt x="678" y="869"/>
                    </a:lnTo>
                    <a:lnTo>
                      <a:pt x="698" y="853"/>
                    </a:lnTo>
                    <a:lnTo>
                      <a:pt x="714" y="838"/>
                    </a:lnTo>
                    <a:lnTo>
                      <a:pt x="732" y="820"/>
                    </a:lnTo>
                    <a:lnTo>
                      <a:pt x="744" y="804"/>
                    </a:lnTo>
                    <a:lnTo>
                      <a:pt x="755" y="793"/>
                    </a:lnTo>
                    <a:lnTo>
                      <a:pt x="764" y="781"/>
                    </a:lnTo>
                    <a:lnTo>
                      <a:pt x="780" y="767"/>
                    </a:lnTo>
                    <a:lnTo>
                      <a:pt x="785" y="752"/>
                    </a:lnTo>
                    <a:lnTo>
                      <a:pt x="783" y="732"/>
                    </a:lnTo>
                    <a:lnTo>
                      <a:pt x="780" y="714"/>
                    </a:lnTo>
                    <a:lnTo>
                      <a:pt x="785" y="701"/>
                    </a:lnTo>
                    <a:lnTo>
                      <a:pt x="805" y="697"/>
                    </a:lnTo>
                    <a:lnTo>
                      <a:pt x="826" y="691"/>
                    </a:lnTo>
                    <a:lnTo>
                      <a:pt x="842" y="691"/>
                    </a:lnTo>
                    <a:lnTo>
                      <a:pt x="865" y="687"/>
                    </a:lnTo>
                    <a:lnTo>
                      <a:pt x="887" y="683"/>
                    </a:lnTo>
                    <a:lnTo>
                      <a:pt x="912" y="675"/>
                    </a:lnTo>
                    <a:lnTo>
                      <a:pt x="937" y="668"/>
                    </a:lnTo>
                    <a:lnTo>
                      <a:pt x="963" y="666"/>
                    </a:lnTo>
                    <a:lnTo>
                      <a:pt x="985" y="664"/>
                    </a:lnTo>
                    <a:lnTo>
                      <a:pt x="1004" y="652"/>
                    </a:lnTo>
                    <a:lnTo>
                      <a:pt x="1018" y="640"/>
                    </a:lnTo>
                    <a:lnTo>
                      <a:pt x="1033" y="626"/>
                    </a:lnTo>
                    <a:lnTo>
                      <a:pt x="1047" y="605"/>
                    </a:lnTo>
                    <a:lnTo>
                      <a:pt x="1067" y="570"/>
                    </a:lnTo>
                    <a:lnTo>
                      <a:pt x="1083" y="533"/>
                    </a:lnTo>
                    <a:lnTo>
                      <a:pt x="1099" y="501"/>
                    </a:lnTo>
                    <a:lnTo>
                      <a:pt x="1104" y="476"/>
                    </a:lnTo>
                    <a:lnTo>
                      <a:pt x="1116" y="450"/>
                    </a:lnTo>
                    <a:lnTo>
                      <a:pt x="1124" y="423"/>
                    </a:lnTo>
                    <a:lnTo>
                      <a:pt x="1129" y="403"/>
                    </a:lnTo>
                    <a:lnTo>
                      <a:pt x="1136" y="384"/>
                    </a:lnTo>
                    <a:lnTo>
                      <a:pt x="1129" y="358"/>
                    </a:lnTo>
                    <a:lnTo>
                      <a:pt x="1120" y="335"/>
                    </a:lnTo>
                    <a:lnTo>
                      <a:pt x="1107" y="321"/>
                    </a:lnTo>
                    <a:lnTo>
                      <a:pt x="1099" y="319"/>
                    </a:lnTo>
                    <a:lnTo>
                      <a:pt x="1083" y="312"/>
                    </a:lnTo>
                    <a:lnTo>
                      <a:pt x="1067" y="310"/>
                    </a:lnTo>
                    <a:lnTo>
                      <a:pt x="1047" y="306"/>
                    </a:lnTo>
                    <a:lnTo>
                      <a:pt x="1033" y="302"/>
                    </a:lnTo>
                    <a:lnTo>
                      <a:pt x="1013" y="292"/>
                    </a:lnTo>
                    <a:lnTo>
                      <a:pt x="1004" y="286"/>
                    </a:lnTo>
                    <a:lnTo>
                      <a:pt x="997" y="278"/>
                    </a:lnTo>
                    <a:lnTo>
                      <a:pt x="985" y="263"/>
                    </a:lnTo>
                    <a:lnTo>
                      <a:pt x="972" y="251"/>
                    </a:lnTo>
                    <a:lnTo>
                      <a:pt x="953" y="243"/>
                    </a:lnTo>
                    <a:lnTo>
                      <a:pt x="935" y="241"/>
                    </a:lnTo>
                    <a:lnTo>
                      <a:pt x="924" y="241"/>
                    </a:lnTo>
                    <a:lnTo>
                      <a:pt x="908" y="241"/>
                    </a:lnTo>
                    <a:lnTo>
                      <a:pt x="894" y="241"/>
                    </a:lnTo>
                    <a:lnTo>
                      <a:pt x="878" y="241"/>
                    </a:lnTo>
                    <a:lnTo>
                      <a:pt x="858" y="239"/>
                    </a:lnTo>
                    <a:lnTo>
                      <a:pt x="842" y="233"/>
                    </a:lnTo>
                    <a:lnTo>
                      <a:pt x="833" y="227"/>
                    </a:lnTo>
                    <a:lnTo>
                      <a:pt x="821" y="222"/>
                    </a:lnTo>
                    <a:lnTo>
                      <a:pt x="805" y="202"/>
                    </a:lnTo>
                    <a:lnTo>
                      <a:pt x="780" y="173"/>
                    </a:lnTo>
                    <a:lnTo>
                      <a:pt x="757" y="151"/>
                    </a:lnTo>
                    <a:lnTo>
                      <a:pt x="735" y="135"/>
                    </a:lnTo>
                    <a:lnTo>
                      <a:pt x="719" y="128"/>
                    </a:lnTo>
                    <a:lnTo>
                      <a:pt x="694" y="116"/>
                    </a:lnTo>
                    <a:lnTo>
                      <a:pt x="662" y="100"/>
                    </a:lnTo>
                    <a:lnTo>
                      <a:pt x="621" y="83"/>
                    </a:lnTo>
                    <a:lnTo>
                      <a:pt x="577" y="69"/>
                    </a:lnTo>
                    <a:lnTo>
                      <a:pt x="534" y="53"/>
                    </a:lnTo>
                    <a:lnTo>
                      <a:pt x="491" y="42"/>
                    </a:lnTo>
                    <a:lnTo>
                      <a:pt x="450" y="38"/>
                    </a:lnTo>
                    <a:lnTo>
                      <a:pt x="413" y="36"/>
                    </a:lnTo>
                    <a:lnTo>
                      <a:pt x="385" y="34"/>
                    </a:lnTo>
                    <a:lnTo>
                      <a:pt x="356" y="28"/>
                    </a:lnTo>
                    <a:lnTo>
                      <a:pt x="335" y="26"/>
                    </a:lnTo>
                    <a:lnTo>
                      <a:pt x="312" y="26"/>
                    </a:lnTo>
                    <a:lnTo>
                      <a:pt x="294" y="24"/>
                    </a:lnTo>
                    <a:lnTo>
                      <a:pt x="283" y="24"/>
                    </a:lnTo>
                    <a:lnTo>
                      <a:pt x="271" y="26"/>
                    </a:lnTo>
                    <a:lnTo>
                      <a:pt x="258" y="26"/>
                    </a:lnTo>
                    <a:lnTo>
                      <a:pt x="242" y="22"/>
                    </a:lnTo>
                    <a:lnTo>
                      <a:pt x="230" y="14"/>
                    </a:lnTo>
                    <a:lnTo>
                      <a:pt x="217" y="6"/>
                    </a:lnTo>
                    <a:lnTo>
                      <a:pt x="205" y="2"/>
                    </a:lnTo>
                    <a:lnTo>
                      <a:pt x="189" y="0"/>
                    </a:lnTo>
                    <a:lnTo>
                      <a:pt x="171" y="4"/>
                    </a:lnTo>
                    <a:lnTo>
                      <a:pt x="158" y="8"/>
                    </a:lnTo>
                    <a:lnTo>
                      <a:pt x="142" y="20"/>
                    </a:lnTo>
                    <a:lnTo>
                      <a:pt x="123" y="36"/>
                    </a:lnTo>
                    <a:lnTo>
                      <a:pt x="110" y="45"/>
                    </a:lnTo>
                    <a:lnTo>
                      <a:pt x="91" y="57"/>
                    </a:lnTo>
                    <a:lnTo>
                      <a:pt x="85" y="59"/>
                    </a:lnTo>
                    <a:lnTo>
                      <a:pt x="69" y="63"/>
                    </a:lnTo>
                    <a:lnTo>
                      <a:pt x="50" y="75"/>
                    </a:lnTo>
                    <a:lnTo>
                      <a:pt x="37" y="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56" name="Freeform 1129"/>
              <p:cNvSpPr/>
              <p:nvPr/>
            </p:nvSpPr>
            <p:spPr>
              <a:xfrm>
                <a:off x="974880" y="3262320"/>
                <a:ext cx="2278080" cy="1128600"/>
              </a:xfrm>
              <a:custGeom>
                <a:avLst/>
                <a:gdLst/>
                <a:ahLst/>
                <a:rect l="l" t="t" r="r" b="b"/>
                <a:pathLst>
                  <a:path w="2870" h="1485">
                    <a:moveTo>
                      <a:pt x="2098" y="1078"/>
                    </a:moveTo>
                    <a:lnTo>
                      <a:pt x="2073" y="1080"/>
                    </a:lnTo>
                    <a:lnTo>
                      <a:pt x="2050" y="1074"/>
                    </a:lnTo>
                    <a:lnTo>
                      <a:pt x="2028" y="1068"/>
                    </a:lnTo>
                    <a:lnTo>
                      <a:pt x="2003" y="1076"/>
                    </a:lnTo>
                    <a:lnTo>
                      <a:pt x="1978" y="1091"/>
                    </a:lnTo>
                    <a:lnTo>
                      <a:pt x="1962" y="1097"/>
                    </a:lnTo>
                    <a:lnTo>
                      <a:pt x="1943" y="1103"/>
                    </a:lnTo>
                    <a:lnTo>
                      <a:pt x="1921" y="1105"/>
                    </a:lnTo>
                    <a:lnTo>
                      <a:pt x="1909" y="1105"/>
                    </a:lnTo>
                    <a:lnTo>
                      <a:pt x="1889" y="1105"/>
                    </a:lnTo>
                    <a:lnTo>
                      <a:pt x="1870" y="1105"/>
                    </a:lnTo>
                    <a:lnTo>
                      <a:pt x="1852" y="1105"/>
                    </a:lnTo>
                    <a:lnTo>
                      <a:pt x="1840" y="1113"/>
                    </a:lnTo>
                    <a:lnTo>
                      <a:pt x="1824" y="1123"/>
                    </a:lnTo>
                    <a:lnTo>
                      <a:pt x="1811" y="1140"/>
                    </a:lnTo>
                    <a:lnTo>
                      <a:pt x="1800" y="1164"/>
                    </a:lnTo>
                    <a:lnTo>
                      <a:pt x="1799" y="1193"/>
                    </a:lnTo>
                    <a:lnTo>
                      <a:pt x="1800" y="1215"/>
                    </a:lnTo>
                    <a:lnTo>
                      <a:pt x="1816" y="1234"/>
                    </a:lnTo>
                    <a:lnTo>
                      <a:pt x="1832" y="1248"/>
                    </a:lnTo>
                    <a:lnTo>
                      <a:pt x="1848" y="1260"/>
                    </a:lnTo>
                    <a:lnTo>
                      <a:pt x="1868" y="1271"/>
                    </a:lnTo>
                    <a:lnTo>
                      <a:pt x="1886" y="1275"/>
                    </a:lnTo>
                    <a:lnTo>
                      <a:pt x="1898" y="1279"/>
                    </a:lnTo>
                    <a:lnTo>
                      <a:pt x="1914" y="1279"/>
                    </a:lnTo>
                    <a:lnTo>
                      <a:pt x="1930" y="1277"/>
                    </a:lnTo>
                    <a:lnTo>
                      <a:pt x="1943" y="1273"/>
                    </a:lnTo>
                    <a:lnTo>
                      <a:pt x="1962" y="1267"/>
                    </a:lnTo>
                    <a:lnTo>
                      <a:pt x="1978" y="1258"/>
                    </a:lnTo>
                    <a:lnTo>
                      <a:pt x="1991" y="1248"/>
                    </a:lnTo>
                    <a:lnTo>
                      <a:pt x="2007" y="1240"/>
                    </a:lnTo>
                    <a:lnTo>
                      <a:pt x="2019" y="1230"/>
                    </a:lnTo>
                    <a:lnTo>
                      <a:pt x="2041" y="1228"/>
                    </a:lnTo>
                    <a:lnTo>
                      <a:pt x="2053" y="1246"/>
                    </a:lnTo>
                    <a:lnTo>
                      <a:pt x="2053" y="1271"/>
                    </a:lnTo>
                    <a:lnTo>
                      <a:pt x="2041" y="1293"/>
                    </a:lnTo>
                    <a:lnTo>
                      <a:pt x="2032" y="1308"/>
                    </a:lnTo>
                    <a:lnTo>
                      <a:pt x="2037" y="1316"/>
                    </a:lnTo>
                    <a:lnTo>
                      <a:pt x="2053" y="1324"/>
                    </a:lnTo>
                    <a:lnTo>
                      <a:pt x="2076" y="1326"/>
                    </a:lnTo>
                    <a:lnTo>
                      <a:pt x="2098" y="1330"/>
                    </a:lnTo>
                    <a:lnTo>
                      <a:pt x="2119" y="1342"/>
                    </a:lnTo>
                    <a:lnTo>
                      <a:pt x="2139" y="1357"/>
                    </a:lnTo>
                    <a:lnTo>
                      <a:pt x="2151" y="1385"/>
                    </a:lnTo>
                    <a:lnTo>
                      <a:pt x="2155" y="1406"/>
                    </a:lnTo>
                    <a:lnTo>
                      <a:pt x="2158" y="1422"/>
                    </a:lnTo>
                    <a:lnTo>
                      <a:pt x="2160" y="1438"/>
                    </a:lnTo>
                    <a:lnTo>
                      <a:pt x="2174" y="1445"/>
                    </a:lnTo>
                    <a:lnTo>
                      <a:pt x="2187" y="1451"/>
                    </a:lnTo>
                    <a:lnTo>
                      <a:pt x="2208" y="1457"/>
                    </a:lnTo>
                    <a:lnTo>
                      <a:pt x="2229" y="1459"/>
                    </a:lnTo>
                    <a:lnTo>
                      <a:pt x="2249" y="1461"/>
                    </a:lnTo>
                    <a:lnTo>
                      <a:pt x="2265" y="1461"/>
                    </a:lnTo>
                    <a:lnTo>
                      <a:pt x="2270" y="1459"/>
                    </a:lnTo>
                    <a:lnTo>
                      <a:pt x="2274" y="1459"/>
                    </a:lnTo>
                    <a:lnTo>
                      <a:pt x="2274" y="1461"/>
                    </a:lnTo>
                    <a:lnTo>
                      <a:pt x="2270" y="1467"/>
                    </a:lnTo>
                    <a:lnTo>
                      <a:pt x="2265" y="1473"/>
                    </a:lnTo>
                    <a:lnTo>
                      <a:pt x="2253" y="1483"/>
                    </a:lnTo>
                    <a:lnTo>
                      <a:pt x="2240" y="1485"/>
                    </a:lnTo>
                    <a:lnTo>
                      <a:pt x="2228" y="1485"/>
                    </a:lnTo>
                    <a:lnTo>
                      <a:pt x="2208" y="1483"/>
                    </a:lnTo>
                    <a:lnTo>
                      <a:pt x="2196" y="1483"/>
                    </a:lnTo>
                    <a:lnTo>
                      <a:pt x="2176" y="1477"/>
                    </a:lnTo>
                    <a:lnTo>
                      <a:pt x="2158" y="1473"/>
                    </a:lnTo>
                    <a:lnTo>
                      <a:pt x="2139" y="1471"/>
                    </a:lnTo>
                    <a:lnTo>
                      <a:pt x="2130" y="1467"/>
                    </a:lnTo>
                    <a:lnTo>
                      <a:pt x="2123" y="1463"/>
                    </a:lnTo>
                    <a:lnTo>
                      <a:pt x="2110" y="1459"/>
                    </a:lnTo>
                    <a:lnTo>
                      <a:pt x="2091" y="1451"/>
                    </a:lnTo>
                    <a:lnTo>
                      <a:pt x="2073" y="1441"/>
                    </a:lnTo>
                    <a:lnTo>
                      <a:pt x="2044" y="1428"/>
                    </a:lnTo>
                    <a:lnTo>
                      <a:pt x="2025" y="1416"/>
                    </a:lnTo>
                    <a:lnTo>
                      <a:pt x="2009" y="1406"/>
                    </a:lnTo>
                    <a:lnTo>
                      <a:pt x="2000" y="1395"/>
                    </a:lnTo>
                    <a:lnTo>
                      <a:pt x="1987" y="1389"/>
                    </a:lnTo>
                    <a:lnTo>
                      <a:pt x="1978" y="1381"/>
                    </a:lnTo>
                    <a:lnTo>
                      <a:pt x="1962" y="1373"/>
                    </a:lnTo>
                    <a:lnTo>
                      <a:pt x="1939" y="1367"/>
                    </a:lnTo>
                    <a:lnTo>
                      <a:pt x="1911" y="1357"/>
                    </a:lnTo>
                    <a:lnTo>
                      <a:pt x="1889" y="1353"/>
                    </a:lnTo>
                    <a:lnTo>
                      <a:pt x="1864" y="1346"/>
                    </a:lnTo>
                    <a:lnTo>
                      <a:pt x="1843" y="1342"/>
                    </a:lnTo>
                    <a:lnTo>
                      <a:pt x="1820" y="1334"/>
                    </a:lnTo>
                    <a:lnTo>
                      <a:pt x="1799" y="1328"/>
                    </a:lnTo>
                    <a:lnTo>
                      <a:pt x="1779" y="1324"/>
                    </a:lnTo>
                    <a:lnTo>
                      <a:pt x="1763" y="1318"/>
                    </a:lnTo>
                    <a:lnTo>
                      <a:pt x="1745" y="1312"/>
                    </a:lnTo>
                    <a:lnTo>
                      <a:pt x="1726" y="1308"/>
                    </a:lnTo>
                    <a:lnTo>
                      <a:pt x="1706" y="1297"/>
                    </a:lnTo>
                    <a:lnTo>
                      <a:pt x="1690" y="1287"/>
                    </a:lnTo>
                    <a:lnTo>
                      <a:pt x="1672" y="1273"/>
                    </a:lnTo>
                    <a:lnTo>
                      <a:pt x="1656" y="1260"/>
                    </a:lnTo>
                    <a:lnTo>
                      <a:pt x="1644" y="1248"/>
                    </a:lnTo>
                    <a:lnTo>
                      <a:pt x="1628" y="1238"/>
                    </a:lnTo>
                    <a:lnTo>
                      <a:pt x="1622" y="1234"/>
                    </a:lnTo>
                    <a:lnTo>
                      <a:pt x="1606" y="1222"/>
                    </a:lnTo>
                    <a:lnTo>
                      <a:pt x="1587" y="1209"/>
                    </a:lnTo>
                    <a:lnTo>
                      <a:pt x="1571" y="1195"/>
                    </a:lnTo>
                    <a:lnTo>
                      <a:pt x="1542" y="1189"/>
                    </a:lnTo>
                    <a:lnTo>
                      <a:pt x="1526" y="1187"/>
                    </a:lnTo>
                    <a:lnTo>
                      <a:pt x="1508" y="1183"/>
                    </a:lnTo>
                    <a:lnTo>
                      <a:pt x="1485" y="1177"/>
                    </a:lnTo>
                    <a:lnTo>
                      <a:pt x="1464" y="1174"/>
                    </a:lnTo>
                    <a:lnTo>
                      <a:pt x="1442" y="1164"/>
                    </a:lnTo>
                    <a:lnTo>
                      <a:pt x="1419" y="1156"/>
                    </a:lnTo>
                    <a:lnTo>
                      <a:pt x="1403" y="1146"/>
                    </a:lnTo>
                    <a:lnTo>
                      <a:pt x="1386" y="1136"/>
                    </a:lnTo>
                    <a:lnTo>
                      <a:pt x="1350" y="1113"/>
                    </a:lnTo>
                    <a:lnTo>
                      <a:pt x="1321" y="1091"/>
                    </a:lnTo>
                    <a:lnTo>
                      <a:pt x="1300" y="1068"/>
                    </a:lnTo>
                    <a:lnTo>
                      <a:pt x="1291" y="1046"/>
                    </a:lnTo>
                    <a:lnTo>
                      <a:pt x="1277" y="1027"/>
                    </a:lnTo>
                    <a:lnTo>
                      <a:pt x="1272" y="1007"/>
                    </a:lnTo>
                    <a:lnTo>
                      <a:pt x="1263" y="988"/>
                    </a:lnTo>
                    <a:lnTo>
                      <a:pt x="1248" y="970"/>
                    </a:lnTo>
                    <a:lnTo>
                      <a:pt x="1243" y="962"/>
                    </a:lnTo>
                    <a:lnTo>
                      <a:pt x="1231" y="952"/>
                    </a:lnTo>
                    <a:lnTo>
                      <a:pt x="1215" y="943"/>
                    </a:lnTo>
                    <a:lnTo>
                      <a:pt x="1195" y="929"/>
                    </a:lnTo>
                    <a:lnTo>
                      <a:pt x="1177" y="921"/>
                    </a:lnTo>
                    <a:lnTo>
                      <a:pt x="1154" y="906"/>
                    </a:lnTo>
                    <a:lnTo>
                      <a:pt x="1142" y="892"/>
                    </a:lnTo>
                    <a:lnTo>
                      <a:pt x="1126" y="876"/>
                    </a:lnTo>
                    <a:lnTo>
                      <a:pt x="1117" y="845"/>
                    </a:lnTo>
                    <a:lnTo>
                      <a:pt x="1117" y="810"/>
                    </a:lnTo>
                    <a:lnTo>
                      <a:pt x="1126" y="778"/>
                    </a:lnTo>
                    <a:lnTo>
                      <a:pt x="1136" y="759"/>
                    </a:lnTo>
                    <a:lnTo>
                      <a:pt x="1142" y="737"/>
                    </a:lnTo>
                    <a:lnTo>
                      <a:pt x="1142" y="708"/>
                    </a:lnTo>
                    <a:lnTo>
                      <a:pt x="1136" y="673"/>
                    </a:lnTo>
                    <a:lnTo>
                      <a:pt x="1126" y="640"/>
                    </a:lnTo>
                    <a:lnTo>
                      <a:pt x="1111" y="616"/>
                    </a:lnTo>
                    <a:lnTo>
                      <a:pt x="1101" y="600"/>
                    </a:lnTo>
                    <a:lnTo>
                      <a:pt x="1083" y="593"/>
                    </a:lnTo>
                    <a:lnTo>
                      <a:pt x="1056" y="579"/>
                    </a:lnTo>
                    <a:lnTo>
                      <a:pt x="1035" y="563"/>
                    </a:lnTo>
                    <a:lnTo>
                      <a:pt x="1022" y="548"/>
                    </a:lnTo>
                    <a:lnTo>
                      <a:pt x="1010" y="534"/>
                    </a:lnTo>
                    <a:lnTo>
                      <a:pt x="1003" y="514"/>
                    </a:lnTo>
                    <a:lnTo>
                      <a:pt x="987" y="497"/>
                    </a:lnTo>
                    <a:lnTo>
                      <a:pt x="965" y="481"/>
                    </a:lnTo>
                    <a:lnTo>
                      <a:pt x="940" y="475"/>
                    </a:lnTo>
                    <a:lnTo>
                      <a:pt x="915" y="475"/>
                    </a:lnTo>
                    <a:lnTo>
                      <a:pt x="905" y="477"/>
                    </a:lnTo>
                    <a:lnTo>
                      <a:pt x="887" y="475"/>
                    </a:lnTo>
                    <a:lnTo>
                      <a:pt x="871" y="469"/>
                    </a:lnTo>
                    <a:lnTo>
                      <a:pt x="855" y="463"/>
                    </a:lnTo>
                    <a:lnTo>
                      <a:pt x="834" y="460"/>
                    </a:lnTo>
                    <a:lnTo>
                      <a:pt x="814" y="452"/>
                    </a:lnTo>
                    <a:lnTo>
                      <a:pt x="794" y="446"/>
                    </a:lnTo>
                    <a:lnTo>
                      <a:pt x="782" y="442"/>
                    </a:lnTo>
                    <a:lnTo>
                      <a:pt x="753" y="432"/>
                    </a:lnTo>
                    <a:lnTo>
                      <a:pt x="739" y="426"/>
                    </a:lnTo>
                    <a:lnTo>
                      <a:pt x="720" y="418"/>
                    </a:lnTo>
                    <a:lnTo>
                      <a:pt x="695" y="413"/>
                    </a:lnTo>
                    <a:lnTo>
                      <a:pt x="679" y="413"/>
                    </a:lnTo>
                    <a:lnTo>
                      <a:pt x="666" y="411"/>
                    </a:lnTo>
                    <a:lnTo>
                      <a:pt x="650" y="413"/>
                    </a:lnTo>
                    <a:lnTo>
                      <a:pt x="631" y="413"/>
                    </a:lnTo>
                    <a:lnTo>
                      <a:pt x="615" y="413"/>
                    </a:lnTo>
                    <a:lnTo>
                      <a:pt x="597" y="411"/>
                    </a:lnTo>
                    <a:lnTo>
                      <a:pt x="577" y="407"/>
                    </a:lnTo>
                    <a:lnTo>
                      <a:pt x="559" y="401"/>
                    </a:lnTo>
                    <a:lnTo>
                      <a:pt x="540" y="393"/>
                    </a:lnTo>
                    <a:lnTo>
                      <a:pt x="527" y="387"/>
                    </a:lnTo>
                    <a:lnTo>
                      <a:pt x="508" y="385"/>
                    </a:lnTo>
                    <a:lnTo>
                      <a:pt x="490" y="383"/>
                    </a:lnTo>
                    <a:lnTo>
                      <a:pt x="474" y="383"/>
                    </a:lnTo>
                    <a:lnTo>
                      <a:pt x="451" y="383"/>
                    </a:lnTo>
                    <a:lnTo>
                      <a:pt x="426" y="385"/>
                    </a:lnTo>
                    <a:lnTo>
                      <a:pt x="401" y="387"/>
                    </a:lnTo>
                    <a:lnTo>
                      <a:pt x="372" y="393"/>
                    </a:lnTo>
                    <a:lnTo>
                      <a:pt x="347" y="407"/>
                    </a:lnTo>
                    <a:lnTo>
                      <a:pt x="331" y="420"/>
                    </a:lnTo>
                    <a:lnTo>
                      <a:pt x="310" y="436"/>
                    </a:lnTo>
                    <a:lnTo>
                      <a:pt x="290" y="450"/>
                    </a:lnTo>
                    <a:lnTo>
                      <a:pt x="269" y="463"/>
                    </a:lnTo>
                    <a:lnTo>
                      <a:pt x="246" y="475"/>
                    </a:lnTo>
                    <a:lnTo>
                      <a:pt x="221" y="475"/>
                    </a:lnTo>
                    <a:lnTo>
                      <a:pt x="196" y="465"/>
                    </a:lnTo>
                    <a:lnTo>
                      <a:pt x="180" y="458"/>
                    </a:lnTo>
                    <a:lnTo>
                      <a:pt x="171" y="446"/>
                    </a:lnTo>
                    <a:lnTo>
                      <a:pt x="148" y="432"/>
                    </a:lnTo>
                    <a:lnTo>
                      <a:pt x="127" y="418"/>
                    </a:lnTo>
                    <a:lnTo>
                      <a:pt x="118" y="393"/>
                    </a:lnTo>
                    <a:lnTo>
                      <a:pt x="118" y="362"/>
                    </a:lnTo>
                    <a:lnTo>
                      <a:pt x="130" y="325"/>
                    </a:lnTo>
                    <a:lnTo>
                      <a:pt x="139" y="303"/>
                    </a:lnTo>
                    <a:lnTo>
                      <a:pt x="132" y="287"/>
                    </a:lnTo>
                    <a:lnTo>
                      <a:pt x="123" y="282"/>
                    </a:lnTo>
                    <a:lnTo>
                      <a:pt x="104" y="276"/>
                    </a:lnTo>
                    <a:lnTo>
                      <a:pt x="86" y="274"/>
                    </a:lnTo>
                    <a:lnTo>
                      <a:pt x="61" y="268"/>
                    </a:lnTo>
                    <a:lnTo>
                      <a:pt x="34" y="264"/>
                    </a:lnTo>
                    <a:lnTo>
                      <a:pt x="13" y="254"/>
                    </a:lnTo>
                    <a:lnTo>
                      <a:pt x="0" y="244"/>
                    </a:lnTo>
                    <a:lnTo>
                      <a:pt x="0" y="227"/>
                    </a:lnTo>
                    <a:lnTo>
                      <a:pt x="9" y="205"/>
                    </a:lnTo>
                    <a:lnTo>
                      <a:pt x="29" y="182"/>
                    </a:lnTo>
                    <a:lnTo>
                      <a:pt x="54" y="162"/>
                    </a:lnTo>
                    <a:lnTo>
                      <a:pt x="79" y="139"/>
                    </a:lnTo>
                    <a:lnTo>
                      <a:pt x="104" y="121"/>
                    </a:lnTo>
                    <a:lnTo>
                      <a:pt x="130" y="111"/>
                    </a:lnTo>
                    <a:lnTo>
                      <a:pt x="152" y="100"/>
                    </a:lnTo>
                    <a:lnTo>
                      <a:pt x="171" y="88"/>
                    </a:lnTo>
                    <a:lnTo>
                      <a:pt x="193" y="76"/>
                    </a:lnTo>
                    <a:lnTo>
                      <a:pt x="217" y="64"/>
                    </a:lnTo>
                    <a:lnTo>
                      <a:pt x="253" y="57"/>
                    </a:lnTo>
                    <a:lnTo>
                      <a:pt x="299" y="53"/>
                    </a:lnTo>
                    <a:lnTo>
                      <a:pt x="360" y="53"/>
                    </a:lnTo>
                    <a:lnTo>
                      <a:pt x="435" y="57"/>
                    </a:lnTo>
                    <a:lnTo>
                      <a:pt x="474" y="72"/>
                    </a:lnTo>
                    <a:lnTo>
                      <a:pt x="502" y="82"/>
                    </a:lnTo>
                    <a:lnTo>
                      <a:pt x="527" y="90"/>
                    </a:lnTo>
                    <a:lnTo>
                      <a:pt x="549" y="96"/>
                    </a:lnTo>
                    <a:lnTo>
                      <a:pt x="568" y="98"/>
                    </a:lnTo>
                    <a:lnTo>
                      <a:pt x="584" y="102"/>
                    </a:lnTo>
                    <a:lnTo>
                      <a:pt x="602" y="104"/>
                    </a:lnTo>
                    <a:lnTo>
                      <a:pt x="618" y="109"/>
                    </a:lnTo>
                    <a:lnTo>
                      <a:pt x="641" y="113"/>
                    </a:lnTo>
                    <a:lnTo>
                      <a:pt x="670" y="115"/>
                    </a:lnTo>
                    <a:lnTo>
                      <a:pt x="704" y="117"/>
                    </a:lnTo>
                    <a:lnTo>
                      <a:pt x="745" y="121"/>
                    </a:lnTo>
                    <a:lnTo>
                      <a:pt x="782" y="127"/>
                    </a:lnTo>
                    <a:lnTo>
                      <a:pt x="818" y="127"/>
                    </a:lnTo>
                    <a:lnTo>
                      <a:pt x="850" y="127"/>
                    </a:lnTo>
                    <a:lnTo>
                      <a:pt x="871" y="127"/>
                    </a:lnTo>
                    <a:lnTo>
                      <a:pt x="892" y="121"/>
                    </a:lnTo>
                    <a:lnTo>
                      <a:pt x="921" y="121"/>
                    </a:lnTo>
                    <a:lnTo>
                      <a:pt x="956" y="121"/>
                    </a:lnTo>
                    <a:lnTo>
                      <a:pt x="990" y="121"/>
                    </a:lnTo>
                    <a:lnTo>
                      <a:pt x="1028" y="121"/>
                    </a:lnTo>
                    <a:lnTo>
                      <a:pt x="1060" y="127"/>
                    </a:lnTo>
                    <a:lnTo>
                      <a:pt x="1088" y="127"/>
                    </a:lnTo>
                    <a:lnTo>
                      <a:pt x="1108" y="127"/>
                    </a:lnTo>
                    <a:lnTo>
                      <a:pt x="1124" y="127"/>
                    </a:lnTo>
                    <a:lnTo>
                      <a:pt x="1142" y="129"/>
                    </a:lnTo>
                    <a:lnTo>
                      <a:pt x="1165" y="131"/>
                    </a:lnTo>
                    <a:lnTo>
                      <a:pt x="1183" y="133"/>
                    </a:lnTo>
                    <a:lnTo>
                      <a:pt x="1206" y="135"/>
                    </a:lnTo>
                    <a:lnTo>
                      <a:pt x="1227" y="139"/>
                    </a:lnTo>
                    <a:lnTo>
                      <a:pt x="1248" y="143"/>
                    </a:lnTo>
                    <a:lnTo>
                      <a:pt x="1268" y="149"/>
                    </a:lnTo>
                    <a:lnTo>
                      <a:pt x="1293" y="152"/>
                    </a:lnTo>
                    <a:lnTo>
                      <a:pt x="1321" y="158"/>
                    </a:lnTo>
                    <a:lnTo>
                      <a:pt x="1362" y="162"/>
                    </a:lnTo>
                    <a:lnTo>
                      <a:pt x="1403" y="166"/>
                    </a:lnTo>
                    <a:lnTo>
                      <a:pt x="1442" y="170"/>
                    </a:lnTo>
                    <a:lnTo>
                      <a:pt x="1480" y="176"/>
                    </a:lnTo>
                    <a:lnTo>
                      <a:pt x="1512" y="178"/>
                    </a:lnTo>
                    <a:lnTo>
                      <a:pt x="1533" y="178"/>
                    </a:lnTo>
                    <a:lnTo>
                      <a:pt x="1555" y="178"/>
                    </a:lnTo>
                    <a:lnTo>
                      <a:pt x="1587" y="178"/>
                    </a:lnTo>
                    <a:lnTo>
                      <a:pt x="1624" y="176"/>
                    </a:lnTo>
                    <a:lnTo>
                      <a:pt x="1669" y="172"/>
                    </a:lnTo>
                    <a:lnTo>
                      <a:pt x="1706" y="170"/>
                    </a:lnTo>
                    <a:lnTo>
                      <a:pt x="1747" y="166"/>
                    </a:lnTo>
                    <a:lnTo>
                      <a:pt x="1779" y="160"/>
                    </a:lnTo>
                    <a:lnTo>
                      <a:pt x="1811" y="152"/>
                    </a:lnTo>
                    <a:lnTo>
                      <a:pt x="1845" y="139"/>
                    </a:lnTo>
                    <a:lnTo>
                      <a:pt x="1868" y="131"/>
                    </a:lnTo>
                    <a:lnTo>
                      <a:pt x="1873" y="119"/>
                    </a:lnTo>
                    <a:lnTo>
                      <a:pt x="1877" y="111"/>
                    </a:lnTo>
                    <a:lnTo>
                      <a:pt x="1870" y="100"/>
                    </a:lnTo>
                    <a:lnTo>
                      <a:pt x="1852" y="84"/>
                    </a:lnTo>
                    <a:lnTo>
                      <a:pt x="1836" y="72"/>
                    </a:lnTo>
                    <a:lnTo>
                      <a:pt x="1820" y="62"/>
                    </a:lnTo>
                    <a:lnTo>
                      <a:pt x="1816" y="51"/>
                    </a:lnTo>
                    <a:lnTo>
                      <a:pt x="1824" y="35"/>
                    </a:lnTo>
                    <a:lnTo>
                      <a:pt x="1840" y="19"/>
                    </a:lnTo>
                    <a:lnTo>
                      <a:pt x="1852" y="4"/>
                    </a:lnTo>
                    <a:lnTo>
                      <a:pt x="1873" y="0"/>
                    </a:lnTo>
                    <a:lnTo>
                      <a:pt x="1897" y="2"/>
                    </a:lnTo>
                    <a:lnTo>
                      <a:pt x="1925" y="12"/>
                    </a:lnTo>
                    <a:lnTo>
                      <a:pt x="1953" y="17"/>
                    </a:lnTo>
                    <a:lnTo>
                      <a:pt x="1966" y="27"/>
                    </a:lnTo>
                    <a:lnTo>
                      <a:pt x="1968" y="43"/>
                    </a:lnTo>
                    <a:lnTo>
                      <a:pt x="1968" y="57"/>
                    </a:lnTo>
                    <a:lnTo>
                      <a:pt x="1968" y="70"/>
                    </a:lnTo>
                    <a:lnTo>
                      <a:pt x="1978" y="82"/>
                    </a:lnTo>
                    <a:lnTo>
                      <a:pt x="1994" y="100"/>
                    </a:lnTo>
                    <a:lnTo>
                      <a:pt x="2019" y="111"/>
                    </a:lnTo>
                    <a:lnTo>
                      <a:pt x="2053" y="115"/>
                    </a:lnTo>
                    <a:lnTo>
                      <a:pt x="2073" y="115"/>
                    </a:lnTo>
                    <a:lnTo>
                      <a:pt x="2089" y="115"/>
                    </a:lnTo>
                    <a:lnTo>
                      <a:pt x="2107" y="117"/>
                    </a:lnTo>
                    <a:lnTo>
                      <a:pt x="2126" y="119"/>
                    </a:lnTo>
                    <a:lnTo>
                      <a:pt x="2146" y="127"/>
                    </a:lnTo>
                    <a:lnTo>
                      <a:pt x="2160" y="129"/>
                    </a:lnTo>
                    <a:lnTo>
                      <a:pt x="2180" y="131"/>
                    </a:lnTo>
                    <a:lnTo>
                      <a:pt x="2199" y="133"/>
                    </a:lnTo>
                    <a:lnTo>
                      <a:pt x="2228" y="135"/>
                    </a:lnTo>
                    <a:lnTo>
                      <a:pt x="2242" y="139"/>
                    </a:lnTo>
                    <a:lnTo>
                      <a:pt x="2242" y="150"/>
                    </a:lnTo>
                    <a:lnTo>
                      <a:pt x="2240" y="162"/>
                    </a:lnTo>
                    <a:lnTo>
                      <a:pt x="2229" y="170"/>
                    </a:lnTo>
                    <a:lnTo>
                      <a:pt x="2224" y="178"/>
                    </a:lnTo>
                    <a:lnTo>
                      <a:pt x="2208" y="182"/>
                    </a:lnTo>
                    <a:lnTo>
                      <a:pt x="2196" y="186"/>
                    </a:lnTo>
                    <a:lnTo>
                      <a:pt x="2176" y="188"/>
                    </a:lnTo>
                    <a:lnTo>
                      <a:pt x="2158" y="192"/>
                    </a:lnTo>
                    <a:lnTo>
                      <a:pt x="2139" y="192"/>
                    </a:lnTo>
                    <a:lnTo>
                      <a:pt x="2123" y="194"/>
                    </a:lnTo>
                    <a:lnTo>
                      <a:pt x="2089" y="199"/>
                    </a:lnTo>
                    <a:lnTo>
                      <a:pt x="2064" y="209"/>
                    </a:lnTo>
                    <a:lnTo>
                      <a:pt x="2037" y="219"/>
                    </a:lnTo>
                    <a:lnTo>
                      <a:pt x="2016" y="233"/>
                    </a:lnTo>
                    <a:lnTo>
                      <a:pt x="1994" y="248"/>
                    </a:lnTo>
                    <a:lnTo>
                      <a:pt x="1968" y="266"/>
                    </a:lnTo>
                    <a:lnTo>
                      <a:pt x="1939" y="285"/>
                    </a:lnTo>
                    <a:lnTo>
                      <a:pt x="1914" y="313"/>
                    </a:lnTo>
                    <a:lnTo>
                      <a:pt x="1898" y="348"/>
                    </a:lnTo>
                    <a:lnTo>
                      <a:pt x="1898" y="393"/>
                    </a:lnTo>
                    <a:lnTo>
                      <a:pt x="1909" y="432"/>
                    </a:lnTo>
                    <a:lnTo>
                      <a:pt x="1914" y="462"/>
                    </a:lnTo>
                    <a:lnTo>
                      <a:pt x="1925" y="475"/>
                    </a:lnTo>
                    <a:lnTo>
                      <a:pt x="1939" y="477"/>
                    </a:lnTo>
                    <a:lnTo>
                      <a:pt x="1959" y="475"/>
                    </a:lnTo>
                    <a:lnTo>
                      <a:pt x="1978" y="475"/>
                    </a:lnTo>
                    <a:lnTo>
                      <a:pt x="2000" y="477"/>
                    </a:lnTo>
                    <a:lnTo>
                      <a:pt x="2025" y="479"/>
                    </a:lnTo>
                    <a:lnTo>
                      <a:pt x="2044" y="485"/>
                    </a:lnTo>
                    <a:lnTo>
                      <a:pt x="2066" y="495"/>
                    </a:lnTo>
                    <a:lnTo>
                      <a:pt x="2089" y="499"/>
                    </a:lnTo>
                    <a:lnTo>
                      <a:pt x="2107" y="503"/>
                    </a:lnTo>
                    <a:lnTo>
                      <a:pt x="2123" y="506"/>
                    </a:lnTo>
                    <a:lnTo>
                      <a:pt x="2139" y="506"/>
                    </a:lnTo>
                    <a:lnTo>
                      <a:pt x="2158" y="506"/>
                    </a:lnTo>
                    <a:lnTo>
                      <a:pt x="2174" y="512"/>
                    </a:lnTo>
                    <a:lnTo>
                      <a:pt x="2183" y="518"/>
                    </a:lnTo>
                    <a:lnTo>
                      <a:pt x="2187" y="532"/>
                    </a:lnTo>
                    <a:lnTo>
                      <a:pt x="2196" y="544"/>
                    </a:lnTo>
                    <a:lnTo>
                      <a:pt x="2205" y="551"/>
                    </a:lnTo>
                    <a:lnTo>
                      <a:pt x="2221" y="557"/>
                    </a:lnTo>
                    <a:lnTo>
                      <a:pt x="2240" y="559"/>
                    </a:lnTo>
                    <a:lnTo>
                      <a:pt x="2249" y="551"/>
                    </a:lnTo>
                    <a:lnTo>
                      <a:pt x="2253" y="532"/>
                    </a:lnTo>
                    <a:lnTo>
                      <a:pt x="2253" y="508"/>
                    </a:lnTo>
                    <a:lnTo>
                      <a:pt x="2246" y="485"/>
                    </a:lnTo>
                    <a:lnTo>
                      <a:pt x="2249" y="475"/>
                    </a:lnTo>
                    <a:lnTo>
                      <a:pt x="2269" y="463"/>
                    </a:lnTo>
                    <a:lnTo>
                      <a:pt x="2297" y="460"/>
                    </a:lnTo>
                    <a:lnTo>
                      <a:pt x="2322" y="450"/>
                    </a:lnTo>
                    <a:lnTo>
                      <a:pt x="2340" y="442"/>
                    </a:lnTo>
                    <a:lnTo>
                      <a:pt x="2338" y="424"/>
                    </a:lnTo>
                    <a:lnTo>
                      <a:pt x="2326" y="409"/>
                    </a:lnTo>
                    <a:lnTo>
                      <a:pt x="2302" y="397"/>
                    </a:lnTo>
                    <a:lnTo>
                      <a:pt x="2290" y="383"/>
                    </a:lnTo>
                    <a:lnTo>
                      <a:pt x="2281" y="368"/>
                    </a:lnTo>
                    <a:lnTo>
                      <a:pt x="2286" y="352"/>
                    </a:lnTo>
                    <a:lnTo>
                      <a:pt x="2294" y="334"/>
                    </a:lnTo>
                    <a:lnTo>
                      <a:pt x="2315" y="325"/>
                    </a:lnTo>
                    <a:lnTo>
                      <a:pt x="2343" y="317"/>
                    </a:lnTo>
                    <a:lnTo>
                      <a:pt x="2375" y="325"/>
                    </a:lnTo>
                    <a:lnTo>
                      <a:pt x="2395" y="332"/>
                    </a:lnTo>
                    <a:lnTo>
                      <a:pt x="2409" y="344"/>
                    </a:lnTo>
                    <a:lnTo>
                      <a:pt x="2432" y="352"/>
                    </a:lnTo>
                    <a:lnTo>
                      <a:pt x="2454" y="360"/>
                    </a:lnTo>
                    <a:lnTo>
                      <a:pt x="2470" y="366"/>
                    </a:lnTo>
                    <a:lnTo>
                      <a:pt x="2486" y="373"/>
                    </a:lnTo>
                    <a:lnTo>
                      <a:pt x="2502" y="383"/>
                    </a:lnTo>
                    <a:lnTo>
                      <a:pt x="2514" y="397"/>
                    </a:lnTo>
                    <a:lnTo>
                      <a:pt x="2530" y="407"/>
                    </a:lnTo>
                    <a:lnTo>
                      <a:pt x="2546" y="409"/>
                    </a:lnTo>
                    <a:lnTo>
                      <a:pt x="2564" y="399"/>
                    </a:lnTo>
                    <a:lnTo>
                      <a:pt x="2587" y="383"/>
                    </a:lnTo>
                    <a:lnTo>
                      <a:pt x="2602" y="368"/>
                    </a:lnTo>
                    <a:lnTo>
                      <a:pt x="2616" y="362"/>
                    </a:lnTo>
                    <a:lnTo>
                      <a:pt x="2641" y="366"/>
                    </a:lnTo>
                    <a:lnTo>
                      <a:pt x="2662" y="379"/>
                    </a:lnTo>
                    <a:lnTo>
                      <a:pt x="2678" y="399"/>
                    </a:lnTo>
                    <a:lnTo>
                      <a:pt x="2687" y="413"/>
                    </a:lnTo>
                    <a:lnTo>
                      <a:pt x="2703" y="428"/>
                    </a:lnTo>
                    <a:lnTo>
                      <a:pt x="2719" y="442"/>
                    </a:lnTo>
                    <a:lnTo>
                      <a:pt x="2741" y="460"/>
                    </a:lnTo>
                    <a:lnTo>
                      <a:pt x="2760" y="477"/>
                    </a:lnTo>
                    <a:lnTo>
                      <a:pt x="2773" y="489"/>
                    </a:lnTo>
                    <a:lnTo>
                      <a:pt x="2780" y="501"/>
                    </a:lnTo>
                    <a:lnTo>
                      <a:pt x="2781" y="514"/>
                    </a:lnTo>
                    <a:lnTo>
                      <a:pt x="2792" y="524"/>
                    </a:lnTo>
                    <a:lnTo>
                      <a:pt x="2808" y="526"/>
                    </a:lnTo>
                    <a:lnTo>
                      <a:pt x="2830" y="524"/>
                    </a:lnTo>
                    <a:lnTo>
                      <a:pt x="2849" y="522"/>
                    </a:lnTo>
                    <a:lnTo>
                      <a:pt x="2863" y="524"/>
                    </a:lnTo>
                    <a:lnTo>
                      <a:pt x="2870" y="534"/>
                    </a:lnTo>
                    <a:lnTo>
                      <a:pt x="2867" y="553"/>
                    </a:lnTo>
                    <a:lnTo>
                      <a:pt x="2854" y="577"/>
                    </a:lnTo>
                    <a:lnTo>
                      <a:pt x="2838" y="595"/>
                    </a:lnTo>
                    <a:lnTo>
                      <a:pt x="2821" y="600"/>
                    </a:lnTo>
                    <a:lnTo>
                      <a:pt x="2797" y="604"/>
                    </a:lnTo>
                    <a:lnTo>
                      <a:pt x="2773" y="606"/>
                    </a:lnTo>
                    <a:lnTo>
                      <a:pt x="2751" y="610"/>
                    </a:lnTo>
                    <a:lnTo>
                      <a:pt x="2732" y="612"/>
                    </a:lnTo>
                    <a:lnTo>
                      <a:pt x="2712" y="614"/>
                    </a:lnTo>
                    <a:lnTo>
                      <a:pt x="2700" y="618"/>
                    </a:lnTo>
                    <a:lnTo>
                      <a:pt x="2694" y="632"/>
                    </a:lnTo>
                    <a:lnTo>
                      <a:pt x="2694" y="649"/>
                    </a:lnTo>
                    <a:lnTo>
                      <a:pt x="2698" y="669"/>
                    </a:lnTo>
                    <a:lnTo>
                      <a:pt x="2700" y="690"/>
                    </a:lnTo>
                    <a:lnTo>
                      <a:pt x="2694" y="708"/>
                    </a:lnTo>
                    <a:lnTo>
                      <a:pt x="2669" y="726"/>
                    </a:lnTo>
                    <a:lnTo>
                      <a:pt x="2634" y="737"/>
                    </a:lnTo>
                    <a:lnTo>
                      <a:pt x="2605" y="745"/>
                    </a:lnTo>
                    <a:lnTo>
                      <a:pt x="2584" y="751"/>
                    </a:lnTo>
                    <a:lnTo>
                      <a:pt x="2561" y="765"/>
                    </a:lnTo>
                    <a:lnTo>
                      <a:pt x="2539" y="778"/>
                    </a:lnTo>
                    <a:lnTo>
                      <a:pt x="2530" y="796"/>
                    </a:lnTo>
                    <a:lnTo>
                      <a:pt x="2518" y="812"/>
                    </a:lnTo>
                    <a:lnTo>
                      <a:pt x="2507" y="825"/>
                    </a:lnTo>
                    <a:lnTo>
                      <a:pt x="2489" y="831"/>
                    </a:lnTo>
                    <a:lnTo>
                      <a:pt x="2470" y="845"/>
                    </a:lnTo>
                    <a:lnTo>
                      <a:pt x="2454" y="855"/>
                    </a:lnTo>
                    <a:lnTo>
                      <a:pt x="2438" y="857"/>
                    </a:lnTo>
                    <a:lnTo>
                      <a:pt x="2420" y="861"/>
                    </a:lnTo>
                    <a:lnTo>
                      <a:pt x="2397" y="866"/>
                    </a:lnTo>
                    <a:lnTo>
                      <a:pt x="2384" y="876"/>
                    </a:lnTo>
                    <a:lnTo>
                      <a:pt x="2384" y="888"/>
                    </a:lnTo>
                    <a:lnTo>
                      <a:pt x="2384" y="898"/>
                    </a:lnTo>
                    <a:lnTo>
                      <a:pt x="2379" y="909"/>
                    </a:lnTo>
                    <a:lnTo>
                      <a:pt x="2372" y="925"/>
                    </a:lnTo>
                    <a:lnTo>
                      <a:pt x="2368" y="941"/>
                    </a:lnTo>
                    <a:lnTo>
                      <a:pt x="2363" y="958"/>
                    </a:lnTo>
                    <a:lnTo>
                      <a:pt x="2351" y="972"/>
                    </a:lnTo>
                    <a:lnTo>
                      <a:pt x="2343" y="986"/>
                    </a:lnTo>
                    <a:lnTo>
                      <a:pt x="2343" y="996"/>
                    </a:lnTo>
                    <a:lnTo>
                      <a:pt x="2340" y="1003"/>
                    </a:lnTo>
                    <a:lnTo>
                      <a:pt x="2322" y="1005"/>
                    </a:lnTo>
                    <a:lnTo>
                      <a:pt x="2299" y="1007"/>
                    </a:lnTo>
                    <a:lnTo>
                      <a:pt x="2286" y="1009"/>
                    </a:lnTo>
                    <a:lnTo>
                      <a:pt x="2274" y="1019"/>
                    </a:lnTo>
                    <a:lnTo>
                      <a:pt x="2265" y="1037"/>
                    </a:lnTo>
                    <a:lnTo>
                      <a:pt x="2269" y="1068"/>
                    </a:lnTo>
                    <a:lnTo>
                      <a:pt x="2278" y="1107"/>
                    </a:lnTo>
                    <a:lnTo>
                      <a:pt x="2281" y="1144"/>
                    </a:lnTo>
                    <a:lnTo>
                      <a:pt x="2265" y="1160"/>
                    </a:lnTo>
                    <a:lnTo>
                      <a:pt x="2242" y="1158"/>
                    </a:lnTo>
                    <a:lnTo>
                      <a:pt x="2224" y="1154"/>
                    </a:lnTo>
                    <a:lnTo>
                      <a:pt x="2212" y="1142"/>
                    </a:lnTo>
                    <a:lnTo>
                      <a:pt x="2201" y="1130"/>
                    </a:lnTo>
                    <a:lnTo>
                      <a:pt x="2192" y="1115"/>
                    </a:lnTo>
                    <a:lnTo>
                      <a:pt x="2183" y="1097"/>
                    </a:lnTo>
                    <a:lnTo>
                      <a:pt x="2176" y="1082"/>
                    </a:lnTo>
                    <a:lnTo>
                      <a:pt x="2174" y="1078"/>
                    </a:lnTo>
                    <a:lnTo>
                      <a:pt x="2167" y="1078"/>
                    </a:lnTo>
                    <a:lnTo>
                      <a:pt x="2146" y="1076"/>
                    </a:lnTo>
                    <a:lnTo>
                      <a:pt x="2119" y="1076"/>
                    </a:lnTo>
                    <a:lnTo>
                      <a:pt x="2098" y="1078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57" name="Freeform 1130"/>
              <p:cNvSpPr/>
              <p:nvPr/>
            </p:nvSpPr>
            <p:spPr>
              <a:xfrm>
                <a:off x="2611440" y="3215160"/>
                <a:ext cx="550800" cy="286920"/>
              </a:xfrm>
              <a:custGeom>
                <a:avLst/>
                <a:gdLst/>
                <a:ahLst/>
                <a:rect l="l" t="t" r="r" b="b"/>
                <a:pathLst>
                  <a:path w="695" h="380">
                    <a:moveTo>
                      <a:pt x="32" y="12"/>
                    </a:moveTo>
                    <a:lnTo>
                      <a:pt x="46" y="6"/>
                    </a:lnTo>
                    <a:lnTo>
                      <a:pt x="66" y="0"/>
                    </a:lnTo>
                    <a:lnTo>
                      <a:pt x="86" y="0"/>
                    </a:lnTo>
                    <a:lnTo>
                      <a:pt x="100" y="0"/>
                    </a:lnTo>
                    <a:lnTo>
                      <a:pt x="119" y="4"/>
                    </a:lnTo>
                    <a:lnTo>
                      <a:pt x="139" y="6"/>
                    </a:lnTo>
                    <a:lnTo>
                      <a:pt x="157" y="8"/>
                    </a:lnTo>
                    <a:lnTo>
                      <a:pt x="180" y="14"/>
                    </a:lnTo>
                    <a:lnTo>
                      <a:pt x="198" y="18"/>
                    </a:lnTo>
                    <a:lnTo>
                      <a:pt x="221" y="24"/>
                    </a:lnTo>
                    <a:lnTo>
                      <a:pt x="246" y="28"/>
                    </a:lnTo>
                    <a:lnTo>
                      <a:pt x="274" y="34"/>
                    </a:lnTo>
                    <a:lnTo>
                      <a:pt x="292" y="41"/>
                    </a:lnTo>
                    <a:lnTo>
                      <a:pt x="313" y="45"/>
                    </a:lnTo>
                    <a:lnTo>
                      <a:pt x="337" y="51"/>
                    </a:lnTo>
                    <a:lnTo>
                      <a:pt x="353" y="55"/>
                    </a:lnTo>
                    <a:lnTo>
                      <a:pt x="370" y="57"/>
                    </a:lnTo>
                    <a:lnTo>
                      <a:pt x="395" y="61"/>
                    </a:lnTo>
                    <a:lnTo>
                      <a:pt x="420" y="65"/>
                    </a:lnTo>
                    <a:lnTo>
                      <a:pt x="449" y="75"/>
                    </a:lnTo>
                    <a:lnTo>
                      <a:pt x="477" y="82"/>
                    </a:lnTo>
                    <a:lnTo>
                      <a:pt x="506" y="92"/>
                    </a:lnTo>
                    <a:lnTo>
                      <a:pt x="527" y="106"/>
                    </a:lnTo>
                    <a:lnTo>
                      <a:pt x="547" y="114"/>
                    </a:lnTo>
                    <a:lnTo>
                      <a:pt x="572" y="141"/>
                    </a:lnTo>
                    <a:lnTo>
                      <a:pt x="595" y="178"/>
                    </a:lnTo>
                    <a:lnTo>
                      <a:pt x="613" y="212"/>
                    </a:lnTo>
                    <a:lnTo>
                      <a:pt x="632" y="229"/>
                    </a:lnTo>
                    <a:lnTo>
                      <a:pt x="648" y="241"/>
                    </a:lnTo>
                    <a:lnTo>
                      <a:pt x="662" y="258"/>
                    </a:lnTo>
                    <a:lnTo>
                      <a:pt x="670" y="278"/>
                    </a:lnTo>
                    <a:lnTo>
                      <a:pt x="673" y="298"/>
                    </a:lnTo>
                    <a:lnTo>
                      <a:pt x="673" y="315"/>
                    </a:lnTo>
                    <a:lnTo>
                      <a:pt x="682" y="329"/>
                    </a:lnTo>
                    <a:lnTo>
                      <a:pt x="687" y="343"/>
                    </a:lnTo>
                    <a:lnTo>
                      <a:pt x="695" y="356"/>
                    </a:lnTo>
                    <a:lnTo>
                      <a:pt x="691" y="362"/>
                    </a:lnTo>
                    <a:lnTo>
                      <a:pt x="679" y="372"/>
                    </a:lnTo>
                    <a:lnTo>
                      <a:pt x="661" y="376"/>
                    </a:lnTo>
                    <a:lnTo>
                      <a:pt x="634" y="378"/>
                    </a:lnTo>
                    <a:lnTo>
                      <a:pt x="609" y="380"/>
                    </a:lnTo>
                    <a:lnTo>
                      <a:pt x="584" y="378"/>
                    </a:lnTo>
                    <a:lnTo>
                      <a:pt x="559" y="372"/>
                    </a:lnTo>
                    <a:lnTo>
                      <a:pt x="541" y="360"/>
                    </a:lnTo>
                    <a:lnTo>
                      <a:pt x="522" y="347"/>
                    </a:lnTo>
                    <a:lnTo>
                      <a:pt x="502" y="337"/>
                    </a:lnTo>
                    <a:lnTo>
                      <a:pt x="481" y="325"/>
                    </a:lnTo>
                    <a:lnTo>
                      <a:pt x="459" y="315"/>
                    </a:lnTo>
                    <a:lnTo>
                      <a:pt x="440" y="307"/>
                    </a:lnTo>
                    <a:lnTo>
                      <a:pt x="419" y="300"/>
                    </a:lnTo>
                    <a:lnTo>
                      <a:pt x="395" y="298"/>
                    </a:lnTo>
                    <a:lnTo>
                      <a:pt x="378" y="296"/>
                    </a:lnTo>
                    <a:lnTo>
                      <a:pt x="340" y="290"/>
                    </a:lnTo>
                    <a:lnTo>
                      <a:pt x="308" y="274"/>
                    </a:lnTo>
                    <a:lnTo>
                      <a:pt x="289" y="260"/>
                    </a:lnTo>
                    <a:lnTo>
                      <a:pt x="289" y="243"/>
                    </a:lnTo>
                    <a:lnTo>
                      <a:pt x="299" y="239"/>
                    </a:lnTo>
                    <a:lnTo>
                      <a:pt x="312" y="231"/>
                    </a:lnTo>
                    <a:lnTo>
                      <a:pt x="328" y="229"/>
                    </a:lnTo>
                    <a:lnTo>
                      <a:pt x="346" y="229"/>
                    </a:lnTo>
                    <a:lnTo>
                      <a:pt x="358" y="227"/>
                    </a:lnTo>
                    <a:lnTo>
                      <a:pt x="378" y="227"/>
                    </a:lnTo>
                    <a:lnTo>
                      <a:pt x="394" y="227"/>
                    </a:lnTo>
                    <a:lnTo>
                      <a:pt x="406" y="225"/>
                    </a:lnTo>
                    <a:lnTo>
                      <a:pt x="411" y="212"/>
                    </a:lnTo>
                    <a:lnTo>
                      <a:pt x="399" y="192"/>
                    </a:lnTo>
                    <a:lnTo>
                      <a:pt x="374" y="172"/>
                    </a:lnTo>
                    <a:lnTo>
                      <a:pt x="349" y="157"/>
                    </a:lnTo>
                    <a:lnTo>
                      <a:pt x="333" y="151"/>
                    </a:lnTo>
                    <a:lnTo>
                      <a:pt x="308" y="149"/>
                    </a:lnTo>
                    <a:lnTo>
                      <a:pt x="280" y="141"/>
                    </a:lnTo>
                    <a:lnTo>
                      <a:pt x="246" y="137"/>
                    </a:lnTo>
                    <a:lnTo>
                      <a:pt x="210" y="131"/>
                    </a:lnTo>
                    <a:lnTo>
                      <a:pt x="180" y="127"/>
                    </a:lnTo>
                    <a:lnTo>
                      <a:pt x="148" y="122"/>
                    </a:lnTo>
                    <a:lnTo>
                      <a:pt x="123" y="116"/>
                    </a:lnTo>
                    <a:lnTo>
                      <a:pt x="100" y="110"/>
                    </a:lnTo>
                    <a:lnTo>
                      <a:pt x="75" y="100"/>
                    </a:lnTo>
                    <a:lnTo>
                      <a:pt x="46" y="90"/>
                    </a:lnTo>
                    <a:lnTo>
                      <a:pt x="25" y="75"/>
                    </a:lnTo>
                    <a:lnTo>
                      <a:pt x="7" y="59"/>
                    </a:lnTo>
                    <a:lnTo>
                      <a:pt x="0" y="43"/>
                    </a:lnTo>
                    <a:lnTo>
                      <a:pt x="7" y="26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58" name="Freeform 1131"/>
              <p:cNvSpPr/>
              <p:nvPr/>
            </p:nvSpPr>
            <p:spPr>
              <a:xfrm>
                <a:off x="2957400" y="2886840"/>
                <a:ext cx="1130400" cy="615600"/>
              </a:xfrm>
              <a:custGeom>
                <a:avLst/>
                <a:gdLst/>
                <a:ahLst/>
                <a:rect l="l" t="t" r="r" b="b"/>
                <a:pathLst>
                  <a:path w="1425" h="810">
                    <a:moveTo>
                      <a:pt x="326" y="113"/>
                    </a:moveTo>
                    <a:lnTo>
                      <a:pt x="307" y="115"/>
                    </a:lnTo>
                    <a:lnTo>
                      <a:pt x="294" y="117"/>
                    </a:lnTo>
                    <a:lnTo>
                      <a:pt x="278" y="115"/>
                    </a:lnTo>
                    <a:lnTo>
                      <a:pt x="266" y="115"/>
                    </a:lnTo>
                    <a:lnTo>
                      <a:pt x="250" y="115"/>
                    </a:lnTo>
                    <a:lnTo>
                      <a:pt x="235" y="117"/>
                    </a:lnTo>
                    <a:lnTo>
                      <a:pt x="219" y="127"/>
                    </a:lnTo>
                    <a:lnTo>
                      <a:pt x="200" y="135"/>
                    </a:lnTo>
                    <a:lnTo>
                      <a:pt x="171" y="162"/>
                    </a:lnTo>
                    <a:lnTo>
                      <a:pt x="152" y="186"/>
                    </a:lnTo>
                    <a:lnTo>
                      <a:pt x="134" y="207"/>
                    </a:lnTo>
                    <a:lnTo>
                      <a:pt x="107" y="219"/>
                    </a:lnTo>
                    <a:lnTo>
                      <a:pt x="89" y="229"/>
                    </a:lnTo>
                    <a:lnTo>
                      <a:pt x="73" y="233"/>
                    </a:lnTo>
                    <a:lnTo>
                      <a:pt x="50" y="242"/>
                    </a:lnTo>
                    <a:lnTo>
                      <a:pt x="32" y="248"/>
                    </a:lnTo>
                    <a:lnTo>
                      <a:pt x="13" y="256"/>
                    </a:lnTo>
                    <a:lnTo>
                      <a:pt x="4" y="264"/>
                    </a:lnTo>
                    <a:lnTo>
                      <a:pt x="0" y="272"/>
                    </a:lnTo>
                    <a:lnTo>
                      <a:pt x="4" y="278"/>
                    </a:lnTo>
                    <a:lnTo>
                      <a:pt x="20" y="289"/>
                    </a:lnTo>
                    <a:lnTo>
                      <a:pt x="36" y="293"/>
                    </a:lnTo>
                    <a:lnTo>
                      <a:pt x="45" y="301"/>
                    </a:lnTo>
                    <a:lnTo>
                      <a:pt x="57" y="311"/>
                    </a:lnTo>
                    <a:lnTo>
                      <a:pt x="64" y="327"/>
                    </a:lnTo>
                    <a:lnTo>
                      <a:pt x="82" y="342"/>
                    </a:lnTo>
                    <a:lnTo>
                      <a:pt x="105" y="348"/>
                    </a:lnTo>
                    <a:lnTo>
                      <a:pt x="134" y="340"/>
                    </a:lnTo>
                    <a:lnTo>
                      <a:pt x="162" y="325"/>
                    </a:lnTo>
                    <a:lnTo>
                      <a:pt x="184" y="315"/>
                    </a:lnTo>
                    <a:lnTo>
                      <a:pt x="209" y="313"/>
                    </a:lnTo>
                    <a:lnTo>
                      <a:pt x="235" y="311"/>
                    </a:lnTo>
                    <a:lnTo>
                      <a:pt x="253" y="307"/>
                    </a:lnTo>
                    <a:lnTo>
                      <a:pt x="269" y="303"/>
                    </a:lnTo>
                    <a:lnTo>
                      <a:pt x="278" y="303"/>
                    </a:lnTo>
                    <a:lnTo>
                      <a:pt x="292" y="313"/>
                    </a:lnTo>
                    <a:lnTo>
                      <a:pt x="307" y="331"/>
                    </a:lnTo>
                    <a:lnTo>
                      <a:pt x="330" y="348"/>
                    </a:lnTo>
                    <a:lnTo>
                      <a:pt x="349" y="360"/>
                    </a:lnTo>
                    <a:lnTo>
                      <a:pt x="355" y="364"/>
                    </a:lnTo>
                    <a:lnTo>
                      <a:pt x="355" y="368"/>
                    </a:lnTo>
                    <a:lnTo>
                      <a:pt x="355" y="379"/>
                    </a:lnTo>
                    <a:lnTo>
                      <a:pt x="355" y="393"/>
                    </a:lnTo>
                    <a:lnTo>
                      <a:pt x="362" y="407"/>
                    </a:lnTo>
                    <a:lnTo>
                      <a:pt x="367" y="422"/>
                    </a:lnTo>
                    <a:lnTo>
                      <a:pt x="387" y="438"/>
                    </a:lnTo>
                    <a:lnTo>
                      <a:pt x="412" y="450"/>
                    </a:lnTo>
                    <a:lnTo>
                      <a:pt x="435" y="465"/>
                    </a:lnTo>
                    <a:lnTo>
                      <a:pt x="447" y="481"/>
                    </a:lnTo>
                    <a:lnTo>
                      <a:pt x="456" y="495"/>
                    </a:lnTo>
                    <a:lnTo>
                      <a:pt x="460" y="512"/>
                    </a:lnTo>
                    <a:lnTo>
                      <a:pt x="463" y="532"/>
                    </a:lnTo>
                    <a:lnTo>
                      <a:pt x="465" y="557"/>
                    </a:lnTo>
                    <a:lnTo>
                      <a:pt x="469" y="583"/>
                    </a:lnTo>
                    <a:lnTo>
                      <a:pt x="469" y="610"/>
                    </a:lnTo>
                    <a:lnTo>
                      <a:pt x="465" y="624"/>
                    </a:lnTo>
                    <a:lnTo>
                      <a:pt x="456" y="640"/>
                    </a:lnTo>
                    <a:lnTo>
                      <a:pt x="444" y="655"/>
                    </a:lnTo>
                    <a:lnTo>
                      <a:pt x="437" y="671"/>
                    </a:lnTo>
                    <a:lnTo>
                      <a:pt x="435" y="687"/>
                    </a:lnTo>
                    <a:lnTo>
                      <a:pt x="437" y="696"/>
                    </a:lnTo>
                    <a:lnTo>
                      <a:pt x="447" y="706"/>
                    </a:lnTo>
                    <a:lnTo>
                      <a:pt x="460" y="710"/>
                    </a:lnTo>
                    <a:lnTo>
                      <a:pt x="465" y="720"/>
                    </a:lnTo>
                    <a:lnTo>
                      <a:pt x="469" y="735"/>
                    </a:lnTo>
                    <a:lnTo>
                      <a:pt x="472" y="749"/>
                    </a:lnTo>
                    <a:lnTo>
                      <a:pt x="485" y="765"/>
                    </a:lnTo>
                    <a:lnTo>
                      <a:pt x="497" y="777"/>
                    </a:lnTo>
                    <a:lnTo>
                      <a:pt x="513" y="782"/>
                    </a:lnTo>
                    <a:lnTo>
                      <a:pt x="533" y="790"/>
                    </a:lnTo>
                    <a:lnTo>
                      <a:pt x="554" y="796"/>
                    </a:lnTo>
                    <a:lnTo>
                      <a:pt x="579" y="806"/>
                    </a:lnTo>
                    <a:lnTo>
                      <a:pt x="606" y="810"/>
                    </a:lnTo>
                    <a:lnTo>
                      <a:pt x="627" y="810"/>
                    </a:lnTo>
                    <a:lnTo>
                      <a:pt x="643" y="810"/>
                    </a:lnTo>
                    <a:lnTo>
                      <a:pt x="659" y="804"/>
                    </a:lnTo>
                    <a:lnTo>
                      <a:pt x="672" y="792"/>
                    </a:lnTo>
                    <a:lnTo>
                      <a:pt x="684" y="778"/>
                    </a:lnTo>
                    <a:lnTo>
                      <a:pt x="705" y="769"/>
                    </a:lnTo>
                    <a:lnTo>
                      <a:pt x="729" y="755"/>
                    </a:lnTo>
                    <a:lnTo>
                      <a:pt x="750" y="739"/>
                    </a:lnTo>
                    <a:lnTo>
                      <a:pt x="773" y="726"/>
                    </a:lnTo>
                    <a:lnTo>
                      <a:pt x="794" y="712"/>
                    </a:lnTo>
                    <a:lnTo>
                      <a:pt x="810" y="698"/>
                    </a:lnTo>
                    <a:lnTo>
                      <a:pt x="827" y="688"/>
                    </a:lnTo>
                    <a:lnTo>
                      <a:pt x="843" y="675"/>
                    </a:lnTo>
                    <a:lnTo>
                      <a:pt x="855" y="659"/>
                    </a:lnTo>
                    <a:lnTo>
                      <a:pt x="871" y="643"/>
                    </a:lnTo>
                    <a:lnTo>
                      <a:pt x="883" y="630"/>
                    </a:lnTo>
                    <a:lnTo>
                      <a:pt x="900" y="616"/>
                    </a:lnTo>
                    <a:lnTo>
                      <a:pt x="919" y="606"/>
                    </a:lnTo>
                    <a:lnTo>
                      <a:pt x="937" y="602"/>
                    </a:lnTo>
                    <a:lnTo>
                      <a:pt x="953" y="599"/>
                    </a:lnTo>
                    <a:lnTo>
                      <a:pt x="976" y="597"/>
                    </a:lnTo>
                    <a:lnTo>
                      <a:pt x="994" y="595"/>
                    </a:lnTo>
                    <a:lnTo>
                      <a:pt x="1013" y="593"/>
                    </a:lnTo>
                    <a:lnTo>
                      <a:pt x="1026" y="591"/>
                    </a:lnTo>
                    <a:lnTo>
                      <a:pt x="1046" y="583"/>
                    </a:lnTo>
                    <a:lnTo>
                      <a:pt x="1062" y="579"/>
                    </a:lnTo>
                    <a:lnTo>
                      <a:pt x="1070" y="575"/>
                    </a:lnTo>
                    <a:lnTo>
                      <a:pt x="1092" y="563"/>
                    </a:lnTo>
                    <a:lnTo>
                      <a:pt x="1111" y="557"/>
                    </a:lnTo>
                    <a:lnTo>
                      <a:pt x="1127" y="548"/>
                    </a:lnTo>
                    <a:lnTo>
                      <a:pt x="1147" y="542"/>
                    </a:lnTo>
                    <a:lnTo>
                      <a:pt x="1165" y="532"/>
                    </a:lnTo>
                    <a:lnTo>
                      <a:pt x="1181" y="520"/>
                    </a:lnTo>
                    <a:lnTo>
                      <a:pt x="1190" y="509"/>
                    </a:lnTo>
                    <a:lnTo>
                      <a:pt x="1190" y="499"/>
                    </a:lnTo>
                    <a:lnTo>
                      <a:pt x="1184" y="493"/>
                    </a:lnTo>
                    <a:lnTo>
                      <a:pt x="1168" y="483"/>
                    </a:lnTo>
                    <a:lnTo>
                      <a:pt x="1156" y="477"/>
                    </a:lnTo>
                    <a:lnTo>
                      <a:pt x="1143" y="475"/>
                    </a:lnTo>
                    <a:lnTo>
                      <a:pt x="1131" y="471"/>
                    </a:lnTo>
                    <a:lnTo>
                      <a:pt x="1108" y="465"/>
                    </a:lnTo>
                    <a:lnTo>
                      <a:pt x="1092" y="462"/>
                    </a:lnTo>
                    <a:lnTo>
                      <a:pt x="1092" y="448"/>
                    </a:lnTo>
                    <a:lnTo>
                      <a:pt x="1104" y="432"/>
                    </a:lnTo>
                    <a:lnTo>
                      <a:pt x="1115" y="419"/>
                    </a:lnTo>
                    <a:lnTo>
                      <a:pt x="1127" y="411"/>
                    </a:lnTo>
                    <a:lnTo>
                      <a:pt x="1143" y="413"/>
                    </a:lnTo>
                    <a:lnTo>
                      <a:pt x="1165" y="419"/>
                    </a:lnTo>
                    <a:lnTo>
                      <a:pt x="1193" y="422"/>
                    </a:lnTo>
                    <a:lnTo>
                      <a:pt x="1216" y="424"/>
                    </a:lnTo>
                    <a:lnTo>
                      <a:pt x="1229" y="424"/>
                    </a:lnTo>
                    <a:lnTo>
                      <a:pt x="1232" y="422"/>
                    </a:lnTo>
                    <a:lnTo>
                      <a:pt x="1238" y="413"/>
                    </a:lnTo>
                    <a:lnTo>
                      <a:pt x="1241" y="401"/>
                    </a:lnTo>
                    <a:lnTo>
                      <a:pt x="1250" y="381"/>
                    </a:lnTo>
                    <a:lnTo>
                      <a:pt x="1257" y="362"/>
                    </a:lnTo>
                    <a:lnTo>
                      <a:pt x="1261" y="344"/>
                    </a:lnTo>
                    <a:lnTo>
                      <a:pt x="1257" y="329"/>
                    </a:lnTo>
                    <a:lnTo>
                      <a:pt x="1254" y="311"/>
                    </a:lnTo>
                    <a:lnTo>
                      <a:pt x="1247" y="291"/>
                    </a:lnTo>
                    <a:lnTo>
                      <a:pt x="1247" y="266"/>
                    </a:lnTo>
                    <a:lnTo>
                      <a:pt x="1254" y="239"/>
                    </a:lnTo>
                    <a:lnTo>
                      <a:pt x="1266" y="215"/>
                    </a:lnTo>
                    <a:lnTo>
                      <a:pt x="1279" y="198"/>
                    </a:lnTo>
                    <a:lnTo>
                      <a:pt x="1295" y="186"/>
                    </a:lnTo>
                    <a:lnTo>
                      <a:pt x="1311" y="174"/>
                    </a:lnTo>
                    <a:lnTo>
                      <a:pt x="1323" y="166"/>
                    </a:lnTo>
                    <a:lnTo>
                      <a:pt x="1336" y="158"/>
                    </a:lnTo>
                    <a:lnTo>
                      <a:pt x="1352" y="151"/>
                    </a:lnTo>
                    <a:lnTo>
                      <a:pt x="1371" y="143"/>
                    </a:lnTo>
                    <a:lnTo>
                      <a:pt x="1384" y="135"/>
                    </a:lnTo>
                    <a:lnTo>
                      <a:pt x="1400" y="129"/>
                    </a:lnTo>
                    <a:lnTo>
                      <a:pt x="1416" y="117"/>
                    </a:lnTo>
                    <a:lnTo>
                      <a:pt x="1421" y="111"/>
                    </a:lnTo>
                    <a:lnTo>
                      <a:pt x="1425" y="96"/>
                    </a:lnTo>
                    <a:lnTo>
                      <a:pt x="1416" y="88"/>
                    </a:lnTo>
                    <a:lnTo>
                      <a:pt x="1396" y="88"/>
                    </a:lnTo>
                    <a:lnTo>
                      <a:pt x="1375" y="92"/>
                    </a:lnTo>
                    <a:lnTo>
                      <a:pt x="1352" y="92"/>
                    </a:lnTo>
                    <a:lnTo>
                      <a:pt x="1327" y="88"/>
                    </a:lnTo>
                    <a:lnTo>
                      <a:pt x="1302" y="84"/>
                    </a:lnTo>
                    <a:lnTo>
                      <a:pt x="1282" y="82"/>
                    </a:lnTo>
                    <a:lnTo>
                      <a:pt x="1263" y="82"/>
                    </a:lnTo>
                    <a:lnTo>
                      <a:pt x="1250" y="82"/>
                    </a:lnTo>
                    <a:lnTo>
                      <a:pt x="1238" y="92"/>
                    </a:lnTo>
                    <a:lnTo>
                      <a:pt x="1229" y="100"/>
                    </a:lnTo>
                    <a:lnTo>
                      <a:pt x="1218" y="108"/>
                    </a:lnTo>
                    <a:lnTo>
                      <a:pt x="1209" y="109"/>
                    </a:lnTo>
                    <a:lnTo>
                      <a:pt x="1193" y="111"/>
                    </a:lnTo>
                    <a:lnTo>
                      <a:pt x="1181" y="113"/>
                    </a:lnTo>
                    <a:lnTo>
                      <a:pt x="1161" y="113"/>
                    </a:lnTo>
                    <a:lnTo>
                      <a:pt x="1147" y="113"/>
                    </a:lnTo>
                    <a:lnTo>
                      <a:pt x="1131" y="113"/>
                    </a:lnTo>
                    <a:lnTo>
                      <a:pt x="1115" y="113"/>
                    </a:lnTo>
                    <a:lnTo>
                      <a:pt x="1086" y="111"/>
                    </a:lnTo>
                    <a:lnTo>
                      <a:pt x="1058" y="109"/>
                    </a:lnTo>
                    <a:lnTo>
                      <a:pt x="1033" y="108"/>
                    </a:lnTo>
                    <a:lnTo>
                      <a:pt x="1010" y="108"/>
                    </a:lnTo>
                    <a:lnTo>
                      <a:pt x="997" y="108"/>
                    </a:lnTo>
                    <a:lnTo>
                      <a:pt x="1006" y="102"/>
                    </a:lnTo>
                    <a:lnTo>
                      <a:pt x="1022" y="98"/>
                    </a:lnTo>
                    <a:lnTo>
                      <a:pt x="1046" y="84"/>
                    </a:lnTo>
                    <a:lnTo>
                      <a:pt x="1067" y="74"/>
                    </a:lnTo>
                    <a:lnTo>
                      <a:pt x="1090" y="64"/>
                    </a:lnTo>
                    <a:lnTo>
                      <a:pt x="1111" y="63"/>
                    </a:lnTo>
                    <a:lnTo>
                      <a:pt x="1133" y="61"/>
                    </a:lnTo>
                    <a:lnTo>
                      <a:pt x="1159" y="61"/>
                    </a:lnTo>
                    <a:lnTo>
                      <a:pt x="1190" y="63"/>
                    </a:lnTo>
                    <a:lnTo>
                      <a:pt x="1216" y="66"/>
                    </a:lnTo>
                    <a:lnTo>
                      <a:pt x="1229" y="66"/>
                    </a:lnTo>
                    <a:lnTo>
                      <a:pt x="1209" y="47"/>
                    </a:lnTo>
                    <a:lnTo>
                      <a:pt x="1184" y="27"/>
                    </a:lnTo>
                    <a:lnTo>
                      <a:pt x="1159" y="16"/>
                    </a:lnTo>
                    <a:lnTo>
                      <a:pt x="1136" y="8"/>
                    </a:lnTo>
                    <a:lnTo>
                      <a:pt x="1127" y="4"/>
                    </a:lnTo>
                    <a:lnTo>
                      <a:pt x="1108" y="4"/>
                    </a:lnTo>
                    <a:lnTo>
                      <a:pt x="1090" y="2"/>
                    </a:lnTo>
                    <a:lnTo>
                      <a:pt x="1067" y="0"/>
                    </a:lnTo>
                    <a:lnTo>
                      <a:pt x="1046" y="0"/>
                    </a:lnTo>
                    <a:lnTo>
                      <a:pt x="1019" y="0"/>
                    </a:lnTo>
                    <a:lnTo>
                      <a:pt x="994" y="0"/>
                    </a:lnTo>
                    <a:lnTo>
                      <a:pt x="969" y="2"/>
                    </a:lnTo>
                    <a:lnTo>
                      <a:pt x="944" y="4"/>
                    </a:lnTo>
                    <a:lnTo>
                      <a:pt x="919" y="8"/>
                    </a:lnTo>
                    <a:lnTo>
                      <a:pt x="891" y="8"/>
                    </a:lnTo>
                    <a:lnTo>
                      <a:pt x="864" y="8"/>
                    </a:lnTo>
                    <a:lnTo>
                      <a:pt x="839" y="12"/>
                    </a:lnTo>
                    <a:lnTo>
                      <a:pt x="818" y="12"/>
                    </a:lnTo>
                    <a:lnTo>
                      <a:pt x="798" y="12"/>
                    </a:lnTo>
                    <a:lnTo>
                      <a:pt x="782" y="14"/>
                    </a:lnTo>
                    <a:lnTo>
                      <a:pt x="757" y="20"/>
                    </a:lnTo>
                    <a:lnTo>
                      <a:pt x="734" y="27"/>
                    </a:lnTo>
                    <a:lnTo>
                      <a:pt x="713" y="35"/>
                    </a:lnTo>
                    <a:lnTo>
                      <a:pt x="691" y="37"/>
                    </a:lnTo>
                    <a:lnTo>
                      <a:pt x="675" y="37"/>
                    </a:lnTo>
                    <a:lnTo>
                      <a:pt x="663" y="41"/>
                    </a:lnTo>
                    <a:lnTo>
                      <a:pt x="652" y="45"/>
                    </a:lnTo>
                    <a:lnTo>
                      <a:pt x="634" y="51"/>
                    </a:lnTo>
                    <a:lnTo>
                      <a:pt x="624" y="59"/>
                    </a:lnTo>
                    <a:lnTo>
                      <a:pt x="627" y="64"/>
                    </a:lnTo>
                    <a:lnTo>
                      <a:pt x="636" y="78"/>
                    </a:lnTo>
                    <a:lnTo>
                      <a:pt x="643" y="92"/>
                    </a:lnTo>
                    <a:lnTo>
                      <a:pt x="640" y="98"/>
                    </a:lnTo>
                    <a:lnTo>
                      <a:pt x="627" y="98"/>
                    </a:lnTo>
                    <a:lnTo>
                      <a:pt x="606" y="98"/>
                    </a:lnTo>
                    <a:lnTo>
                      <a:pt x="579" y="100"/>
                    </a:lnTo>
                    <a:lnTo>
                      <a:pt x="554" y="108"/>
                    </a:lnTo>
                    <a:lnTo>
                      <a:pt x="535" y="108"/>
                    </a:lnTo>
                    <a:lnTo>
                      <a:pt x="517" y="108"/>
                    </a:lnTo>
                    <a:lnTo>
                      <a:pt x="504" y="102"/>
                    </a:lnTo>
                    <a:lnTo>
                      <a:pt x="485" y="102"/>
                    </a:lnTo>
                    <a:lnTo>
                      <a:pt x="460" y="108"/>
                    </a:lnTo>
                    <a:lnTo>
                      <a:pt x="437" y="109"/>
                    </a:lnTo>
                    <a:lnTo>
                      <a:pt x="424" y="111"/>
                    </a:lnTo>
                    <a:lnTo>
                      <a:pt x="415" y="111"/>
                    </a:lnTo>
                    <a:lnTo>
                      <a:pt x="390" y="109"/>
                    </a:lnTo>
                    <a:lnTo>
                      <a:pt x="355" y="109"/>
                    </a:lnTo>
                    <a:lnTo>
                      <a:pt x="326" y="113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59" name="Freeform 1132"/>
              <p:cNvSpPr/>
              <p:nvPr/>
            </p:nvSpPr>
            <p:spPr>
              <a:xfrm>
                <a:off x="2560680" y="2927520"/>
                <a:ext cx="611280" cy="205200"/>
              </a:xfrm>
              <a:custGeom>
                <a:avLst/>
                <a:gdLst/>
                <a:ahLst/>
                <a:rect l="l" t="t" r="r" b="b"/>
                <a:pathLst>
                  <a:path w="769" h="270">
                    <a:moveTo>
                      <a:pt x="769" y="27"/>
                    </a:moveTo>
                    <a:lnTo>
                      <a:pt x="765" y="25"/>
                    </a:lnTo>
                    <a:lnTo>
                      <a:pt x="744" y="25"/>
                    </a:lnTo>
                    <a:lnTo>
                      <a:pt x="705" y="25"/>
                    </a:lnTo>
                    <a:lnTo>
                      <a:pt x="667" y="25"/>
                    </a:lnTo>
                    <a:lnTo>
                      <a:pt x="623" y="23"/>
                    </a:lnTo>
                    <a:lnTo>
                      <a:pt x="582" y="23"/>
                    </a:lnTo>
                    <a:lnTo>
                      <a:pt x="545" y="21"/>
                    </a:lnTo>
                    <a:lnTo>
                      <a:pt x="525" y="17"/>
                    </a:lnTo>
                    <a:lnTo>
                      <a:pt x="504" y="13"/>
                    </a:lnTo>
                    <a:lnTo>
                      <a:pt x="468" y="10"/>
                    </a:lnTo>
                    <a:lnTo>
                      <a:pt x="431" y="6"/>
                    </a:lnTo>
                    <a:lnTo>
                      <a:pt x="386" y="2"/>
                    </a:lnTo>
                    <a:lnTo>
                      <a:pt x="342" y="0"/>
                    </a:lnTo>
                    <a:lnTo>
                      <a:pt x="304" y="2"/>
                    </a:lnTo>
                    <a:lnTo>
                      <a:pt x="272" y="6"/>
                    </a:lnTo>
                    <a:lnTo>
                      <a:pt x="249" y="10"/>
                    </a:lnTo>
                    <a:lnTo>
                      <a:pt x="231" y="17"/>
                    </a:lnTo>
                    <a:lnTo>
                      <a:pt x="208" y="23"/>
                    </a:lnTo>
                    <a:lnTo>
                      <a:pt x="190" y="25"/>
                    </a:lnTo>
                    <a:lnTo>
                      <a:pt x="167" y="27"/>
                    </a:lnTo>
                    <a:lnTo>
                      <a:pt x="146" y="31"/>
                    </a:lnTo>
                    <a:lnTo>
                      <a:pt x="123" y="35"/>
                    </a:lnTo>
                    <a:lnTo>
                      <a:pt x="105" y="39"/>
                    </a:lnTo>
                    <a:lnTo>
                      <a:pt x="89" y="41"/>
                    </a:lnTo>
                    <a:lnTo>
                      <a:pt x="64" y="45"/>
                    </a:lnTo>
                    <a:lnTo>
                      <a:pt x="35" y="45"/>
                    </a:lnTo>
                    <a:lnTo>
                      <a:pt x="12" y="45"/>
                    </a:lnTo>
                    <a:lnTo>
                      <a:pt x="0" y="53"/>
                    </a:lnTo>
                    <a:lnTo>
                      <a:pt x="3" y="64"/>
                    </a:lnTo>
                    <a:lnTo>
                      <a:pt x="16" y="74"/>
                    </a:lnTo>
                    <a:lnTo>
                      <a:pt x="37" y="82"/>
                    </a:lnTo>
                    <a:lnTo>
                      <a:pt x="57" y="90"/>
                    </a:lnTo>
                    <a:lnTo>
                      <a:pt x="76" y="94"/>
                    </a:lnTo>
                    <a:lnTo>
                      <a:pt x="98" y="96"/>
                    </a:lnTo>
                    <a:lnTo>
                      <a:pt x="123" y="103"/>
                    </a:lnTo>
                    <a:lnTo>
                      <a:pt x="146" y="109"/>
                    </a:lnTo>
                    <a:lnTo>
                      <a:pt x="167" y="121"/>
                    </a:lnTo>
                    <a:lnTo>
                      <a:pt x="183" y="137"/>
                    </a:lnTo>
                    <a:lnTo>
                      <a:pt x="190" y="152"/>
                    </a:lnTo>
                    <a:lnTo>
                      <a:pt x="167" y="162"/>
                    </a:lnTo>
                    <a:lnTo>
                      <a:pt x="133" y="176"/>
                    </a:lnTo>
                    <a:lnTo>
                      <a:pt x="117" y="193"/>
                    </a:lnTo>
                    <a:lnTo>
                      <a:pt x="105" y="207"/>
                    </a:lnTo>
                    <a:lnTo>
                      <a:pt x="101" y="217"/>
                    </a:lnTo>
                    <a:lnTo>
                      <a:pt x="94" y="256"/>
                    </a:lnTo>
                    <a:lnTo>
                      <a:pt x="192" y="256"/>
                    </a:lnTo>
                    <a:lnTo>
                      <a:pt x="199" y="260"/>
                    </a:lnTo>
                    <a:lnTo>
                      <a:pt x="215" y="266"/>
                    </a:lnTo>
                    <a:lnTo>
                      <a:pt x="231" y="270"/>
                    </a:lnTo>
                    <a:lnTo>
                      <a:pt x="249" y="268"/>
                    </a:lnTo>
                    <a:lnTo>
                      <a:pt x="263" y="262"/>
                    </a:lnTo>
                    <a:lnTo>
                      <a:pt x="276" y="256"/>
                    </a:lnTo>
                    <a:lnTo>
                      <a:pt x="294" y="250"/>
                    </a:lnTo>
                    <a:lnTo>
                      <a:pt x="313" y="240"/>
                    </a:lnTo>
                    <a:lnTo>
                      <a:pt x="335" y="233"/>
                    </a:lnTo>
                    <a:lnTo>
                      <a:pt x="349" y="225"/>
                    </a:lnTo>
                    <a:lnTo>
                      <a:pt x="361" y="219"/>
                    </a:lnTo>
                    <a:lnTo>
                      <a:pt x="363" y="211"/>
                    </a:lnTo>
                    <a:lnTo>
                      <a:pt x="363" y="203"/>
                    </a:lnTo>
                    <a:lnTo>
                      <a:pt x="361" y="189"/>
                    </a:lnTo>
                    <a:lnTo>
                      <a:pt x="363" y="176"/>
                    </a:lnTo>
                    <a:lnTo>
                      <a:pt x="367" y="160"/>
                    </a:lnTo>
                    <a:lnTo>
                      <a:pt x="377" y="143"/>
                    </a:lnTo>
                    <a:lnTo>
                      <a:pt x="392" y="127"/>
                    </a:lnTo>
                    <a:lnTo>
                      <a:pt x="408" y="115"/>
                    </a:lnTo>
                    <a:lnTo>
                      <a:pt x="424" y="113"/>
                    </a:lnTo>
                    <a:lnTo>
                      <a:pt x="447" y="121"/>
                    </a:lnTo>
                    <a:lnTo>
                      <a:pt x="465" y="135"/>
                    </a:lnTo>
                    <a:lnTo>
                      <a:pt x="481" y="145"/>
                    </a:lnTo>
                    <a:lnTo>
                      <a:pt x="488" y="160"/>
                    </a:lnTo>
                    <a:lnTo>
                      <a:pt x="491" y="172"/>
                    </a:lnTo>
                    <a:lnTo>
                      <a:pt x="500" y="176"/>
                    </a:lnTo>
                    <a:lnTo>
                      <a:pt x="513" y="178"/>
                    </a:lnTo>
                    <a:lnTo>
                      <a:pt x="538" y="172"/>
                    </a:lnTo>
                    <a:lnTo>
                      <a:pt x="561" y="160"/>
                    </a:lnTo>
                    <a:lnTo>
                      <a:pt x="578" y="145"/>
                    </a:lnTo>
                    <a:lnTo>
                      <a:pt x="602" y="127"/>
                    </a:lnTo>
                    <a:lnTo>
                      <a:pt x="627" y="107"/>
                    </a:lnTo>
                    <a:lnTo>
                      <a:pt x="651" y="84"/>
                    </a:lnTo>
                    <a:lnTo>
                      <a:pt x="684" y="62"/>
                    </a:lnTo>
                    <a:lnTo>
                      <a:pt x="724" y="43"/>
                    </a:lnTo>
                    <a:lnTo>
                      <a:pt x="769" y="2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60" name="Freeform 1133"/>
              <p:cNvSpPr/>
              <p:nvPr/>
            </p:nvSpPr>
            <p:spPr>
              <a:xfrm>
                <a:off x="2025720" y="3248640"/>
                <a:ext cx="304560" cy="106200"/>
              </a:xfrm>
              <a:custGeom>
                <a:avLst/>
                <a:gdLst/>
                <a:ahLst/>
                <a:rect l="l" t="t" r="r" b="b"/>
                <a:pathLst>
                  <a:path w="385" h="139">
                    <a:moveTo>
                      <a:pt x="41" y="12"/>
                    </a:moveTo>
                    <a:lnTo>
                      <a:pt x="61" y="4"/>
                    </a:lnTo>
                    <a:lnTo>
                      <a:pt x="82" y="0"/>
                    </a:lnTo>
                    <a:lnTo>
                      <a:pt x="107" y="0"/>
                    </a:lnTo>
                    <a:lnTo>
                      <a:pt x="130" y="0"/>
                    </a:lnTo>
                    <a:lnTo>
                      <a:pt x="155" y="2"/>
                    </a:lnTo>
                    <a:lnTo>
                      <a:pt x="173" y="4"/>
                    </a:lnTo>
                    <a:lnTo>
                      <a:pt x="189" y="12"/>
                    </a:lnTo>
                    <a:lnTo>
                      <a:pt x="205" y="16"/>
                    </a:lnTo>
                    <a:lnTo>
                      <a:pt x="214" y="20"/>
                    </a:lnTo>
                    <a:lnTo>
                      <a:pt x="226" y="30"/>
                    </a:lnTo>
                    <a:lnTo>
                      <a:pt x="237" y="34"/>
                    </a:lnTo>
                    <a:lnTo>
                      <a:pt x="253" y="37"/>
                    </a:lnTo>
                    <a:lnTo>
                      <a:pt x="265" y="45"/>
                    </a:lnTo>
                    <a:lnTo>
                      <a:pt x="283" y="49"/>
                    </a:lnTo>
                    <a:lnTo>
                      <a:pt x="299" y="51"/>
                    </a:lnTo>
                    <a:lnTo>
                      <a:pt x="319" y="51"/>
                    </a:lnTo>
                    <a:lnTo>
                      <a:pt x="347" y="57"/>
                    </a:lnTo>
                    <a:lnTo>
                      <a:pt x="369" y="75"/>
                    </a:lnTo>
                    <a:lnTo>
                      <a:pt x="381" y="98"/>
                    </a:lnTo>
                    <a:lnTo>
                      <a:pt x="385" y="104"/>
                    </a:lnTo>
                    <a:lnTo>
                      <a:pt x="381" y="104"/>
                    </a:lnTo>
                    <a:lnTo>
                      <a:pt x="376" y="106"/>
                    </a:lnTo>
                    <a:lnTo>
                      <a:pt x="360" y="108"/>
                    </a:lnTo>
                    <a:lnTo>
                      <a:pt x="347" y="116"/>
                    </a:lnTo>
                    <a:lnTo>
                      <a:pt x="328" y="118"/>
                    </a:lnTo>
                    <a:lnTo>
                      <a:pt x="306" y="118"/>
                    </a:lnTo>
                    <a:lnTo>
                      <a:pt x="287" y="120"/>
                    </a:lnTo>
                    <a:lnTo>
                      <a:pt x="271" y="118"/>
                    </a:lnTo>
                    <a:lnTo>
                      <a:pt x="253" y="116"/>
                    </a:lnTo>
                    <a:lnTo>
                      <a:pt x="230" y="118"/>
                    </a:lnTo>
                    <a:lnTo>
                      <a:pt x="208" y="120"/>
                    </a:lnTo>
                    <a:lnTo>
                      <a:pt x="185" y="124"/>
                    </a:lnTo>
                    <a:lnTo>
                      <a:pt x="164" y="129"/>
                    </a:lnTo>
                    <a:lnTo>
                      <a:pt x="151" y="133"/>
                    </a:lnTo>
                    <a:lnTo>
                      <a:pt x="139" y="137"/>
                    </a:lnTo>
                    <a:lnTo>
                      <a:pt x="135" y="137"/>
                    </a:lnTo>
                    <a:lnTo>
                      <a:pt x="117" y="139"/>
                    </a:lnTo>
                    <a:lnTo>
                      <a:pt x="85" y="139"/>
                    </a:lnTo>
                    <a:lnTo>
                      <a:pt x="48" y="139"/>
                    </a:lnTo>
                    <a:lnTo>
                      <a:pt x="32" y="129"/>
                    </a:lnTo>
                    <a:lnTo>
                      <a:pt x="37" y="112"/>
                    </a:lnTo>
                    <a:lnTo>
                      <a:pt x="57" y="90"/>
                    </a:lnTo>
                    <a:lnTo>
                      <a:pt x="69" y="75"/>
                    </a:lnTo>
                    <a:lnTo>
                      <a:pt x="78" y="71"/>
                    </a:lnTo>
                    <a:lnTo>
                      <a:pt x="0" y="35"/>
                    </a:lnTo>
                    <a:lnTo>
                      <a:pt x="7" y="32"/>
                    </a:lnTo>
                    <a:lnTo>
                      <a:pt x="16" y="22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61" name="Freeform 1134"/>
              <p:cNvSpPr/>
              <p:nvPr/>
            </p:nvSpPr>
            <p:spPr>
              <a:xfrm>
                <a:off x="3857760" y="3367440"/>
                <a:ext cx="234720" cy="78840"/>
              </a:xfrm>
              <a:custGeom>
                <a:avLst/>
                <a:gdLst/>
                <a:ahLst/>
                <a:rect l="l" t="t" r="r" b="b"/>
                <a:pathLst>
                  <a:path w="297" h="103">
                    <a:moveTo>
                      <a:pt x="117" y="31"/>
                    </a:moveTo>
                    <a:lnTo>
                      <a:pt x="121" y="43"/>
                    </a:lnTo>
                    <a:lnTo>
                      <a:pt x="135" y="45"/>
                    </a:lnTo>
                    <a:lnTo>
                      <a:pt x="158" y="41"/>
                    </a:lnTo>
                    <a:lnTo>
                      <a:pt x="176" y="31"/>
                    </a:lnTo>
                    <a:lnTo>
                      <a:pt x="204" y="23"/>
                    </a:lnTo>
                    <a:lnTo>
                      <a:pt x="231" y="10"/>
                    </a:lnTo>
                    <a:lnTo>
                      <a:pt x="249" y="6"/>
                    </a:lnTo>
                    <a:lnTo>
                      <a:pt x="268" y="6"/>
                    </a:lnTo>
                    <a:lnTo>
                      <a:pt x="290" y="23"/>
                    </a:lnTo>
                    <a:lnTo>
                      <a:pt x="297" y="45"/>
                    </a:lnTo>
                    <a:lnTo>
                      <a:pt x="297" y="64"/>
                    </a:lnTo>
                    <a:lnTo>
                      <a:pt x="297" y="74"/>
                    </a:lnTo>
                    <a:lnTo>
                      <a:pt x="290" y="78"/>
                    </a:lnTo>
                    <a:lnTo>
                      <a:pt x="272" y="88"/>
                    </a:lnTo>
                    <a:lnTo>
                      <a:pt x="240" y="96"/>
                    </a:lnTo>
                    <a:lnTo>
                      <a:pt x="204" y="101"/>
                    </a:lnTo>
                    <a:lnTo>
                      <a:pt x="183" y="101"/>
                    </a:lnTo>
                    <a:lnTo>
                      <a:pt x="162" y="101"/>
                    </a:lnTo>
                    <a:lnTo>
                      <a:pt x="138" y="103"/>
                    </a:lnTo>
                    <a:lnTo>
                      <a:pt x="117" y="101"/>
                    </a:lnTo>
                    <a:lnTo>
                      <a:pt x="97" y="101"/>
                    </a:lnTo>
                    <a:lnTo>
                      <a:pt x="81" y="100"/>
                    </a:lnTo>
                    <a:lnTo>
                      <a:pt x="76" y="96"/>
                    </a:lnTo>
                    <a:lnTo>
                      <a:pt x="69" y="90"/>
                    </a:lnTo>
                    <a:lnTo>
                      <a:pt x="53" y="76"/>
                    </a:lnTo>
                    <a:lnTo>
                      <a:pt x="28" y="64"/>
                    </a:lnTo>
                    <a:lnTo>
                      <a:pt x="8" y="60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3" y="31"/>
                    </a:lnTo>
                    <a:lnTo>
                      <a:pt x="19" y="11"/>
                    </a:lnTo>
                    <a:lnTo>
                      <a:pt x="41" y="0"/>
                    </a:lnTo>
                    <a:lnTo>
                      <a:pt x="69" y="0"/>
                    </a:lnTo>
                    <a:lnTo>
                      <a:pt x="92" y="6"/>
                    </a:lnTo>
                    <a:lnTo>
                      <a:pt x="110" y="15"/>
                    </a:lnTo>
                    <a:lnTo>
                      <a:pt x="117" y="3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62" name="Freeform 1135"/>
              <p:cNvSpPr/>
              <p:nvPr/>
            </p:nvSpPr>
            <p:spPr>
              <a:xfrm>
                <a:off x="4492800" y="3079800"/>
                <a:ext cx="3786120" cy="666000"/>
              </a:xfrm>
              <a:custGeom>
                <a:avLst/>
                <a:gdLst/>
                <a:ahLst/>
                <a:rect l="l" t="t" r="r" b="b"/>
                <a:pathLst>
                  <a:path w="4768" h="877">
                    <a:moveTo>
                      <a:pt x="3524" y="877"/>
                    </a:moveTo>
                    <a:lnTo>
                      <a:pt x="3547" y="851"/>
                    </a:lnTo>
                    <a:lnTo>
                      <a:pt x="3568" y="816"/>
                    </a:lnTo>
                    <a:lnTo>
                      <a:pt x="3588" y="783"/>
                    </a:lnTo>
                    <a:lnTo>
                      <a:pt x="3600" y="763"/>
                    </a:lnTo>
                    <a:lnTo>
                      <a:pt x="3604" y="742"/>
                    </a:lnTo>
                    <a:lnTo>
                      <a:pt x="3593" y="718"/>
                    </a:lnTo>
                    <a:lnTo>
                      <a:pt x="3568" y="699"/>
                    </a:lnTo>
                    <a:lnTo>
                      <a:pt x="3524" y="689"/>
                    </a:lnTo>
                    <a:lnTo>
                      <a:pt x="3490" y="685"/>
                    </a:lnTo>
                    <a:lnTo>
                      <a:pt x="3483" y="669"/>
                    </a:lnTo>
                    <a:lnTo>
                      <a:pt x="3502" y="650"/>
                    </a:lnTo>
                    <a:lnTo>
                      <a:pt x="3536" y="624"/>
                    </a:lnTo>
                    <a:lnTo>
                      <a:pt x="3556" y="611"/>
                    </a:lnTo>
                    <a:lnTo>
                      <a:pt x="3580" y="599"/>
                    </a:lnTo>
                    <a:lnTo>
                      <a:pt x="3613" y="585"/>
                    </a:lnTo>
                    <a:lnTo>
                      <a:pt x="3641" y="571"/>
                    </a:lnTo>
                    <a:lnTo>
                      <a:pt x="3666" y="562"/>
                    </a:lnTo>
                    <a:lnTo>
                      <a:pt x="3691" y="554"/>
                    </a:lnTo>
                    <a:lnTo>
                      <a:pt x="3710" y="554"/>
                    </a:lnTo>
                    <a:lnTo>
                      <a:pt x="3716" y="558"/>
                    </a:lnTo>
                    <a:lnTo>
                      <a:pt x="3730" y="573"/>
                    </a:lnTo>
                    <a:lnTo>
                      <a:pt x="3744" y="589"/>
                    </a:lnTo>
                    <a:lnTo>
                      <a:pt x="3764" y="599"/>
                    </a:lnTo>
                    <a:lnTo>
                      <a:pt x="3783" y="591"/>
                    </a:lnTo>
                    <a:lnTo>
                      <a:pt x="3808" y="577"/>
                    </a:lnTo>
                    <a:lnTo>
                      <a:pt x="3840" y="568"/>
                    </a:lnTo>
                    <a:lnTo>
                      <a:pt x="3874" y="568"/>
                    </a:lnTo>
                    <a:lnTo>
                      <a:pt x="3887" y="577"/>
                    </a:lnTo>
                    <a:lnTo>
                      <a:pt x="3890" y="593"/>
                    </a:lnTo>
                    <a:lnTo>
                      <a:pt x="3903" y="607"/>
                    </a:lnTo>
                    <a:lnTo>
                      <a:pt x="3922" y="609"/>
                    </a:lnTo>
                    <a:lnTo>
                      <a:pt x="3947" y="599"/>
                    </a:lnTo>
                    <a:lnTo>
                      <a:pt x="3960" y="585"/>
                    </a:lnTo>
                    <a:lnTo>
                      <a:pt x="3979" y="569"/>
                    </a:lnTo>
                    <a:lnTo>
                      <a:pt x="3997" y="554"/>
                    </a:lnTo>
                    <a:lnTo>
                      <a:pt x="4020" y="540"/>
                    </a:lnTo>
                    <a:lnTo>
                      <a:pt x="4038" y="526"/>
                    </a:lnTo>
                    <a:lnTo>
                      <a:pt x="4054" y="521"/>
                    </a:lnTo>
                    <a:lnTo>
                      <a:pt x="4074" y="519"/>
                    </a:lnTo>
                    <a:lnTo>
                      <a:pt x="4090" y="525"/>
                    </a:lnTo>
                    <a:lnTo>
                      <a:pt x="4106" y="544"/>
                    </a:lnTo>
                    <a:lnTo>
                      <a:pt x="4106" y="558"/>
                    </a:lnTo>
                    <a:lnTo>
                      <a:pt x="4092" y="568"/>
                    </a:lnTo>
                    <a:lnTo>
                      <a:pt x="4070" y="585"/>
                    </a:lnTo>
                    <a:lnTo>
                      <a:pt x="4054" y="593"/>
                    </a:lnTo>
                    <a:lnTo>
                      <a:pt x="4038" y="605"/>
                    </a:lnTo>
                    <a:lnTo>
                      <a:pt x="4020" y="611"/>
                    </a:lnTo>
                    <a:lnTo>
                      <a:pt x="4001" y="620"/>
                    </a:lnTo>
                    <a:lnTo>
                      <a:pt x="3981" y="628"/>
                    </a:lnTo>
                    <a:lnTo>
                      <a:pt x="3969" y="638"/>
                    </a:lnTo>
                    <a:lnTo>
                      <a:pt x="3960" y="648"/>
                    </a:lnTo>
                    <a:lnTo>
                      <a:pt x="3963" y="658"/>
                    </a:lnTo>
                    <a:lnTo>
                      <a:pt x="3976" y="687"/>
                    </a:lnTo>
                    <a:lnTo>
                      <a:pt x="3981" y="724"/>
                    </a:lnTo>
                    <a:lnTo>
                      <a:pt x="3992" y="757"/>
                    </a:lnTo>
                    <a:lnTo>
                      <a:pt x="4010" y="775"/>
                    </a:lnTo>
                    <a:lnTo>
                      <a:pt x="4026" y="775"/>
                    </a:lnTo>
                    <a:lnTo>
                      <a:pt x="4045" y="771"/>
                    </a:lnTo>
                    <a:lnTo>
                      <a:pt x="4065" y="759"/>
                    </a:lnTo>
                    <a:lnTo>
                      <a:pt x="4083" y="751"/>
                    </a:lnTo>
                    <a:lnTo>
                      <a:pt x="4102" y="736"/>
                    </a:lnTo>
                    <a:lnTo>
                      <a:pt x="4118" y="722"/>
                    </a:lnTo>
                    <a:lnTo>
                      <a:pt x="4136" y="712"/>
                    </a:lnTo>
                    <a:lnTo>
                      <a:pt x="4147" y="703"/>
                    </a:lnTo>
                    <a:lnTo>
                      <a:pt x="4165" y="685"/>
                    </a:lnTo>
                    <a:lnTo>
                      <a:pt x="4184" y="659"/>
                    </a:lnTo>
                    <a:lnTo>
                      <a:pt x="4189" y="638"/>
                    </a:lnTo>
                    <a:lnTo>
                      <a:pt x="4193" y="618"/>
                    </a:lnTo>
                    <a:lnTo>
                      <a:pt x="4200" y="603"/>
                    </a:lnTo>
                    <a:lnTo>
                      <a:pt x="4216" y="587"/>
                    </a:lnTo>
                    <a:lnTo>
                      <a:pt x="4246" y="573"/>
                    </a:lnTo>
                    <a:lnTo>
                      <a:pt x="4291" y="566"/>
                    </a:lnTo>
                    <a:lnTo>
                      <a:pt x="4319" y="560"/>
                    </a:lnTo>
                    <a:lnTo>
                      <a:pt x="4355" y="554"/>
                    </a:lnTo>
                    <a:lnTo>
                      <a:pt x="4389" y="546"/>
                    </a:lnTo>
                    <a:lnTo>
                      <a:pt x="4424" y="540"/>
                    </a:lnTo>
                    <a:lnTo>
                      <a:pt x="4458" y="532"/>
                    </a:lnTo>
                    <a:lnTo>
                      <a:pt x="4487" y="525"/>
                    </a:lnTo>
                    <a:lnTo>
                      <a:pt x="4510" y="515"/>
                    </a:lnTo>
                    <a:lnTo>
                      <a:pt x="4522" y="505"/>
                    </a:lnTo>
                    <a:lnTo>
                      <a:pt x="4540" y="485"/>
                    </a:lnTo>
                    <a:lnTo>
                      <a:pt x="4565" y="462"/>
                    </a:lnTo>
                    <a:lnTo>
                      <a:pt x="4585" y="446"/>
                    </a:lnTo>
                    <a:lnTo>
                      <a:pt x="4597" y="440"/>
                    </a:lnTo>
                    <a:lnTo>
                      <a:pt x="4715" y="501"/>
                    </a:lnTo>
                    <a:lnTo>
                      <a:pt x="4727" y="470"/>
                    </a:lnTo>
                    <a:lnTo>
                      <a:pt x="4749" y="433"/>
                    </a:lnTo>
                    <a:lnTo>
                      <a:pt x="4768" y="393"/>
                    </a:lnTo>
                    <a:lnTo>
                      <a:pt x="4761" y="374"/>
                    </a:lnTo>
                    <a:lnTo>
                      <a:pt x="4747" y="370"/>
                    </a:lnTo>
                    <a:lnTo>
                      <a:pt x="4733" y="370"/>
                    </a:lnTo>
                    <a:lnTo>
                      <a:pt x="4711" y="370"/>
                    </a:lnTo>
                    <a:lnTo>
                      <a:pt x="4692" y="372"/>
                    </a:lnTo>
                    <a:lnTo>
                      <a:pt x="4674" y="374"/>
                    </a:lnTo>
                    <a:lnTo>
                      <a:pt x="4661" y="376"/>
                    </a:lnTo>
                    <a:lnTo>
                      <a:pt x="4649" y="378"/>
                    </a:lnTo>
                    <a:lnTo>
                      <a:pt x="4645" y="378"/>
                    </a:lnTo>
                    <a:lnTo>
                      <a:pt x="4633" y="378"/>
                    </a:lnTo>
                    <a:lnTo>
                      <a:pt x="4608" y="374"/>
                    </a:lnTo>
                    <a:lnTo>
                      <a:pt x="4576" y="364"/>
                    </a:lnTo>
                    <a:lnTo>
                      <a:pt x="4551" y="347"/>
                    </a:lnTo>
                    <a:lnTo>
                      <a:pt x="4535" y="337"/>
                    </a:lnTo>
                    <a:lnTo>
                      <a:pt x="4512" y="327"/>
                    </a:lnTo>
                    <a:lnTo>
                      <a:pt x="4487" y="317"/>
                    </a:lnTo>
                    <a:lnTo>
                      <a:pt x="4458" y="307"/>
                    </a:lnTo>
                    <a:lnTo>
                      <a:pt x="4433" y="303"/>
                    </a:lnTo>
                    <a:lnTo>
                      <a:pt x="4408" y="298"/>
                    </a:lnTo>
                    <a:lnTo>
                      <a:pt x="4385" y="298"/>
                    </a:lnTo>
                    <a:lnTo>
                      <a:pt x="4376" y="307"/>
                    </a:lnTo>
                    <a:lnTo>
                      <a:pt x="4364" y="317"/>
                    </a:lnTo>
                    <a:lnTo>
                      <a:pt x="4343" y="323"/>
                    </a:lnTo>
                    <a:lnTo>
                      <a:pt x="4314" y="327"/>
                    </a:lnTo>
                    <a:lnTo>
                      <a:pt x="4282" y="327"/>
                    </a:lnTo>
                    <a:lnTo>
                      <a:pt x="4241" y="327"/>
                    </a:lnTo>
                    <a:lnTo>
                      <a:pt x="4200" y="323"/>
                    </a:lnTo>
                    <a:lnTo>
                      <a:pt x="4159" y="317"/>
                    </a:lnTo>
                    <a:lnTo>
                      <a:pt x="4118" y="307"/>
                    </a:lnTo>
                    <a:lnTo>
                      <a:pt x="4074" y="294"/>
                    </a:lnTo>
                    <a:lnTo>
                      <a:pt x="4026" y="278"/>
                    </a:lnTo>
                    <a:lnTo>
                      <a:pt x="3976" y="260"/>
                    </a:lnTo>
                    <a:lnTo>
                      <a:pt x="3928" y="247"/>
                    </a:lnTo>
                    <a:lnTo>
                      <a:pt x="3878" y="229"/>
                    </a:lnTo>
                    <a:lnTo>
                      <a:pt x="3837" y="215"/>
                    </a:lnTo>
                    <a:lnTo>
                      <a:pt x="3796" y="210"/>
                    </a:lnTo>
                    <a:lnTo>
                      <a:pt x="3771" y="210"/>
                    </a:lnTo>
                    <a:lnTo>
                      <a:pt x="3755" y="210"/>
                    </a:lnTo>
                    <a:lnTo>
                      <a:pt x="3743" y="202"/>
                    </a:lnTo>
                    <a:lnTo>
                      <a:pt x="3732" y="194"/>
                    </a:lnTo>
                    <a:lnTo>
                      <a:pt x="3719" y="184"/>
                    </a:lnTo>
                    <a:lnTo>
                      <a:pt x="3710" y="176"/>
                    </a:lnTo>
                    <a:lnTo>
                      <a:pt x="3694" y="172"/>
                    </a:lnTo>
                    <a:lnTo>
                      <a:pt x="3675" y="170"/>
                    </a:lnTo>
                    <a:lnTo>
                      <a:pt x="3646" y="176"/>
                    </a:lnTo>
                    <a:lnTo>
                      <a:pt x="3616" y="188"/>
                    </a:lnTo>
                    <a:lnTo>
                      <a:pt x="3577" y="198"/>
                    </a:lnTo>
                    <a:lnTo>
                      <a:pt x="3543" y="212"/>
                    </a:lnTo>
                    <a:lnTo>
                      <a:pt x="3502" y="221"/>
                    </a:lnTo>
                    <a:lnTo>
                      <a:pt x="3461" y="229"/>
                    </a:lnTo>
                    <a:lnTo>
                      <a:pt x="3420" y="231"/>
                    </a:lnTo>
                    <a:lnTo>
                      <a:pt x="3372" y="229"/>
                    </a:lnTo>
                    <a:lnTo>
                      <a:pt x="3326" y="221"/>
                    </a:lnTo>
                    <a:lnTo>
                      <a:pt x="3274" y="210"/>
                    </a:lnTo>
                    <a:lnTo>
                      <a:pt x="3221" y="196"/>
                    </a:lnTo>
                    <a:lnTo>
                      <a:pt x="3167" y="188"/>
                    </a:lnTo>
                    <a:lnTo>
                      <a:pt x="3119" y="176"/>
                    </a:lnTo>
                    <a:lnTo>
                      <a:pt x="3069" y="170"/>
                    </a:lnTo>
                    <a:lnTo>
                      <a:pt x="3025" y="163"/>
                    </a:lnTo>
                    <a:lnTo>
                      <a:pt x="2991" y="163"/>
                    </a:lnTo>
                    <a:lnTo>
                      <a:pt x="2956" y="170"/>
                    </a:lnTo>
                    <a:lnTo>
                      <a:pt x="2927" y="176"/>
                    </a:lnTo>
                    <a:lnTo>
                      <a:pt x="2893" y="180"/>
                    </a:lnTo>
                    <a:lnTo>
                      <a:pt x="2858" y="188"/>
                    </a:lnTo>
                    <a:lnTo>
                      <a:pt x="2824" y="190"/>
                    </a:lnTo>
                    <a:lnTo>
                      <a:pt x="2788" y="194"/>
                    </a:lnTo>
                    <a:lnTo>
                      <a:pt x="2763" y="194"/>
                    </a:lnTo>
                    <a:lnTo>
                      <a:pt x="2751" y="196"/>
                    </a:lnTo>
                    <a:lnTo>
                      <a:pt x="2740" y="196"/>
                    </a:lnTo>
                    <a:lnTo>
                      <a:pt x="2772" y="174"/>
                    </a:lnTo>
                    <a:lnTo>
                      <a:pt x="2779" y="149"/>
                    </a:lnTo>
                    <a:lnTo>
                      <a:pt x="2776" y="131"/>
                    </a:lnTo>
                    <a:lnTo>
                      <a:pt x="2772" y="124"/>
                    </a:lnTo>
                    <a:lnTo>
                      <a:pt x="2854" y="104"/>
                    </a:lnTo>
                    <a:lnTo>
                      <a:pt x="2820" y="86"/>
                    </a:lnTo>
                    <a:lnTo>
                      <a:pt x="2785" y="71"/>
                    </a:lnTo>
                    <a:lnTo>
                      <a:pt x="2754" y="47"/>
                    </a:lnTo>
                    <a:lnTo>
                      <a:pt x="2726" y="32"/>
                    </a:lnTo>
                    <a:lnTo>
                      <a:pt x="2694" y="16"/>
                    </a:lnTo>
                    <a:lnTo>
                      <a:pt x="2669" y="6"/>
                    </a:lnTo>
                    <a:lnTo>
                      <a:pt x="2642" y="0"/>
                    </a:lnTo>
                    <a:lnTo>
                      <a:pt x="2624" y="4"/>
                    </a:lnTo>
                    <a:lnTo>
                      <a:pt x="2608" y="12"/>
                    </a:lnTo>
                    <a:lnTo>
                      <a:pt x="2589" y="22"/>
                    </a:lnTo>
                    <a:lnTo>
                      <a:pt x="2571" y="32"/>
                    </a:lnTo>
                    <a:lnTo>
                      <a:pt x="2558" y="43"/>
                    </a:lnTo>
                    <a:lnTo>
                      <a:pt x="2539" y="55"/>
                    </a:lnTo>
                    <a:lnTo>
                      <a:pt x="2523" y="61"/>
                    </a:lnTo>
                    <a:lnTo>
                      <a:pt x="2503" y="73"/>
                    </a:lnTo>
                    <a:lnTo>
                      <a:pt x="2491" y="77"/>
                    </a:lnTo>
                    <a:lnTo>
                      <a:pt x="2469" y="75"/>
                    </a:lnTo>
                    <a:lnTo>
                      <a:pt x="2446" y="61"/>
                    </a:lnTo>
                    <a:lnTo>
                      <a:pt x="2421" y="51"/>
                    </a:lnTo>
                    <a:lnTo>
                      <a:pt x="2384" y="57"/>
                    </a:lnTo>
                    <a:lnTo>
                      <a:pt x="2364" y="65"/>
                    </a:lnTo>
                    <a:lnTo>
                      <a:pt x="2336" y="79"/>
                    </a:lnTo>
                    <a:lnTo>
                      <a:pt x="2311" y="90"/>
                    </a:lnTo>
                    <a:lnTo>
                      <a:pt x="2286" y="102"/>
                    </a:lnTo>
                    <a:lnTo>
                      <a:pt x="2258" y="112"/>
                    </a:lnTo>
                    <a:lnTo>
                      <a:pt x="2233" y="120"/>
                    </a:lnTo>
                    <a:lnTo>
                      <a:pt x="2204" y="125"/>
                    </a:lnTo>
                    <a:lnTo>
                      <a:pt x="2176" y="129"/>
                    </a:lnTo>
                    <a:lnTo>
                      <a:pt x="2151" y="133"/>
                    </a:lnTo>
                    <a:lnTo>
                      <a:pt x="2128" y="145"/>
                    </a:lnTo>
                    <a:lnTo>
                      <a:pt x="2110" y="161"/>
                    </a:lnTo>
                    <a:lnTo>
                      <a:pt x="2090" y="176"/>
                    </a:lnTo>
                    <a:lnTo>
                      <a:pt x="2074" y="196"/>
                    </a:lnTo>
                    <a:lnTo>
                      <a:pt x="2058" y="213"/>
                    </a:lnTo>
                    <a:lnTo>
                      <a:pt x="2042" y="229"/>
                    </a:lnTo>
                    <a:lnTo>
                      <a:pt x="2021" y="241"/>
                    </a:lnTo>
                    <a:lnTo>
                      <a:pt x="2012" y="245"/>
                    </a:lnTo>
                    <a:lnTo>
                      <a:pt x="1992" y="247"/>
                    </a:lnTo>
                    <a:lnTo>
                      <a:pt x="1973" y="245"/>
                    </a:lnTo>
                    <a:lnTo>
                      <a:pt x="1955" y="241"/>
                    </a:lnTo>
                    <a:lnTo>
                      <a:pt x="1935" y="239"/>
                    </a:lnTo>
                    <a:lnTo>
                      <a:pt x="1914" y="235"/>
                    </a:lnTo>
                    <a:lnTo>
                      <a:pt x="1891" y="231"/>
                    </a:lnTo>
                    <a:lnTo>
                      <a:pt x="1869" y="229"/>
                    </a:lnTo>
                    <a:lnTo>
                      <a:pt x="1844" y="227"/>
                    </a:lnTo>
                    <a:lnTo>
                      <a:pt x="1816" y="229"/>
                    </a:lnTo>
                    <a:lnTo>
                      <a:pt x="1780" y="231"/>
                    </a:lnTo>
                    <a:lnTo>
                      <a:pt x="1750" y="237"/>
                    </a:lnTo>
                    <a:lnTo>
                      <a:pt x="1722" y="247"/>
                    </a:lnTo>
                    <a:lnTo>
                      <a:pt x="1695" y="257"/>
                    </a:lnTo>
                    <a:lnTo>
                      <a:pt x="1677" y="268"/>
                    </a:lnTo>
                    <a:lnTo>
                      <a:pt x="1666" y="280"/>
                    </a:lnTo>
                    <a:lnTo>
                      <a:pt x="1661" y="294"/>
                    </a:lnTo>
                    <a:lnTo>
                      <a:pt x="1641" y="307"/>
                    </a:lnTo>
                    <a:lnTo>
                      <a:pt x="1617" y="317"/>
                    </a:lnTo>
                    <a:lnTo>
                      <a:pt x="1592" y="323"/>
                    </a:lnTo>
                    <a:lnTo>
                      <a:pt x="1563" y="329"/>
                    </a:lnTo>
                    <a:lnTo>
                      <a:pt x="1535" y="331"/>
                    </a:lnTo>
                    <a:lnTo>
                      <a:pt x="1510" y="335"/>
                    </a:lnTo>
                    <a:lnTo>
                      <a:pt x="1487" y="335"/>
                    </a:lnTo>
                    <a:lnTo>
                      <a:pt x="1462" y="335"/>
                    </a:lnTo>
                    <a:lnTo>
                      <a:pt x="1433" y="331"/>
                    </a:lnTo>
                    <a:lnTo>
                      <a:pt x="1396" y="329"/>
                    </a:lnTo>
                    <a:lnTo>
                      <a:pt x="1360" y="327"/>
                    </a:lnTo>
                    <a:lnTo>
                      <a:pt x="1323" y="327"/>
                    </a:lnTo>
                    <a:lnTo>
                      <a:pt x="1294" y="329"/>
                    </a:lnTo>
                    <a:lnTo>
                      <a:pt x="1269" y="335"/>
                    </a:lnTo>
                    <a:lnTo>
                      <a:pt x="1253" y="343"/>
                    </a:lnTo>
                    <a:lnTo>
                      <a:pt x="1232" y="364"/>
                    </a:lnTo>
                    <a:lnTo>
                      <a:pt x="1205" y="388"/>
                    </a:lnTo>
                    <a:lnTo>
                      <a:pt x="1180" y="407"/>
                    </a:lnTo>
                    <a:lnTo>
                      <a:pt x="1171" y="413"/>
                    </a:lnTo>
                    <a:lnTo>
                      <a:pt x="1065" y="407"/>
                    </a:lnTo>
                    <a:lnTo>
                      <a:pt x="1057" y="409"/>
                    </a:lnTo>
                    <a:lnTo>
                      <a:pt x="1041" y="411"/>
                    </a:lnTo>
                    <a:lnTo>
                      <a:pt x="1025" y="417"/>
                    </a:lnTo>
                    <a:lnTo>
                      <a:pt x="1004" y="421"/>
                    </a:lnTo>
                    <a:lnTo>
                      <a:pt x="984" y="423"/>
                    </a:lnTo>
                    <a:lnTo>
                      <a:pt x="968" y="425"/>
                    </a:lnTo>
                    <a:lnTo>
                      <a:pt x="967" y="423"/>
                    </a:lnTo>
                    <a:lnTo>
                      <a:pt x="979" y="413"/>
                    </a:lnTo>
                    <a:lnTo>
                      <a:pt x="995" y="390"/>
                    </a:lnTo>
                    <a:lnTo>
                      <a:pt x="992" y="358"/>
                    </a:lnTo>
                    <a:lnTo>
                      <a:pt x="967" y="335"/>
                    </a:lnTo>
                    <a:lnTo>
                      <a:pt x="938" y="327"/>
                    </a:lnTo>
                    <a:lnTo>
                      <a:pt x="919" y="329"/>
                    </a:lnTo>
                    <a:lnTo>
                      <a:pt x="894" y="331"/>
                    </a:lnTo>
                    <a:lnTo>
                      <a:pt x="869" y="335"/>
                    </a:lnTo>
                    <a:lnTo>
                      <a:pt x="840" y="335"/>
                    </a:lnTo>
                    <a:lnTo>
                      <a:pt x="812" y="331"/>
                    </a:lnTo>
                    <a:lnTo>
                      <a:pt x="789" y="329"/>
                    </a:lnTo>
                    <a:lnTo>
                      <a:pt x="774" y="323"/>
                    </a:lnTo>
                    <a:lnTo>
                      <a:pt x="767" y="313"/>
                    </a:lnTo>
                    <a:lnTo>
                      <a:pt x="758" y="288"/>
                    </a:lnTo>
                    <a:lnTo>
                      <a:pt x="742" y="249"/>
                    </a:lnTo>
                    <a:lnTo>
                      <a:pt x="710" y="215"/>
                    </a:lnTo>
                    <a:lnTo>
                      <a:pt x="678" y="196"/>
                    </a:lnTo>
                    <a:lnTo>
                      <a:pt x="657" y="194"/>
                    </a:lnTo>
                    <a:lnTo>
                      <a:pt x="632" y="198"/>
                    </a:lnTo>
                    <a:lnTo>
                      <a:pt x="603" y="210"/>
                    </a:lnTo>
                    <a:lnTo>
                      <a:pt x="568" y="221"/>
                    </a:lnTo>
                    <a:lnTo>
                      <a:pt x="536" y="237"/>
                    </a:lnTo>
                    <a:lnTo>
                      <a:pt x="502" y="255"/>
                    </a:lnTo>
                    <a:lnTo>
                      <a:pt x="466" y="272"/>
                    </a:lnTo>
                    <a:lnTo>
                      <a:pt x="440" y="288"/>
                    </a:lnTo>
                    <a:lnTo>
                      <a:pt x="408" y="305"/>
                    </a:lnTo>
                    <a:lnTo>
                      <a:pt x="372" y="325"/>
                    </a:lnTo>
                    <a:lnTo>
                      <a:pt x="338" y="347"/>
                    </a:lnTo>
                    <a:lnTo>
                      <a:pt x="299" y="370"/>
                    </a:lnTo>
                    <a:lnTo>
                      <a:pt x="265" y="391"/>
                    </a:lnTo>
                    <a:lnTo>
                      <a:pt x="229" y="409"/>
                    </a:lnTo>
                    <a:lnTo>
                      <a:pt x="203" y="427"/>
                    </a:lnTo>
                    <a:lnTo>
                      <a:pt x="180" y="440"/>
                    </a:lnTo>
                    <a:lnTo>
                      <a:pt x="151" y="462"/>
                    </a:lnTo>
                    <a:lnTo>
                      <a:pt x="132" y="485"/>
                    </a:lnTo>
                    <a:lnTo>
                      <a:pt x="130" y="511"/>
                    </a:lnTo>
                    <a:lnTo>
                      <a:pt x="146" y="540"/>
                    </a:lnTo>
                    <a:lnTo>
                      <a:pt x="167" y="571"/>
                    </a:lnTo>
                    <a:lnTo>
                      <a:pt x="189" y="607"/>
                    </a:lnTo>
                    <a:lnTo>
                      <a:pt x="208" y="636"/>
                    </a:lnTo>
                    <a:lnTo>
                      <a:pt x="240" y="644"/>
                    </a:lnTo>
                    <a:lnTo>
                      <a:pt x="256" y="644"/>
                    </a:lnTo>
                    <a:lnTo>
                      <a:pt x="278" y="642"/>
                    </a:lnTo>
                    <a:lnTo>
                      <a:pt x="299" y="640"/>
                    </a:lnTo>
                    <a:lnTo>
                      <a:pt x="322" y="636"/>
                    </a:lnTo>
                    <a:lnTo>
                      <a:pt x="343" y="626"/>
                    </a:lnTo>
                    <a:lnTo>
                      <a:pt x="367" y="622"/>
                    </a:lnTo>
                    <a:lnTo>
                      <a:pt x="383" y="616"/>
                    </a:lnTo>
                    <a:lnTo>
                      <a:pt x="392" y="605"/>
                    </a:lnTo>
                    <a:lnTo>
                      <a:pt x="411" y="585"/>
                    </a:lnTo>
                    <a:lnTo>
                      <a:pt x="436" y="566"/>
                    </a:lnTo>
                    <a:lnTo>
                      <a:pt x="449" y="544"/>
                    </a:lnTo>
                    <a:lnTo>
                      <a:pt x="449" y="521"/>
                    </a:lnTo>
                    <a:lnTo>
                      <a:pt x="436" y="491"/>
                    </a:lnTo>
                    <a:lnTo>
                      <a:pt x="429" y="468"/>
                    </a:lnTo>
                    <a:lnTo>
                      <a:pt x="432" y="446"/>
                    </a:lnTo>
                    <a:lnTo>
                      <a:pt x="449" y="427"/>
                    </a:lnTo>
                    <a:lnTo>
                      <a:pt x="466" y="417"/>
                    </a:lnTo>
                    <a:lnTo>
                      <a:pt x="486" y="407"/>
                    </a:lnTo>
                    <a:lnTo>
                      <a:pt x="509" y="395"/>
                    </a:lnTo>
                    <a:lnTo>
                      <a:pt x="527" y="388"/>
                    </a:lnTo>
                    <a:lnTo>
                      <a:pt x="543" y="378"/>
                    </a:lnTo>
                    <a:lnTo>
                      <a:pt x="559" y="372"/>
                    </a:lnTo>
                    <a:lnTo>
                      <a:pt x="568" y="370"/>
                    </a:lnTo>
                    <a:lnTo>
                      <a:pt x="575" y="368"/>
                    </a:lnTo>
                    <a:lnTo>
                      <a:pt x="578" y="368"/>
                    </a:lnTo>
                    <a:lnTo>
                      <a:pt x="587" y="370"/>
                    </a:lnTo>
                    <a:lnTo>
                      <a:pt x="600" y="378"/>
                    </a:lnTo>
                    <a:lnTo>
                      <a:pt x="603" y="393"/>
                    </a:lnTo>
                    <a:lnTo>
                      <a:pt x="600" y="407"/>
                    </a:lnTo>
                    <a:lnTo>
                      <a:pt x="584" y="411"/>
                    </a:lnTo>
                    <a:lnTo>
                      <a:pt x="562" y="421"/>
                    </a:lnTo>
                    <a:lnTo>
                      <a:pt x="536" y="433"/>
                    </a:lnTo>
                    <a:lnTo>
                      <a:pt x="514" y="456"/>
                    </a:lnTo>
                    <a:lnTo>
                      <a:pt x="514" y="487"/>
                    </a:lnTo>
                    <a:lnTo>
                      <a:pt x="534" y="511"/>
                    </a:lnTo>
                    <a:lnTo>
                      <a:pt x="575" y="521"/>
                    </a:lnTo>
                    <a:lnTo>
                      <a:pt x="603" y="515"/>
                    </a:lnTo>
                    <a:lnTo>
                      <a:pt x="632" y="507"/>
                    </a:lnTo>
                    <a:lnTo>
                      <a:pt x="660" y="501"/>
                    </a:lnTo>
                    <a:lnTo>
                      <a:pt x="691" y="491"/>
                    </a:lnTo>
                    <a:lnTo>
                      <a:pt x="719" y="483"/>
                    </a:lnTo>
                    <a:lnTo>
                      <a:pt x="746" y="476"/>
                    </a:lnTo>
                    <a:lnTo>
                      <a:pt x="764" y="472"/>
                    </a:lnTo>
                    <a:lnTo>
                      <a:pt x="776" y="472"/>
                    </a:lnTo>
                    <a:lnTo>
                      <a:pt x="799" y="485"/>
                    </a:lnTo>
                    <a:lnTo>
                      <a:pt x="821" y="507"/>
                    </a:lnTo>
                    <a:lnTo>
                      <a:pt x="840" y="528"/>
                    </a:lnTo>
                    <a:lnTo>
                      <a:pt x="853" y="544"/>
                    </a:lnTo>
                    <a:lnTo>
                      <a:pt x="830" y="546"/>
                    </a:lnTo>
                    <a:lnTo>
                      <a:pt x="812" y="550"/>
                    </a:lnTo>
                    <a:lnTo>
                      <a:pt x="792" y="558"/>
                    </a:lnTo>
                    <a:lnTo>
                      <a:pt x="774" y="566"/>
                    </a:lnTo>
                    <a:lnTo>
                      <a:pt x="758" y="571"/>
                    </a:lnTo>
                    <a:lnTo>
                      <a:pt x="748" y="577"/>
                    </a:lnTo>
                    <a:lnTo>
                      <a:pt x="742" y="583"/>
                    </a:lnTo>
                    <a:lnTo>
                      <a:pt x="735" y="585"/>
                    </a:lnTo>
                    <a:lnTo>
                      <a:pt x="730" y="585"/>
                    </a:lnTo>
                    <a:lnTo>
                      <a:pt x="710" y="583"/>
                    </a:lnTo>
                    <a:lnTo>
                      <a:pt x="682" y="579"/>
                    </a:lnTo>
                    <a:lnTo>
                      <a:pt x="653" y="577"/>
                    </a:lnTo>
                    <a:lnTo>
                      <a:pt x="621" y="577"/>
                    </a:lnTo>
                    <a:lnTo>
                      <a:pt x="591" y="579"/>
                    </a:lnTo>
                    <a:lnTo>
                      <a:pt x="575" y="585"/>
                    </a:lnTo>
                    <a:lnTo>
                      <a:pt x="564" y="591"/>
                    </a:lnTo>
                    <a:lnTo>
                      <a:pt x="559" y="620"/>
                    </a:lnTo>
                    <a:lnTo>
                      <a:pt x="543" y="652"/>
                    </a:lnTo>
                    <a:lnTo>
                      <a:pt x="511" y="681"/>
                    </a:lnTo>
                    <a:lnTo>
                      <a:pt x="466" y="685"/>
                    </a:lnTo>
                    <a:lnTo>
                      <a:pt x="440" y="681"/>
                    </a:lnTo>
                    <a:lnTo>
                      <a:pt x="397" y="677"/>
                    </a:lnTo>
                    <a:lnTo>
                      <a:pt x="356" y="681"/>
                    </a:lnTo>
                    <a:lnTo>
                      <a:pt x="310" y="683"/>
                    </a:lnTo>
                    <a:lnTo>
                      <a:pt x="265" y="687"/>
                    </a:lnTo>
                    <a:lnTo>
                      <a:pt x="221" y="699"/>
                    </a:lnTo>
                    <a:lnTo>
                      <a:pt x="189" y="712"/>
                    </a:lnTo>
                    <a:lnTo>
                      <a:pt x="160" y="732"/>
                    </a:lnTo>
                    <a:lnTo>
                      <a:pt x="146" y="747"/>
                    </a:lnTo>
                    <a:lnTo>
                      <a:pt x="126" y="763"/>
                    </a:lnTo>
                    <a:lnTo>
                      <a:pt x="110" y="775"/>
                    </a:lnTo>
                    <a:lnTo>
                      <a:pt x="94" y="787"/>
                    </a:lnTo>
                    <a:lnTo>
                      <a:pt x="78" y="798"/>
                    </a:lnTo>
                    <a:lnTo>
                      <a:pt x="62" y="806"/>
                    </a:lnTo>
                    <a:lnTo>
                      <a:pt x="50" y="818"/>
                    </a:lnTo>
                    <a:lnTo>
                      <a:pt x="37" y="832"/>
                    </a:lnTo>
                    <a:lnTo>
                      <a:pt x="28" y="841"/>
                    </a:lnTo>
                    <a:lnTo>
                      <a:pt x="16" y="853"/>
                    </a:lnTo>
                    <a:lnTo>
                      <a:pt x="7" y="865"/>
                    </a:lnTo>
                    <a:lnTo>
                      <a:pt x="0" y="877"/>
                    </a:lnTo>
                    <a:lnTo>
                      <a:pt x="3524" y="87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63" name="Freeform 1136"/>
              <p:cNvSpPr/>
              <p:nvPr/>
            </p:nvSpPr>
            <p:spPr>
              <a:xfrm>
                <a:off x="4303800" y="3746160"/>
                <a:ext cx="2987640" cy="664200"/>
              </a:xfrm>
              <a:custGeom>
                <a:avLst/>
                <a:gdLst/>
                <a:ahLst/>
                <a:rect l="l" t="t" r="r" b="b"/>
                <a:pathLst>
                  <a:path w="3764" h="874">
                    <a:moveTo>
                      <a:pt x="241" y="0"/>
                    </a:moveTo>
                    <a:lnTo>
                      <a:pt x="228" y="15"/>
                    </a:lnTo>
                    <a:lnTo>
                      <a:pt x="217" y="27"/>
                    </a:lnTo>
                    <a:lnTo>
                      <a:pt x="209" y="39"/>
                    </a:lnTo>
                    <a:lnTo>
                      <a:pt x="203" y="43"/>
                    </a:lnTo>
                    <a:lnTo>
                      <a:pt x="184" y="52"/>
                    </a:lnTo>
                    <a:lnTo>
                      <a:pt x="160" y="52"/>
                    </a:lnTo>
                    <a:lnTo>
                      <a:pt x="136" y="52"/>
                    </a:lnTo>
                    <a:lnTo>
                      <a:pt x="111" y="45"/>
                    </a:lnTo>
                    <a:lnTo>
                      <a:pt x="86" y="41"/>
                    </a:lnTo>
                    <a:lnTo>
                      <a:pt x="63" y="37"/>
                    </a:lnTo>
                    <a:lnTo>
                      <a:pt x="50" y="33"/>
                    </a:lnTo>
                    <a:lnTo>
                      <a:pt x="48" y="31"/>
                    </a:lnTo>
                    <a:lnTo>
                      <a:pt x="38" y="37"/>
                    </a:lnTo>
                    <a:lnTo>
                      <a:pt x="25" y="52"/>
                    </a:lnTo>
                    <a:lnTo>
                      <a:pt x="7" y="72"/>
                    </a:lnTo>
                    <a:lnTo>
                      <a:pt x="0" y="92"/>
                    </a:lnTo>
                    <a:lnTo>
                      <a:pt x="7" y="115"/>
                    </a:lnTo>
                    <a:lnTo>
                      <a:pt x="20" y="148"/>
                    </a:lnTo>
                    <a:lnTo>
                      <a:pt x="38" y="178"/>
                    </a:lnTo>
                    <a:lnTo>
                      <a:pt x="57" y="195"/>
                    </a:lnTo>
                    <a:lnTo>
                      <a:pt x="66" y="201"/>
                    </a:lnTo>
                    <a:lnTo>
                      <a:pt x="79" y="207"/>
                    </a:lnTo>
                    <a:lnTo>
                      <a:pt x="98" y="209"/>
                    </a:lnTo>
                    <a:lnTo>
                      <a:pt x="114" y="211"/>
                    </a:lnTo>
                    <a:lnTo>
                      <a:pt x="136" y="209"/>
                    </a:lnTo>
                    <a:lnTo>
                      <a:pt x="155" y="207"/>
                    </a:lnTo>
                    <a:lnTo>
                      <a:pt x="175" y="197"/>
                    </a:lnTo>
                    <a:lnTo>
                      <a:pt x="193" y="189"/>
                    </a:lnTo>
                    <a:lnTo>
                      <a:pt x="205" y="174"/>
                    </a:lnTo>
                    <a:lnTo>
                      <a:pt x="228" y="156"/>
                    </a:lnTo>
                    <a:lnTo>
                      <a:pt x="249" y="135"/>
                    </a:lnTo>
                    <a:lnTo>
                      <a:pt x="274" y="111"/>
                    </a:lnTo>
                    <a:lnTo>
                      <a:pt x="299" y="92"/>
                    </a:lnTo>
                    <a:lnTo>
                      <a:pt x="326" y="74"/>
                    </a:lnTo>
                    <a:lnTo>
                      <a:pt x="351" y="58"/>
                    </a:lnTo>
                    <a:lnTo>
                      <a:pt x="372" y="52"/>
                    </a:lnTo>
                    <a:lnTo>
                      <a:pt x="395" y="45"/>
                    </a:lnTo>
                    <a:lnTo>
                      <a:pt x="417" y="45"/>
                    </a:lnTo>
                    <a:lnTo>
                      <a:pt x="440" y="43"/>
                    </a:lnTo>
                    <a:lnTo>
                      <a:pt x="461" y="45"/>
                    </a:lnTo>
                    <a:lnTo>
                      <a:pt x="483" y="47"/>
                    </a:lnTo>
                    <a:lnTo>
                      <a:pt x="506" y="54"/>
                    </a:lnTo>
                    <a:lnTo>
                      <a:pt x="522" y="60"/>
                    </a:lnTo>
                    <a:lnTo>
                      <a:pt x="536" y="72"/>
                    </a:lnTo>
                    <a:lnTo>
                      <a:pt x="552" y="82"/>
                    </a:lnTo>
                    <a:lnTo>
                      <a:pt x="568" y="97"/>
                    </a:lnTo>
                    <a:lnTo>
                      <a:pt x="588" y="115"/>
                    </a:lnTo>
                    <a:lnTo>
                      <a:pt x="607" y="135"/>
                    </a:lnTo>
                    <a:lnTo>
                      <a:pt x="625" y="148"/>
                    </a:lnTo>
                    <a:lnTo>
                      <a:pt x="638" y="162"/>
                    </a:lnTo>
                    <a:lnTo>
                      <a:pt x="648" y="174"/>
                    </a:lnTo>
                    <a:lnTo>
                      <a:pt x="650" y="176"/>
                    </a:lnTo>
                    <a:lnTo>
                      <a:pt x="673" y="131"/>
                    </a:lnTo>
                    <a:lnTo>
                      <a:pt x="748" y="115"/>
                    </a:lnTo>
                    <a:lnTo>
                      <a:pt x="777" y="195"/>
                    </a:lnTo>
                    <a:lnTo>
                      <a:pt x="780" y="191"/>
                    </a:lnTo>
                    <a:lnTo>
                      <a:pt x="796" y="178"/>
                    </a:lnTo>
                    <a:lnTo>
                      <a:pt x="817" y="158"/>
                    </a:lnTo>
                    <a:lnTo>
                      <a:pt x="844" y="137"/>
                    </a:lnTo>
                    <a:lnTo>
                      <a:pt x="874" y="105"/>
                    </a:lnTo>
                    <a:lnTo>
                      <a:pt x="903" y="72"/>
                    </a:lnTo>
                    <a:lnTo>
                      <a:pt x="926" y="43"/>
                    </a:lnTo>
                    <a:lnTo>
                      <a:pt x="939" y="31"/>
                    </a:lnTo>
                    <a:lnTo>
                      <a:pt x="944" y="33"/>
                    </a:lnTo>
                    <a:lnTo>
                      <a:pt x="963" y="37"/>
                    </a:lnTo>
                    <a:lnTo>
                      <a:pt x="985" y="43"/>
                    </a:lnTo>
                    <a:lnTo>
                      <a:pt x="1008" y="52"/>
                    </a:lnTo>
                    <a:lnTo>
                      <a:pt x="1020" y="56"/>
                    </a:lnTo>
                    <a:lnTo>
                      <a:pt x="1036" y="58"/>
                    </a:lnTo>
                    <a:lnTo>
                      <a:pt x="1058" y="62"/>
                    </a:lnTo>
                    <a:lnTo>
                      <a:pt x="1077" y="64"/>
                    </a:lnTo>
                    <a:lnTo>
                      <a:pt x="1093" y="70"/>
                    </a:lnTo>
                    <a:lnTo>
                      <a:pt x="1108" y="70"/>
                    </a:lnTo>
                    <a:lnTo>
                      <a:pt x="1118" y="72"/>
                    </a:lnTo>
                    <a:lnTo>
                      <a:pt x="1124" y="72"/>
                    </a:lnTo>
                    <a:lnTo>
                      <a:pt x="1136" y="74"/>
                    </a:lnTo>
                    <a:lnTo>
                      <a:pt x="1165" y="78"/>
                    </a:lnTo>
                    <a:lnTo>
                      <a:pt x="1204" y="86"/>
                    </a:lnTo>
                    <a:lnTo>
                      <a:pt x="1229" y="95"/>
                    </a:lnTo>
                    <a:lnTo>
                      <a:pt x="1248" y="111"/>
                    </a:lnTo>
                    <a:lnTo>
                      <a:pt x="1273" y="131"/>
                    </a:lnTo>
                    <a:lnTo>
                      <a:pt x="1295" y="148"/>
                    </a:lnTo>
                    <a:lnTo>
                      <a:pt x="1304" y="156"/>
                    </a:lnTo>
                    <a:lnTo>
                      <a:pt x="1275" y="158"/>
                    </a:lnTo>
                    <a:lnTo>
                      <a:pt x="1250" y="160"/>
                    </a:lnTo>
                    <a:lnTo>
                      <a:pt x="1225" y="162"/>
                    </a:lnTo>
                    <a:lnTo>
                      <a:pt x="1204" y="162"/>
                    </a:lnTo>
                    <a:lnTo>
                      <a:pt x="1181" y="162"/>
                    </a:lnTo>
                    <a:lnTo>
                      <a:pt x="1159" y="162"/>
                    </a:lnTo>
                    <a:lnTo>
                      <a:pt x="1140" y="160"/>
                    </a:lnTo>
                    <a:lnTo>
                      <a:pt x="1124" y="156"/>
                    </a:lnTo>
                    <a:lnTo>
                      <a:pt x="1102" y="152"/>
                    </a:lnTo>
                    <a:lnTo>
                      <a:pt x="1081" y="152"/>
                    </a:lnTo>
                    <a:lnTo>
                      <a:pt x="1058" y="152"/>
                    </a:lnTo>
                    <a:lnTo>
                      <a:pt x="1036" y="152"/>
                    </a:lnTo>
                    <a:lnTo>
                      <a:pt x="1012" y="154"/>
                    </a:lnTo>
                    <a:lnTo>
                      <a:pt x="988" y="158"/>
                    </a:lnTo>
                    <a:lnTo>
                      <a:pt x="967" y="162"/>
                    </a:lnTo>
                    <a:lnTo>
                      <a:pt x="947" y="170"/>
                    </a:lnTo>
                    <a:lnTo>
                      <a:pt x="919" y="189"/>
                    </a:lnTo>
                    <a:lnTo>
                      <a:pt x="898" y="211"/>
                    </a:lnTo>
                    <a:lnTo>
                      <a:pt x="887" y="234"/>
                    </a:lnTo>
                    <a:lnTo>
                      <a:pt x="885" y="240"/>
                    </a:lnTo>
                    <a:lnTo>
                      <a:pt x="894" y="244"/>
                    </a:lnTo>
                    <a:lnTo>
                      <a:pt x="919" y="248"/>
                    </a:lnTo>
                    <a:lnTo>
                      <a:pt x="956" y="256"/>
                    </a:lnTo>
                    <a:lnTo>
                      <a:pt x="988" y="260"/>
                    </a:lnTo>
                    <a:lnTo>
                      <a:pt x="1012" y="270"/>
                    </a:lnTo>
                    <a:lnTo>
                      <a:pt x="1024" y="275"/>
                    </a:lnTo>
                    <a:lnTo>
                      <a:pt x="1033" y="291"/>
                    </a:lnTo>
                    <a:lnTo>
                      <a:pt x="1036" y="309"/>
                    </a:lnTo>
                    <a:lnTo>
                      <a:pt x="1029" y="328"/>
                    </a:lnTo>
                    <a:lnTo>
                      <a:pt x="1017" y="352"/>
                    </a:lnTo>
                    <a:lnTo>
                      <a:pt x="1004" y="367"/>
                    </a:lnTo>
                    <a:lnTo>
                      <a:pt x="996" y="373"/>
                    </a:lnTo>
                    <a:lnTo>
                      <a:pt x="1017" y="387"/>
                    </a:lnTo>
                    <a:lnTo>
                      <a:pt x="1045" y="404"/>
                    </a:lnTo>
                    <a:lnTo>
                      <a:pt x="1070" y="426"/>
                    </a:lnTo>
                    <a:lnTo>
                      <a:pt x="1083" y="442"/>
                    </a:lnTo>
                    <a:lnTo>
                      <a:pt x="1111" y="451"/>
                    </a:lnTo>
                    <a:lnTo>
                      <a:pt x="1134" y="471"/>
                    </a:lnTo>
                    <a:lnTo>
                      <a:pt x="1152" y="493"/>
                    </a:lnTo>
                    <a:lnTo>
                      <a:pt x="1159" y="516"/>
                    </a:lnTo>
                    <a:lnTo>
                      <a:pt x="1165" y="526"/>
                    </a:lnTo>
                    <a:lnTo>
                      <a:pt x="1179" y="547"/>
                    </a:lnTo>
                    <a:lnTo>
                      <a:pt x="1197" y="569"/>
                    </a:lnTo>
                    <a:lnTo>
                      <a:pt x="1213" y="598"/>
                    </a:lnTo>
                    <a:lnTo>
                      <a:pt x="1234" y="624"/>
                    </a:lnTo>
                    <a:lnTo>
                      <a:pt x="1254" y="647"/>
                    </a:lnTo>
                    <a:lnTo>
                      <a:pt x="1273" y="665"/>
                    </a:lnTo>
                    <a:lnTo>
                      <a:pt x="1282" y="672"/>
                    </a:lnTo>
                    <a:lnTo>
                      <a:pt x="1307" y="680"/>
                    </a:lnTo>
                    <a:lnTo>
                      <a:pt x="1339" y="694"/>
                    </a:lnTo>
                    <a:lnTo>
                      <a:pt x="1368" y="708"/>
                    </a:lnTo>
                    <a:lnTo>
                      <a:pt x="1387" y="717"/>
                    </a:lnTo>
                    <a:lnTo>
                      <a:pt x="1396" y="717"/>
                    </a:lnTo>
                    <a:lnTo>
                      <a:pt x="1405" y="717"/>
                    </a:lnTo>
                    <a:lnTo>
                      <a:pt x="1425" y="714"/>
                    </a:lnTo>
                    <a:lnTo>
                      <a:pt x="1441" y="706"/>
                    </a:lnTo>
                    <a:lnTo>
                      <a:pt x="1458" y="702"/>
                    </a:lnTo>
                    <a:lnTo>
                      <a:pt x="1471" y="694"/>
                    </a:lnTo>
                    <a:lnTo>
                      <a:pt x="1487" y="684"/>
                    </a:lnTo>
                    <a:lnTo>
                      <a:pt x="1494" y="674"/>
                    </a:lnTo>
                    <a:lnTo>
                      <a:pt x="1499" y="665"/>
                    </a:lnTo>
                    <a:lnTo>
                      <a:pt x="1514" y="649"/>
                    </a:lnTo>
                    <a:lnTo>
                      <a:pt x="1531" y="635"/>
                    </a:lnTo>
                    <a:lnTo>
                      <a:pt x="1544" y="618"/>
                    </a:lnTo>
                    <a:lnTo>
                      <a:pt x="1564" y="602"/>
                    </a:lnTo>
                    <a:lnTo>
                      <a:pt x="1583" y="586"/>
                    </a:lnTo>
                    <a:lnTo>
                      <a:pt x="1601" y="577"/>
                    </a:lnTo>
                    <a:lnTo>
                      <a:pt x="1613" y="569"/>
                    </a:lnTo>
                    <a:lnTo>
                      <a:pt x="1642" y="559"/>
                    </a:lnTo>
                    <a:lnTo>
                      <a:pt x="1674" y="547"/>
                    </a:lnTo>
                    <a:lnTo>
                      <a:pt x="1690" y="538"/>
                    </a:lnTo>
                    <a:lnTo>
                      <a:pt x="1699" y="532"/>
                    </a:lnTo>
                    <a:lnTo>
                      <a:pt x="1658" y="524"/>
                    </a:lnTo>
                    <a:lnTo>
                      <a:pt x="1617" y="518"/>
                    </a:lnTo>
                    <a:lnTo>
                      <a:pt x="1580" y="508"/>
                    </a:lnTo>
                    <a:lnTo>
                      <a:pt x="1539" y="502"/>
                    </a:lnTo>
                    <a:lnTo>
                      <a:pt x="1499" y="491"/>
                    </a:lnTo>
                    <a:lnTo>
                      <a:pt x="1469" y="483"/>
                    </a:lnTo>
                    <a:lnTo>
                      <a:pt x="1442" y="471"/>
                    </a:lnTo>
                    <a:lnTo>
                      <a:pt x="1425" y="459"/>
                    </a:lnTo>
                    <a:lnTo>
                      <a:pt x="1405" y="434"/>
                    </a:lnTo>
                    <a:lnTo>
                      <a:pt x="1402" y="410"/>
                    </a:lnTo>
                    <a:lnTo>
                      <a:pt x="1418" y="391"/>
                    </a:lnTo>
                    <a:lnTo>
                      <a:pt x="1442" y="375"/>
                    </a:lnTo>
                    <a:lnTo>
                      <a:pt x="1471" y="373"/>
                    </a:lnTo>
                    <a:lnTo>
                      <a:pt x="1498" y="383"/>
                    </a:lnTo>
                    <a:lnTo>
                      <a:pt x="1519" y="395"/>
                    </a:lnTo>
                    <a:lnTo>
                      <a:pt x="1535" y="410"/>
                    </a:lnTo>
                    <a:lnTo>
                      <a:pt x="1540" y="420"/>
                    </a:lnTo>
                    <a:lnTo>
                      <a:pt x="1548" y="426"/>
                    </a:lnTo>
                    <a:lnTo>
                      <a:pt x="1564" y="436"/>
                    </a:lnTo>
                    <a:lnTo>
                      <a:pt x="1580" y="446"/>
                    </a:lnTo>
                    <a:lnTo>
                      <a:pt x="1592" y="457"/>
                    </a:lnTo>
                    <a:lnTo>
                      <a:pt x="1610" y="465"/>
                    </a:lnTo>
                    <a:lnTo>
                      <a:pt x="1629" y="467"/>
                    </a:lnTo>
                    <a:lnTo>
                      <a:pt x="1653" y="467"/>
                    </a:lnTo>
                    <a:lnTo>
                      <a:pt x="1677" y="467"/>
                    </a:lnTo>
                    <a:lnTo>
                      <a:pt x="1708" y="467"/>
                    </a:lnTo>
                    <a:lnTo>
                      <a:pt x="1747" y="471"/>
                    </a:lnTo>
                    <a:lnTo>
                      <a:pt x="1784" y="479"/>
                    </a:lnTo>
                    <a:lnTo>
                      <a:pt x="1822" y="489"/>
                    </a:lnTo>
                    <a:lnTo>
                      <a:pt x="1857" y="500"/>
                    </a:lnTo>
                    <a:lnTo>
                      <a:pt x="1891" y="508"/>
                    </a:lnTo>
                    <a:lnTo>
                      <a:pt x="1914" y="522"/>
                    </a:lnTo>
                    <a:lnTo>
                      <a:pt x="1930" y="536"/>
                    </a:lnTo>
                    <a:lnTo>
                      <a:pt x="1952" y="543"/>
                    </a:lnTo>
                    <a:lnTo>
                      <a:pt x="1973" y="555"/>
                    </a:lnTo>
                    <a:lnTo>
                      <a:pt x="1996" y="561"/>
                    </a:lnTo>
                    <a:lnTo>
                      <a:pt x="2018" y="569"/>
                    </a:lnTo>
                    <a:lnTo>
                      <a:pt x="2034" y="579"/>
                    </a:lnTo>
                    <a:lnTo>
                      <a:pt x="2043" y="588"/>
                    </a:lnTo>
                    <a:lnTo>
                      <a:pt x="2050" y="602"/>
                    </a:lnTo>
                    <a:lnTo>
                      <a:pt x="2059" y="633"/>
                    </a:lnTo>
                    <a:lnTo>
                      <a:pt x="2066" y="659"/>
                    </a:lnTo>
                    <a:lnTo>
                      <a:pt x="2075" y="688"/>
                    </a:lnTo>
                    <a:lnTo>
                      <a:pt x="2094" y="714"/>
                    </a:lnTo>
                    <a:lnTo>
                      <a:pt x="2116" y="735"/>
                    </a:lnTo>
                    <a:lnTo>
                      <a:pt x="2139" y="762"/>
                    </a:lnTo>
                    <a:lnTo>
                      <a:pt x="2164" y="790"/>
                    </a:lnTo>
                    <a:lnTo>
                      <a:pt x="2189" y="809"/>
                    </a:lnTo>
                    <a:lnTo>
                      <a:pt x="2213" y="819"/>
                    </a:lnTo>
                    <a:lnTo>
                      <a:pt x="2233" y="821"/>
                    </a:lnTo>
                    <a:lnTo>
                      <a:pt x="2242" y="809"/>
                    </a:lnTo>
                    <a:lnTo>
                      <a:pt x="2249" y="774"/>
                    </a:lnTo>
                    <a:lnTo>
                      <a:pt x="2251" y="731"/>
                    </a:lnTo>
                    <a:lnTo>
                      <a:pt x="2265" y="684"/>
                    </a:lnTo>
                    <a:lnTo>
                      <a:pt x="2290" y="649"/>
                    </a:lnTo>
                    <a:lnTo>
                      <a:pt x="2335" y="620"/>
                    </a:lnTo>
                    <a:lnTo>
                      <a:pt x="2359" y="606"/>
                    </a:lnTo>
                    <a:lnTo>
                      <a:pt x="2381" y="598"/>
                    </a:lnTo>
                    <a:lnTo>
                      <a:pt x="2404" y="586"/>
                    </a:lnTo>
                    <a:lnTo>
                      <a:pt x="2425" y="579"/>
                    </a:lnTo>
                    <a:lnTo>
                      <a:pt x="2445" y="571"/>
                    </a:lnTo>
                    <a:lnTo>
                      <a:pt x="2463" y="567"/>
                    </a:lnTo>
                    <a:lnTo>
                      <a:pt x="2475" y="561"/>
                    </a:lnTo>
                    <a:lnTo>
                      <a:pt x="2489" y="557"/>
                    </a:lnTo>
                    <a:lnTo>
                      <a:pt x="2516" y="541"/>
                    </a:lnTo>
                    <a:lnTo>
                      <a:pt x="2548" y="522"/>
                    </a:lnTo>
                    <a:lnTo>
                      <a:pt x="2573" y="516"/>
                    </a:lnTo>
                    <a:lnTo>
                      <a:pt x="2584" y="539"/>
                    </a:lnTo>
                    <a:lnTo>
                      <a:pt x="2577" y="579"/>
                    </a:lnTo>
                    <a:lnTo>
                      <a:pt x="2577" y="608"/>
                    </a:lnTo>
                    <a:lnTo>
                      <a:pt x="2589" y="637"/>
                    </a:lnTo>
                    <a:lnTo>
                      <a:pt x="2618" y="665"/>
                    </a:lnTo>
                    <a:lnTo>
                      <a:pt x="2646" y="694"/>
                    </a:lnTo>
                    <a:lnTo>
                      <a:pt x="2669" y="723"/>
                    </a:lnTo>
                    <a:lnTo>
                      <a:pt x="2684" y="755"/>
                    </a:lnTo>
                    <a:lnTo>
                      <a:pt x="2694" y="776"/>
                    </a:lnTo>
                    <a:lnTo>
                      <a:pt x="2703" y="802"/>
                    </a:lnTo>
                    <a:lnTo>
                      <a:pt x="2707" y="831"/>
                    </a:lnTo>
                    <a:lnTo>
                      <a:pt x="2712" y="852"/>
                    </a:lnTo>
                    <a:lnTo>
                      <a:pt x="2712" y="862"/>
                    </a:lnTo>
                    <a:lnTo>
                      <a:pt x="2780" y="831"/>
                    </a:lnTo>
                    <a:lnTo>
                      <a:pt x="2785" y="839"/>
                    </a:lnTo>
                    <a:lnTo>
                      <a:pt x="2805" y="856"/>
                    </a:lnTo>
                    <a:lnTo>
                      <a:pt x="2826" y="874"/>
                    </a:lnTo>
                    <a:lnTo>
                      <a:pt x="2849" y="874"/>
                    </a:lnTo>
                    <a:lnTo>
                      <a:pt x="2851" y="856"/>
                    </a:lnTo>
                    <a:lnTo>
                      <a:pt x="2837" y="831"/>
                    </a:lnTo>
                    <a:lnTo>
                      <a:pt x="2817" y="802"/>
                    </a:lnTo>
                    <a:lnTo>
                      <a:pt x="2817" y="776"/>
                    </a:lnTo>
                    <a:lnTo>
                      <a:pt x="2833" y="762"/>
                    </a:lnTo>
                    <a:lnTo>
                      <a:pt x="2851" y="757"/>
                    </a:lnTo>
                    <a:lnTo>
                      <a:pt x="2874" y="757"/>
                    </a:lnTo>
                    <a:lnTo>
                      <a:pt x="2895" y="757"/>
                    </a:lnTo>
                    <a:lnTo>
                      <a:pt x="2920" y="753"/>
                    </a:lnTo>
                    <a:lnTo>
                      <a:pt x="2949" y="741"/>
                    </a:lnTo>
                    <a:lnTo>
                      <a:pt x="2976" y="725"/>
                    </a:lnTo>
                    <a:lnTo>
                      <a:pt x="3000" y="714"/>
                    </a:lnTo>
                    <a:lnTo>
                      <a:pt x="3006" y="698"/>
                    </a:lnTo>
                    <a:lnTo>
                      <a:pt x="2997" y="682"/>
                    </a:lnTo>
                    <a:lnTo>
                      <a:pt x="2977" y="667"/>
                    </a:lnTo>
                    <a:lnTo>
                      <a:pt x="2972" y="653"/>
                    </a:lnTo>
                    <a:lnTo>
                      <a:pt x="2959" y="637"/>
                    </a:lnTo>
                    <a:lnTo>
                      <a:pt x="2943" y="624"/>
                    </a:lnTo>
                    <a:lnTo>
                      <a:pt x="2924" y="616"/>
                    </a:lnTo>
                    <a:lnTo>
                      <a:pt x="2924" y="600"/>
                    </a:lnTo>
                    <a:lnTo>
                      <a:pt x="2935" y="590"/>
                    </a:lnTo>
                    <a:lnTo>
                      <a:pt x="2952" y="582"/>
                    </a:lnTo>
                    <a:lnTo>
                      <a:pt x="2977" y="575"/>
                    </a:lnTo>
                    <a:lnTo>
                      <a:pt x="3004" y="565"/>
                    </a:lnTo>
                    <a:lnTo>
                      <a:pt x="3038" y="555"/>
                    </a:lnTo>
                    <a:lnTo>
                      <a:pt x="3066" y="547"/>
                    </a:lnTo>
                    <a:lnTo>
                      <a:pt x="3091" y="539"/>
                    </a:lnTo>
                    <a:lnTo>
                      <a:pt x="3116" y="532"/>
                    </a:lnTo>
                    <a:lnTo>
                      <a:pt x="3136" y="526"/>
                    </a:lnTo>
                    <a:lnTo>
                      <a:pt x="3157" y="518"/>
                    </a:lnTo>
                    <a:lnTo>
                      <a:pt x="3173" y="508"/>
                    </a:lnTo>
                    <a:lnTo>
                      <a:pt x="3196" y="496"/>
                    </a:lnTo>
                    <a:lnTo>
                      <a:pt x="3214" y="487"/>
                    </a:lnTo>
                    <a:lnTo>
                      <a:pt x="3237" y="473"/>
                    </a:lnTo>
                    <a:lnTo>
                      <a:pt x="3255" y="465"/>
                    </a:lnTo>
                    <a:lnTo>
                      <a:pt x="3275" y="453"/>
                    </a:lnTo>
                    <a:lnTo>
                      <a:pt x="3303" y="428"/>
                    </a:lnTo>
                    <a:lnTo>
                      <a:pt x="3316" y="401"/>
                    </a:lnTo>
                    <a:lnTo>
                      <a:pt x="3312" y="369"/>
                    </a:lnTo>
                    <a:lnTo>
                      <a:pt x="3303" y="342"/>
                    </a:lnTo>
                    <a:lnTo>
                      <a:pt x="3291" y="318"/>
                    </a:lnTo>
                    <a:lnTo>
                      <a:pt x="3291" y="293"/>
                    </a:lnTo>
                    <a:lnTo>
                      <a:pt x="3303" y="271"/>
                    </a:lnTo>
                    <a:lnTo>
                      <a:pt x="3325" y="248"/>
                    </a:lnTo>
                    <a:lnTo>
                      <a:pt x="3339" y="236"/>
                    </a:lnTo>
                    <a:lnTo>
                      <a:pt x="3353" y="221"/>
                    </a:lnTo>
                    <a:lnTo>
                      <a:pt x="3373" y="209"/>
                    </a:lnTo>
                    <a:lnTo>
                      <a:pt x="3385" y="195"/>
                    </a:lnTo>
                    <a:lnTo>
                      <a:pt x="3405" y="189"/>
                    </a:lnTo>
                    <a:lnTo>
                      <a:pt x="3414" y="187"/>
                    </a:lnTo>
                    <a:lnTo>
                      <a:pt x="3430" y="191"/>
                    </a:lnTo>
                    <a:lnTo>
                      <a:pt x="3437" y="205"/>
                    </a:lnTo>
                    <a:lnTo>
                      <a:pt x="3449" y="240"/>
                    </a:lnTo>
                    <a:lnTo>
                      <a:pt x="3454" y="277"/>
                    </a:lnTo>
                    <a:lnTo>
                      <a:pt x="3458" y="309"/>
                    </a:lnTo>
                    <a:lnTo>
                      <a:pt x="3458" y="322"/>
                    </a:lnTo>
                    <a:lnTo>
                      <a:pt x="3499" y="295"/>
                    </a:lnTo>
                    <a:lnTo>
                      <a:pt x="3524" y="260"/>
                    </a:lnTo>
                    <a:lnTo>
                      <a:pt x="3540" y="226"/>
                    </a:lnTo>
                    <a:lnTo>
                      <a:pt x="3552" y="205"/>
                    </a:lnTo>
                    <a:lnTo>
                      <a:pt x="3576" y="180"/>
                    </a:lnTo>
                    <a:lnTo>
                      <a:pt x="3600" y="148"/>
                    </a:lnTo>
                    <a:lnTo>
                      <a:pt x="3634" y="115"/>
                    </a:lnTo>
                    <a:lnTo>
                      <a:pt x="3659" y="95"/>
                    </a:lnTo>
                    <a:lnTo>
                      <a:pt x="3682" y="80"/>
                    </a:lnTo>
                    <a:lnTo>
                      <a:pt x="3707" y="56"/>
                    </a:lnTo>
                    <a:lnTo>
                      <a:pt x="3732" y="31"/>
                    </a:lnTo>
                    <a:lnTo>
                      <a:pt x="3755" y="11"/>
                    </a:lnTo>
                    <a:lnTo>
                      <a:pt x="3757" y="7"/>
                    </a:lnTo>
                    <a:lnTo>
                      <a:pt x="3761" y="5"/>
                    </a:lnTo>
                    <a:lnTo>
                      <a:pt x="3761" y="4"/>
                    </a:lnTo>
                    <a:lnTo>
                      <a:pt x="3764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64" name="Freeform 1137"/>
              <p:cNvSpPr/>
              <p:nvPr/>
            </p:nvSpPr>
            <p:spPr>
              <a:xfrm>
                <a:off x="4092480" y="3929760"/>
                <a:ext cx="1338480" cy="1033920"/>
              </a:xfrm>
              <a:custGeom>
                <a:avLst/>
                <a:gdLst/>
                <a:ahLst/>
                <a:rect l="l" t="t" r="r" b="b"/>
                <a:pathLst>
                  <a:path w="1684" h="1360">
                    <a:moveTo>
                      <a:pt x="1228" y="139"/>
                    </a:moveTo>
                    <a:lnTo>
                      <a:pt x="1205" y="139"/>
                    </a:lnTo>
                    <a:lnTo>
                      <a:pt x="1180" y="139"/>
                    </a:lnTo>
                    <a:lnTo>
                      <a:pt x="1155" y="133"/>
                    </a:lnTo>
                    <a:lnTo>
                      <a:pt x="1134" y="129"/>
                    </a:lnTo>
                    <a:lnTo>
                      <a:pt x="1111" y="125"/>
                    </a:lnTo>
                    <a:lnTo>
                      <a:pt x="1093" y="116"/>
                    </a:lnTo>
                    <a:lnTo>
                      <a:pt x="1077" y="112"/>
                    </a:lnTo>
                    <a:lnTo>
                      <a:pt x="1065" y="108"/>
                    </a:lnTo>
                    <a:lnTo>
                      <a:pt x="1052" y="102"/>
                    </a:lnTo>
                    <a:lnTo>
                      <a:pt x="1040" y="102"/>
                    </a:lnTo>
                    <a:lnTo>
                      <a:pt x="1024" y="110"/>
                    </a:lnTo>
                    <a:lnTo>
                      <a:pt x="1011" y="114"/>
                    </a:lnTo>
                    <a:lnTo>
                      <a:pt x="992" y="119"/>
                    </a:lnTo>
                    <a:lnTo>
                      <a:pt x="976" y="129"/>
                    </a:lnTo>
                    <a:lnTo>
                      <a:pt x="958" y="133"/>
                    </a:lnTo>
                    <a:lnTo>
                      <a:pt x="942" y="139"/>
                    </a:lnTo>
                    <a:lnTo>
                      <a:pt x="922" y="139"/>
                    </a:lnTo>
                    <a:lnTo>
                      <a:pt x="897" y="135"/>
                    </a:lnTo>
                    <a:lnTo>
                      <a:pt x="872" y="133"/>
                    </a:lnTo>
                    <a:lnTo>
                      <a:pt x="847" y="127"/>
                    </a:lnTo>
                    <a:lnTo>
                      <a:pt x="823" y="116"/>
                    </a:lnTo>
                    <a:lnTo>
                      <a:pt x="796" y="108"/>
                    </a:lnTo>
                    <a:lnTo>
                      <a:pt x="774" y="94"/>
                    </a:lnTo>
                    <a:lnTo>
                      <a:pt x="758" y="78"/>
                    </a:lnTo>
                    <a:lnTo>
                      <a:pt x="741" y="63"/>
                    </a:lnTo>
                    <a:lnTo>
                      <a:pt x="714" y="45"/>
                    </a:lnTo>
                    <a:lnTo>
                      <a:pt x="684" y="31"/>
                    </a:lnTo>
                    <a:lnTo>
                      <a:pt x="655" y="18"/>
                    </a:lnTo>
                    <a:lnTo>
                      <a:pt x="620" y="8"/>
                    </a:lnTo>
                    <a:lnTo>
                      <a:pt x="591" y="0"/>
                    </a:lnTo>
                    <a:lnTo>
                      <a:pt x="566" y="0"/>
                    </a:lnTo>
                    <a:lnTo>
                      <a:pt x="548" y="4"/>
                    </a:lnTo>
                    <a:lnTo>
                      <a:pt x="532" y="14"/>
                    </a:lnTo>
                    <a:lnTo>
                      <a:pt x="509" y="20"/>
                    </a:lnTo>
                    <a:lnTo>
                      <a:pt x="479" y="24"/>
                    </a:lnTo>
                    <a:lnTo>
                      <a:pt x="450" y="26"/>
                    </a:lnTo>
                    <a:lnTo>
                      <a:pt x="422" y="29"/>
                    </a:lnTo>
                    <a:lnTo>
                      <a:pt x="393" y="31"/>
                    </a:lnTo>
                    <a:lnTo>
                      <a:pt x="368" y="37"/>
                    </a:lnTo>
                    <a:lnTo>
                      <a:pt x="347" y="45"/>
                    </a:lnTo>
                    <a:lnTo>
                      <a:pt x="328" y="57"/>
                    </a:lnTo>
                    <a:lnTo>
                      <a:pt x="306" y="71"/>
                    </a:lnTo>
                    <a:lnTo>
                      <a:pt x="279" y="88"/>
                    </a:lnTo>
                    <a:lnTo>
                      <a:pt x="258" y="108"/>
                    </a:lnTo>
                    <a:lnTo>
                      <a:pt x="237" y="125"/>
                    </a:lnTo>
                    <a:lnTo>
                      <a:pt x="214" y="143"/>
                    </a:lnTo>
                    <a:lnTo>
                      <a:pt x="198" y="159"/>
                    </a:lnTo>
                    <a:lnTo>
                      <a:pt x="185" y="170"/>
                    </a:lnTo>
                    <a:lnTo>
                      <a:pt x="169" y="184"/>
                    </a:lnTo>
                    <a:lnTo>
                      <a:pt x="151" y="194"/>
                    </a:lnTo>
                    <a:lnTo>
                      <a:pt x="128" y="207"/>
                    </a:lnTo>
                    <a:lnTo>
                      <a:pt x="103" y="219"/>
                    </a:lnTo>
                    <a:lnTo>
                      <a:pt x="82" y="231"/>
                    </a:lnTo>
                    <a:lnTo>
                      <a:pt x="60" y="245"/>
                    </a:lnTo>
                    <a:lnTo>
                      <a:pt x="44" y="258"/>
                    </a:lnTo>
                    <a:lnTo>
                      <a:pt x="41" y="272"/>
                    </a:lnTo>
                    <a:lnTo>
                      <a:pt x="34" y="301"/>
                    </a:lnTo>
                    <a:lnTo>
                      <a:pt x="21" y="333"/>
                    </a:lnTo>
                    <a:lnTo>
                      <a:pt x="9" y="352"/>
                    </a:lnTo>
                    <a:lnTo>
                      <a:pt x="0" y="362"/>
                    </a:lnTo>
                    <a:lnTo>
                      <a:pt x="3" y="378"/>
                    </a:lnTo>
                    <a:lnTo>
                      <a:pt x="12" y="415"/>
                    </a:lnTo>
                    <a:lnTo>
                      <a:pt x="21" y="456"/>
                    </a:lnTo>
                    <a:lnTo>
                      <a:pt x="41" y="483"/>
                    </a:lnTo>
                    <a:lnTo>
                      <a:pt x="57" y="507"/>
                    </a:lnTo>
                    <a:lnTo>
                      <a:pt x="66" y="540"/>
                    </a:lnTo>
                    <a:lnTo>
                      <a:pt x="89" y="567"/>
                    </a:lnTo>
                    <a:lnTo>
                      <a:pt x="128" y="589"/>
                    </a:lnTo>
                    <a:lnTo>
                      <a:pt x="160" y="593"/>
                    </a:lnTo>
                    <a:lnTo>
                      <a:pt x="205" y="599"/>
                    </a:lnTo>
                    <a:lnTo>
                      <a:pt x="251" y="605"/>
                    </a:lnTo>
                    <a:lnTo>
                      <a:pt x="303" y="607"/>
                    </a:lnTo>
                    <a:lnTo>
                      <a:pt x="352" y="608"/>
                    </a:lnTo>
                    <a:lnTo>
                      <a:pt x="401" y="610"/>
                    </a:lnTo>
                    <a:lnTo>
                      <a:pt x="441" y="610"/>
                    </a:lnTo>
                    <a:lnTo>
                      <a:pt x="472" y="608"/>
                    </a:lnTo>
                    <a:lnTo>
                      <a:pt x="497" y="607"/>
                    </a:lnTo>
                    <a:lnTo>
                      <a:pt x="520" y="607"/>
                    </a:lnTo>
                    <a:lnTo>
                      <a:pt x="541" y="607"/>
                    </a:lnTo>
                    <a:lnTo>
                      <a:pt x="564" y="608"/>
                    </a:lnTo>
                    <a:lnTo>
                      <a:pt x="582" y="610"/>
                    </a:lnTo>
                    <a:lnTo>
                      <a:pt x="598" y="616"/>
                    </a:lnTo>
                    <a:lnTo>
                      <a:pt x="618" y="622"/>
                    </a:lnTo>
                    <a:lnTo>
                      <a:pt x="632" y="628"/>
                    </a:lnTo>
                    <a:lnTo>
                      <a:pt x="660" y="644"/>
                    </a:lnTo>
                    <a:lnTo>
                      <a:pt x="680" y="663"/>
                    </a:lnTo>
                    <a:lnTo>
                      <a:pt x="685" y="683"/>
                    </a:lnTo>
                    <a:lnTo>
                      <a:pt x="684" y="706"/>
                    </a:lnTo>
                    <a:lnTo>
                      <a:pt x="671" y="730"/>
                    </a:lnTo>
                    <a:lnTo>
                      <a:pt x="671" y="743"/>
                    </a:lnTo>
                    <a:lnTo>
                      <a:pt x="689" y="757"/>
                    </a:lnTo>
                    <a:lnTo>
                      <a:pt x="730" y="767"/>
                    </a:lnTo>
                    <a:lnTo>
                      <a:pt x="762" y="779"/>
                    </a:lnTo>
                    <a:lnTo>
                      <a:pt x="771" y="798"/>
                    </a:lnTo>
                    <a:lnTo>
                      <a:pt x="766" y="824"/>
                    </a:lnTo>
                    <a:lnTo>
                      <a:pt x="762" y="847"/>
                    </a:lnTo>
                    <a:lnTo>
                      <a:pt x="762" y="874"/>
                    </a:lnTo>
                    <a:lnTo>
                      <a:pt x="758" y="904"/>
                    </a:lnTo>
                    <a:lnTo>
                      <a:pt x="753" y="937"/>
                    </a:lnTo>
                    <a:lnTo>
                      <a:pt x="750" y="974"/>
                    </a:lnTo>
                    <a:lnTo>
                      <a:pt x="741" y="990"/>
                    </a:lnTo>
                    <a:lnTo>
                      <a:pt x="730" y="1006"/>
                    </a:lnTo>
                    <a:lnTo>
                      <a:pt x="726" y="1021"/>
                    </a:lnTo>
                    <a:lnTo>
                      <a:pt x="737" y="1045"/>
                    </a:lnTo>
                    <a:lnTo>
                      <a:pt x="750" y="1060"/>
                    </a:lnTo>
                    <a:lnTo>
                      <a:pt x="762" y="1088"/>
                    </a:lnTo>
                    <a:lnTo>
                      <a:pt x="778" y="1111"/>
                    </a:lnTo>
                    <a:lnTo>
                      <a:pt x="790" y="1129"/>
                    </a:lnTo>
                    <a:lnTo>
                      <a:pt x="806" y="1146"/>
                    </a:lnTo>
                    <a:lnTo>
                      <a:pt x="828" y="1174"/>
                    </a:lnTo>
                    <a:lnTo>
                      <a:pt x="849" y="1205"/>
                    </a:lnTo>
                    <a:lnTo>
                      <a:pt x="865" y="1227"/>
                    </a:lnTo>
                    <a:lnTo>
                      <a:pt x="876" y="1254"/>
                    </a:lnTo>
                    <a:lnTo>
                      <a:pt x="890" y="1295"/>
                    </a:lnTo>
                    <a:lnTo>
                      <a:pt x="910" y="1328"/>
                    </a:lnTo>
                    <a:lnTo>
                      <a:pt x="931" y="1352"/>
                    </a:lnTo>
                    <a:lnTo>
                      <a:pt x="947" y="1356"/>
                    </a:lnTo>
                    <a:lnTo>
                      <a:pt x="972" y="1358"/>
                    </a:lnTo>
                    <a:lnTo>
                      <a:pt x="999" y="1360"/>
                    </a:lnTo>
                    <a:lnTo>
                      <a:pt x="1033" y="1360"/>
                    </a:lnTo>
                    <a:lnTo>
                      <a:pt x="1061" y="1358"/>
                    </a:lnTo>
                    <a:lnTo>
                      <a:pt x="1090" y="1354"/>
                    </a:lnTo>
                    <a:lnTo>
                      <a:pt x="1111" y="1342"/>
                    </a:lnTo>
                    <a:lnTo>
                      <a:pt x="1131" y="1328"/>
                    </a:lnTo>
                    <a:lnTo>
                      <a:pt x="1143" y="1315"/>
                    </a:lnTo>
                    <a:lnTo>
                      <a:pt x="1164" y="1303"/>
                    </a:lnTo>
                    <a:lnTo>
                      <a:pt x="1188" y="1289"/>
                    </a:lnTo>
                    <a:lnTo>
                      <a:pt x="1209" y="1277"/>
                    </a:lnTo>
                    <a:lnTo>
                      <a:pt x="1230" y="1268"/>
                    </a:lnTo>
                    <a:lnTo>
                      <a:pt x="1250" y="1258"/>
                    </a:lnTo>
                    <a:lnTo>
                      <a:pt x="1262" y="1246"/>
                    </a:lnTo>
                    <a:lnTo>
                      <a:pt x="1275" y="1238"/>
                    </a:lnTo>
                    <a:lnTo>
                      <a:pt x="1282" y="1217"/>
                    </a:lnTo>
                    <a:lnTo>
                      <a:pt x="1275" y="1191"/>
                    </a:lnTo>
                    <a:lnTo>
                      <a:pt x="1266" y="1170"/>
                    </a:lnTo>
                    <a:lnTo>
                      <a:pt x="1262" y="1152"/>
                    </a:lnTo>
                    <a:lnTo>
                      <a:pt x="1275" y="1144"/>
                    </a:lnTo>
                    <a:lnTo>
                      <a:pt x="1300" y="1144"/>
                    </a:lnTo>
                    <a:lnTo>
                      <a:pt x="1328" y="1146"/>
                    </a:lnTo>
                    <a:lnTo>
                      <a:pt x="1351" y="1144"/>
                    </a:lnTo>
                    <a:lnTo>
                      <a:pt x="1353" y="1135"/>
                    </a:lnTo>
                    <a:lnTo>
                      <a:pt x="1351" y="1115"/>
                    </a:lnTo>
                    <a:lnTo>
                      <a:pt x="1348" y="1094"/>
                    </a:lnTo>
                    <a:lnTo>
                      <a:pt x="1351" y="1072"/>
                    </a:lnTo>
                    <a:lnTo>
                      <a:pt x="1369" y="1056"/>
                    </a:lnTo>
                    <a:lnTo>
                      <a:pt x="1398" y="1041"/>
                    </a:lnTo>
                    <a:lnTo>
                      <a:pt x="1426" y="1027"/>
                    </a:lnTo>
                    <a:lnTo>
                      <a:pt x="1446" y="1013"/>
                    </a:lnTo>
                    <a:lnTo>
                      <a:pt x="1455" y="982"/>
                    </a:lnTo>
                    <a:lnTo>
                      <a:pt x="1458" y="945"/>
                    </a:lnTo>
                    <a:lnTo>
                      <a:pt x="1455" y="906"/>
                    </a:lnTo>
                    <a:lnTo>
                      <a:pt x="1455" y="873"/>
                    </a:lnTo>
                    <a:lnTo>
                      <a:pt x="1446" y="853"/>
                    </a:lnTo>
                    <a:lnTo>
                      <a:pt x="1423" y="839"/>
                    </a:lnTo>
                    <a:lnTo>
                      <a:pt x="1405" y="828"/>
                    </a:lnTo>
                    <a:lnTo>
                      <a:pt x="1398" y="808"/>
                    </a:lnTo>
                    <a:lnTo>
                      <a:pt x="1410" y="783"/>
                    </a:lnTo>
                    <a:lnTo>
                      <a:pt x="1442" y="761"/>
                    </a:lnTo>
                    <a:lnTo>
                      <a:pt x="1474" y="738"/>
                    </a:lnTo>
                    <a:lnTo>
                      <a:pt x="1501" y="706"/>
                    </a:lnTo>
                    <a:lnTo>
                      <a:pt x="1520" y="687"/>
                    </a:lnTo>
                    <a:lnTo>
                      <a:pt x="1545" y="659"/>
                    </a:lnTo>
                    <a:lnTo>
                      <a:pt x="1577" y="628"/>
                    </a:lnTo>
                    <a:lnTo>
                      <a:pt x="1610" y="599"/>
                    </a:lnTo>
                    <a:lnTo>
                      <a:pt x="1636" y="567"/>
                    </a:lnTo>
                    <a:lnTo>
                      <a:pt x="1663" y="546"/>
                    </a:lnTo>
                    <a:lnTo>
                      <a:pt x="1677" y="528"/>
                    </a:lnTo>
                    <a:lnTo>
                      <a:pt x="1684" y="524"/>
                    </a:lnTo>
                    <a:lnTo>
                      <a:pt x="1665" y="517"/>
                    </a:lnTo>
                    <a:lnTo>
                      <a:pt x="1640" y="517"/>
                    </a:lnTo>
                    <a:lnTo>
                      <a:pt x="1615" y="524"/>
                    </a:lnTo>
                    <a:lnTo>
                      <a:pt x="1590" y="524"/>
                    </a:lnTo>
                    <a:lnTo>
                      <a:pt x="1574" y="517"/>
                    </a:lnTo>
                    <a:lnTo>
                      <a:pt x="1558" y="509"/>
                    </a:lnTo>
                    <a:lnTo>
                      <a:pt x="1533" y="495"/>
                    </a:lnTo>
                    <a:lnTo>
                      <a:pt x="1504" y="483"/>
                    </a:lnTo>
                    <a:lnTo>
                      <a:pt x="1480" y="468"/>
                    </a:lnTo>
                    <a:lnTo>
                      <a:pt x="1455" y="450"/>
                    </a:lnTo>
                    <a:lnTo>
                      <a:pt x="1433" y="434"/>
                    </a:lnTo>
                    <a:lnTo>
                      <a:pt x="1417" y="423"/>
                    </a:lnTo>
                    <a:lnTo>
                      <a:pt x="1385" y="395"/>
                    </a:lnTo>
                    <a:lnTo>
                      <a:pt x="1366" y="362"/>
                    </a:lnTo>
                    <a:lnTo>
                      <a:pt x="1344" y="329"/>
                    </a:lnTo>
                    <a:lnTo>
                      <a:pt x="1332" y="297"/>
                    </a:lnTo>
                    <a:lnTo>
                      <a:pt x="1325" y="262"/>
                    </a:lnTo>
                    <a:lnTo>
                      <a:pt x="1323" y="223"/>
                    </a:lnTo>
                    <a:lnTo>
                      <a:pt x="1323" y="192"/>
                    </a:lnTo>
                    <a:lnTo>
                      <a:pt x="1323" y="178"/>
                    </a:lnTo>
                    <a:lnTo>
                      <a:pt x="1307" y="164"/>
                    </a:lnTo>
                    <a:lnTo>
                      <a:pt x="1282" y="151"/>
                    </a:lnTo>
                    <a:lnTo>
                      <a:pt x="1253" y="143"/>
                    </a:lnTo>
                    <a:lnTo>
                      <a:pt x="1228" y="139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65" name="Freeform 1138"/>
              <p:cNvSpPr/>
              <p:nvPr/>
            </p:nvSpPr>
            <p:spPr>
              <a:xfrm>
                <a:off x="5703840" y="310572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342" h="149">
                    <a:moveTo>
                      <a:pt x="58" y="77"/>
                    </a:moveTo>
                    <a:lnTo>
                      <a:pt x="85" y="73"/>
                    </a:lnTo>
                    <a:lnTo>
                      <a:pt x="107" y="67"/>
                    </a:lnTo>
                    <a:lnTo>
                      <a:pt x="128" y="55"/>
                    </a:lnTo>
                    <a:lnTo>
                      <a:pt x="144" y="44"/>
                    </a:lnTo>
                    <a:lnTo>
                      <a:pt x="160" y="36"/>
                    </a:lnTo>
                    <a:lnTo>
                      <a:pt x="178" y="24"/>
                    </a:lnTo>
                    <a:lnTo>
                      <a:pt x="190" y="20"/>
                    </a:lnTo>
                    <a:lnTo>
                      <a:pt x="210" y="18"/>
                    </a:lnTo>
                    <a:lnTo>
                      <a:pt x="229" y="16"/>
                    </a:lnTo>
                    <a:lnTo>
                      <a:pt x="247" y="12"/>
                    </a:lnTo>
                    <a:lnTo>
                      <a:pt x="263" y="6"/>
                    </a:lnTo>
                    <a:lnTo>
                      <a:pt x="283" y="2"/>
                    </a:lnTo>
                    <a:lnTo>
                      <a:pt x="297" y="0"/>
                    </a:lnTo>
                    <a:lnTo>
                      <a:pt x="310" y="0"/>
                    </a:lnTo>
                    <a:lnTo>
                      <a:pt x="326" y="4"/>
                    </a:lnTo>
                    <a:lnTo>
                      <a:pt x="333" y="18"/>
                    </a:lnTo>
                    <a:lnTo>
                      <a:pt x="342" y="44"/>
                    </a:lnTo>
                    <a:lnTo>
                      <a:pt x="329" y="67"/>
                    </a:lnTo>
                    <a:lnTo>
                      <a:pt x="297" y="81"/>
                    </a:lnTo>
                    <a:lnTo>
                      <a:pt x="251" y="87"/>
                    </a:lnTo>
                    <a:lnTo>
                      <a:pt x="226" y="87"/>
                    </a:lnTo>
                    <a:lnTo>
                      <a:pt x="201" y="87"/>
                    </a:lnTo>
                    <a:lnTo>
                      <a:pt x="178" y="89"/>
                    </a:lnTo>
                    <a:lnTo>
                      <a:pt x="164" y="90"/>
                    </a:lnTo>
                    <a:lnTo>
                      <a:pt x="151" y="92"/>
                    </a:lnTo>
                    <a:lnTo>
                      <a:pt x="139" y="98"/>
                    </a:lnTo>
                    <a:lnTo>
                      <a:pt x="131" y="104"/>
                    </a:lnTo>
                    <a:lnTo>
                      <a:pt x="124" y="110"/>
                    </a:lnTo>
                    <a:lnTo>
                      <a:pt x="110" y="128"/>
                    </a:lnTo>
                    <a:lnTo>
                      <a:pt x="85" y="141"/>
                    </a:lnTo>
                    <a:lnTo>
                      <a:pt x="50" y="149"/>
                    </a:lnTo>
                    <a:lnTo>
                      <a:pt x="19" y="143"/>
                    </a:lnTo>
                    <a:lnTo>
                      <a:pt x="0" y="126"/>
                    </a:lnTo>
                    <a:lnTo>
                      <a:pt x="0" y="106"/>
                    </a:lnTo>
                    <a:lnTo>
                      <a:pt x="19" y="89"/>
                    </a:lnTo>
                    <a:lnTo>
                      <a:pt x="58" y="7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66" name="Freeform 1139"/>
              <p:cNvSpPr/>
              <p:nvPr/>
            </p:nvSpPr>
            <p:spPr>
              <a:xfrm>
                <a:off x="5580000" y="3238200"/>
                <a:ext cx="84240" cy="69840"/>
              </a:xfrm>
              <a:custGeom>
                <a:avLst/>
                <a:gdLst/>
                <a:ahLst/>
                <a:rect l="l" t="t" r="r" b="b"/>
                <a:pathLst>
                  <a:path w="107" h="92">
                    <a:moveTo>
                      <a:pt x="91" y="0"/>
                    </a:moveTo>
                    <a:lnTo>
                      <a:pt x="86" y="2"/>
                    </a:lnTo>
                    <a:lnTo>
                      <a:pt x="73" y="3"/>
                    </a:lnTo>
                    <a:lnTo>
                      <a:pt x="53" y="9"/>
                    </a:lnTo>
                    <a:lnTo>
                      <a:pt x="34" y="17"/>
                    </a:lnTo>
                    <a:lnTo>
                      <a:pt x="20" y="25"/>
                    </a:lnTo>
                    <a:lnTo>
                      <a:pt x="4" y="31"/>
                    </a:lnTo>
                    <a:lnTo>
                      <a:pt x="0" y="37"/>
                    </a:lnTo>
                    <a:lnTo>
                      <a:pt x="4" y="43"/>
                    </a:lnTo>
                    <a:lnTo>
                      <a:pt x="32" y="60"/>
                    </a:lnTo>
                    <a:lnTo>
                      <a:pt x="69" y="80"/>
                    </a:lnTo>
                    <a:lnTo>
                      <a:pt x="98" y="92"/>
                    </a:lnTo>
                    <a:lnTo>
                      <a:pt x="107" y="82"/>
                    </a:lnTo>
                    <a:lnTo>
                      <a:pt x="103" y="56"/>
                    </a:lnTo>
                    <a:lnTo>
                      <a:pt x="100" y="29"/>
                    </a:lnTo>
                    <a:lnTo>
                      <a:pt x="94" y="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67" name="Freeform 1140"/>
              <p:cNvSpPr/>
              <p:nvPr/>
            </p:nvSpPr>
            <p:spPr>
              <a:xfrm>
                <a:off x="4273560" y="3516480"/>
                <a:ext cx="235080" cy="185400"/>
              </a:xfrm>
              <a:custGeom>
                <a:avLst/>
                <a:gdLst/>
                <a:ahLst/>
                <a:rect l="l" t="t" r="r" b="b"/>
                <a:pathLst>
                  <a:path w="297" h="245">
                    <a:moveTo>
                      <a:pt x="4" y="128"/>
                    </a:moveTo>
                    <a:lnTo>
                      <a:pt x="0" y="116"/>
                    </a:lnTo>
                    <a:lnTo>
                      <a:pt x="7" y="106"/>
                    </a:lnTo>
                    <a:lnTo>
                      <a:pt x="16" y="100"/>
                    </a:lnTo>
                    <a:lnTo>
                      <a:pt x="29" y="96"/>
                    </a:lnTo>
                    <a:lnTo>
                      <a:pt x="48" y="90"/>
                    </a:lnTo>
                    <a:lnTo>
                      <a:pt x="66" y="83"/>
                    </a:lnTo>
                    <a:lnTo>
                      <a:pt x="82" y="77"/>
                    </a:lnTo>
                    <a:lnTo>
                      <a:pt x="98" y="63"/>
                    </a:lnTo>
                    <a:lnTo>
                      <a:pt x="114" y="47"/>
                    </a:lnTo>
                    <a:lnTo>
                      <a:pt x="126" y="34"/>
                    </a:lnTo>
                    <a:lnTo>
                      <a:pt x="142" y="20"/>
                    </a:lnTo>
                    <a:lnTo>
                      <a:pt x="162" y="12"/>
                    </a:lnTo>
                    <a:lnTo>
                      <a:pt x="176" y="2"/>
                    </a:lnTo>
                    <a:lnTo>
                      <a:pt x="196" y="0"/>
                    </a:lnTo>
                    <a:lnTo>
                      <a:pt x="219" y="2"/>
                    </a:lnTo>
                    <a:lnTo>
                      <a:pt x="244" y="12"/>
                    </a:lnTo>
                    <a:lnTo>
                      <a:pt x="276" y="36"/>
                    </a:lnTo>
                    <a:lnTo>
                      <a:pt x="290" y="61"/>
                    </a:lnTo>
                    <a:lnTo>
                      <a:pt x="290" y="86"/>
                    </a:lnTo>
                    <a:lnTo>
                      <a:pt x="294" y="116"/>
                    </a:lnTo>
                    <a:lnTo>
                      <a:pt x="297" y="135"/>
                    </a:lnTo>
                    <a:lnTo>
                      <a:pt x="290" y="157"/>
                    </a:lnTo>
                    <a:lnTo>
                      <a:pt x="281" y="172"/>
                    </a:lnTo>
                    <a:lnTo>
                      <a:pt x="269" y="190"/>
                    </a:lnTo>
                    <a:lnTo>
                      <a:pt x="262" y="202"/>
                    </a:lnTo>
                    <a:lnTo>
                      <a:pt x="249" y="216"/>
                    </a:lnTo>
                    <a:lnTo>
                      <a:pt x="237" y="225"/>
                    </a:lnTo>
                    <a:lnTo>
                      <a:pt x="219" y="233"/>
                    </a:lnTo>
                    <a:lnTo>
                      <a:pt x="196" y="243"/>
                    </a:lnTo>
                    <a:lnTo>
                      <a:pt x="183" y="245"/>
                    </a:lnTo>
                    <a:lnTo>
                      <a:pt x="167" y="241"/>
                    </a:lnTo>
                    <a:lnTo>
                      <a:pt x="155" y="227"/>
                    </a:lnTo>
                    <a:lnTo>
                      <a:pt x="142" y="200"/>
                    </a:lnTo>
                    <a:lnTo>
                      <a:pt x="135" y="180"/>
                    </a:lnTo>
                    <a:lnTo>
                      <a:pt x="139" y="165"/>
                    </a:lnTo>
                    <a:lnTo>
                      <a:pt x="167" y="157"/>
                    </a:lnTo>
                    <a:lnTo>
                      <a:pt x="199" y="141"/>
                    </a:lnTo>
                    <a:lnTo>
                      <a:pt x="221" y="118"/>
                    </a:lnTo>
                    <a:lnTo>
                      <a:pt x="221" y="96"/>
                    </a:lnTo>
                    <a:lnTo>
                      <a:pt x="203" y="83"/>
                    </a:lnTo>
                    <a:lnTo>
                      <a:pt x="191" y="81"/>
                    </a:lnTo>
                    <a:lnTo>
                      <a:pt x="171" y="79"/>
                    </a:lnTo>
                    <a:lnTo>
                      <a:pt x="151" y="79"/>
                    </a:lnTo>
                    <a:lnTo>
                      <a:pt x="135" y="81"/>
                    </a:lnTo>
                    <a:lnTo>
                      <a:pt x="121" y="84"/>
                    </a:lnTo>
                    <a:lnTo>
                      <a:pt x="105" y="90"/>
                    </a:lnTo>
                    <a:lnTo>
                      <a:pt x="94" y="98"/>
                    </a:lnTo>
                    <a:lnTo>
                      <a:pt x="89" y="110"/>
                    </a:lnTo>
                    <a:lnTo>
                      <a:pt x="73" y="131"/>
                    </a:lnTo>
                    <a:lnTo>
                      <a:pt x="50" y="147"/>
                    </a:lnTo>
                    <a:lnTo>
                      <a:pt x="21" y="149"/>
                    </a:lnTo>
                    <a:lnTo>
                      <a:pt x="4" y="128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68" name="Freeform 1141"/>
              <p:cNvSpPr/>
              <p:nvPr/>
            </p:nvSpPr>
            <p:spPr>
              <a:xfrm>
                <a:off x="6846840" y="4615560"/>
                <a:ext cx="811440" cy="416520"/>
              </a:xfrm>
              <a:custGeom>
                <a:avLst/>
                <a:gdLst/>
                <a:ahLst/>
                <a:rect l="l" t="t" r="r" b="b"/>
                <a:pathLst>
                  <a:path w="1022" h="548">
                    <a:moveTo>
                      <a:pt x="720" y="107"/>
                    </a:moveTo>
                    <a:lnTo>
                      <a:pt x="700" y="106"/>
                    </a:lnTo>
                    <a:lnTo>
                      <a:pt x="682" y="104"/>
                    </a:lnTo>
                    <a:lnTo>
                      <a:pt x="666" y="104"/>
                    </a:lnTo>
                    <a:lnTo>
                      <a:pt x="647" y="102"/>
                    </a:lnTo>
                    <a:lnTo>
                      <a:pt x="625" y="100"/>
                    </a:lnTo>
                    <a:lnTo>
                      <a:pt x="609" y="96"/>
                    </a:lnTo>
                    <a:lnTo>
                      <a:pt x="597" y="96"/>
                    </a:lnTo>
                    <a:lnTo>
                      <a:pt x="584" y="94"/>
                    </a:lnTo>
                    <a:lnTo>
                      <a:pt x="574" y="88"/>
                    </a:lnTo>
                    <a:lnTo>
                      <a:pt x="574" y="78"/>
                    </a:lnTo>
                    <a:lnTo>
                      <a:pt x="584" y="68"/>
                    </a:lnTo>
                    <a:lnTo>
                      <a:pt x="602" y="59"/>
                    </a:lnTo>
                    <a:lnTo>
                      <a:pt x="606" y="49"/>
                    </a:lnTo>
                    <a:lnTo>
                      <a:pt x="588" y="37"/>
                    </a:lnTo>
                    <a:lnTo>
                      <a:pt x="561" y="25"/>
                    </a:lnTo>
                    <a:lnTo>
                      <a:pt x="545" y="17"/>
                    </a:lnTo>
                    <a:lnTo>
                      <a:pt x="533" y="8"/>
                    </a:lnTo>
                    <a:lnTo>
                      <a:pt x="524" y="2"/>
                    </a:lnTo>
                    <a:lnTo>
                      <a:pt x="511" y="0"/>
                    </a:lnTo>
                    <a:lnTo>
                      <a:pt x="508" y="6"/>
                    </a:lnTo>
                    <a:lnTo>
                      <a:pt x="492" y="17"/>
                    </a:lnTo>
                    <a:lnTo>
                      <a:pt x="463" y="27"/>
                    </a:lnTo>
                    <a:lnTo>
                      <a:pt x="433" y="39"/>
                    </a:lnTo>
                    <a:lnTo>
                      <a:pt x="405" y="49"/>
                    </a:lnTo>
                    <a:lnTo>
                      <a:pt x="385" y="57"/>
                    </a:lnTo>
                    <a:lnTo>
                      <a:pt x="373" y="64"/>
                    </a:lnTo>
                    <a:lnTo>
                      <a:pt x="357" y="66"/>
                    </a:lnTo>
                    <a:lnTo>
                      <a:pt x="335" y="68"/>
                    </a:lnTo>
                    <a:lnTo>
                      <a:pt x="319" y="72"/>
                    </a:lnTo>
                    <a:lnTo>
                      <a:pt x="300" y="74"/>
                    </a:lnTo>
                    <a:lnTo>
                      <a:pt x="278" y="82"/>
                    </a:lnTo>
                    <a:lnTo>
                      <a:pt x="262" y="88"/>
                    </a:lnTo>
                    <a:lnTo>
                      <a:pt x="241" y="100"/>
                    </a:lnTo>
                    <a:lnTo>
                      <a:pt x="221" y="107"/>
                    </a:lnTo>
                    <a:lnTo>
                      <a:pt x="205" y="121"/>
                    </a:lnTo>
                    <a:lnTo>
                      <a:pt x="193" y="135"/>
                    </a:lnTo>
                    <a:lnTo>
                      <a:pt x="180" y="147"/>
                    </a:lnTo>
                    <a:lnTo>
                      <a:pt x="171" y="154"/>
                    </a:lnTo>
                    <a:lnTo>
                      <a:pt x="155" y="164"/>
                    </a:lnTo>
                    <a:lnTo>
                      <a:pt x="143" y="170"/>
                    </a:lnTo>
                    <a:lnTo>
                      <a:pt x="127" y="178"/>
                    </a:lnTo>
                    <a:lnTo>
                      <a:pt x="107" y="188"/>
                    </a:lnTo>
                    <a:lnTo>
                      <a:pt x="86" y="197"/>
                    </a:lnTo>
                    <a:lnTo>
                      <a:pt x="66" y="205"/>
                    </a:lnTo>
                    <a:lnTo>
                      <a:pt x="38" y="209"/>
                    </a:lnTo>
                    <a:lnTo>
                      <a:pt x="20" y="209"/>
                    </a:lnTo>
                    <a:lnTo>
                      <a:pt x="4" y="225"/>
                    </a:lnTo>
                    <a:lnTo>
                      <a:pt x="0" y="282"/>
                    </a:lnTo>
                    <a:lnTo>
                      <a:pt x="0" y="303"/>
                    </a:lnTo>
                    <a:lnTo>
                      <a:pt x="4" y="317"/>
                    </a:lnTo>
                    <a:lnTo>
                      <a:pt x="8" y="325"/>
                    </a:lnTo>
                    <a:lnTo>
                      <a:pt x="20" y="338"/>
                    </a:lnTo>
                    <a:lnTo>
                      <a:pt x="34" y="348"/>
                    </a:lnTo>
                    <a:lnTo>
                      <a:pt x="54" y="356"/>
                    </a:lnTo>
                    <a:lnTo>
                      <a:pt x="61" y="366"/>
                    </a:lnTo>
                    <a:lnTo>
                      <a:pt x="57" y="381"/>
                    </a:lnTo>
                    <a:lnTo>
                      <a:pt x="48" y="397"/>
                    </a:lnTo>
                    <a:lnTo>
                      <a:pt x="34" y="407"/>
                    </a:lnTo>
                    <a:lnTo>
                      <a:pt x="29" y="422"/>
                    </a:lnTo>
                    <a:lnTo>
                      <a:pt x="29" y="444"/>
                    </a:lnTo>
                    <a:lnTo>
                      <a:pt x="34" y="452"/>
                    </a:lnTo>
                    <a:lnTo>
                      <a:pt x="48" y="462"/>
                    </a:lnTo>
                    <a:lnTo>
                      <a:pt x="70" y="467"/>
                    </a:lnTo>
                    <a:lnTo>
                      <a:pt x="91" y="469"/>
                    </a:lnTo>
                    <a:lnTo>
                      <a:pt x="111" y="469"/>
                    </a:lnTo>
                    <a:lnTo>
                      <a:pt x="139" y="469"/>
                    </a:lnTo>
                    <a:lnTo>
                      <a:pt x="159" y="467"/>
                    </a:lnTo>
                    <a:lnTo>
                      <a:pt x="177" y="463"/>
                    </a:lnTo>
                    <a:lnTo>
                      <a:pt x="193" y="458"/>
                    </a:lnTo>
                    <a:lnTo>
                      <a:pt x="212" y="452"/>
                    </a:lnTo>
                    <a:lnTo>
                      <a:pt x="228" y="448"/>
                    </a:lnTo>
                    <a:lnTo>
                      <a:pt x="246" y="444"/>
                    </a:lnTo>
                    <a:lnTo>
                      <a:pt x="269" y="438"/>
                    </a:lnTo>
                    <a:lnTo>
                      <a:pt x="291" y="432"/>
                    </a:lnTo>
                    <a:lnTo>
                      <a:pt x="312" y="428"/>
                    </a:lnTo>
                    <a:lnTo>
                      <a:pt x="335" y="422"/>
                    </a:lnTo>
                    <a:lnTo>
                      <a:pt x="360" y="418"/>
                    </a:lnTo>
                    <a:lnTo>
                      <a:pt x="389" y="415"/>
                    </a:lnTo>
                    <a:lnTo>
                      <a:pt x="421" y="413"/>
                    </a:lnTo>
                    <a:lnTo>
                      <a:pt x="454" y="411"/>
                    </a:lnTo>
                    <a:lnTo>
                      <a:pt x="487" y="413"/>
                    </a:lnTo>
                    <a:lnTo>
                      <a:pt x="520" y="415"/>
                    </a:lnTo>
                    <a:lnTo>
                      <a:pt x="549" y="422"/>
                    </a:lnTo>
                    <a:lnTo>
                      <a:pt x="574" y="430"/>
                    </a:lnTo>
                    <a:lnTo>
                      <a:pt x="597" y="440"/>
                    </a:lnTo>
                    <a:lnTo>
                      <a:pt x="618" y="452"/>
                    </a:lnTo>
                    <a:lnTo>
                      <a:pt x="634" y="465"/>
                    </a:lnTo>
                    <a:lnTo>
                      <a:pt x="654" y="481"/>
                    </a:lnTo>
                    <a:lnTo>
                      <a:pt x="670" y="495"/>
                    </a:lnTo>
                    <a:lnTo>
                      <a:pt x="688" y="506"/>
                    </a:lnTo>
                    <a:lnTo>
                      <a:pt x="698" y="520"/>
                    </a:lnTo>
                    <a:lnTo>
                      <a:pt x="707" y="532"/>
                    </a:lnTo>
                    <a:lnTo>
                      <a:pt x="723" y="540"/>
                    </a:lnTo>
                    <a:lnTo>
                      <a:pt x="745" y="546"/>
                    </a:lnTo>
                    <a:lnTo>
                      <a:pt x="770" y="548"/>
                    </a:lnTo>
                    <a:lnTo>
                      <a:pt x="798" y="546"/>
                    </a:lnTo>
                    <a:lnTo>
                      <a:pt x="827" y="544"/>
                    </a:lnTo>
                    <a:lnTo>
                      <a:pt x="850" y="540"/>
                    </a:lnTo>
                    <a:lnTo>
                      <a:pt x="868" y="534"/>
                    </a:lnTo>
                    <a:lnTo>
                      <a:pt x="875" y="528"/>
                    </a:lnTo>
                    <a:lnTo>
                      <a:pt x="884" y="510"/>
                    </a:lnTo>
                    <a:lnTo>
                      <a:pt x="896" y="487"/>
                    </a:lnTo>
                    <a:lnTo>
                      <a:pt x="912" y="467"/>
                    </a:lnTo>
                    <a:lnTo>
                      <a:pt x="919" y="450"/>
                    </a:lnTo>
                    <a:lnTo>
                      <a:pt x="932" y="434"/>
                    </a:lnTo>
                    <a:lnTo>
                      <a:pt x="953" y="418"/>
                    </a:lnTo>
                    <a:lnTo>
                      <a:pt x="974" y="401"/>
                    </a:lnTo>
                    <a:lnTo>
                      <a:pt x="985" y="383"/>
                    </a:lnTo>
                    <a:lnTo>
                      <a:pt x="989" y="366"/>
                    </a:lnTo>
                    <a:lnTo>
                      <a:pt x="1001" y="346"/>
                    </a:lnTo>
                    <a:lnTo>
                      <a:pt x="1014" y="325"/>
                    </a:lnTo>
                    <a:lnTo>
                      <a:pt x="1022" y="305"/>
                    </a:lnTo>
                    <a:lnTo>
                      <a:pt x="1015" y="297"/>
                    </a:lnTo>
                    <a:lnTo>
                      <a:pt x="1010" y="284"/>
                    </a:lnTo>
                    <a:lnTo>
                      <a:pt x="994" y="272"/>
                    </a:lnTo>
                    <a:lnTo>
                      <a:pt x="982" y="264"/>
                    </a:lnTo>
                    <a:lnTo>
                      <a:pt x="962" y="250"/>
                    </a:lnTo>
                    <a:lnTo>
                      <a:pt x="944" y="240"/>
                    </a:lnTo>
                    <a:lnTo>
                      <a:pt x="928" y="235"/>
                    </a:lnTo>
                    <a:lnTo>
                      <a:pt x="916" y="223"/>
                    </a:lnTo>
                    <a:lnTo>
                      <a:pt x="884" y="199"/>
                    </a:lnTo>
                    <a:lnTo>
                      <a:pt x="859" y="178"/>
                    </a:lnTo>
                    <a:lnTo>
                      <a:pt x="836" y="160"/>
                    </a:lnTo>
                    <a:lnTo>
                      <a:pt x="823" y="141"/>
                    </a:lnTo>
                    <a:lnTo>
                      <a:pt x="818" y="117"/>
                    </a:lnTo>
                    <a:lnTo>
                      <a:pt x="814" y="90"/>
                    </a:lnTo>
                    <a:lnTo>
                      <a:pt x="811" y="68"/>
                    </a:lnTo>
                    <a:lnTo>
                      <a:pt x="798" y="49"/>
                    </a:lnTo>
                    <a:lnTo>
                      <a:pt x="786" y="33"/>
                    </a:lnTo>
                    <a:lnTo>
                      <a:pt x="766" y="19"/>
                    </a:lnTo>
                    <a:lnTo>
                      <a:pt x="748" y="6"/>
                    </a:lnTo>
                    <a:lnTo>
                      <a:pt x="736" y="0"/>
                    </a:lnTo>
                    <a:lnTo>
                      <a:pt x="741" y="23"/>
                    </a:lnTo>
                    <a:lnTo>
                      <a:pt x="748" y="49"/>
                    </a:lnTo>
                    <a:lnTo>
                      <a:pt x="748" y="72"/>
                    </a:lnTo>
                    <a:lnTo>
                      <a:pt x="748" y="88"/>
                    </a:lnTo>
                    <a:lnTo>
                      <a:pt x="748" y="100"/>
                    </a:lnTo>
                    <a:lnTo>
                      <a:pt x="741" y="106"/>
                    </a:lnTo>
                    <a:lnTo>
                      <a:pt x="736" y="107"/>
                    </a:lnTo>
                    <a:lnTo>
                      <a:pt x="720" y="10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69" name="Freeform 1142"/>
              <p:cNvSpPr/>
              <p:nvPr/>
            </p:nvSpPr>
            <p:spPr>
              <a:xfrm>
                <a:off x="6775560" y="4365000"/>
                <a:ext cx="161640" cy="147240"/>
              </a:xfrm>
              <a:custGeom>
                <a:avLst/>
                <a:gdLst/>
                <a:ahLst/>
                <a:rect l="l" t="t" r="r" b="b"/>
                <a:pathLst>
                  <a:path w="203" h="196">
                    <a:moveTo>
                      <a:pt x="59" y="71"/>
                    </a:moveTo>
                    <a:lnTo>
                      <a:pt x="84" y="63"/>
                    </a:lnTo>
                    <a:lnTo>
                      <a:pt x="104" y="51"/>
                    </a:lnTo>
                    <a:lnTo>
                      <a:pt x="120" y="37"/>
                    </a:lnTo>
                    <a:lnTo>
                      <a:pt x="139" y="22"/>
                    </a:lnTo>
                    <a:lnTo>
                      <a:pt x="155" y="8"/>
                    </a:lnTo>
                    <a:lnTo>
                      <a:pt x="178" y="0"/>
                    </a:lnTo>
                    <a:lnTo>
                      <a:pt x="196" y="4"/>
                    </a:lnTo>
                    <a:lnTo>
                      <a:pt x="203" y="24"/>
                    </a:lnTo>
                    <a:lnTo>
                      <a:pt x="203" y="51"/>
                    </a:lnTo>
                    <a:lnTo>
                      <a:pt x="200" y="71"/>
                    </a:lnTo>
                    <a:lnTo>
                      <a:pt x="194" y="86"/>
                    </a:lnTo>
                    <a:lnTo>
                      <a:pt x="196" y="104"/>
                    </a:lnTo>
                    <a:lnTo>
                      <a:pt x="196" y="122"/>
                    </a:lnTo>
                    <a:lnTo>
                      <a:pt x="191" y="139"/>
                    </a:lnTo>
                    <a:lnTo>
                      <a:pt x="175" y="155"/>
                    </a:lnTo>
                    <a:lnTo>
                      <a:pt x="152" y="163"/>
                    </a:lnTo>
                    <a:lnTo>
                      <a:pt x="129" y="169"/>
                    </a:lnTo>
                    <a:lnTo>
                      <a:pt x="107" y="174"/>
                    </a:lnTo>
                    <a:lnTo>
                      <a:pt x="91" y="182"/>
                    </a:lnTo>
                    <a:lnTo>
                      <a:pt x="77" y="190"/>
                    </a:lnTo>
                    <a:lnTo>
                      <a:pt x="68" y="196"/>
                    </a:lnTo>
                    <a:lnTo>
                      <a:pt x="48" y="192"/>
                    </a:lnTo>
                    <a:lnTo>
                      <a:pt x="29" y="184"/>
                    </a:lnTo>
                    <a:lnTo>
                      <a:pt x="16" y="172"/>
                    </a:lnTo>
                    <a:lnTo>
                      <a:pt x="0" y="151"/>
                    </a:lnTo>
                    <a:lnTo>
                      <a:pt x="0" y="120"/>
                    </a:lnTo>
                    <a:lnTo>
                      <a:pt x="20" y="90"/>
                    </a:lnTo>
                    <a:lnTo>
                      <a:pt x="59" y="7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70" name="Freeform 1143"/>
              <p:cNvSpPr/>
              <p:nvPr/>
            </p:nvSpPr>
            <p:spPr>
              <a:xfrm>
                <a:off x="6461280" y="4440960"/>
                <a:ext cx="234720" cy="150480"/>
              </a:xfrm>
              <a:custGeom>
                <a:avLst/>
                <a:gdLst/>
                <a:ahLst/>
                <a:rect l="l" t="t" r="r" b="b"/>
                <a:pathLst>
                  <a:path w="298" h="200">
                    <a:moveTo>
                      <a:pt x="0" y="4"/>
                    </a:moveTo>
                    <a:lnTo>
                      <a:pt x="4" y="18"/>
                    </a:lnTo>
                    <a:lnTo>
                      <a:pt x="34" y="25"/>
                    </a:lnTo>
                    <a:lnTo>
                      <a:pt x="66" y="39"/>
                    </a:lnTo>
                    <a:lnTo>
                      <a:pt x="88" y="57"/>
                    </a:lnTo>
                    <a:lnTo>
                      <a:pt x="100" y="72"/>
                    </a:lnTo>
                    <a:lnTo>
                      <a:pt x="113" y="86"/>
                    </a:lnTo>
                    <a:lnTo>
                      <a:pt x="121" y="98"/>
                    </a:lnTo>
                    <a:lnTo>
                      <a:pt x="134" y="114"/>
                    </a:lnTo>
                    <a:lnTo>
                      <a:pt x="146" y="131"/>
                    </a:lnTo>
                    <a:lnTo>
                      <a:pt x="168" y="151"/>
                    </a:lnTo>
                    <a:lnTo>
                      <a:pt x="189" y="170"/>
                    </a:lnTo>
                    <a:lnTo>
                      <a:pt x="214" y="194"/>
                    </a:lnTo>
                    <a:lnTo>
                      <a:pt x="232" y="200"/>
                    </a:lnTo>
                    <a:lnTo>
                      <a:pt x="255" y="200"/>
                    </a:lnTo>
                    <a:lnTo>
                      <a:pt x="276" y="198"/>
                    </a:lnTo>
                    <a:lnTo>
                      <a:pt x="294" y="188"/>
                    </a:lnTo>
                    <a:lnTo>
                      <a:pt x="298" y="176"/>
                    </a:lnTo>
                    <a:lnTo>
                      <a:pt x="292" y="160"/>
                    </a:lnTo>
                    <a:lnTo>
                      <a:pt x="276" y="143"/>
                    </a:lnTo>
                    <a:lnTo>
                      <a:pt x="255" y="131"/>
                    </a:lnTo>
                    <a:lnTo>
                      <a:pt x="235" y="121"/>
                    </a:lnTo>
                    <a:lnTo>
                      <a:pt x="221" y="110"/>
                    </a:lnTo>
                    <a:lnTo>
                      <a:pt x="198" y="102"/>
                    </a:lnTo>
                    <a:lnTo>
                      <a:pt x="180" y="90"/>
                    </a:lnTo>
                    <a:lnTo>
                      <a:pt x="164" y="80"/>
                    </a:lnTo>
                    <a:lnTo>
                      <a:pt x="152" y="70"/>
                    </a:lnTo>
                    <a:lnTo>
                      <a:pt x="139" y="59"/>
                    </a:lnTo>
                    <a:lnTo>
                      <a:pt x="130" y="51"/>
                    </a:lnTo>
                    <a:lnTo>
                      <a:pt x="118" y="37"/>
                    </a:lnTo>
                    <a:lnTo>
                      <a:pt x="105" y="25"/>
                    </a:lnTo>
                    <a:lnTo>
                      <a:pt x="89" y="20"/>
                    </a:lnTo>
                    <a:lnTo>
                      <a:pt x="72" y="18"/>
                    </a:lnTo>
                    <a:lnTo>
                      <a:pt x="56" y="14"/>
                    </a:lnTo>
                    <a:lnTo>
                      <a:pt x="34" y="4"/>
                    </a:lnTo>
                    <a:lnTo>
                      <a:pt x="1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71" name="Freeform 1144"/>
              <p:cNvSpPr/>
              <p:nvPr/>
            </p:nvSpPr>
            <p:spPr>
              <a:xfrm>
                <a:off x="7226280" y="3825000"/>
                <a:ext cx="260280" cy="167040"/>
              </a:xfrm>
              <a:custGeom>
                <a:avLst/>
                <a:gdLst/>
                <a:ahLst/>
                <a:rect l="l" t="t" r="r" b="b"/>
                <a:pathLst>
                  <a:path w="328" h="221">
                    <a:moveTo>
                      <a:pt x="203" y="200"/>
                    </a:moveTo>
                    <a:lnTo>
                      <a:pt x="237" y="172"/>
                    </a:lnTo>
                    <a:lnTo>
                      <a:pt x="267" y="143"/>
                    </a:lnTo>
                    <a:lnTo>
                      <a:pt x="287" y="110"/>
                    </a:lnTo>
                    <a:lnTo>
                      <a:pt x="292" y="86"/>
                    </a:lnTo>
                    <a:lnTo>
                      <a:pt x="303" y="67"/>
                    </a:lnTo>
                    <a:lnTo>
                      <a:pt x="319" y="43"/>
                    </a:lnTo>
                    <a:lnTo>
                      <a:pt x="328" y="24"/>
                    </a:lnTo>
                    <a:lnTo>
                      <a:pt x="312" y="6"/>
                    </a:lnTo>
                    <a:lnTo>
                      <a:pt x="280" y="0"/>
                    </a:lnTo>
                    <a:lnTo>
                      <a:pt x="267" y="2"/>
                    </a:lnTo>
                    <a:lnTo>
                      <a:pt x="260" y="16"/>
                    </a:lnTo>
                    <a:lnTo>
                      <a:pt x="251" y="34"/>
                    </a:lnTo>
                    <a:lnTo>
                      <a:pt x="241" y="57"/>
                    </a:lnTo>
                    <a:lnTo>
                      <a:pt x="219" y="86"/>
                    </a:lnTo>
                    <a:lnTo>
                      <a:pt x="196" y="110"/>
                    </a:lnTo>
                    <a:lnTo>
                      <a:pt x="173" y="133"/>
                    </a:lnTo>
                    <a:lnTo>
                      <a:pt x="157" y="143"/>
                    </a:lnTo>
                    <a:lnTo>
                      <a:pt x="132" y="153"/>
                    </a:lnTo>
                    <a:lnTo>
                      <a:pt x="107" y="165"/>
                    </a:lnTo>
                    <a:lnTo>
                      <a:pt x="77" y="172"/>
                    </a:lnTo>
                    <a:lnTo>
                      <a:pt x="48" y="182"/>
                    </a:lnTo>
                    <a:lnTo>
                      <a:pt x="24" y="188"/>
                    </a:lnTo>
                    <a:lnTo>
                      <a:pt x="8" y="190"/>
                    </a:lnTo>
                    <a:lnTo>
                      <a:pt x="0" y="192"/>
                    </a:lnTo>
                    <a:lnTo>
                      <a:pt x="20" y="206"/>
                    </a:lnTo>
                    <a:lnTo>
                      <a:pt x="45" y="215"/>
                    </a:lnTo>
                    <a:lnTo>
                      <a:pt x="72" y="221"/>
                    </a:lnTo>
                    <a:lnTo>
                      <a:pt x="97" y="221"/>
                    </a:lnTo>
                    <a:lnTo>
                      <a:pt x="125" y="221"/>
                    </a:lnTo>
                    <a:lnTo>
                      <a:pt x="152" y="217"/>
                    </a:lnTo>
                    <a:lnTo>
                      <a:pt x="180" y="208"/>
                    </a:lnTo>
                    <a:lnTo>
                      <a:pt x="203" y="20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72" name="Freeform 1145"/>
              <p:cNvSpPr/>
              <p:nvPr/>
            </p:nvSpPr>
            <p:spPr>
              <a:xfrm>
                <a:off x="7242120" y="4489560"/>
                <a:ext cx="335160" cy="115200"/>
              </a:xfrm>
              <a:custGeom>
                <a:avLst/>
                <a:gdLst/>
                <a:ahLst/>
                <a:rect l="l" t="t" r="r" b="b"/>
                <a:pathLst>
                  <a:path w="422" h="152">
                    <a:moveTo>
                      <a:pt x="75" y="5"/>
                    </a:moveTo>
                    <a:lnTo>
                      <a:pt x="91" y="4"/>
                    </a:lnTo>
                    <a:lnTo>
                      <a:pt x="107" y="2"/>
                    </a:lnTo>
                    <a:lnTo>
                      <a:pt x="125" y="2"/>
                    </a:lnTo>
                    <a:lnTo>
                      <a:pt x="137" y="0"/>
                    </a:lnTo>
                    <a:lnTo>
                      <a:pt x="153" y="0"/>
                    </a:lnTo>
                    <a:lnTo>
                      <a:pt x="173" y="2"/>
                    </a:lnTo>
                    <a:lnTo>
                      <a:pt x="185" y="5"/>
                    </a:lnTo>
                    <a:lnTo>
                      <a:pt x="203" y="15"/>
                    </a:lnTo>
                    <a:lnTo>
                      <a:pt x="223" y="23"/>
                    </a:lnTo>
                    <a:lnTo>
                      <a:pt x="240" y="35"/>
                    </a:lnTo>
                    <a:lnTo>
                      <a:pt x="253" y="49"/>
                    </a:lnTo>
                    <a:lnTo>
                      <a:pt x="272" y="56"/>
                    </a:lnTo>
                    <a:lnTo>
                      <a:pt x="285" y="70"/>
                    </a:lnTo>
                    <a:lnTo>
                      <a:pt x="303" y="80"/>
                    </a:lnTo>
                    <a:lnTo>
                      <a:pt x="319" y="88"/>
                    </a:lnTo>
                    <a:lnTo>
                      <a:pt x="338" y="94"/>
                    </a:lnTo>
                    <a:lnTo>
                      <a:pt x="369" y="109"/>
                    </a:lnTo>
                    <a:lnTo>
                      <a:pt x="397" y="127"/>
                    </a:lnTo>
                    <a:lnTo>
                      <a:pt x="415" y="146"/>
                    </a:lnTo>
                    <a:lnTo>
                      <a:pt x="422" y="152"/>
                    </a:lnTo>
                    <a:lnTo>
                      <a:pt x="301" y="133"/>
                    </a:lnTo>
                    <a:lnTo>
                      <a:pt x="224" y="138"/>
                    </a:lnTo>
                    <a:lnTo>
                      <a:pt x="219" y="138"/>
                    </a:lnTo>
                    <a:lnTo>
                      <a:pt x="203" y="138"/>
                    </a:lnTo>
                    <a:lnTo>
                      <a:pt x="182" y="137"/>
                    </a:lnTo>
                    <a:lnTo>
                      <a:pt x="157" y="133"/>
                    </a:lnTo>
                    <a:lnTo>
                      <a:pt x="128" y="125"/>
                    </a:lnTo>
                    <a:lnTo>
                      <a:pt x="100" y="115"/>
                    </a:lnTo>
                    <a:lnTo>
                      <a:pt x="78" y="99"/>
                    </a:lnTo>
                    <a:lnTo>
                      <a:pt x="62" y="80"/>
                    </a:lnTo>
                    <a:lnTo>
                      <a:pt x="53" y="68"/>
                    </a:lnTo>
                    <a:lnTo>
                      <a:pt x="34" y="54"/>
                    </a:lnTo>
                    <a:lnTo>
                      <a:pt x="20" y="49"/>
                    </a:lnTo>
                    <a:lnTo>
                      <a:pt x="7" y="37"/>
                    </a:lnTo>
                    <a:lnTo>
                      <a:pt x="0" y="25"/>
                    </a:lnTo>
                    <a:lnTo>
                      <a:pt x="9" y="19"/>
                    </a:lnTo>
                    <a:lnTo>
                      <a:pt x="34" y="11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73" name="Freeform 1146"/>
              <p:cNvSpPr/>
              <p:nvPr/>
            </p:nvSpPr>
            <p:spPr>
              <a:xfrm>
                <a:off x="7878600" y="5039640"/>
                <a:ext cx="154080" cy="124560"/>
              </a:xfrm>
              <a:custGeom>
                <a:avLst/>
                <a:gdLst/>
                <a:ahLst/>
                <a:rect l="l" t="t" r="r" b="b"/>
                <a:pathLst>
                  <a:path w="194" h="165">
                    <a:moveTo>
                      <a:pt x="54" y="88"/>
                    </a:moveTo>
                    <a:lnTo>
                      <a:pt x="70" y="83"/>
                    </a:lnTo>
                    <a:lnTo>
                      <a:pt x="87" y="77"/>
                    </a:lnTo>
                    <a:lnTo>
                      <a:pt x="111" y="63"/>
                    </a:lnTo>
                    <a:lnTo>
                      <a:pt x="125" y="47"/>
                    </a:lnTo>
                    <a:lnTo>
                      <a:pt x="148" y="36"/>
                    </a:lnTo>
                    <a:lnTo>
                      <a:pt x="166" y="22"/>
                    </a:lnTo>
                    <a:lnTo>
                      <a:pt x="182" y="12"/>
                    </a:lnTo>
                    <a:lnTo>
                      <a:pt x="187" y="4"/>
                    </a:lnTo>
                    <a:lnTo>
                      <a:pt x="194" y="0"/>
                    </a:lnTo>
                    <a:lnTo>
                      <a:pt x="194" y="6"/>
                    </a:lnTo>
                    <a:lnTo>
                      <a:pt x="194" y="22"/>
                    </a:lnTo>
                    <a:lnTo>
                      <a:pt x="191" y="43"/>
                    </a:lnTo>
                    <a:lnTo>
                      <a:pt x="185" y="65"/>
                    </a:lnTo>
                    <a:lnTo>
                      <a:pt x="166" y="83"/>
                    </a:lnTo>
                    <a:lnTo>
                      <a:pt x="144" y="96"/>
                    </a:lnTo>
                    <a:lnTo>
                      <a:pt x="123" y="104"/>
                    </a:lnTo>
                    <a:lnTo>
                      <a:pt x="112" y="110"/>
                    </a:lnTo>
                    <a:lnTo>
                      <a:pt x="107" y="126"/>
                    </a:lnTo>
                    <a:lnTo>
                      <a:pt x="107" y="143"/>
                    </a:lnTo>
                    <a:lnTo>
                      <a:pt x="107" y="157"/>
                    </a:lnTo>
                    <a:lnTo>
                      <a:pt x="91" y="163"/>
                    </a:lnTo>
                    <a:lnTo>
                      <a:pt x="63" y="165"/>
                    </a:lnTo>
                    <a:lnTo>
                      <a:pt x="25" y="161"/>
                    </a:lnTo>
                    <a:lnTo>
                      <a:pt x="4" y="147"/>
                    </a:lnTo>
                    <a:lnTo>
                      <a:pt x="0" y="129"/>
                    </a:lnTo>
                    <a:lnTo>
                      <a:pt x="7" y="110"/>
                    </a:lnTo>
                    <a:lnTo>
                      <a:pt x="25" y="96"/>
                    </a:lnTo>
                    <a:lnTo>
                      <a:pt x="54" y="88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74" name="Freeform 1147"/>
              <p:cNvSpPr/>
              <p:nvPr/>
            </p:nvSpPr>
            <p:spPr>
              <a:xfrm>
                <a:off x="8043840" y="4950000"/>
                <a:ext cx="123840" cy="101880"/>
              </a:xfrm>
              <a:custGeom>
                <a:avLst/>
                <a:gdLst/>
                <a:ahLst/>
                <a:rect l="l" t="t" r="r" b="b"/>
                <a:pathLst>
                  <a:path w="156" h="135">
                    <a:moveTo>
                      <a:pt x="7" y="0"/>
                    </a:moveTo>
                    <a:lnTo>
                      <a:pt x="28" y="12"/>
                    </a:lnTo>
                    <a:lnTo>
                      <a:pt x="51" y="31"/>
                    </a:lnTo>
                    <a:lnTo>
                      <a:pt x="71" y="51"/>
                    </a:lnTo>
                    <a:lnTo>
                      <a:pt x="83" y="61"/>
                    </a:lnTo>
                    <a:lnTo>
                      <a:pt x="101" y="61"/>
                    </a:lnTo>
                    <a:lnTo>
                      <a:pt x="124" y="61"/>
                    </a:lnTo>
                    <a:lnTo>
                      <a:pt x="147" y="63"/>
                    </a:lnTo>
                    <a:lnTo>
                      <a:pt x="156" y="70"/>
                    </a:lnTo>
                    <a:lnTo>
                      <a:pt x="156" y="82"/>
                    </a:lnTo>
                    <a:lnTo>
                      <a:pt x="149" y="96"/>
                    </a:lnTo>
                    <a:lnTo>
                      <a:pt x="133" y="111"/>
                    </a:lnTo>
                    <a:lnTo>
                      <a:pt x="121" y="123"/>
                    </a:lnTo>
                    <a:lnTo>
                      <a:pt x="105" y="131"/>
                    </a:lnTo>
                    <a:lnTo>
                      <a:pt x="92" y="135"/>
                    </a:lnTo>
                    <a:lnTo>
                      <a:pt x="73" y="133"/>
                    </a:lnTo>
                    <a:lnTo>
                      <a:pt x="57" y="123"/>
                    </a:lnTo>
                    <a:lnTo>
                      <a:pt x="48" y="110"/>
                    </a:lnTo>
                    <a:lnTo>
                      <a:pt x="39" y="94"/>
                    </a:lnTo>
                    <a:lnTo>
                      <a:pt x="35" y="78"/>
                    </a:lnTo>
                    <a:lnTo>
                      <a:pt x="35" y="66"/>
                    </a:lnTo>
                    <a:lnTo>
                      <a:pt x="32" y="55"/>
                    </a:lnTo>
                    <a:lnTo>
                      <a:pt x="23" y="41"/>
                    </a:lnTo>
                    <a:lnTo>
                      <a:pt x="7" y="31"/>
                    </a:lnTo>
                    <a:lnTo>
                      <a:pt x="0" y="2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75" name="Freeform 1148"/>
              <p:cNvSpPr/>
              <p:nvPr/>
            </p:nvSpPr>
            <p:spPr>
              <a:xfrm>
                <a:off x="2755800" y="4208040"/>
                <a:ext cx="220680" cy="69840"/>
              </a:xfrm>
              <a:custGeom>
                <a:avLst/>
                <a:gdLst/>
                <a:ahLst/>
                <a:rect l="l" t="t" r="r" b="b"/>
                <a:pathLst>
                  <a:path w="277" h="92">
                    <a:moveTo>
                      <a:pt x="0" y="10"/>
                    </a:moveTo>
                    <a:lnTo>
                      <a:pt x="8" y="0"/>
                    </a:lnTo>
                    <a:lnTo>
                      <a:pt x="28" y="0"/>
                    </a:lnTo>
                    <a:lnTo>
                      <a:pt x="56" y="4"/>
                    </a:lnTo>
                    <a:lnTo>
                      <a:pt x="89" y="14"/>
                    </a:lnTo>
                    <a:lnTo>
                      <a:pt x="121" y="25"/>
                    </a:lnTo>
                    <a:lnTo>
                      <a:pt x="153" y="35"/>
                    </a:lnTo>
                    <a:lnTo>
                      <a:pt x="181" y="49"/>
                    </a:lnTo>
                    <a:lnTo>
                      <a:pt x="204" y="57"/>
                    </a:lnTo>
                    <a:lnTo>
                      <a:pt x="242" y="64"/>
                    </a:lnTo>
                    <a:lnTo>
                      <a:pt x="270" y="78"/>
                    </a:lnTo>
                    <a:lnTo>
                      <a:pt x="277" y="88"/>
                    </a:lnTo>
                    <a:lnTo>
                      <a:pt x="261" y="92"/>
                    </a:lnTo>
                    <a:lnTo>
                      <a:pt x="242" y="92"/>
                    </a:lnTo>
                    <a:lnTo>
                      <a:pt x="220" y="90"/>
                    </a:lnTo>
                    <a:lnTo>
                      <a:pt x="201" y="88"/>
                    </a:lnTo>
                    <a:lnTo>
                      <a:pt x="178" y="84"/>
                    </a:lnTo>
                    <a:lnTo>
                      <a:pt x="162" y="84"/>
                    </a:lnTo>
                    <a:lnTo>
                      <a:pt x="146" y="82"/>
                    </a:lnTo>
                    <a:lnTo>
                      <a:pt x="140" y="80"/>
                    </a:lnTo>
                    <a:lnTo>
                      <a:pt x="133" y="80"/>
                    </a:lnTo>
                    <a:lnTo>
                      <a:pt x="128" y="78"/>
                    </a:lnTo>
                    <a:lnTo>
                      <a:pt x="115" y="72"/>
                    </a:lnTo>
                    <a:lnTo>
                      <a:pt x="92" y="64"/>
                    </a:lnTo>
                    <a:lnTo>
                      <a:pt x="67" y="57"/>
                    </a:lnTo>
                    <a:lnTo>
                      <a:pt x="40" y="43"/>
                    </a:lnTo>
                    <a:lnTo>
                      <a:pt x="19" y="31"/>
                    </a:lnTo>
                    <a:lnTo>
                      <a:pt x="3" y="1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76" name="Freeform 1149"/>
              <p:cNvSpPr/>
              <p:nvPr/>
            </p:nvSpPr>
            <p:spPr>
              <a:xfrm>
                <a:off x="5315040" y="4632480"/>
                <a:ext cx="155520" cy="212760"/>
              </a:xfrm>
              <a:custGeom>
                <a:avLst/>
                <a:gdLst/>
                <a:ahLst/>
                <a:rect l="l" t="t" r="r" b="b"/>
                <a:pathLst>
                  <a:path w="196" h="280">
                    <a:moveTo>
                      <a:pt x="130" y="4"/>
                    </a:moveTo>
                    <a:lnTo>
                      <a:pt x="168" y="0"/>
                    </a:lnTo>
                    <a:lnTo>
                      <a:pt x="187" y="4"/>
                    </a:lnTo>
                    <a:lnTo>
                      <a:pt x="196" y="20"/>
                    </a:lnTo>
                    <a:lnTo>
                      <a:pt x="196" y="40"/>
                    </a:lnTo>
                    <a:lnTo>
                      <a:pt x="193" y="63"/>
                    </a:lnTo>
                    <a:lnTo>
                      <a:pt x="187" y="88"/>
                    </a:lnTo>
                    <a:lnTo>
                      <a:pt x="177" y="112"/>
                    </a:lnTo>
                    <a:lnTo>
                      <a:pt x="175" y="131"/>
                    </a:lnTo>
                    <a:lnTo>
                      <a:pt x="175" y="169"/>
                    </a:lnTo>
                    <a:lnTo>
                      <a:pt x="171" y="206"/>
                    </a:lnTo>
                    <a:lnTo>
                      <a:pt x="164" y="239"/>
                    </a:lnTo>
                    <a:lnTo>
                      <a:pt x="155" y="261"/>
                    </a:lnTo>
                    <a:lnTo>
                      <a:pt x="148" y="264"/>
                    </a:lnTo>
                    <a:lnTo>
                      <a:pt x="139" y="268"/>
                    </a:lnTo>
                    <a:lnTo>
                      <a:pt x="120" y="274"/>
                    </a:lnTo>
                    <a:lnTo>
                      <a:pt x="102" y="280"/>
                    </a:lnTo>
                    <a:lnTo>
                      <a:pt x="79" y="280"/>
                    </a:lnTo>
                    <a:lnTo>
                      <a:pt x="61" y="278"/>
                    </a:lnTo>
                    <a:lnTo>
                      <a:pt x="48" y="266"/>
                    </a:lnTo>
                    <a:lnTo>
                      <a:pt x="32" y="255"/>
                    </a:lnTo>
                    <a:lnTo>
                      <a:pt x="13" y="219"/>
                    </a:lnTo>
                    <a:lnTo>
                      <a:pt x="4" y="188"/>
                    </a:lnTo>
                    <a:lnTo>
                      <a:pt x="0" y="165"/>
                    </a:lnTo>
                    <a:lnTo>
                      <a:pt x="4" y="147"/>
                    </a:lnTo>
                    <a:lnTo>
                      <a:pt x="13" y="129"/>
                    </a:lnTo>
                    <a:lnTo>
                      <a:pt x="32" y="108"/>
                    </a:lnTo>
                    <a:lnTo>
                      <a:pt x="57" y="94"/>
                    </a:lnTo>
                    <a:lnTo>
                      <a:pt x="79" y="88"/>
                    </a:lnTo>
                    <a:lnTo>
                      <a:pt x="95" y="75"/>
                    </a:lnTo>
                    <a:lnTo>
                      <a:pt x="105" y="49"/>
                    </a:lnTo>
                    <a:lnTo>
                      <a:pt x="118" y="20"/>
                    </a:lnTo>
                    <a:lnTo>
                      <a:pt x="130" y="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150"/>
            <p:cNvGrpSpPr/>
            <p:nvPr/>
          </p:nvGrpSpPr>
          <p:grpSpPr>
            <a:xfrm>
              <a:off x="965160" y="2874960"/>
              <a:ext cx="7304040" cy="2446200"/>
              <a:chOff x="965160" y="2874960"/>
              <a:chExt cx="7304040" cy="2446200"/>
            </a:xfrm>
          </p:grpSpPr>
          <p:sp>
            <p:nvSpPr>
              <p:cNvPr id="178" name="Freeform 1151"/>
              <p:cNvSpPr/>
              <p:nvPr/>
            </p:nvSpPr>
            <p:spPr>
              <a:xfrm>
                <a:off x="2712960" y="4310280"/>
                <a:ext cx="901800" cy="1010880"/>
              </a:xfrm>
              <a:custGeom>
                <a:avLst/>
                <a:gdLst/>
                <a:ahLst/>
                <a:rect l="l" t="t" r="r" b="b"/>
                <a:pathLst>
                  <a:path w="1136" h="1328">
                    <a:moveTo>
                      <a:pt x="38" y="84"/>
                    </a:moveTo>
                    <a:lnTo>
                      <a:pt x="16" y="141"/>
                    </a:lnTo>
                    <a:lnTo>
                      <a:pt x="0" y="221"/>
                    </a:lnTo>
                    <a:lnTo>
                      <a:pt x="4" y="303"/>
                    </a:lnTo>
                    <a:lnTo>
                      <a:pt x="29" y="372"/>
                    </a:lnTo>
                    <a:lnTo>
                      <a:pt x="54" y="395"/>
                    </a:lnTo>
                    <a:lnTo>
                      <a:pt x="86" y="420"/>
                    </a:lnTo>
                    <a:lnTo>
                      <a:pt x="118" y="442"/>
                    </a:lnTo>
                    <a:lnTo>
                      <a:pt x="148" y="467"/>
                    </a:lnTo>
                    <a:lnTo>
                      <a:pt x="177" y="489"/>
                    </a:lnTo>
                    <a:lnTo>
                      <a:pt x="209" y="510"/>
                    </a:lnTo>
                    <a:lnTo>
                      <a:pt x="225" y="534"/>
                    </a:lnTo>
                    <a:lnTo>
                      <a:pt x="241" y="557"/>
                    </a:lnTo>
                    <a:lnTo>
                      <a:pt x="257" y="608"/>
                    </a:lnTo>
                    <a:lnTo>
                      <a:pt x="258" y="667"/>
                    </a:lnTo>
                    <a:lnTo>
                      <a:pt x="253" y="726"/>
                    </a:lnTo>
                    <a:lnTo>
                      <a:pt x="234" y="790"/>
                    </a:lnTo>
                    <a:lnTo>
                      <a:pt x="218" y="831"/>
                    </a:lnTo>
                    <a:lnTo>
                      <a:pt x="212" y="870"/>
                    </a:lnTo>
                    <a:lnTo>
                      <a:pt x="209" y="913"/>
                    </a:lnTo>
                    <a:lnTo>
                      <a:pt x="205" y="952"/>
                    </a:lnTo>
                    <a:lnTo>
                      <a:pt x="200" y="990"/>
                    </a:lnTo>
                    <a:lnTo>
                      <a:pt x="196" y="1027"/>
                    </a:lnTo>
                    <a:lnTo>
                      <a:pt x="189" y="1058"/>
                    </a:lnTo>
                    <a:lnTo>
                      <a:pt x="184" y="1084"/>
                    </a:lnTo>
                    <a:lnTo>
                      <a:pt x="168" y="1111"/>
                    </a:lnTo>
                    <a:lnTo>
                      <a:pt x="159" y="1138"/>
                    </a:lnTo>
                    <a:lnTo>
                      <a:pt x="148" y="1166"/>
                    </a:lnTo>
                    <a:lnTo>
                      <a:pt x="161" y="1195"/>
                    </a:lnTo>
                    <a:lnTo>
                      <a:pt x="177" y="1222"/>
                    </a:lnTo>
                    <a:lnTo>
                      <a:pt x="205" y="1260"/>
                    </a:lnTo>
                    <a:lnTo>
                      <a:pt x="230" y="1293"/>
                    </a:lnTo>
                    <a:lnTo>
                      <a:pt x="258" y="1312"/>
                    </a:lnTo>
                    <a:lnTo>
                      <a:pt x="278" y="1316"/>
                    </a:lnTo>
                    <a:lnTo>
                      <a:pt x="294" y="1320"/>
                    </a:lnTo>
                    <a:lnTo>
                      <a:pt x="312" y="1326"/>
                    </a:lnTo>
                    <a:lnTo>
                      <a:pt x="331" y="1326"/>
                    </a:lnTo>
                    <a:lnTo>
                      <a:pt x="353" y="1328"/>
                    </a:lnTo>
                    <a:lnTo>
                      <a:pt x="367" y="1328"/>
                    </a:lnTo>
                    <a:lnTo>
                      <a:pt x="381" y="1326"/>
                    </a:lnTo>
                    <a:lnTo>
                      <a:pt x="392" y="1322"/>
                    </a:lnTo>
                    <a:lnTo>
                      <a:pt x="392" y="1312"/>
                    </a:lnTo>
                    <a:lnTo>
                      <a:pt x="381" y="1307"/>
                    </a:lnTo>
                    <a:lnTo>
                      <a:pt x="372" y="1301"/>
                    </a:lnTo>
                    <a:lnTo>
                      <a:pt x="356" y="1287"/>
                    </a:lnTo>
                    <a:lnTo>
                      <a:pt x="340" y="1271"/>
                    </a:lnTo>
                    <a:lnTo>
                      <a:pt x="331" y="1252"/>
                    </a:lnTo>
                    <a:lnTo>
                      <a:pt x="326" y="1222"/>
                    </a:lnTo>
                    <a:lnTo>
                      <a:pt x="328" y="1187"/>
                    </a:lnTo>
                    <a:lnTo>
                      <a:pt x="340" y="1152"/>
                    </a:lnTo>
                    <a:lnTo>
                      <a:pt x="360" y="1130"/>
                    </a:lnTo>
                    <a:lnTo>
                      <a:pt x="385" y="1113"/>
                    </a:lnTo>
                    <a:lnTo>
                      <a:pt x="413" y="1095"/>
                    </a:lnTo>
                    <a:lnTo>
                      <a:pt x="445" y="1074"/>
                    </a:lnTo>
                    <a:lnTo>
                      <a:pt x="461" y="1048"/>
                    </a:lnTo>
                    <a:lnTo>
                      <a:pt x="477" y="1021"/>
                    </a:lnTo>
                    <a:lnTo>
                      <a:pt x="492" y="997"/>
                    </a:lnTo>
                    <a:lnTo>
                      <a:pt x="508" y="974"/>
                    </a:lnTo>
                    <a:lnTo>
                      <a:pt x="531" y="966"/>
                    </a:lnTo>
                    <a:lnTo>
                      <a:pt x="556" y="956"/>
                    </a:lnTo>
                    <a:lnTo>
                      <a:pt x="581" y="949"/>
                    </a:lnTo>
                    <a:lnTo>
                      <a:pt x="602" y="935"/>
                    </a:lnTo>
                    <a:lnTo>
                      <a:pt x="625" y="915"/>
                    </a:lnTo>
                    <a:lnTo>
                      <a:pt x="645" y="898"/>
                    </a:lnTo>
                    <a:lnTo>
                      <a:pt x="663" y="884"/>
                    </a:lnTo>
                    <a:lnTo>
                      <a:pt x="679" y="868"/>
                    </a:lnTo>
                    <a:lnTo>
                      <a:pt x="698" y="853"/>
                    </a:lnTo>
                    <a:lnTo>
                      <a:pt x="714" y="837"/>
                    </a:lnTo>
                    <a:lnTo>
                      <a:pt x="732" y="819"/>
                    </a:lnTo>
                    <a:lnTo>
                      <a:pt x="745" y="804"/>
                    </a:lnTo>
                    <a:lnTo>
                      <a:pt x="755" y="792"/>
                    </a:lnTo>
                    <a:lnTo>
                      <a:pt x="764" y="780"/>
                    </a:lnTo>
                    <a:lnTo>
                      <a:pt x="780" y="767"/>
                    </a:lnTo>
                    <a:lnTo>
                      <a:pt x="786" y="751"/>
                    </a:lnTo>
                    <a:lnTo>
                      <a:pt x="784" y="731"/>
                    </a:lnTo>
                    <a:lnTo>
                      <a:pt x="780" y="714"/>
                    </a:lnTo>
                    <a:lnTo>
                      <a:pt x="786" y="700"/>
                    </a:lnTo>
                    <a:lnTo>
                      <a:pt x="805" y="696"/>
                    </a:lnTo>
                    <a:lnTo>
                      <a:pt x="826" y="690"/>
                    </a:lnTo>
                    <a:lnTo>
                      <a:pt x="843" y="690"/>
                    </a:lnTo>
                    <a:lnTo>
                      <a:pt x="866" y="686"/>
                    </a:lnTo>
                    <a:lnTo>
                      <a:pt x="887" y="683"/>
                    </a:lnTo>
                    <a:lnTo>
                      <a:pt x="912" y="675"/>
                    </a:lnTo>
                    <a:lnTo>
                      <a:pt x="937" y="667"/>
                    </a:lnTo>
                    <a:lnTo>
                      <a:pt x="964" y="665"/>
                    </a:lnTo>
                    <a:lnTo>
                      <a:pt x="985" y="663"/>
                    </a:lnTo>
                    <a:lnTo>
                      <a:pt x="1005" y="651"/>
                    </a:lnTo>
                    <a:lnTo>
                      <a:pt x="1019" y="640"/>
                    </a:lnTo>
                    <a:lnTo>
                      <a:pt x="1033" y="626"/>
                    </a:lnTo>
                    <a:lnTo>
                      <a:pt x="1047" y="604"/>
                    </a:lnTo>
                    <a:lnTo>
                      <a:pt x="1067" y="569"/>
                    </a:lnTo>
                    <a:lnTo>
                      <a:pt x="1083" y="532"/>
                    </a:lnTo>
                    <a:lnTo>
                      <a:pt x="1099" y="501"/>
                    </a:lnTo>
                    <a:lnTo>
                      <a:pt x="1104" y="475"/>
                    </a:lnTo>
                    <a:lnTo>
                      <a:pt x="1117" y="450"/>
                    </a:lnTo>
                    <a:lnTo>
                      <a:pt x="1124" y="422"/>
                    </a:lnTo>
                    <a:lnTo>
                      <a:pt x="1129" y="403"/>
                    </a:lnTo>
                    <a:lnTo>
                      <a:pt x="1136" y="383"/>
                    </a:lnTo>
                    <a:lnTo>
                      <a:pt x="1129" y="358"/>
                    </a:lnTo>
                    <a:lnTo>
                      <a:pt x="1120" y="334"/>
                    </a:lnTo>
                    <a:lnTo>
                      <a:pt x="1108" y="321"/>
                    </a:lnTo>
                    <a:lnTo>
                      <a:pt x="1099" y="319"/>
                    </a:lnTo>
                    <a:lnTo>
                      <a:pt x="1083" y="311"/>
                    </a:lnTo>
                    <a:lnTo>
                      <a:pt x="1067" y="309"/>
                    </a:lnTo>
                    <a:lnTo>
                      <a:pt x="1047" y="305"/>
                    </a:lnTo>
                    <a:lnTo>
                      <a:pt x="1033" y="301"/>
                    </a:lnTo>
                    <a:lnTo>
                      <a:pt x="1013" y="291"/>
                    </a:lnTo>
                    <a:lnTo>
                      <a:pt x="1005" y="285"/>
                    </a:lnTo>
                    <a:lnTo>
                      <a:pt x="997" y="278"/>
                    </a:lnTo>
                    <a:lnTo>
                      <a:pt x="985" y="262"/>
                    </a:lnTo>
                    <a:lnTo>
                      <a:pt x="972" y="250"/>
                    </a:lnTo>
                    <a:lnTo>
                      <a:pt x="953" y="242"/>
                    </a:lnTo>
                    <a:lnTo>
                      <a:pt x="935" y="240"/>
                    </a:lnTo>
                    <a:lnTo>
                      <a:pt x="924" y="240"/>
                    </a:lnTo>
                    <a:lnTo>
                      <a:pt x="908" y="240"/>
                    </a:lnTo>
                    <a:lnTo>
                      <a:pt x="894" y="240"/>
                    </a:lnTo>
                    <a:lnTo>
                      <a:pt x="878" y="240"/>
                    </a:lnTo>
                    <a:lnTo>
                      <a:pt x="859" y="239"/>
                    </a:lnTo>
                    <a:lnTo>
                      <a:pt x="843" y="233"/>
                    </a:lnTo>
                    <a:lnTo>
                      <a:pt x="834" y="227"/>
                    </a:lnTo>
                    <a:lnTo>
                      <a:pt x="821" y="221"/>
                    </a:lnTo>
                    <a:lnTo>
                      <a:pt x="805" y="201"/>
                    </a:lnTo>
                    <a:lnTo>
                      <a:pt x="780" y="172"/>
                    </a:lnTo>
                    <a:lnTo>
                      <a:pt x="757" y="151"/>
                    </a:lnTo>
                    <a:lnTo>
                      <a:pt x="736" y="135"/>
                    </a:lnTo>
                    <a:lnTo>
                      <a:pt x="720" y="127"/>
                    </a:lnTo>
                    <a:lnTo>
                      <a:pt x="695" y="115"/>
                    </a:lnTo>
                    <a:lnTo>
                      <a:pt x="663" y="100"/>
                    </a:lnTo>
                    <a:lnTo>
                      <a:pt x="622" y="82"/>
                    </a:lnTo>
                    <a:lnTo>
                      <a:pt x="577" y="68"/>
                    </a:lnTo>
                    <a:lnTo>
                      <a:pt x="534" y="53"/>
                    </a:lnTo>
                    <a:lnTo>
                      <a:pt x="492" y="41"/>
                    </a:lnTo>
                    <a:lnTo>
                      <a:pt x="451" y="37"/>
                    </a:lnTo>
                    <a:lnTo>
                      <a:pt x="413" y="35"/>
                    </a:lnTo>
                    <a:lnTo>
                      <a:pt x="385" y="33"/>
                    </a:lnTo>
                    <a:lnTo>
                      <a:pt x="356" y="27"/>
                    </a:lnTo>
                    <a:lnTo>
                      <a:pt x="335" y="25"/>
                    </a:lnTo>
                    <a:lnTo>
                      <a:pt x="312" y="25"/>
                    </a:lnTo>
                    <a:lnTo>
                      <a:pt x="294" y="23"/>
                    </a:lnTo>
                    <a:lnTo>
                      <a:pt x="283" y="23"/>
                    </a:lnTo>
                    <a:lnTo>
                      <a:pt x="271" y="25"/>
                    </a:lnTo>
                    <a:lnTo>
                      <a:pt x="258" y="25"/>
                    </a:lnTo>
                    <a:lnTo>
                      <a:pt x="242" y="21"/>
                    </a:lnTo>
                    <a:lnTo>
                      <a:pt x="230" y="14"/>
                    </a:lnTo>
                    <a:lnTo>
                      <a:pt x="218" y="6"/>
                    </a:lnTo>
                    <a:lnTo>
                      <a:pt x="205" y="2"/>
                    </a:lnTo>
                    <a:lnTo>
                      <a:pt x="189" y="0"/>
                    </a:lnTo>
                    <a:lnTo>
                      <a:pt x="171" y="4"/>
                    </a:lnTo>
                    <a:lnTo>
                      <a:pt x="159" y="8"/>
                    </a:lnTo>
                    <a:lnTo>
                      <a:pt x="143" y="19"/>
                    </a:lnTo>
                    <a:lnTo>
                      <a:pt x="123" y="35"/>
                    </a:lnTo>
                    <a:lnTo>
                      <a:pt x="111" y="45"/>
                    </a:lnTo>
                    <a:lnTo>
                      <a:pt x="91" y="57"/>
                    </a:lnTo>
                    <a:lnTo>
                      <a:pt x="86" y="59"/>
                    </a:lnTo>
                    <a:lnTo>
                      <a:pt x="70" y="62"/>
                    </a:lnTo>
                    <a:lnTo>
                      <a:pt x="50" y="74"/>
                    </a:lnTo>
                    <a:lnTo>
                      <a:pt x="38" y="84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79" name="Freeform 1152"/>
              <p:cNvSpPr/>
              <p:nvPr/>
            </p:nvSpPr>
            <p:spPr>
              <a:xfrm>
                <a:off x="965160" y="3249000"/>
                <a:ext cx="2278080" cy="1128240"/>
              </a:xfrm>
              <a:custGeom>
                <a:avLst/>
                <a:gdLst/>
                <a:ahLst/>
                <a:rect l="l" t="t" r="r" b="b"/>
                <a:pathLst>
                  <a:path w="2870" h="1485">
                    <a:moveTo>
                      <a:pt x="2097" y="1078"/>
                    </a:moveTo>
                    <a:lnTo>
                      <a:pt x="2072" y="1080"/>
                    </a:lnTo>
                    <a:lnTo>
                      <a:pt x="2049" y="1074"/>
                    </a:lnTo>
                    <a:lnTo>
                      <a:pt x="2028" y="1068"/>
                    </a:lnTo>
                    <a:lnTo>
                      <a:pt x="2003" y="1076"/>
                    </a:lnTo>
                    <a:lnTo>
                      <a:pt x="1978" y="1092"/>
                    </a:lnTo>
                    <a:lnTo>
                      <a:pt x="1962" y="1098"/>
                    </a:lnTo>
                    <a:lnTo>
                      <a:pt x="1942" y="1103"/>
                    </a:lnTo>
                    <a:lnTo>
                      <a:pt x="1921" y="1105"/>
                    </a:lnTo>
                    <a:lnTo>
                      <a:pt x="1908" y="1105"/>
                    </a:lnTo>
                    <a:lnTo>
                      <a:pt x="1889" y="1105"/>
                    </a:lnTo>
                    <a:lnTo>
                      <a:pt x="1869" y="1105"/>
                    </a:lnTo>
                    <a:lnTo>
                      <a:pt x="1851" y="1105"/>
                    </a:lnTo>
                    <a:lnTo>
                      <a:pt x="1839" y="1113"/>
                    </a:lnTo>
                    <a:lnTo>
                      <a:pt x="1823" y="1123"/>
                    </a:lnTo>
                    <a:lnTo>
                      <a:pt x="1810" y="1141"/>
                    </a:lnTo>
                    <a:lnTo>
                      <a:pt x="1800" y="1164"/>
                    </a:lnTo>
                    <a:lnTo>
                      <a:pt x="1798" y="1193"/>
                    </a:lnTo>
                    <a:lnTo>
                      <a:pt x="1800" y="1215"/>
                    </a:lnTo>
                    <a:lnTo>
                      <a:pt x="1816" y="1235"/>
                    </a:lnTo>
                    <a:lnTo>
                      <a:pt x="1832" y="1248"/>
                    </a:lnTo>
                    <a:lnTo>
                      <a:pt x="1848" y="1260"/>
                    </a:lnTo>
                    <a:lnTo>
                      <a:pt x="1867" y="1272"/>
                    </a:lnTo>
                    <a:lnTo>
                      <a:pt x="1885" y="1276"/>
                    </a:lnTo>
                    <a:lnTo>
                      <a:pt x="1898" y="1280"/>
                    </a:lnTo>
                    <a:lnTo>
                      <a:pt x="1914" y="1280"/>
                    </a:lnTo>
                    <a:lnTo>
                      <a:pt x="1930" y="1278"/>
                    </a:lnTo>
                    <a:lnTo>
                      <a:pt x="1942" y="1274"/>
                    </a:lnTo>
                    <a:lnTo>
                      <a:pt x="1962" y="1268"/>
                    </a:lnTo>
                    <a:lnTo>
                      <a:pt x="1978" y="1258"/>
                    </a:lnTo>
                    <a:lnTo>
                      <a:pt x="1990" y="1248"/>
                    </a:lnTo>
                    <a:lnTo>
                      <a:pt x="2006" y="1240"/>
                    </a:lnTo>
                    <a:lnTo>
                      <a:pt x="2019" y="1231"/>
                    </a:lnTo>
                    <a:lnTo>
                      <a:pt x="2040" y="1229"/>
                    </a:lnTo>
                    <a:lnTo>
                      <a:pt x="2053" y="1246"/>
                    </a:lnTo>
                    <a:lnTo>
                      <a:pt x="2053" y="1272"/>
                    </a:lnTo>
                    <a:lnTo>
                      <a:pt x="2040" y="1293"/>
                    </a:lnTo>
                    <a:lnTo>
                      <a:pt x="2031" y="1309"/>
                    </a:lnTo>
                    <a:lnTo>
                      <a:pt x="2036" y="1317"/>
                    </a:lnTo>
                    <a:lnTo>
                      <a:pt x="2053" y="1325"/>
                    </a:lnTo>
                    <a:lnTo>
                      <a:pt x="2076" y="1326"/>
                    </a:lnTo>
                    <a:lnTo>
                      <a:pt x="2097" y="1330"/>
                    </a:lnTo>
                    <a:lnTo>
                      <a:pt x="2118" y="1342"/>
                    </a:lnTo>
                    <a:lnTo>
                      <a:pt x="2138" y="1358"/>
                    </a:lnTo>
                    <a:lnTo>
                      <a:pt x="2150" y="1385"/>
                    </a:lnTo>
                    <a:lnTo>
                      <a:pt x="2154" y="1407"/>
                    </a:lnTo>
                    <a:lnTo>
                      <a:pt x="2158" y="1422"/>
                    </a:lnTo>
                    <a:lnTo>
                      <a:pt x="2159" y="1438"/>
                    </a:lnTo>
                    <a:lnTo>
                      <a:pt x="2174" y="1446"/>
                    </a:lnTo>
                    <a:lnTo>
                      <a:pt x="2186" y="1452"/>
                    </a:lnTo>
                    <a:lnTo>
                      <a:pt x="2207" y="1458"/>
                    </a:lnTo>
                    <a:lnTo>
                      <a:pt x="2229" y="1459"/>
                    </a:lnTo>
                    <a:lnTo>
                      <a:pt x="2248" y="1461"/>
                    </a:lnTo>
                    <a:lnTo>
                      <a:pt x="2264" y="1461"/>
                    </a:lnTo>
                    <a:lnTo>
                      <a:pt x="2270" y="1459"/>
                    </a:lnTo>
                    <a:lnTo>
                      <a:pt x="2273" y="1459"/>
                    </a:lnTo>
                    <a:lnTo>
                      <a:pt x="2273" y="1461"/>
                    </a:lnTo>
                    <a:lnTo>
                      <a:pt x="2270" y="1467"/>
                    </a:lnTo>
                    <a:lnTo>
                      <a:pt x="2264" y="1473"/>
                    </a:lnTo>
                    <a:lnTo>
                      <a:pt x="2252" y="1483"/>
                    </a:lnTo>
                    <a:lnTo>
                      <a:pt x="2239" y="1485"/>
                    </a:lnTo>
                    <a:lnTo>
                      <a:pt x="2227" y="1485"/>
                    </a:lnTo>
                    <a:lnTo>
                      <a:pt x="2207" y="1483"/>
                    </a:lnTo>
                    <a:lnTo>
                      <a:pt x="2195" y="1483"/>
                    </a:lnTo>
                    <a:lnTo>
                      <a:pt x="2175" y="1477"/>
                    </a:lnTo>
                    <a:lnTo>
                      <a:pt x="2158" y="1473"/>
                    </a:lnTo>
                    <a:lnTo>
                      <a:pt x="2138" y="1471"/>
                    </a:lnTo>
                    <a:lnTo>
                      <a:pt x="2129" y="1467"/>
                    </a:lnTo>
                    <a:lnTo>
                      <a:pt x="2122" y="1463"/>
                    </a:lnTo>
                    <a:lnTo>
                      <a:pt x="2110" y="1459"/>
                    </a:lnTo>
                    <a:lnTo>
                      <a:pt x="2090" y="1452"/>
                    </a:lnTo>
                    <a:lnTo>
                      <a:pt x="2072" y="1442"/>
                    </a:lnTo>
                    <a:lnTo>
                      <a:pt x="2044" y="1428"/>
                    </a:lnTo>
                    <a:lnTo>
                      <a:pt x="2024" y="1416"/>
                    </a:lnTo>
                    <a:lnTo>
                      <a:pt x="2008" y="1407"/>
                    </a:lnTo>
                    <a:lnTo>
                      <a:pt x="1999" y="1395"/>
                    </a:lnTo>
                    <a:lnTo>
                      <a:pt x="1987" y="1389"/>
                    </a:lnTo>
                    <a:lnTo>
                      <a:pt x="1978" y="1381"/>
                    </a:lnTo>
                    <a:lnTo>
                      <a:pt x="1962" y="1373"/>
                    </a:lnTo>
                    <a:lnTo>
                      <a:pt x="1939" y="1368"/>
                    </a:lnTo>
                    <a:lnTo>
                      <a:pt x="1910" y="1358"/>
                    </a:lnTo>
                    <a:lnTo>
                      <a:pt x="1889" y="1354"/>
                    </a:lnTo>
                    <a:lnTo>
                      <a:pt x="1864" y="1346"/>
                    </a:lnTo>
                    <a:lnTo>
                      <a:pt x="1842" y="1342"/>
                    </a:lnTo>
                    <a:lnTo>
                      <a:pt x="1819" y="1334"/>
                    </a:lnTo>
                    <a:lnTo>
                      <a:pt x="1798" y="1328"/>
                    </a:lnTo>
                    <a:lnTo>
                      <a:pt x="1778" y="1325"/>
                    </a:lnTo>
                    <a:lnTo>
                      <a:pt x="1762" y="1319"/>
                    </a:lnTo>
                    <a:lnTo>
                      <a:pt x="1744" y="1313"/>
                    </a:lnTo>
                    <a:lnTo>
                      <a:pt x="1725" y="1309"/>
                    </a:lnTo>
                    <a:lnTo>
                      <a:pt x="1705" y="1297"/>
                    </a:lnTo>
                    <a:lnTo>
                      <a:pt x="1689" y="1287"/>
                    </a:lnTo>
                    <a:lnTo>
                      <a:pt x="1671" y="1274"/>
                    </a:lnTo>
                    <a:lnTo>
                      <a:pt x="1655" y="1260"/>
                    </a:lnTo>
                    <a:lnTo>
                      <a:pt x="1643" y="1248"/>
                    </a:lnTo>
                    <a:lnTo>
                      <a:pt x="1627" y="1238"/>
                    </a:lnTo>
                    <a:lnTo>
                      <a:pt x="1622" y="1235"/>
                    </a:lnTo>
                    <a:lnTo>
                      <a:pt x="1606" y="1223"/>
                    </a:lnTo>
                    <a:lnTo>
                      <a:pt x="1586" y="1209"/>
                    </a:lnTo>
                    <a:lnTo>
                      <a:pt x="1570" y="1195"/>
                    </a:lnTo>
                    <a:lnTo>
                      <a:pt x="1542" y="1190"/>
                    </a:lnTo>
                    <a:lnTo>
                      <a:pt x="1525" y="1188"/>
                    </a:lnTo>
                    <a:lnTo>
                      <a:pt x="1508" y="1184"/>
                    </a:lnTo>
                    <a:lnTo>
                      <a:pt x="1485" y="1178"/>
                    </a:lnTo>
                    <a:lnTo>
                      <a:pt x="1463" y="1174"/>
                    </a:lnTo>
                    <a:lnTo>
                      <a:pt x="1442" y="1164"/>
                    </a:lnTo>
                    <a:lnTo>
                      <a:pt x="1419" y="1156"/>
                    </a:lnTo>
                    <a:lnTo>
                      <a:pt x="1403" y="1147"/>
                    </a:lnTo>
                    <a:lnTo>
                      <a:pt x="1385" y="1137"/>
                    </a:lnTo>
                    <a:lnTo>
                      <a:pt x="1349" y="1113"/>
                    </a:lnTo>
                    <a:lnTo>
                      <a:pt x="1321" y="1092"/>
                    </a:lnTo>
                    <a:lnTo>
                      <a:pt x="1299" y="1068"/>
                    </a:lnTo>
                    <a:lnTo>
                      <a:pt x="1290" y="1047"/>
                    </a:lnTo>
                    <a:lnTo>
                      <a:pt x="1276" y="1027"/>
                    </a:lnTo>
                    <a:lnTo>
                      <a:pt x="1271" y="1008"/>
                    </a:lnTo>
                    <a:lnTo>
                      <a:pt x="1262" y="988"/>
                    </a:lnTo>
                    <a:lnTo>
                      <a:pt x="1248" y="970"/>
                    </a:lnTo>
                    <a:lnTo>
                      <a:pt x="1242" y="963"/>
                    </a:lnTo>
                    <a:lnTo>
                      <a:pt x="1230" y="953"/>
                    </a:lnTo>
                    <a:lnTo>
                      <a:pt x="1214" y="943"/>
                    </a:lnTo>
                    <a:lnTo>
                      <a:pt x="1194" y="929"/>
                    </a:lnTo>
                    <a:lnTo>
                      <a:pt x="1176" y="922"/>
                    </a:lnTo>
                    <a:lnTo>
                      <a:pt x="1153" y="906"/>
                    </a:lnTo>
                    <a:lnTo>
                      <a:pt x="1141" y="892"/>
                    </a:lnTo>
                    <a:lnTo>
                      <a:pt x="1125" y="877"/>
                    </a:lnTo>
                    <a:lnTo>
                      <a:pt x="1116" y="845"/>
                    </a:lnTo>
                    <a:lnTo>
                      <a:pt x="1116" y="810"/>
                    </a:lnTo>
                    <a:lnTo>
                      <a:pt x="1125" y="779"/>
                    </a:lnTo>
                    <a:lnTo>
                      <a:pt x="1136" y="759"/>
                    </a:lnTo>
                    <a:lnTo>
                      <a:pt x="1141" y="738"/>
                    </a:lnTo>
                    <a:lnTo>
                      <a:pt x="1141" y="708"/>
                    </a:lnTo>
                    <a:lnTo>
                      <a:pt x="1136" y="673"/>
                    </a:lnTo>
                    <a:lnTo>
                      <a:pt x="1125" y="640"/>
                    </a:lnTo>
                    <a:lnTo>
                      <a:pt x="1111" y="616"/>
                    </a:lnTo>
                    <a:lnTo>
                      <a:pt x="1100" y="601"/>
                    </a:lnTo>
                    <a:lnTo>
                      <a:pt x="1082" y="593"/>
                    </a:lnTo>
                    <a:lnTo>
                      <a:pt x="1055" y="579"/>
                    </a:lnTo>
                    <a:lnTo>
                      <a:pt x="1034" y="564"/>
                    </a:lnTo>
                    <a:lnTo>
                      <a:pt x="1022" y="548"/>
                    </a:lnTo>
                    <a:lnTo>
                      <a:pt x="1009" y="534"/>
                    </a:lnTo>
                    <a:lnTo>
                      <a:pt x="1002" y="515"/>
                    </a:lnTo>
                    <a:lnTo>
                      <a:pt x="986" y="497"/>
                    </a:lnTo>
                    <a:lnTo>
                      <a:pt x="965" y="481"/>
                    </a:lnTo>
                    <a:lnTo>
                      <a:pt x="940" y="476"/>
                    </a:lnTo>
                    <a:lnTo>
                      <a:pt x="915" y="476"/>
                    </a:lnTo>
                    <a:lnTo>
                      <a:pt x="904" y="478"/>
                    </a:lnTo>
                    <a:lnTo>
                      <a:pt x="886" y="476"/>
                    </a:lnTo>
                    <a:lnTo>
                      <a:pt x="870" y="470"/>
                    </a:lnTo>
                    <a:lnTo>
                      <a:pt x="854" y="464"/>
                    </a:lnTo>
                    <a:lnTo>
                      <a:pt x="833" y="460"/>
                    </a:lnTo>
                    <a:lnTo>
                      <a:pt x="813" y="452"/>
                    </a:lnTo>
                    <a:lnTo>
                      <a:pt x="794" y="446"/>
                    </a:lnTo>
                    <a:lnTo>
                      <a:pt x="781" y="442"/>
                    </a:lnTo>
                    <a:lnTo>
                      <a:pt x="753" y="433"/>
                    </a:lnTo>
                    <a:lnTo>
                      <a:pt x="738" y="427"/>
                    </a:lnTo>
                    <a:lnTo>
                      <a:pt x="719" y="419"/>
                    </a:lnTo>
                    <a:lnTo>
                      <a:pt x="694" y="413"/>
                    </a:lnTo>
                    <a:lnTo>
                      <a:pt x="678" y="413"/>
                    </a:lnTo>
                    <a:lnTo>
                      <a:pt x="665" y="411"/>
                    </a:lnTo>
                    <a:lnTo>
                      <a:pt x="649" y="413"/>
                    </a:lnTo>
                    <a:lnTo>
                      <a:pt x="630" y="413"/>
                    </a:lnTo>
                    <a:lnTo>
                      <a:pt x="614" y="413"/>
                    </a:lnTo>
                    <a:lnTo>
                      <a:pt x="596" y="411"/>
                    </a:lnTo>
                    <a:lnTo>
                      <a:pt x="576" y="407"/>
                    </a:lnTo>
                    <a:lnTo>
                      <a:pt x="559" y="401"/>
                    </a:lnTo>
                    <a:lnTo>
                      <a:pt x="539" y="393"/>
                    </a:lnTo>
                    <a:lnTo>
                      <a:pt x="527" y="388"/>
                    </a:lnTo>
                    <a:lnTo>
                      <a:pt x="507" y="386"/>
                    </a:lnTo>
                    <a:lnTo>
                      <a:pt x="489" y="384"/>
                    </a:lnTo>
                    <a:lnTo>
                      <a:pt x="473" y="384"/>
                    </a:lnTo>
                    <a:lnTo>
                      <a:pt x="450" y="384"/>
                    </a:lnTo>
                    <a:lnTo>
                      <a:pt x="425" y="386"/>
                    </a:lnTo>
                    <a:lnTo>
                      <a:pt x="400" y="388"/>
                    </a:lnTo>
                    <a:lnTo>
                      <a:pt x="372" y="393"/>
                    </a:lnTo>
                    <a:lnTo>
                      <a:pt x="347" y="407"/>
                    </a:lnTo>
                    <a:lnTo>
                      <a:pt x="331" y="421"/>
                    </a:lnTo>
                    <a:lnTo>
                      <a:pt x="309" y="436"/>
                    </a:lnTo>
                    <a:lnTo>
                      <a:pt x="290" y="450"/>
                    </a:lnTo>
                    <a:lnTo>
                      <a:pt x="268" y="464"/>
                    </a:lnTo>
                    <a:lnTo>
                      <a:pt x="245" y="476"/>
                    </a:lnTo>
                    <a:lnTo>
                      <a:pt x="220" y="476"/>
                    </a:lnTo>
                    <a:lnTo>
                      <a:pt x="195" y="466"/>
                    </a:lnTo>
                    <a:lnTo>
                      <a:pt x="179" y="458"/>
                    </a:lnTo>
                    <a:lnTo>
                      <a:pt x="170" y="446"/>
                    </a:lnTo>
                    <a:lnTo>
                      <a:pt x="147" y="433"/>
                    </a:lnTo>
                    <a:lnTo>
                      <a:pt x="126" y="419"/>
                    </a:lnTo>
                    <a:lnTo>
                      <a:pt x="117" y="393"/>
                    </a:lnTo>
                    <a:lnTo>
                      <a:pt x="117" y="362"/>
                    </a:lnTo>
                    <a:lnTo>
                      <a:pt x="130" y="325"/>
                    </a:lnTo>
                    <a:lnTo>
                      <a:pt x="138" y="303"/>
                    </a:lnTo>
                    <a:lnTo>
                      <a:pt x="131" y="288"/>
                    </a:lnTo>
                    <a:lnTo>
                      <a:pt x="122" y="282"/>
                    </a:lnTo>
                    <a:lnTo>
                      <a:pt x="103" y="276"/>
                    </a:lnTo>
                    <a:lnTo>
                      <a:pt x="85" y="274"/>
                    </a:lnTo>
                    <a:lnTo>
                      <a:pt x="60" y="268"/>
                    </a:lnTo>
                    <a:lnTo>
                      <a:pt x="33" y="264"/>
                    </a:lnTo>
                    <a:lnTo>
                      <a:pt x="12" y="255"/>
                    </a:lnTo>
                    <a:lnTo>
                      <a:pt x="0" y="245"/>
                    </a:lnTo>
                    <a:lnTo>
                      <a:pt x="0" y="227"/>
                    </a:lnTo>
                    <a:lnTo>
                      <a:pt x="8" y="206"/>
                    </a:lnTo>
                    <a:lnTo>
                      <a:pt x="28" y="182"/>
                    </a:lnTo>
                    <a:lnTo>
                      <a:pt x="53" y="163"/>
                    </a:lnTo>
                    <a:lnTo>
                      <a:pt x="78" y="139"/>
                    </a:lnTo>
                    <a:lnTo>
                      <a:pt x="103" y="122"/>
                    </a:lnTo>
                    <a:lnTo>
                      <a:pt x="130" y="112"/>
                    </a:lnTo>
                    <a:lnTo>
                      <a:pt x="151" y="100"/>
                    </a:lnTo>
                    <a:lnTo>
                      <a:pt x="170" y="88"/>
                    </a:lnTo>
                    <a:lnTo>
                      <a:pt x="192" y="77"/>
                    </a:lnTo>
                    <a:lnTo>
                      <a:pt x="217" y="65"/>
                    </a:lnTo>
                    <a:lnTo>
                      <a:pt x="252" y="57"/>
                    </a:lnTo>
                    <a:lnTo>
                      <a:pt x="299" y="53"/>
                    </a:lnTo>
                    <a:lnTo>
                      <a:pt x="359" y="53"/>
                    </a:lnTo>
                    <a:lnTo>
                      <a:pt x="434" y="57"/>
                    </a:lnTo>
                    <a:lnTo>
                      <a:pt x="473" y="73"/>
                    </a:lnTo>
                    <a:lnTo>
                      <a:pt x="502" y="82"/>
                    </a:lnTo>
                    <a:lnTo>
                      <a:pt x="527" y="90"/>
                    </a:lnTo>
                    <a:lnTo>
                      <a:pt x="548" y="96"/>
                    </a:lnTo>
                    <a:lnTo>
                      <a:pt x="568" y="98"/>
                    </a:lnTo>
                    <a:lnTo>
                      <a:pt x="584" y="102"/>
                    </a:lnTo>
                    <a:lnTo>
                      <a:pt x="601" y="104"/>
                    </a:lnTo>
                    <a:lnTo>
                      <a:pt x="617" y="110"/>
                    </a:lnTo>
                    <a:lnTo>
                      <a:pt x="641" y="114"/>
                    </a:lnTo>
                    <a:lnTo>
                      <a:pt x="669" y="116"/>
                    </a:lnTo>
                    <a:lnTo>
                      <a:pt x="703" y="118"/>
                    </a:lnTo>
                    <a:lnTo>
                      <a:pt x="744" y="122"/>
                    </a:lnTo>
                    <a:lnTo>
                      <a:pt x="781" y="127"/>
                    </a:lnTo>
                    <a:lnTo>
                      <a:pt x="817" y="127"/>
                    </a:lnTo>
                    <a:lnTo>
                      <a:pt x="849" y="127"/>
                    </a:lnTo>
                    <a:lnTo>
                      <a:pt x="870" y="127"/>
                    </a:lnTo>
                    <a:lnTo>
                      <a:pt x="892" y="122"/>
                    </a:lnTo>
                    <a:lnTo>
                      <a:pt x="920" y="122"/>
                    </a:lnTo>
                    <a:lnTo>
                      <a:pt x="956" y="122"/>
                    </a:lnTo>
                    <a:lnTo>
                      <a:pt x="990" y="122"/>
                    </a:lnTo>
                    <a:lnTo>
                      <a:pt x="1027" y="122"/>
                    </a:lnTo>
                    <a:lnTo>
                      <a:pt x="1059" y="127"/>
                    </a:lnTo>
                    <a:lnTo>
                      <a:pt x="1087" y="127"/>
                    </a:lnTo>
                    <a:lnTo>
                      <a:pt x="1107" y="127"/>
                    </a:lnTo>
                    <a:lnTo>
                      <a:pt x="1123" y="127"/>
                    </a:lnTo>
                    <a:lnTo>
                      <a:pt x="1141" y="129"/>
                    </a:lnTo>
                    <a:lnTo>
                      <a:pt x="1164" y="131"/>
                    </a:lnTo>
                    <a:lnTo>
                      <a:pt x="1182" y="133"/>
                    </a:lnTo>
                    <a:lnTo>
                      <a:pt x="1205" y="135"/>
                    </a:lnTo>
                    <a:lnTo>
                      <a:pt x="1226" y="139"/>
                    </a:lnTo>
                    <a:lnTo>
                      <a:pt x="1248" y="143"/>
                    </a:lnTo>
                    <a:lnTo>
                      <a:pt x="1267" y="149"/>
                    </a:lnTo>
                    <a:lnTo>
                      <a:pt x="1292" y="153"/>
                    </a:lnTo>
                    <a:lnTo>
                      <a:pt x="1321" y="159"/>
                    </a:lnTo>
                    <a:lnTo>
                      <a:pt x="1362" y="163"/>
                    </a:lnTo>
                    <a:lnTo>
                      <a:pt x="1403" y="167"/>
                    </a:lnTo>
                    <a:lnTo>
                      <a:pt x="1442" y="170"/>
                    </a:lnTo>
                    <a:lnTo>
                      <a:pt x="1479" y="176"/>
                    </a:lnTo>
                    <a:lnTo>
                      <a:pt x="1511" y="178"/>
                    </a:lnTo>
                    <a:lnTo>
                      <a:pt x="1533" y="178"/>
                    </a:lnTo>
                    <a:lnTo>
                      <a:pt x="1554" y="178"/>
                    </a:lnTo>
                    <a:lnTo>
                      <a:pt x="1586" y="178"/>
                    </a:lnTo>
                    <a:lnTo>
                      <a:pt x="1623" y="176"/>
                    </a:lnTo>
                    <a:lnTo>
                      <a:pt x="1668" y="172"/>
                    </a:lnTo>
                    <a:lnTo>
                      <a:pt x="1705" y="170"/>
                    </a:lnTo>
                    <a:lnTo>
                      <a:pt x="1746" y="167"/>
                    </a:lnTo>
                    <a:lnTo>
                      <a:pt x="1778" y="161"/>
                    </a:lnTo>
                    <a:lnTo>
                      <a:pt x="1810" y="153"/>
                    </a:lnTo>
                    <a:lnTo>
                      <a:pt x="1844" y="139"/>
                    </a:lnTo>
                    <a:lnTo>
                      <a:pt x="1867" y="131"/>
                    </a:lnTo>
                    <a:lnTo>
                      <a:pt x="1873" y="120"/>
                    </a:lnTo>
                    <a:lnTo>
                      <a:pt x="1876" y="112"/>
                    </a:lnTo>
                    <a:lnTo>
                      <a:pt x="1869" y="100"/>
                    </a:lnTo>
                    <a:lnTo>
                      <a:pt x="1851" y="84"/>
                    </a:lnTo>
                    <a:lnTo>
                      <a:pt x="1835" y="73"/>
                    </a:lnTo>
                    <a:lnTo>
                      <a:pt x="1819" y="63"/>
                    </a:lnTo>
                    <a:lnTo>
                      <a:pt x="1816" y="51"/>
                    </a:lnTo>
                    <a:lnTo>
                      <a:pt x="1823" y="35"/>
                    </a:lnTo>
                    <a:lnTo>
                      <a:pt x="1839" y="20"/>
                    </a:lnTo>
                    <a:lnTo>
                      <a:pt x="1851" y="4"/>
                    </a:lnTo>
                    <a:lnTo>
                      <a:pt x="1873" y="0"/>
                    </a:lnTo>
                    <a:lnTo>
                      <a:pt x="1896" y="2"/>
                    </a:lnTo>
                    <a:lnTo>
                      <a:pt x="1924" y="12"/>
                    </a:lnTo>
                    <a:lnTo>
                      <a:pt x="1953" y="18"/>
                    </a:lnTo>
                    <a:lnTo>
                      <a:pt x="1965" y="28"/>
                    </a:lnTo>
                    <a:lnTo>
                      <a:pt x="1967" y="43"/>
                    </a:lnTo>
                    <a:lnTo>
                      <a:pt x="1967" y="57"/>
                    </a:lnTo>
                    <a:lnTo>
                      <a:pt x="1967" y="71"/>
                    </a:lnTo>
                    <a:lnTo>
                      <a:pt x="1978" y="82"/>
                    </a:lnTo>
                    <a:lnTo>
                      <a:pt x="1994" y="100"/>
                    </a:lnTo>
                    <a:lnTo>
                      <a:pt x="2019" y="112"/>
                    </a:lnTo>
                    <a:lnTo>
                      <a:pt x="2053" y="116"/>
                    </a:lnTo>
                    <a:lnTo>
                      <a:pt x="2072" y="116"/>
                    </a:lnTo>
                    <a:lnTo>
                      <a:pt x="2088" y="116"/>
                    </a:lnTo>
                    <a:lnTo>
                      <a:pt x="2106" y="118"/>
                    </a:lnTo>
                    <a:lnTo>
                      <a:pt x="2126" y="120"/>
                    </a:lnTo>
                    <a:lnTo>
                      <a:pt x="2145" y="127"/>
                    </a:lnTo>
                    <a:lnTo>
                      <a:pt x="2159" y="129"/>
                    </a:lnTo>
                    <a:lnTo>
                      <a:pt x="2179" y="131"/>
                    </a:lnTo>
                    <a:lnTo>
                      <a:pt x="2199" y="133"/>
                    </a:lnTo>
                    <a:lnTo>
                      <a:pt x="2227" y="135"/>
                    </a:lnTo>
                    <a:lnTo>
                      <a:pt x="2241" y="139"/>
                    </a:lnTo>
                    <a:lnTo>
                      <a:pt x="2241" y="151"/>
                    </a:lnTo>
                    <a:lnTo>
                      <a:pt x="2239" y="163"/>
                    </a:lnTo>
                    <a:lnTo>
                      <a:pt x="2229" y="170"/>
                    </a:lnTo>
                    <a:lnTo>
                      <a:pt x="2223" y="178"/>
                    </a:lnTo>
                    <a:lnTo>
                      <a:pt x="2207" y="182"/>
                    </a:lnTo>
                    <a:lnTo>
                      <a:pt x="2195" y="186"/>
                    </a:lnTo>
                    <a:lnTo>
                      <a:pt x="2175" y="188"/>
                    </a:lnTo>
                    <a:lnTo>
                      <a:pt x="2158" y="192"/>
                    </a:lnTo>
                    <a:lnTo>
                      <a:pt x="2138" y="192"/>
                    </a:lnTo>
                    <a:lnTo>
                      <a:pt x="2122" y="194"/>
                    </a:lnTo>
                    <a:lnTo>
                      <a:pt x="2088" y="200"/>
                    </a:lnTo>
                    <a:lnTo>
                      <a:pt x="2063" y="210"/>
                    </a:lnTo>
                    <a:lnTo>
                      <a:pt x="2036" y="219"/>
                    </a:lnTo>
                    <a:lnTo>
                      <a:pt x="2015" y="233"/>
                    </a:lnTo>
                    <a:lnTo>
                      <a:pt x="1994" y="249"/>
                    </a:lnTo>
                    <a:lnTo>
                      <a:pt x="1967" y="266"/>
                    </a:lnTo>
                    <a:lnTo>
                      <a:pt x="1939" y="286"/>
                    </a:lnTo>
                    <a:lnTo>
                      <a:pt x="1914" y="313"/>
                    </a:lnTo>
                    <a:lnTo>
                      <a:pt x="1898" y="348"/>
                    </a:lnTo>
                    <a:lnTo>
                      <a:pt x="1898" y="393"/>
                    </a:lnTo>
                    <a:lnTo>
                      <a:pt x="1908" y="433"/>
                    </a:lnTo>
                    <a:lnTo>
                      <a:pt x="1914" y="462"/>
                    </a:lnTo>
                    <a:lnTo>
                      <a:pt x="1924" y="476"/>
                    </a:lnTo>
                    <a:lnTo>
                      <a:pt x="1939" y="478"/>
                    </a:lnTo>
                    <a:lnTo>
                      <a:pt x="1958" y="476"/>
                    </a:lnTo>
                    <a:lnTo>
                      <a:pt x="1978" y="476"/>
                    </a:lnTo>
                    <a:lnTo>
                      <a:pt x="1999" y="478"/>
                    </a:lnTo>
                    <a:lnTo>
                      <a:pt x="2024" y="480"/>
                    </a:lnTo>
                    <a:lnTo>
                      <a:pt x="2044" y="485"/>
                    </a:lnTo>
                    <a:lnTo>
                      <a:pt x="2065" y="495"/>
                    </a:lnTo>
                    <a:lnTo>
                      <a:pt x="2088" y="499"/>
                    </a:lnTo>
                    <a:lnTo>
                      <a:pt x="2106" y="503"/>
                    </a:lnTo>
                    <a:lnTo>
                      <a:pt x="2122" y="507"/>
                    </a:lnTo>
                    <a:lnTo>
                      <a:pt x="2138" y="507"/>
                    </a:lnTo>
                    <a:lnTo>
                      <a:pt x="2158" y="507"/>
                    </a:lnTo>
                    <a:lnTo>
                      <a:pt x="2174" y="513"/>
                    </a:lnTo>
                    <a:lnTo>
                      <a:pt x="2183" y="519"/>
                    </a:lnTo>
                    <a:lnTo>
                      <a:pt x="2186" y="532"/>
                    </a:lnTo>
                    <a:lnTo>
                      <a:pt x="2195" y="544"/>
                    </a:lnTo>
                    <a:lnTo>
                      <a:pt x="2204" y="552"/>
                    </a:lnTo>
                    <a:lnTo>
                      <a:pt x="2220" y="558"/>
                    </a:lnTo>
                    <a:lnTo>
                      <a:pt x="2239" y="560"/>
                    </a:lnTo>
                    <a:lnTo>
                      <a:pt x="2248" y="552"/>
                    </a:lnTo>
                    <a:lnTo>
                      <a:pt x="2252" y="532"/>
                    </a:lnTo>
                    <a:lnTo>
                      <a:pt x="2252" y="509"/>
                    </a:lnTo>
                    <a:lnTo>
                      <a:pt x="2245" y="485"/>
                    </a:lnTo>
                    <a:lnTo>
                      <a:pt x="2248" y="476"/>
                    </a:lnTo>
                    <a:lnTo>
                      <a:pt x="2268" y="464"/>
                    </a:lnTo>
                    <a:lnTo>
                      <a:pt x="2296" y="460"/>
                    </a:lnTo>
                    <a:lnTo>
                      <a:pt x="2321" y="450"/>
                    </a:lnTo>
                    <a:lnTo>
                      <a:pt x="2339" y="442"/>
                    </a:lnTo>
                    <a:lnTo>
                      <a:pt x="2337" y="425"/>
                    </a:lnTo>
                    <a:lnTo>
                      <a:pt x="2325" y="409"/>
                    </a:lnTo>
                    <a:lnTo>
                      <a:pt x="2302" y="397"/>
                    </a:lnTo>
                    <a:lnTo>
                      <a:pt x="2289" y="384"/>
                    </a:lnTo>
                    <a:lnTo>
                      <a:pt x="2280" y="368"/>
                    </a:lnTo>
                    <a:lnTo>
                      <a:pt x="2286" y="352"/>
                    </a:lnTo>
                    <a:lnTo>
                      <a:pt x="2293" y="335"/>
                    </a:lnTo>
                    <a:lnTo>
                      <a:pt x="2314" y="325"/>
                    </a:lnTo>
                    <a:lnTo>
                      <a:pt x="2343" y="317"/>
                    </a:lnTo>
                    <a:lnTo>
                      <a:pt x="2375" y="325"/>
                    </a:lnTo>
                    <a:lnTo>
                      <a:pt x="2394" y="333"/>
                    </a:lnTo>
                    <a:lnTo>
                      <a:pt x="2409" y="345"/>
                    </a:lnTo>
                    <a:lnTo>
                      <a:pt x="2432" y="352"/>
                    </a:lnTo>
                    <a:lnTo>
                      <a:pt x="2453" y="360"/>
                    </a:lnTo>
                    <a:lnTo>
                      <a:pt x="2469" y="366"/>
                    </a:lnTo>
                    <a:lnTo>
                      <a:pt x="2485" y="374"/>
                    </a:lnTo>
                    <a:lnTo>
                      <a:pt x="2501" y="384"/>
                    </a:lnTo>
                    <a:lnTo>
                      <a:pt x="2514" y="397"/>
                    </a:lnTo>
                    <a:lnTo>
                      <a:pt x="2530" y="407"/>
                    </a:lnTo>
                    <a:lnTo>
                      <a:pt x="2546" y="409"/>
                    </a:lnTo>
                    <a:lnTo>
                      <a:pt x="2564" y="399"/>
                    </a:lnTo>
                    <a:lnTo>
                      <a:pt x="2587" y="384"/>
                    </a:lnTo>
                    <a:lnTo>
                      <a:pt x="2601" y="368"/>
                    </a:lnTo>
                    <a:lnTo>
                      <a:pt x="2615" y="362"/>
                    </a:lnTo>
                    <a:lnTo>
                      <a:pt x="2640" y="366"/>
                    </a:lnTo>
                    <a:lnTo>
                      <a:pt x="2661" y="380"/>
                    </a:lnTo>
                    <a:lnTo>
                      <a:pt x="2677" y="399"/>
                    </a:lnTo>
                    <a:lnTo>
                      <a:pt x="2686" y="413"/>
                    </a:lnTo>
                    <a:lnTo>
                      <a:pt x="2702" y="429"/>
                    </a:lnTo>
                    <a:lnTo>
                      <a:pt x="2718" y="442"/>
                    </a:lnTo>
                    <a:lnTo>
                      <a:pt x="2740" y="460"/>
                    </a:lnTo>
                    <a:lnTo>
                      <a:pt x="2759" y="478"/>
                    </a:lnTo>
                    <a:lnTo>
                      <a:pt x="2772" y="489"/>
                    </a:lnTo>
                    <a:lnTo>
                      <a:pt x="2779" y="501"/>
                    </a:lnTo>
                    <a:lnTo>
                      <a:pt x="2781" y="515"/>
                    </a:lnTo>
                    <a:lnTo>
                      <a:pt x="2791" y="524"/>
                    </a:lnTo>
                    <a:lnTo>
                      <a:pt x="2807" y="526"/>
                    </a:lnTo>
                    <a:lnTo>
                      <a:pt x="2829" y="524"/>
                    </a:lnTo>
                    <a:lnTo>
                      <a:pt x="2848" y="523"/>
                    </a:lnTo>
                    <a:lnTo>
                      <a:pt x="2863" y="524"/>
                    </a:lnTo>
                    <a:lnTo>
                      <a:pt x="2870" y="534"/>
                    </a:lnTo>
                    <a:lnTo>
                      <a:pt x="2866" y="554"/>
                    </a:lnTo>
                    <a:lnTo>
                      <a:pt x="2854" y="577"/>
                    </a:lnTo>
                    <a:lnTo>
                      <a:pt x="2838" y="595"/>
                    </a:lnTo>
                    <a:lnTo>
                      <a:pt x="2820" y="601"/>
                    </a:lnTo>
                    <a:lnTo>
                      <a:pt x="2797" y="605"/>
                    </a:lnTo>
                    <a:lnTo>
                      <a:pt x="2772" y="607"/>
                    </a:lnTo>
                    <a:lnTo>
                      <a:pt x="2751" y="611"/>
                    </a:lnTo>
                    <a:lnTo>
                      <a:pt x="2731" y="613"/>
                    </a:lnTo>
                    <a:lnTo>
                      <a:pt x="2711" y="614"/>
                    </a:lnTo>
                    <a:lnTo>
                      <a:pt x="2699" y="618"/>
                    </a:lnTo>
                    <a:lnTo>
                      <a:pt x="2694" y="632"/>
                    </a:lnTo>
                    <a:lnTo>
                      <a:pt x="2694" y="650"/>
                    </a:lnTo>
                    <a:lnTo>
                      <a:pt x="2697" y="669"/>
                    </a:lnTo>
                    <a:lnTo>
                      <a:pt x="2699" y="691"/>
                    </a:lnTo>
                    <a:lnTo>
                      <a:pt x="2694" y="708"/>
                    </a:lnTo>
                    <a:lnTo>
                      <a:pt x="2669" y="726"/>
                    </a:lnTo>
                    <a:lnTo>
                      <a:pt x="2633" y="738"/>
                    </a:lnTo>
                    <a:lnTo>
                      <a:pt x="2604" y="746"/>
                    </a:lnTo>
                    <a:lnTo>
                      <a:pt x="2583" y="751"/>
                    </a:lnTo>
                    <a:lnTo>
                      <a:pt x="2560" y="765"/>
                    </a:lnTo>
                    <a:lnTo>
                      <a:pt x="2539" y="779"/>
                    </a:lnTo>
                    <a:lnTo>
                      <a:pt x="2530" y="796"/>
                    </a:lnTo>
                    <a:lnTo>
                      <a:pt x="2517" y="812"/>
                    </a:lnTo>
                    <a:lnTo>
                      <a:pt x="2507" y="826"/>
                    </a:lnTo>
                    <a:lnTo>
                      <a:pt x="2489" y="832"/>
                    </a:lnTo>
                    <a:lnTo>
                      <a:pt x="2469" y="845"/>
                    </a:lnTo>
                    <a:lnTo>
                      <a:pt x="2453" y="855"/>
                    </a:lnTo>
                    <a:lnTo>
                      <a:pt x="2437" y="857"/>
                    </a:lnTo>
                    <a:lnTo>
                      <a:pt x="2419" y="861"/>
                    </a:lnTo>
                    <a:lnTo>
                      <a:pt x="2396" y="867"/>
                    </a:lnTo>
                    <a:lnTo>
                      <a:pt x="2384" y="877"/>
                    </a:lnTo>
                    <a:lnTo>
                      <a:pt x="2384" y="888"/>
                    </a:lnTo>
                    <a:lnTo>
                      <a:pt x="2384" y="898"/>
                    </a:lnTo>
                    <a:lnTo>
                      <a:pt x="2378" y="910"/>
                    </a:lnTo>
                    <a:lnTo>
                      <a:pt x="2371" y="925"/>
                    </a:lnTo>
                    <a:lnTo>
                      <a:pt x="2368" y="941"/>
                    </a:lnTo>
                    <a:lnTo>
                      <a:pt x="2362" y="959"/>
                    </a:lnTo>
                    <a:lnTo>
                      <a:pt x="2350" y="972"/>
                    </a:lnTo>
                    <a:lnTo>
                      <a:pt x="2343" y="986"/>
                    </a:lnTo>
                    <a:lnTo>
                      <a:pt x="2343" y="996"/>
                    </a:lnTo>
                    <a:lnTo>
                      <a:pt x="2339" y="1004"/>
                    </a:lnTo>
                    <a:lnTo>
                      <a:pt x="2321" y="1006"/>
                    </a:lnTo>
                    <a:lnTo>
                      <a:pt x="2298" y="1008"/>
                    </a:lnTo>
                    <a:lnTo>
                      <a:pt x="2286" y="1010"/>
                    </a:lnTo>
                    <a:lnTo>
                      <a:pt x="2273" y="1019"/>
                    </a:lnTo>
                    <a:lnTo>
                      <a:pt x="2264" y="1037"/>
                    </a:lnTo>
                    <a:lnTo>
                      <a:pt x="2268" y="1068"/>
                    </a:lnTo>
                    <a:lnTo>
                      <a:pt x="2277" y="1107"/>
                    </a:lnTo>
                    <a:lnTo>
                      <a:pt x="2280" y="1145"/>
                    </a:lnTo>
                    <a:lnTo>
                      <a:pt x="2264" y="1160"/>
                    </a:lnTo>
                    <a:lnTo>
                      <a:pt x="2241" y="1158"/>
                    </a:lnTo>
                    <a:lnTo>
                      <a:pt x="2223" y="1154"/>
                    </a:lnTo>
                    <a:lnTo>
                      <a:pt x="2211" y="1143"/>
                    </a:lnTo>
                    <a:lnTo>
                      <a:pt x="2200" y="1131"/>
                    </a:lnTo>
                    <a:lnTo>
                      <a:pt x="2191" y="1115"/>
                    </a:lnTo>
                    <a:lnTo>
                      <a:pt x="2183" y="1098"/>
                    </a:lnTo>
                    <a:lnTo>
                      <a:pt x="2175" y="1082"/>
                    </a:lnTo>
                    <a:lnTo>
                      <a:pt x="2174" y="1078"/>
                    </a:lnTo>
                    <a:lnTo>
                      <a:pt x="2166" y="1078"/>
                    </a:lnTo>
                    <a:lnTo>
                      <a:pt x="2145" y="1076"/>
                    </a:lnTo>
                    <a:lnTo>
                      <a:pt x="2118" y="1076"/>
                    </a:lnTo>
                    <a:lnTo>
                      <a:pt x="2097" y="1078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80" name="Freeform 1153"/>
              <p:cNvSpPr/>
              <p:nvPr/>
            </p:nvSpPr>
            <p:spPr>
              <a:xfrm>
                <a:off x="2602080" y="3201840"/>
                <a:ext cx="550800" cy="288720"/>
              </a:xfrm>
              <a:custGeom>
                <a:avLst/>
                <a:gdLst/>
                <a:ahLst/>
                <a:rect l="l" t="t" r="r" b="b"/>
                <a:pathLst>
                  <a:path w="695" h="379">
                    <a:moveTo>
                      <a:pt x="32" y="11"/>
                    </a:moveTo>
                    <a:lnTo>
                      <a:pt x="47" y="6"/>
                    </a:lnTo>
                    <a:lnTo>
                      <a:pt x="66" y="0"/>
                    </a:lnTo>
                    <a:lnTo>
                      <a:pt x="86" y="0"/>
                    </a:lnTo>
                    <a:lnTo>
                      <a:pt x="100" y="0"/>
                    </a:lnTo>
                    <a:lnTo>
                      <a:pt x="120" y="4"/>
                    </a:lnTo>
                    <a:lnTo>
                      <a:pt x="139" y="6"/>
                    </a:lnTo>
                    <a:lnTo>
                      <a:pt x="157" y="7"/>
                    </a:lnTo>
                    <a:lnTo>
                      <a:pt x="180" y="13"/>
                    </a:lnTo>
                    <a:lnTo>
                      <a:pt x="198" y="17"/>
                    </a:lnTo>
                    <a:lnTo>
                      <a:pt x="221" y="23"/>
                    </a:lnTo>
                    <a:lnTo>
                      <a:pt x="246" y="27"/>
                    </a:lnTo>
                    <a:lnTo>
                      <a:pt x="275" y="33"/>
                    </a:lnTo>
                    <a:lnTo>
                      <a:pt x="292" y="41"/>
                    </a:lnTo>
                    <a:lnTo>
                      <a:pt x="314" y="45"/>
                    </a:lnTo>
                    <a:lnTo>
                      <a:pt x="337" y="51"/>
                    </a:lnTo>
                    <a:lnTo>
                      <a:pt x="353" y="54"/>
                    </a:lnTo>
                    <a:lnTo>
                      <a:pt x="371" y="56"/>
                    </a:lnTo>
                    <a:lnTo>
                      <a:pt x="396" y="60"/>
                    </a:lnTo>
                    <a:lnTo>
                      <a:pt x="421" y="64"/>
                    </a:lnTo>
                    <a:lnTo>
                      <a:pt x="449" y="74"/>
                    </a:lnTo>
                    <a:lnTo>
                      <a:pt x="478" y="82"/>
                    </a:lnTo>
                    <a:lnTo>
                      <a:pt x="506" y="92"/>
                    </a:lnTo>
                    <a:lnTo>
                      <a:pt x="527" y="105"/>
                    </a:lnTo>
                    <a:lnTo>
                      <a:pt x="547" y="113"/>
                    </a:lnTo>
                    <a:lnTo>
                      <a:pt x="572" y="141"/>
                    </a:lnTo>
                    <a:lnTo>
                      <a:pt x="595" y="178"/>
                    </a:lnTo>
                    <a:lnTo>
                      <a:pt x="613" y="211"/>
                    </a:lnTo>
                    <a:lnTo>
                      <a:pt x="633" y="229"/>
                    </a:lnTo>
                    <a:lnTo>
                      <a:pt x="649" y="240"/>
                    </a:lnTo>
                    <a:lnTo>
                      <a:pt x="663" y="258"/>
                    </a:lnTo>
                    <a:lnTo>
                      <a:pt x="670" y="277"/>
                    </a:lnTo>
                    <a:lnTo>
                      <a:pt x="673" y="297"/>
                    </a:lnTo>
                    <a:lnTo>
                      <a:pt x="673" y="315"/>
                    </a:lnTo>
                    <a:lnTo>
                      <a:pt x="682" y="328"/>
                    </a:lnTo>
                    <a:lnTo>
                      <a:pt x="688" y="342"/>
                    </a:lnTo>
                    <a:lnTo>
                      <a:pt x="695" y="356"/>
                    </a:lnTo>
                    <a:lnTo>
                      <a:pt x="691" y="362"/>
                    </a:lnTo>
                    <a:lnTo>
                      <a:pt x="679" y="371"/>
                    </a:lnTo>
                    <a:lnTo>
                      <a:pt x="661" y="375"/>
                    </a:lnTo>
                    <a:lnTo>
                      <a:pt x="634" y="377"/>
                    </a:lnTo>
                    <a:lnTo>
                      <a:pt x="609" y="379"/>
                    </a:lnTo>
                    <a:lnTo>
                      <a:pt x="584" y="377"/>
                    </a:lnTo>
                    <a:lnTo>
                      <a:pt x="560" y="371"/>
                    </a:lnTo>
                    <a:lnTo>
                      <a:pt x="542" y="360"/>
                    </a:lnTo>
                    <a:lnTo>
                      <a:pt x="522" y="346"/>
                    </a:lnTo>
                    <a:lnTo>
                      <a:pt x="503" y="336"/>
                    </a:lnTo>
                    <a:lnTo>
                      <a:pt x="481" y="324"/>
                    </a:lnTo>
                    <a:lnTo>
                      <a:pt x="460" y="315"/>
                    </a:lnTo>
                    <a:lnTo>
                      <a:pt x="440" y="307"/>
                    </a:lnTo>
                    <a:lnTo>
                      <a:pt x="419" y="299"/>
                    </a:lnTo>
                    <a:lnTo>
                      <a:pt x="396" y="297"/>
                    </a:lnTo>
                    <a:lnTo>
                      <a:pt x="378" y="295"/>
                    </a:lnTo>
                    <a:lnTo>
                      <a:pt x="341" y="289"/>
                    </a:lnTo>
                    <a:lnTo>
                      <a:pt x="308" y="274"/>
                    </a:lnTo>
                    <a:lnTo>
                      <a:pt x="289" y="260"/>
                    </a:lnTo>
                    <a:lnTo>
                      <a:pt x="289" y="242"/>
                    </a:lnTo>
                    <a:lnTo>
                      <a:pt x="300" y="238"/>
                    </a:lnTo>
                    <a:lnTo>
                      <a:pt x="312" y="230"/>
                    </a:lnTo>
                    <a:lnTo>
                      <a:pt x="328" y="229"/>
                    </a:lnTo>
                    <a:lnTo>
                      <a:pt x="346" y="229"/>
                    </a:lnTo>
                    <a:lnTo>
                      <a:pt x="358" y="227"/>
                    </a:lnTo>
                    <a:lnTo>
                      <a:pt x="378" y="227"/>
                    </a:lnTo>
                    <a:lnTo>
                      <a:pt x="394" y="227"/>
                    </a:lnTo>
                    <a:lnTo>
                      <a:pt x="406" y="225"/>
                    </a:lnTo>
                    <a:lnTo>
                      <a:pt x="412" y="211"/>
                    </a:lnTo>
                    <a:lnTo>
                      <a:pt x="399" y="191"/>
                    </a:lnTo>
                    <a:lnTo>
                      <a:pt x="374" y="172"/>
                    </a:lnTo>
                    <a:lnTo>
                      <a:pt x="349" y="156"/>
                    </a:lnTo>
                    <a:lnTo>
                      <a:pt x="333" y="150"/>
                    </a:lnTo>
                    <a:lnTo>
                      <a:pt x="308" y="148"/>
                    </a:lnTo>
                    <a:lnTo>
                      <a:pt x="280" y="141"/>
                    </a:lnTo>
                    <a:lnTo>
                      <a:pt x="246" y="137"/>
                    </a:lnTo>
                    <a:lnTo>
                      <a:pt x="211" y="131"/>
                    </a:lnTo>
                    <a:lnTo>
                      <a:pt x="180" y="127"/>
                    </a:lnTo>
                    <a:lnTo>
                      <a:pt x="148" y="121"/>
                    </a:lnTo>
                    <a:lnTo>
                      <a:pt x="123" y="115"/>
                    </a:lnTo>
                    <a:lnTo>
                      <a:pt x="100" y="109"/>
                    </a:lnTo>
                    <a:lnTo>
                      <a:pt x="75" y="99"/>
                    </a:lnTo>
                    <a:lnTo>
                      <a:pt x="47" y="90"/>
                    </a:lnTo>
                    <a:lnTo>
                      <a:pt x="25" y="74"/>
                    </a:lnTo>
                    <a:lnTo>
                      <a:pt x="8" y="58"/>
                    </a:lnTo>
                    <a:lnTo>
                      <a:pt x="0" y="43"/>
                    </a:lnTo>
                    <a:lnTo>
                      <a:pt x="8" y="25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81" name="Freeform 1154"/>
              <p:cNvSpPr/>
              <p:nvPr/>
            </p:nvSpPr>
            <p:spPr>
              <a:xfrm>
                <a:off x="2948040" y="2874960"/>
                <a:ext cx="1131840" cy="615600"/>
              </a:xfrm>
              <a:custGeom>
                <a:avLst/>
                <a:gdLst/>
                <a:ahLst/>
                <a:rect l="l" t="t" r="r" b="b"/>
                <a:pathLst>
                  <a:path w="1424" h="810">
                    <a:moveTo>
                      <a:pt x="326" y="114"/>
                    </a:moveTo>
                    <a:lnTo>
                      <a:pt x="306" y="116"/>
                    </a:lnTo>
                    <a:lnTo>
                      <a:pt x="293" y="118"/>
                    </a:lnTo>
                    <a:lnTo>
                      <a:pt x="277" y="116"/>
                    </a:lnTo>
                    <a:lnTo>
                      <a:pt x="265" y="116"/>
                    </a:lnTo>
                    <a:lnTo>
                      <a:pt x="249" y="116"/>
                    </a:lnTo>
                    <a:lnTo>
                      <a:pt x="235" y="118"/>
                    </a:lnTo>
                    <a:lnTo>
                      <a:pt x="219" y="127"/>
                    </a:lnTo>
                    <a:lnTo>
                      <a:pt x="199" y="135"/>
                    </a:lnTo>
                    <a:lnTo>
                      <a:pt x="171" y="163"/>
                    </a:lnTo>
                    <a:lnTo>
                      <a:pt x="151" y="186"/>
                    </a:lnTo>
                    <a:lnTo>
                      <a:pt x="133" y="208"/>
                    </a:lnTo>
                    <a:lnTo>
                      <a:pt x="106" y="219"/>
                    </a:lnTo>
                    <a:lnTo>
                      <a:pt x="89" y="229"/>
                    </a:lnTo>
                    <a:lnTo>
                      <a:pt x="73" y="233"/>
                    </a:lnTo>
                    <a:lnTo>
                      <a:pt x="50" y="243"/>
                    </a:lnTo>
                    <a:lnTo>
                      <a:pt x="32" y="249"/>
                    </a:lnTo>
                    <a:lnTo>
                      <a:pt x="12" y="257"/>
                    </a:lnTo>
                    <a:lnTo>
                      <a:pt x="3" y="264"/>
                    </a:lnTo>
                    <a:lnTo>
                      <a:pt x="0" y="272"/>
                    </a:lnTo>
                    <a:lnTo>
                      <a:pt x="3" y="278"/>
                    </a:lnTo>
                    <a:lnTo>
                      <a:pt x="19" y="290"/>
                    </a:lnTo>
                    <a:lnTo>
                      <a:pt x="35" y="294"/>
                    </a:lnTo>
                    <a:lnTo>
                      <a:pt x="44" y="302"/>
                    </a:lnTo>
                    <a:lnTo>
                      <a:pt x="57" y="311"/>
                    </a:lnTo>
                    <a:lnTo>
                      <a:pt x="64" y="327"/>
                    </a:lnTo>
                    <a:lnTo>
                      <a:pt x="82" y="343"/>
                    </a:lnTo>
                    <a:lnTo>
                      <a:pt x="105" y="349"/>
                    </a:lnTo>
                    <a:lnTo>
                      <a:pt x="133" y="341"/>
                    </a:lnTo>
                    <a:lnTo>
                      <a:pt x="162" y="325"/>
                    </a:lnTo>
                    <a:lnTo>
                      <a:pt x="183" y="315"/>
                    </a:lnTo>
                    <a:lnTo>
                      <a:pt x="208" y="313"/>
                    </a:lnTo>
                    <a:lnTo>
                      <a:pt x="235" y="311"/>
                    </a:lnTo>
                    <a:lnTo>
                      <a:pt x="253" y="307"/>
                    </a:lnTo>
                    <a:lnTo>
                      <a:pt x="269" y="304"/>
                    </a:lnTo>
                    <a:lnTo>
                      <a:pt x="277" y="304"/>
                    </a:lnTo>
                    <a:lnTo>
                      <a:pt x="292" y="313"/>
                    </a:lnTo>
                    <a:lnTo>
                      <a:pt x="306" y="331"/>
                    </a:lnTo>
                    <a:lnTo>
                      <a:pt x="329" y="349"/>
                    </a:lnTo>
                    <a:lnTo>
                      <a:pt x="349" y="360"/>
                    </a:lnTo>
                    <a:lnTo>
                      <a:pt x="354" y="364"/>
                    </a:lnTo>
                    <a:lnTo>
                      <a:pt x="354" y="368"/>
                    </a:lnTo>
                    <a:lnTo>
                      <a:pt x="354" y="380"/>
                    </a:lnTo>
                    <a:lnTo>
                      <a:pt x="354" y="394"/>
                    </a:lnTo>
                    <a:lnTo>
                      <a:pt x="361" y="407"/>
                    </a:lnTo>
                    <a:lnTo>
                      <a:pt x="366" y="423"/>
                    </a:lnTo>
                    <a:lnTo>
                      <a:pt x="386" y="438"/>
                    </a:lnTo>
                    <a:lnTo>
                      <a:pt x="411" y="450"/>
                    </a:lnTo>
                    <a:lnTo>
                      <a:pt x="434" y="466"/>
                    </a:lnTo>
                    <a:lnTo>
                      <a:pt x="447" y="482"/>
                    </a:lnTo>
                    <a:lnTo>
                      <a:pt x="455" y="495"/>
                    </a:lnTo>
                    <a:lnTo>
                      <a:pt x="459" y="513"/>
                    </a:lnTo>
                    <a:lnTo>
                      <a:pt x="463" y="532"/>
                    </a:lnTo>
                    <a:lnTo>
                      <a:pt x="464" y="558"/>
                    </a:lnTo>
                    <a:lnTo>
                      <a:pt x="468" y="583"/>
                    </a:lnTo>
                    <a:lnTo>
                      <a:pt x="468" y="611"/>
                    </a:lnTo>
                    <a:lnTo>
                      <a:pt x="464" y="624"/>
                    </a:lnTo>
                    <a:lnTo>
                      <a:pt x="455" y="640"/>
                    </a:lnTo>
                    <a:lnTo>
                      <a:pt x="443" y="656"/>
                    </a:lnTo>
                    <a:lnTo>
                      <a:pt x="436" y="671"/>
                    </a:lnTo>
                    <a:lnTo>
                      <a:pt x="434" y="687"/>
                    </a:lnTo>
                    <a:lnTo>
                      <a:pt x="436" y="697"/>
                    </a:lnTo>
                    <a:lnTo>
                      <a:pt x="447" y="706"/>
                    </a:lnTo>
                    <a:lnTo>
                      <a:pt x="459" y="710"/>
                    </a:lnTo>
                    <a:lnTo>
                      <a:pt x="464" y="720"/>
                    </a:lnTo>
                    <a:lnTo>
                      <a:pt x="468" y="736"/>
                    </a:lnTo>
                    <a:lnTo>
                      <a:pt x="472" y="750"/>
                    </a:lnTo>
                    <a:lnTo>
                      <a:pt x="484" y="765"/>
                    </a:lnTo>
                    <a:lnTo>
                      <a:pt x="496" y="777"/>
                    </a:lnTo>
                    <a:lnTo>
                      <a:pt x="512" y="783"/>
                    </a:lnTo>
                    <a:lnTo>
                      <a:pt x="532" y="791"/>
                    </a:lnTo>
                    <a:lnTo>
                      <a:pt x="553" y="796"/>
                    </a:lnTo>
                    <a:lnTo>
                      <a:pt x="578" y="806"/>
                    </a:lnTo>
                    <a:lnTo>
                      <a:pt x="605" y="810"/>
                    </a:lnTo>
                    <a:lnTo>
                      <a:pt x="626" y="810"/>
                    </a:lnTo>
                    <a:lnTo>
                      <a:pt x="642" y="810"/>
                    </a:lnTo>
                    <a:lnTo>
                      <a:pt x="658" y="804"/>
                    </a:lnTo>
                    <a:lnTo>
                      <a:pt x="671" y="793"/>
                    </a:lnTo>
                    <a:lnTo>
                      <a:pt x="683" y="779"/>
                    </a:lnTo>
                    <a:lnTo>
                      <a:pt x="705" y="769"/>
                    </a:lnTo>
                    <a:lnTo>
                      <a:pt x="728" y="755"/>
                    </a:lnTo>
                    <a:lnTo>
                      <a:pt x="749" y="740"/>
                    </a:lnTo>
                    <a:lnTo>
                      <a:pt x="772" y="726"/>
                    </a:lnTo>
                    <a:lnTo>
                      <a:pt x="794" y="712"/>
                    </a:lnTo>
                    <a:lnTo>
                      <a:pt x="810" y="699"/>
                    </a:lnTo>
                    <a:lnTo>
                      <a:pt x="826" y="689"/>
                    </a:lnTo>
                    <a:lnTo>
                      <a:pt x="842" y="675"/>
                    </a:lnTo>
                    <a:lnTo>
                      <a:pt x="854" y="660"/>
                    </a:lnTo>
                    <a:lnTo>
                      <a:pt x="870" y="644"/>
                    </a:lnTo>
                    <a:lnTo>
                      <a:pt x="883" y="630"/>
                    </a:lnTo>
                    <a:lnTo>
                      <a:pt x="899" y="617"/>
                    </a:lnTo>
                    <a:lnTo>
                      <a:pt x="918" y="607"/>
                    </a:lnTo>
                    <a:lnTo>
                      <a:pt x="936" y="603"/>
                    </a:lnTo>
                    <a:lnTo>
                      <a:pt x="952" y="599"/>
                    </a:lnTo>
                    <a:lnTo>
                      <a:pt x="975" y="597"/>
                    </a:lnTo>
                    <a:lnTo>
                      <a:pt x="993" y="595"/>
                    </a:lnTo>
                    <a:lnTo>
                      <a:pt x="1013" y="593"/>
                    </a:lnTo>
                    <a:lnTo>
                      <a:pt x="1025" y="591"/>
                    </a:lnTo>
                    <a:lnTo>
                      <a:pt x="1045" y="583"/>
                    </a:lnTo>
                    <a:lnTo>
                      <a:pt x="1061" y="579"/>
                    </a:lnTo>
                    <a:lnTo>
                      <a:pt x="1070" y="575"/>
                    </a:lnTo>
                    <a:lnTo>
                      <a:pt x="1091" y="564"/>
                    </a:lnTo>
                    <a:lnTo>
                      <a:pt x="1111" y="558"/>
                    </a:lnTo>
                    <a:lnTo>
                      <a:pt x="1127" y="548"/>
                    </a:lnTo>
                    <a:lnTo>
                      <a:pt x="1146" y="542"/>
                    </a:lnTo>
                    <a:lnTo>
                      <a:pt x="1164" y="532"/>
                    </a:lnTo>
                    <a:lnTo>
                      <a:pt x="1180" y="521"/>
                    </a:lnTo>
                    <a:lnTo>
                      <a:pt x="1189" y="509"/>
                    </a:lnTo>
                    <a:lnTo>
                      <a:pt x="1189" y="499"/>
                    </a:lnTo>
                    <a:lnTo>
                      <a:pt x="1184" y="493"/>
                    </a:lnTo>
                    <a:lnTo>
                      <a:pt x="1168" y="483"/>
                    </a:lnTo>
                    <a:lnTo>
                      <a:pt x="1155" y="478"/>
                    </a:lnTo>
                    <a:lnTo>
                      <a:pt x="1143" y="476"/>
                    </a:lnTo>
                    <a:lnTo>
                      <a:pt x="1130" y="472"/>
                    </a:lnTo>
                    <a:lnTo>
                      <a:pt x="1107" y="466"/>
                    </a:lnTo>
                    <a:lnTo>
                      <a:pt x="1091" y="462"/>
                    </a:lnTo>
                    <a:lnTo>
                      <a:pt x="1091" y="448"/>
                    </a:lnTo>
                    <a:lnTo>
                      <a:pt x="1104" y="433"/>
                    </a:lnTo>
                    <a:lnTo>
                      <a:pt x="1114" y="419"/>
                    </a:lnTo>
                    <a:lnTo>
                      <a:pt x="1127" y="411"/>
                    </a:lnTo>
                    <a:lnTo>
                      <a:pt x="1143" y="413"/>
                    </a:lnTo>
                    <a:lnTo>
                      <a:pt x="1164" y="419"/>
                    </a:lnTo>
                    <a:lnTo>
                      <a:pt x="1193" y="423"/>
                    </a:lnTo>
                    <a:lnTo>
                      <a:pt x="1216" y="425"/>
                    </a:lnTo>
                    <a:lnTo>
                      <a:pt x="1228" y="425"/>
                    </a:lnTo>
                    <a:lnTo>
                      <a:pt x="1232" y="423"/>
                    </a:lnTo>
                    <a:lnTo>
                      <a:pt x="1237" y="413"/>
                    </a:lnTo>
                    <a:lnTo>
                      <a:pt x="1241" y="401"/>
                    </a:lnTo>
                    <a:lnTo>
                      <a:pt x="1250" y="382"/>
                    </a:lnTo>
                    <a:lnTo>
                      <a:pt x="1257" y="362"/>
                    </a:lnTo>
                    <a:lnTo>
                      <a:pt x="1260" y="345"/>
                    </a:lnTo>
                    <a:lnTo>
                      <a:pt x="1257" y="329"/>
                    </a:lnTo>
                    <a:lnTo>
                      <a:pt x="1253" y="311"/>
                    </a:lnTo>
                    <a:lnTo>
                      <a:pt x="1246" y="292"/>
                    </a:lnTo>
                    <a:lnTo>
                      <a:pt x="1246" y="266"/>
                    </a:lnTo>
                    <a:lnTo>
                      <a:pt x="1253" y="239"/>
                    </a:lnTo>
                    <a:lnTo>
                      <a:pt x="1266" y="216"/>
                    </a:lnTo>
                    <a:lnTo>
                      <a:pt x="1278" y="198"/>
                    </a:lnTo>
                    <a:lnTo>
                      <a:pt x="1294" y="186"/>
                    </a:lnTo>
                    <a:lnTo>
                      <a:pt x="1310" y="174"/>
                    </a:lnTo>
                    <a:lnTo>
                      <a:pt x="1323" y="167"/>
                    </a:lnTo>
                    <a:lnTo>
                      <a:pt x="1335" y="159"/>
                    </a:lnTo>
                    <a:lnTo>
                      <a:pt x="1351" y="151"/>
                    </a:lnTo>
                    <a:lnTo>
                      <a:pt x="1371" y="143"/>
                    </a:lnTo>
                    <a:lnTo>
                      <a:pt x="1383" y="135"/>
                    </a:lnTo>
                    <a:lnTo>
                      <a:pt x="1399" y="129"/>
                    </a:lnTo>
                    <a:lnTo>
                      <a:pt x="1415" y="118"/>
                    </a:lnTo>
                    <a:lnTo>
                      <a:pt x="1421" y="112"/>
                    </a:lnTo>
                    <a:lnTo>
                      <a:pt x="1424" y="96"/>
                    </a:lnTo>
                    <a:lnTo>
                      <a:pt x="1415" y="88"/>
                    </a:lnTo>
                    <a:lnTo>
                      <a:pt x="1396" y="88"/>
                    </a:lnTo>
                    <a:lnTo>
                      <a:pt x="1374" y="92"/>
                    </a:lnTo>
                    <a:lnTo>
                      <a:pt x="1351" y="92"/>
                    </a:lnTo>
                    <a:lnTo>
                      <a:pt x="1326" y="88"/>
                    </a:lnTo>
                    <a:lnTo>
                      <a:pt x="1301" y="84"/>
                    </a:lnTo>
                    <a:lnTo>
                      <a:pt x="1282" y="82"/>
                    </a:lnTo>
                    <a:lnTo>
                      <a:pt x="1262" y="82"/>
                    </a:lnTo>
                    <a:lnTo>
                      <a:pt x="1250" y="82"/>
                    </a:lnTo>
                    <a:lnTo>
                      <a:pt x="1237" y="92"/>
                    </a:lnTo>
                    <a:lnTo>
                      <a:pt x="1228" y="100"/>
                    </a:lnTo>
                    <a:lnTo>
                      <a:pt x="1218" y="108"/>
                    </a:lnTo>
                    <a:lnTo>
                      <a:pt x="1209" y="110"/>
                    </a:lnTo>
                    <a:lnTo>
                      <a:pt x="1193" y="112"/>
                    </a:lnTo>
                    <a:lnTo>
                      <a:pt x="1180" y="114"/>
                    </a:lnTo>
                    <a:lnTo>
                      <a:pt x="1161" y="114"/>
                    </a:lnTo>
                    <a:lnTo>
                      <a:pt x="1146" y="114"/>
                    </a:lnTo>
                    <a:lnTo>
                      <a:pt x="1130" y="114"/>
                    </a:lnTo>
                    <a:lnTo>
                      <a:pt x="1114" y="114"/>
                    </a:lnTo>
                    <a:lnTo>
                      <a:pt x="1086" y="112"/>
                    </a:lnTo>
                    <a:lnTo>
                      <a:pt x="1057" y="110"/>
                    </a:lnTo>
                    <a:lnTo>
                      <a:pt x="1032" y="108"/>
                    </a:lnTo>
                    <a:lnTo>
                      <a:pt x="1009" y="108"/>
                    </a:lnTo>
                    <a:lnTo>
                      <a:pt x="997" y="108"/>
                    </a:lnTo>
                    <a:lnTo>
                      <a:pt x="1006" y="102"/>
                    </a:lnTo>
                    <a:lnTo>
                      <a:pt x="1022" y="98"/>
                    </a:lnTo>
                    <a:lnTo>
                      <a:pt x="1045" y="84"/>
                    </a:lnTo>
                    <a:lnTo>
                      <a:pt x="1066" y="75"/>
                    </a:lnTo>
                    <a:lnTo>
                      <a:pt x="1089" y="65"/>
                    </a:lnTo>
                    <a:lnTo>
                      <a:pt x="1111" y="63"/>
                    </a:lnTo>
                    <a:lnTo>
                      <a:pt x="1132" y="61"/>
                    </a:lnTo>
                    <a:lnTo>
                      <a:pt x="1159" y="61"/>
                    </a:lnTo>
                    <a:lnTo>
                      <a:pt x="1189" y="63"/>
                    </a:lnTo>
                    <a:lnTo>
                      <a:pt x="1216" y="67"/>
                    </a:lnTo>
                    <a:lnTo>
                      <a:pt x="1228" y="67"/>
                    </a:lnTo>
                    <a:lnTo>
                      <a:pt x="1209" y="47"/>
                    </a:lnTo>
                    <a:lnTo>
                      <a:pt x="1184" y="28"/>
                    </a:lnTo>
                    <a:lnTo>
                      <a:pt x="1159" y="16"/>
                    </a:lnTo>
                    <a:lnTo>
                      <a:pt x="1136" y="8"/>
                    </a:lnTo>
                    <a:lnTo>
                      <a:pt x="1127" y="4"/>
                    </a:lnTo>
                    <a:lnTo>
                      <a:pt x="1107" y="4"/>
                    </a:lnTo>
                    <a:lnTo>
                      <a:pt x="1089" y="2"/>
                    </a:lnTo>
                    <a:lnTo>
                      <a:pt x="1066" y="0"/>
                    </a:lnTo>
                    <a:lnTo>
                      <a:pt x="1045" y="0"/>
                    </a:lnTo>
                    <a:lnTo>
                      <a:pt x="1018" y="0"/>
                    </a:lnTo>
                    <a:lnTo>
                      <a:pt x="993" y="0"/>
                    </a:lnTo>
                    <a:lnTo>
                      <a:pt x="968" y="2"/>
                    </a:lnTo>
                    <a:lnTo>
                      <a:pt x="943" y="4"/>
                    </a:lnTo>
                    <a:lnTo>
                      <a:pt x="918" y="8"/>
                    </a:lnTo>
                    <a:lnTo>
                      <a:pt x="890" y="8"/>
                    </a:lnTo>
                    <a:lnTo>
                      <a:pt x="863" y="8"/>
                    </a:lnTo>
                    <a:lnTo>
                      <a:pt x="838" y="12"/>
                    </a:lnTo>
                    <a:lnTo>
                      <a:pt x="817" y="12"/>
                    </a:lnTo>
                    <a:lnTo>
                      <a:pt x="797" y="12"/>
                    </a:lnTo>
                    <a:lnTo>
                      <a:pt x="781" y="14"/>
                    </a:lnTo>
                    <a:lnTo>
                      <a:pt x="756" y="20"/>
                    </a:lnTo>
                    <a:lnTo>
                      <a:pt x="733" y="28"/>
                    </a:lnTo>
                    <a:lnTo>
                      <a:pt x="712" y="36"/>
                    </a:lnTo>
                    <a:lnTo>
                      <a:pt x="691" y="38"/>
                    </a:lnTo>
                    <a:lnTo>
                      <a:pt x="674" y="38"/>
                    </a:lnTo>
                    <a:lnTo>
                      <a:pt x="662" y="41"/>
                    </a:lnTo>
                    <a:lnTo>
                      <a:pt x="651" y="45"/>
                    </a:lnTo>
                    <a:lnTo>
                      <a:pt x="634" y="51"/>
                    </a:lnTo>
                    <a:lnTo>
                      <a:pt x="623" y="59"/>
                    </a:lnTo>
                    <a:lnTo>
                      <a:pt x="626" y="65"/>
                    </a:lnTo>
                    <a:lnTo>
                      <a:pt x="635" y="79"/>
                    </a:lnTo>
                    <a:lnTo>
                      <a:pt x="642" y="92"/>
                    </a:lnTo>
                    <a:lnTo>
                      <a:pt x="639" y="98"/>
                    </a:lnTo>
                    <a:lnTo>
                      <a:pt x="626" y="98"/>
                    </a:lnTo>
                    <a:lnTo>
                      <a:pt x="605" y="98"/>
                    </a:lnTo>
                    <a:lnTo>
                      <a:pt x="578" y="100"/>
                    </a:lnTo>
                    <a:lnTo>
                      <a:pt x="553" y="108"/>
                    </a:lnTo>
                    <a:lnTo>
                      <a:pt x="534" y="108"/>
                    </a:lnTo>
                    <a:lnTo>
                      <a:pt x="516" y="108"/>
                    </a:lnTo>
                    <a:lnTo>
                      <a:pt x="504" y="102"/>
                    </a:lnTo>
                    <a:lnTo>
                      <a:pt x="484" y="102"/>
                    </a:lnTo>
                    <a:lnTo>
                      <a:pt x="459" y="108"/>
                    </a:lnTo>
                    <a:lnTo>
                      <a:pt x="436" y="110"/>
                    </a:lnTo>
                    <a:lnTo>
                      <a:pt x="423" y="112"/>
                    </a:lnTo>
                    <a:lnTo>
                      <a:pt x="415" y="112"/>
                    </a:lnTo>
                    <a:lnTo>
                      <a:pt x="390" y="110"/>
                    </a:lnTo>
                    <a:lnTo>
                      <a:pt x="354" y="110"/>
                    </a:lnTo>
                    <a:lnTo>
                      <a:pt x="326" y="114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82" name="Freeform 1155"/>
              <p:cNvSpPr/>
              <p:nvPr/>
            </p:nvSpPr>
            <p:spPr>
              <a:xfrm>
                <a:off x="2552760" y="2914560"/>
                <a:ext cx="611280" cy="204840"/>
              </a:xfrm>
              <a:custGeom>
                <a:avLst/>
                <a:gdLst/>
                <a:ahLst/>
                <a:rect l="l" t="t" r="r" b="b"/>
                <a:pathLst>
                  <a:path w="769" h="270">
                    <a:moveTo>
                      <a:pt x="769" y="28"/>
                    </a:moveTo>
                    <a:lnTo>
                      <a:pt x="766" y="26"/>
                    </a:lnTo>
                    <a:lnTo>
                      <a:pt x="744" y="26"/>
                    </a:lnTo>
                    <a:lnTo>
                      <a:pt x="705" y="26"/>
                    </a:lnTo>
                    <a:lnTo>
                      <a:pt x="668" y="26"/>
                    </a:lnTo>
                    <a:lnTo>
                      <a:pt x="623" y="24"/>
                    </a:lnTo>
                    <a:lnTo>
                      <a:pt x="582" y="24"/>
                    </a:lnTo>
                    <a:lnTo>
                      <a:pt x="545" y="22"/>
                    </a:lnTo>
                    <a:lnTo>
                      <a:pt x="525" y="18"/>
                    </a:lnTo>
                    <a:lnTo>
                      <a:pt x="504" y="14"/>
                    </a:lnTo>
                    <a:lnTo>
                      <a:pt x="468" y="10"/>
                    </a:lnTo>
                    <a:lnTo>
                      <a:pt x="431" y="6"/>
                    </a:lnTo>
                    <a:lnTo>
                      <a:pt x="386" y="2"/>
                    </a:lnTo>
                    <a:lnTo>
                      <a:pt x="342" y="0"/>
                    </a:lnTo>
                    <a:lnTo>
                      <a:pt x="305" y="2"/>
                    </a:lnTo>
                    <a:lnTo>
                      <a:pt x="273" y="6"/>
                    </a:lnTo>
                    <a:lnTo>
                      <a:pt x="249" y="10"/>
                    </a:lnTo>
                    <a:lnTo>
                      <a:pt x="232" y="18"/>
                    </a:lnTo>
                    <a:lnTo>
                      <a:pt x="208" y="24"/>
                    </a:lnTo>
                    <a:lnTo>
                      <a:pt x="191" y="26"/>
                    </a:lnTo>
                    <a:lnTo>
                      <a:pt x="167" y="28"/>
                    </a:lnTo>
                    <a:lnTo>
                      <a:pt x="146" y="31"/>
                    </a:lnTo>
                    <a:lnTo>
                      <a:pt x="123" y="35"/>
                    </a:lnTo>
                    <a:lnTo>
                      <a:pt x="105" y="39"/>
                    </a:lnTo>
                    <a:lnTo>
                      <a:pt x="89" y="41"/>
                    </a:lnTo>
                    <a:lnTo>
                      <a:pt x="64" y="45"/>
                    </a:lnTo>
                    <a:lnTo>
                      <a:pt x="36" y="45"/>
                    </a:lnTo>
                    <a:lnTo>
                      <a:pt x="13" y="45"/>
                    </a:lnTo>
                    <a:lnTo>
                      <a:pt x="0" y="53"/>
                    </a:lnTo>
                    <a:lnTo>
                      <a:pt x="4" y="65"/>
                    </a:lnTo>
                    <a:lnTo>
                      <a:pt x="16" y="74"/>
                    </a:lnTo>
                    <a:lnTo>
                      <a:pt x="37" y="82"/>
                    </a:lnTo>
                    <a:lnTo>
                      <a:pt x="57" y="90"/>
                    </a:lnTo>
                    <a:lnTo>
                      <a:pt x="77" y="94"/>
                    </a:lnTo>
                    <a:lnTo>
                      <a:pt x="98" y="96"/>
                    </a:lnTo>
                    <a:lnTo>
                      <a:pt x="123" y="104"/>
                    </a:lnTo>
                    <a:lnTo>
                      <a:pt x="146" y="110"/>
                    </a:lnTo>
                    <a:lnTo>
                      <a:pt x="167" y="121"/>
                    </a:lnTo>
                    <a:lnTo>
                      <a:pt x="184" y="137"/>
                    </a:lnTo>
                    <a:lnTo>
                      <a:pt x="191" y="153"/>
                    </a:lnTo>
                    <a:lnTo>
                      <a:pt x="167" y="163"/>
                    </a:lnTo>
                    <a:lnTo>
                      <a:pt x="134" y="176"/>
                    </a:lnTo>
                    <a:lnTo>
                      <a:pt x="118" y="194"/>
                    </a:lnTo>
                    <a:lnTo>
                      <a:pt x="105" y="207"/>
                    </a:lnTo>
                    <a:lnTo>
                      <a:pt x="102" y="217"/>
                    </a:lnTo>
                    <a:lnTo>
                      <a:pt x="94" y="256"/>
                    </a:lnTo>
                    <a:lnTo>
                      <a:pt x="192" y="256"/>
                    </a:lnTo>
                    <a:lnTo>
                      <a:pt x="200" y="260"/>
                    </a:lnTo>
                    <a:lnTo>
                      <a:pt x="216" y="266"/>
                    </a:lnTo>
                    <a:lnTo>
                      <a:pt x="232" y="270"/>
                    </a:lnTo>
                    <a:lnTo>
                      <a:pt x="249" y="268"/>
                    </a:lnTo>
                    <a:lnTo>
                      <a:pt x="264" y="262"/>
                    </a:lnTo>
                    <a:lnTo>
                      <a:pt x="276" y="256"/>
                    </a:lnTo>
                    <a:lnTo>
                      <a:pt x="294" y="251"/>
                    </a:lnTo>
                    <a:lnTo>
                      <a:pt x="313" y="241"/>
                    </a:lnTo>
                    <a:lnTo>
                      <a:pt x="335" y="233"/>
                    </a:lnTo>
                    <a:lnTo>
                      <a:pt x="349" y="225"/>
                    </a:lnTo>
                    <a:lnTo>
                      <a:pt x="362" y="219"/>
                    </a:lnTo>
                    <a:lnTo>
                      <a:pt x="363" y="211"/>
                    </a:lnTo>
                    <a:lnTo>
                      <a:pt x="363" y="204"/>
                    </a:lnTo>
                    <a:lnTo>
                      <a:pt x="362" y="190"/>
                    </a:lnTo>
                    <a:lnTo>
                      <a:pt x="363" y="176"/>
                    </a:lnTo>
                    <a:lnTo>
                      <a:pt x="367" y="161"/>
                    </a:lnTo>
                    <a:lnTo>
                      <a:pt x="378" y="143"/>
                    </a:lnTo>
                    <a:lnTo>
                      <a:pt x="392" y="127"/>
                    </a:lnTo>
                    <a:lnTo>
                      <a:pt x="408" y="116"/>
                    </a:lnTo>
                    <a:lnTo>
                      <a:pt x="424" y="114"/>
                    </a:lnTo>
                    <a:lnTo>
                      <a:pt x="447" y="121"/>
                    </a:lnTo>
                    <a:lnTo>
                      <a:pt x="465" y="135"/>
                    </a:lnTo>
                    <a:lnTo>
                      <a:pt x="481" y="145"/>
                    </a:lnTo>
                    <a:lnTo>
                      <a:pt x="488" y="161"/>
                    </a:lnTo>
                    <a:lnTo>
                      <a:pt x="492" y="172"/>
                    </a:lnTo>
                    <a:lnTo>
                      <a:pt x="500" y="176"/>
                    </a:lnTo>
                    <a:lnTo>
                      <a:pt x="513" y="178"/>
                    </a:lnTo>
                    <a:lnTo>
                      <a:pt x="538" y="172"/>
                    </a:lnTo>
                    <a:lnTo>
                      <a:pt x="561" y="161"/>
                    </a:lnTo>
                    <a:lnTo>
                      <a:pt x="579" y="145"/>
                    </a:lnTo>
                    <a:lnTo>
                      <a:pt x="602" y="127"/>
                    </a:lnTo>
                    <a:lnTo>
                      <a:pt x="627" y="108"/>
                    </a:lnTo>
                    <a:lnTo>
                      <a:pt x="652" y="84"/>
                    </a:lnTo>
                    <a:lnTo>
                      <a:pt x="684" y="63"/>
                    </a:lnTo>
                    <a:lnTo>
                      <a:pt x="725" y="43"/>
                    </a:lnTo>
                    <a:lnTo>
                      <a:pt x="769" y="28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83" name="Freeform 1156"/>
              <p:cNvSpPr/>
              <p:nvPr/>
            </p:nvSpPr>
            <p:spPr>
              <a:xfrm>
                <a:off x="2017800" y="3234960"/>
                <a:ext cx="304560" cy="106200"/>
              </a:xfrm>
              <a:custGeom>
                <a:avLst/>
                <a:gdLst/>
                <a:ahLst/>
                <a:rect l="l" t="t" r="r" b="b"/>
                <a:pathLst>
                  <a:path w="385" h="139">
                    <a:moveTo>
                      <a:pt x="41" y="11"/>
                    </a:moveTo>
                    <a:lnTo>
                      <a:pt x="61" y="4"/>
                    </a:lnTo>
                    <a:lnTo>
                      <a:pt x="82" y="0"/>
                    </a:lnTo>
                    <a:lnTo>
                      <a:pt x="107" y="0"/>
                    </a:lnTo>
                    <a:lnTo>
                      <a:pt x="130" y="0"/>
                    </a:lnTo>
                    <a:lnTo>
                      <a:pt x="155" y="2"/>
                    </a:lnTo>
                    <a:lnTo>
                      <a:pt x="173" y="4"/>
                    </a:lnTo>
                    <a:lnTo>
                      <a:pt x="189" y="11"/>
                    </a:lnTo>
                    <a:lnTo>
                      <a:pt x="205" y="15"/>
                    </a:lnTo>
                    <a:lnTo>
                      <a:pt x="214" y="19"/>
                    </a:lnTo>
                    <a:lnTo>
                      <a:pt x="226" y="29"/>
                    </a:lnTo>
                    <a:lnTo>
                      <a:pt x="237" y="33"/>
                    </a:lnTo>
                    <a:lnTo>
                      <a:pt x="253" y="37"/>
                    </a:lnTo>
                    <a:lnTo>
                      <a:pt x="266" y="45"/>
                    </a:lnTo>
                    <a:lnTo>
                      <a:pt x="283" y="49"/>
                    </a:lnTo>
                    <a:lnTo>
                      <a:pt x="299" y="51"/>
                    </a:lnTo>
                    <a:lnTo>
                      <a:pt x="319" y="51"/>
                    </a:lnTo>
                    <a:lnTo>
                      <a:pt x="347" y="56"/>
                    </a:lnTo>
                    <a:lnTo>
                      <a:pt x="369" y="74"/>
                    </a:lnTo>
                    <a:lnTo>
                      <a:pt x="381" y="97"/>
                    </a:lnTo>
                    <a:lnTo>
                      <a:pt x="385" y="103"/>
                    </a:lnTo>
                    <a:lnTo>
                      <a:pt x="381" y="103"/>
                    </a:lnTo>
                    <a:lnTo>
                      <a:pt x="376" y="105"/>
                    </a:lnTo>
                    <a:lnTo>
                      <a:pt x="360" y="107"/>
                    </a:lnTo>
                    <a:lnTo>
                      <a:pt x="347" y="115"/>
                    </a:lnTo>
                    <a:lnTo>
                      <a:pt x="328" y="117"/>
                    </a:lnTo>
                    <a:lnTo>
                      <a:pt x="307" y="117"/>
                    </a:lnTo>
                    <a:lnTo>
                      <a:pt x="287" y="119"/>
                    </a:lnTo>
                    <a:lnTo>
                      <a:pt x="271" y="117"/>
                    </a:lnTo>
                    <a:lnTo>
                      <a:pt x="253" y="115"/>
                    </a:lnTo>
                    <a:lnTo>
                      <a:pt x="230" y="117"/>
                    </a:lnTo>
                    <a:lnTo>
                      <a:pt x="209" y="119"/>
                    </a:lnTo>
                    <a:lnTo>
                      <a:pt x="185" y="123"/>
                    </a:lnTo>
                    <a:lnTo>
                      <a:pt x="164" y="129"/>
                    </a:lnTo>
                    <a:lnTo>
                      <a:pt x="152" y="133"/>
                    </a:lnTo>
                    <a:lnTo>
                      <a:pt x="139" y="137"/>
                    </a:lnTo>
                    <a:lnTo>
                      <a:pt x="136" y="137"/>
                    </a:lnTo>
                    <a:lnTo>
                      <a:pt x="118" y="139"/>
                    </a:lnTo>
                    <a:lnTo>
                      <a:pt x="86" y="139"/>
                    </a:lnTo>
                    <a:lnTo>
                      <a:pt x="48" y="139"/>
                    </a:lnTo>
                    <a:lnTo>
                      <a:pt x="32" y="129"/>
                    </a:lnTo>
                    <a:lnTo>
                      <a:pt x="38" y="111"/>
                    </a:lnTo>
                    <a:lnTo>
                      <a:pt x="57" y="90"/>
                    </a:lnTo>
                    <a:lnTo>
                      <a:pt x="70" y="74"/>
                    </a:lnTo>
                    <a:lnTo>
                      <a:pt x="79" y="70"/>
                    </a:lnTo>
                    <a:lnTo>
                      <a:pt x="0" y="35"/>
                    </a:lnTo>
                    <a:lnTo>
                      <a:pt x="7" y="31"/>
                    </a:lnTo>
                    <a:lnTo>
                      <a:pt x="16" y="21"/>
                    </a:lnTo>
                    <a:lnTo>
                      <a:pt x="41" y="11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84" name="Freeform 1157"/>
              <p:cNvSpPr/>
              <p:nvPr/>
            </p:nvSpPr>
            <p:spPr>
              <a:xfrm>
                <a:off x="3848040" y="3355200"/>
                <a:ext cx="236520" cy="77400"/>
              </a:xfrm>
              <a:custGeom>
                <a:avLst/>
                <a:gdLst/>
                <a:ahLst/>
                <a:rect l="l" t="t" r="r" b="b"/>
                <a:pathLst>
                  <a:path w="297" h="104">
                    <a:moveTo>
                      <a:pt x="117" y="31"/>
                    </a:moveTo>
                    <a:lnTo>
                      <a:pt x="121" y="43"/>
                    </a:lnTo>
                    <a:lnTo>
                      <a:pt x="135" y="45"/>
                    </a:lnTo>
                    <a:lnTo>
                      <a:pt x="158" y="41"/>
                    </a:lnTo>
                    <a:lnTo>
                      <a:pt x="176" y="31"/>
                    </a:lnTo>
                    <a:lnTo>
                      <a:pt x="205" y="24"/>
                    </a:lnTo>
                    <a:lnTo>
                      <a:pt x="231" y="10"/>
                    </a:lnTo>
                    <a:lnTo>
                      <a:pt x="249" y="6"/>
                    </a:lnTo>
                    <a:lnTo>
                      <a:pt x="269" y="6"/>
                    </a:lnTo>
                    <a:lnTo>
                      <a:pt x="290" y="24"/>
                    </a:lnTo>
                    <a:lnTo>
                      <a:pt x="297" y="45"/>
                    </a:lnTo>
                    <a:lnTo>
                      <a:pt x="297" y="65"/>
                    </a:lnTo>
                    <a:lnTo>
                      <a:pt x="297" y="74"/>
                    </a:lnTo>
                    <a:lnTo>
                      <a:pt x="290" y="78"/>
                    </a:lnTo>
                    <a:lnTo>
                      <a:pt x="272" y="88"/>
                    </a:lnTo>
                    <a:lnTo>
                      <a:pt x="240" y="96"/>
                    </a:lnTo>
                    <a:lnTo>
                      <a:pt x="205" y="102"/>
                    </a:lnTo>
                    <a:lnTo>
                      <a:pt x="183" y="102"/>
                    </a:lnTo>
                    <a:lnTo>
                      <a:pt x="162" y="102"/>
                    </a:lnTo>
                    <a:lnTo>
                      <a:pt x="139" y="104"/>
                    </a:lnTo>
                    <a:lnTo>
                      <a:pt x="117" y="102"/>
                    </a:lnTo>
                    <a:lnTo>
                      <a:pt x="98" y="102"/>
                    </a:lnTo>
                    <a:lnTo>
                      <a:pt x="82" y="100"/>
                    </a:lnTo>
                    <a:lnTo>
                      <a:pt x="76" y="96"/>
                    </a:lnTo>
                    <a:lnTo>
                      <a:pt x="69" y="90"/>
                    </a:lnTo>
                    <a:lnTo>
                      <a:pt x="53" y="76"/>
                    </a:lnTo>
                    <a:lnTo>
                      <a:pt x="28" y="65"/>
                    </a:lnTo>
                    <a:lnTo>
                      <a:pt x="9" y="61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3" y="31"/>
                    </a:lnTo>
                    <a:lnTo>
                      <a:pt x="19" y="12"/>
                    </a:lnTo>
                    <a:lnTo>
                      <a:pt x="41" y="0"/>
                    </a:lnTo>
                    <a:lnTo>
                      <a:pt x="69" y="0"/>
                    </a:lnTo>
                    <a:lnTo>
                      <a:pt x="92" y="6"/>
                    </a:lnTo>
                    <a:lnTo>
                      <a:pt x="110" y="16"/>
                    </a:lnTo>
                    <a:lnTo>
                      <a:pt x="117" y="31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85" name="Freeform 1158"/>
              <p:cNvSpPr/>
              <p:nvPr/>
            </p:nvSpPr>
            <p:spPr>
              <a:xfrm>
                <a:off x="4484520" y="3066480"/>
                <a:ext cx="3784680" cy="665640"/>
              </a:xfrm>
              <a:custGeom>
                <a:avLst/>
                <a:gdLst/>
                <a:ahLst/>
                <a:rect l="l" t="t" r="r" b="b"/>
                <a:pathLst>
                  <a:path w="4768" h="876">
                    <a:moveTo>
                      <a:pt x="3524" y="876"/>
                    </a:moveTo>
                    <a:lnTo>
                      <a:pt x="3547" y="851"/>
                    </a:lnTo>
                    <a:lnTo>
                      <a:pt x="3568" y="815"/>
                    </a:lnTo>
                    <a:lnTo>
                      <a:pt x="3588" y="782"/>
                    </a:lnTo>
                    <a:lnTo>
                      <a:pt x="3600" y="763"/>
                    </a:lnTo>
                    <a:lnTo>
                      <a:pt x="3604" y="741"/>
                    </a:lnTo>
                    <a:lnTo>
                      <a:pt x="3593" y="718"/>
                    </a:lnTo>
                    <a:lnTo>
                      <a:pt x="3568" y="698"/>
                    </a:lnTo>
                    <a:lnTo>
                      <a:pt x="3524" y="688"/>
                    </a:lnTo>
                    <a:lnTo>
                      <a:pt x="3490" y="684"/>
                    </a:lnTo>
                    <a:lnTo>
                      <a:pt x="3483" y="669"/>
                    </a:lnTo>
                    <a:lnTo>
                      <a:pt x="3502" y="649"/>
                    </a:lnTo>
                    <a:lnTo>
                      <a:pt x="3536" y="624"/>
                    </a:lnTo>
                    <a:lnTo>
                      <a:pt x="3556" y="610"/>
                    </a:lnTo>
                    <a:lnTo>
                      <a:pt x="3581" y="598"/>
                    </a:lnTo>
                    <a:lnTo>
                      <a:pt x="3613" y="585"/>
                    </a:lnTo>
                    <a:lnTo>
                      <a:pt x="3641" y="571"/>
                    </a:lnTo>
                    <a:lnTo>
                      <a:pt x="3666" y="561"/>
                    </a:lnTo>
                    <a:lnTo>
                      <a:pt x="3691" y="553"/>
                    </a:lnTo>
                    <a:lnTo>
                      <a:pt x="3711" y="553"/>
                    </a:lnTo>
                    <a:lnTo>
                      <a:pt x="3716" y="557"/>
                    </a:lnTo>
                    <a:lnTo>
                      <a:pt x="3730" y="573"/>
                    </a:lnTo>
                    <a:lnTo>
                      <a:pt x="3745" y="588"/>
                    </a:lnTo>
                    <a:lnTo>
                      <a:pt x="3764" y="598"/>
                    </a:lnTo>
                    <a:lnTo>
                      <a:pt x="3784" y="590"/>
                    </a:lnTo>
                    <a:lnTo>
                      <a:pt x="3809" y="577"/>
                    </a:lnTo>
                    <a:lnTo>
                      <a:pt x="3841" y="567"/>
                    </a:lnTo>
                    <a:lnTo>
                      <a:pt x="3875" y="567"/>
                    </a:lnTo>
                    <a:lnTo>
                      <a:pt x="3887" y="577"/>
                    </a:lnTo>
                    <a:lnTo>
                      <a:pt x="3891" y="592"/>
                    </a:lnTo>
                    <a:lnTo>
                      <a:pt x="3903" y="606"/>
                    </a:lnTo>
                    <a:lnTo>
                      <a:pt x="3923" y="608"/>
                    </a:lnTo>
                    <a:lnTo>
                      <a:pt x="3948" y="598"/>
                    </a:lnTo>
                    <a:lnTo>
                      <a:pt x="3960" y="585"/>
                    </a:lnTo>
                    <a:lnTo>
                      <a:pt x="3980" y="569"/>
                    </a:lnTo>
                    <a:lnTo>
                      <a:pt x="3997" y="553"/>
                    </a:lnTo>
                    <a:lnTo>
                      <a:pt x="4021" y="540"/>
                    </a:lnTo>
                    <a:lnTo>
                      <a:pt x="4038" y="526"/>
                    </a:lnTo>
                    <a:lnTo>
                      <a:pt x="4054" y="520"/>
                    </a:lnTo>
                    <a:lnTo>
                      <a:pt x="4074" y="518"/>
                    </a:lnTo>
                    <a:lnTo>
                      <a:pt x="4090" y="524"/>
                    </a:lnTo>
                    <a:lnTo>
                      <a:pt x="4106" y="543"/>
                    </a:lnTo>
                    <a:lnTo>
                      <a:pt x="4106" y="557"/>
                    </a:lnTo>
                    <a:lnTo>
                      <a:pt x="4092" y="567"/>
                    </a:lnTo>
                    <a:lnTo>
                      <a:pt x="4070" y="585"/>
                    </a:lnTo>
                    <a:lnTo>
                      <a:pt x="4054" y="592"/>
                    </a:lnTo>
                    <a:lnTo>
                      <a:pt x="4038" y="604"/>
                    </a:lnTo>
                    <a:lnTo>
                      <a:pt x="4021" y="610"/>
                    </a:lnTo>
                    <a:lnTo>
                      <a:pt x="4001" y="620"/>
                    </a:lnTo>
                    <a:lnTo>
                      <a:pt x="3981" y="628"/>
                    </a:lnTo>
                    <a:lnTo>
                      <a:pt x="3969" y="637"/>
                    </a:lnTo>
                    <a:lnTo>
                      <a:pt x="3960" y="647"/>
                    </a:lnTo>
                    <a:lnTo>
                      <a:pt x="3964" y="657"/>
                    </a:lnTo>
                    <a:lnTo>
                      <a:pt x="3976" y="686"/>
                    </a:lnTo>
                    <a:lnTo>
                      <a:pt x="3981" y="723"/>
                    </a:lnTo>
                    <a:lnTo>
                      <a:pt x="3992" y="757"/>
                    </a:lnTo>
                    <a:lnTo>
                      <a:pt x="4010" y="774"/>
                    </a:lnTo>
                    <a:lnTo>
                      <a:pt x="4026" y="774"/>
                    </a:lnTo>
                    <a:lnTo>
                      <a:pt x="4046" y="770"/>
                    </a:lnTo>
                    <a:lnTo>
                      <a:pt x="4065" y="759"/>
                    </a:lnTo>
                    <a:lnTo>
                      <a:pt x="4083" y="751"/>
                    </a:lnTo>
                    <a:lnTo>
                      <a:pt x="4103" y="735"/>
                    </a:lnTo>
                    <a:lnTo>
                      <a:pt x="4119" y="721"/>
                    </a:lnTo>
                    <a:lnTo>
                      <a:pt x="4136" y="712"/>
                    </a:lnTo>
                    <a:lnTo>
                      <a:pt x="4147" y="702"/>
                    </a:lnTo>
                    <a:lnTo>
                      <a:pt x="4165" y="684"/>
                    </a:lnTo>
                    <a:lnTo>
                      <a:pt x="4184" y="659"/>
                    </a:lnTo>
                    <a:lnTo>
                      <a:pt x="4190" y="637"/>
                    </a:lnTo>
                    <a:lnTo>
                      <a:pt x="4193" y="618"/>
                    </a:lnTo>
                    <a:lnTo>
                      <a:pt x="4200" y="602"/>
                    </a:lnTo>
                    <a:lnTo>
                      <a:pt x="4216" y="586"/>
                    </a:lnTo>
                    <a:lnTo>
                      <a:pt x="4247" y="573"/>
                    </a:lnTo>
                    <a:lnTo>
                      <a:pt x="4291" y="565"/>
                    </a:lnTo>
                    <a:lnTo>
                      <a:pt x="4320" y="559"/>
                    </a:lnTo>
                    <a:lnTo>
                      <a:pt x="4355" y="553"/>
                    </a:lnTo>
                    <a:lnTo>
                      <a:pt x="4389" y="545"/>
                    </a:lnTo>
                    <a:lnTo>
                      <a:pt x="4425" y="540"/>
                    </a:lnTo>
                    <a:lnTo>
                      <a:pt x="4459" y="532"/>
                    </a:lnTo>
                    <a:lnTo>
                      <a:pt x="4487" y="524"/>
                    </a:lnTo>
                    <a:lnTo>
                      <a:pt x="4510" y="514"/>
                    </a:lnTo>
                    <a:lnTo>
                      <a:pt x="4523" y="504"/>
                    </a:lnTo>
                    <a:lnTo>
                      <a:pt x="4541" y="485"/>
                    </a:lnTo>
                    <a:lnTo>
                      <a:pt x="4565" y="461"/>
                    </a:lnTo>
                    <a:lnTo>
                      <a:pt x="4585" y="446"/>
                    </a:lnTo>
                    <a:lnTo>
                      <a:pt x="4598" y="440"/>
                    </a:lnTo>
                    <a:lnTo>
                      <a:pt x="4715" y="500"/>
                    </a:lnTo>
                    <a:lnTo>
                      <a:pt x="4727" y="469"/>
                    </a:lnTo>
                    <a:lnTo>
                      <a:pt x="4749" y="432"/>
                    </a:lnTo>
                    <a:lnTo>
                      <a:pt x="4768" y="393"/>
                    </a:lnTo>
                    <a:lnTo>
                      <a:pt x="4761" y="373"/>
                    </a:lnTo>
                    <a:lnTo>
                      <a:pt x="4747" y="369"/>
                    </a:lnTo>
                    <a:lnTo>
                      <a:pt x="4733" y="369"/>
                    </a:lnTo>
                    <a:lnTo>
                      <a:pt x="4711" y="369"/>
                    </a:lnTo>
                    <a:lnTo>
                      <a:pt x="4692" y="371"/>
                    </a:lnTo>
                    <a:lnTo>
                      <a:pt x="4674" y="373"/>
                    </a:lnTo>
                    <a:lnTo>
                      <a:pt x="4662" y="375"/>
                    </a:lnTo>
                    <a:lnTo>
                      <a:pt x="4649" y="377"/>
                    </a:lnTo>
                    <a:lnTo>
                      <a:pt x="4646" y="377"/>
                    </a:lnTo>
                    <a:lnTo>
                      <a:pt x="4633" y="377"/>
                    </a:lnTo>
                    <a:lnTo>
                      <a:pt x="4608" y="373"/>
                    </a:lnTo>
                    <a:lnTo>
                      <a:pt x="4576" y="364"/>
                    </a:lnTo>
                    <a:lnTo>
                      <a:pt x="4551" y="346"/>
                    </a:lnTo>
                    <a:lnTo>
                      <a:pt x="4535" y="336"/>
                    </a:lnTo>
                    <a:lnTo>
                      <a:pt x="4512" y="326"/>
                    </a:lnTo>
                    <a:lnTo>
                      <a:pt x="4487" y="317"/>
                    </a:lnTo>
                    <a:lnTo>
                      <a:pt x="4459" y="307"/>
                    </a:lnTo>
                    <a:lnTo>
                      <a:pt x="4434" y="303"/>
                    </a:lnTo>
                    <a:lnTo>
                      <a:pt x="4409" y="297"/>
                    </a:lnTo>
                    <a:lnTo>
                      <a:pt x="4386" y="297"/>
                    </a:lnTo>
                    <a:lnTo>
                      <a:pt x="4377" y="307"/>
                    </a:lnTo>
                    <a:lnTo>
                      <a:pt x="4364" y="317"/>
                    </a:lnTo>
                    <a:lnTo>
                      <a:pt x="4343" y="322"/>
                    </a:lnTo>
                    <a:lnTo>
                      <a:pt x="4314" y="326"/>
                    </a:lnTo>
                    <a:lnTo>
                      <a:pt x="4282" y="326"/>
                    </a:lnTo>
                    <a:lnTo>
                      <a:pt x="4241" y="326"/>
                    </a:lnTo>
                    <a:lnTo>
                      <a:pt x="4200" y="322"/>
                    </a:lnTo>
                    <a:lnTo>
                      <a:pt x="4159" y="317"/>
                    </a:lnTo>
                    <a:lnTo>
                      <a:pt x="4119" y="307"/>
                    </a:lnTo>
                    <a:lnTo>
                      <a:pt x="4074" y="293"/>
                    </a:lnTo>
                    <a:lnTo>
                      <a:pt x="4026" y="277"/>
                    </a:lnTo>
                    <a:lnTo>
                      <a:pt x="3976" y="260"/>
                    </a:lnTo>
                    <a:lnTo>
                      <a:pt x="3928" y="246"/>
                    </a:lnTo>
                    <a:lnTo>
                      <a:pt x="3878" y="229"/>
                    </a:lnTo>
                    <a:lnTo>
                      <a:pt x="3837" y="215"/>
                    </a:lnTo>
                    <a:lnTo>
                      <a:pt x="3796" y="209"/>
                    </a:lnTo>
                    <a:lnTo>
                      <a:pt x="3771" y="209"/>
                    </a:lnTo>
                    <a:lnTo>
                      <a:pt x="3755" y="209"/>
                    </a:lnTo>
                    <a:lnTo>
                      <a:pt x="3743" y="201"/>
                    </a:lnTo>
                    <a:lnTo>
                      <a:pt x="3732" y="193"/>
                    </a:lnTo>
                    <a:lnTo>
                      <a:pt x="3720" y="184"/>
                    </a:lnTo>
                    <a:lnTo>
                      <a:pt x="3711" y="176"/>
                    </a:lnTo>
                    <a:lnTo>
                      <a:pt x="3695" y="172"/>
                    </a:lnTo>
                    <a:lnTo>
                      <a:pt x="3675" y="170"/>
                    </a:lnTo>
                    <a:lnTo>
                      <a:pt x="3647" y="176"/>
                    </a:lnTo>
                    <a:lnTo>
                      <a:pt x="3616" y="187"/>
                    </a:lnTo>
                    <a:lnTo>
                      <a:pt x="3577" y="197"/>
                    </a:lnTo>
                    <a:lnTo>
                      <a:pt x="3543" y="211"/>
                    </a:lnTo>
                    <a:lnTo>
                      <a:pt x="3502" y="221"/>
                    </a:lnTo>
                    <a:lnTo>
                      <a:pt x="3462" y="229"/>
                    </a:lnTo>
                    <a:lnTo>
                      <a:pt x="3421" y="230"/>
                    </a:lnTo>
                    <a:lnTo>
                      <a:pt x="3372" y="229"/>
                    </a:lnTo>
                    <a:lnTo>
                      <a:pt x="3326" y="221"/>
                    </a:lnTo>
                    <a:lnTo>
                      <a:pt x="3275" y="209"/>
                    </a:lnTo>
                    <a:lnTo>
                      <a:pt x="3221" y="195"/>
                    </a:lnTo>
                    <a:lnTo>
                      <a:pt x="3168" y="187"/>
                    </a:lnTo>
                    <a:lnTo>
                      <a:pt x="3120" y="176"/>
                    </a:lnTo>
                    <a:lnTo>
                      <a:pt x="3070" y="170"/>
                    </a:lnTo>
                    <a:lnTo>
                      <a:pt x="3025" y="162"/>
                    </a:lnTo>
                    <a:lnTo>
                      <a:pt x="2991" y="162"/>
                    </a:lnTo>
                    <a:lnTo>
                      <a:pt x="2956" y="170"/>
                    </a:lnTo>
                    <a:lnTo>
                      <a:pt x="2927" y="176"/>
                    </a:lnTo>
                    <a:lnTo>
                      <a:pt x="2894" y="180"/>
                    </a:lnTo>
                    <a:lnTo>
                      <a:pt x="2858" y="187"/>
                    </a:lnTo>
                    <a:lnTo>
                      <a:pt x="2824" y="189"/>
                    </a:lnTo>
                    <a:lnTo>
                      <a:pt x="2788" y="193"/>
                    </a:lnTo>
                    <a:lnTo>
                      <a:pt x="2764" y="193"/>
                    </a:lnTo>
                    <a:lnTo>
                      <a:pt x="2751" y="195"/>
                    </a:lnTo>
                    <a:lnTo>
                      <a:pt x="2740" y="195"/>
                    </a:lnTo>
                    <a:lnTo>
                      <a:pt x="2772" y="174"/>
                    </a:lnTo>
                    <a:lnTo>
                      <a:pt x="2780" y="148"/>
                    </a:lnTo>
                    <a:lnTo>
                      <a:pt x="2776" y="131"/>
                    </a:lnTo>
                    <a:lnTo>
                      <a:pt x="2772" y="123"/>
                    </a:lnTo>
                    <a:lnTo>
                      <a:pt x="2854" y="103"/>
                    </a:lnTo>
                    <a:lnTo>
                      <a:pt x="2821" y="86"/>
                    </a:lnTo>
                    <a:lnTo>
                      <a:pt x="2785" y="70"/>
                    </a:lnTo>
                    <a:lnTo>
                      <a:pt x="2755" y="47"/>
                    </a:lnTo>
                    <a:lnTo>
                      <a:pt x="2726" y="31"/>
                    </a:lnTo>
                    <a:lnTo>
                      <a:pt x="2694" y="15"/>
                    </a:lnTo>
                    <a:lnTo>
                      <a:pt x="2669" y="6"/>
                    </a:lnTo>
                    <a:lnTo>
                      <a:pt x="2642" y="0"/>
                    </a:lnTo>
                    <a:lnTo>
                      <a:pt x="2625" y="4"/>
                    </a:lnTo>
                    <a:lnTo>
                      <a:pt x="2609" y="11"/>
                    </a:lnTo>
                    <a:lnTo>
                      <a:pt x="2589" y="21"/>
                    </a:lnTo>
                    <a:lnTo>
                      <a:pt x="2571" y="31"/>
                    </a:lnTo>
                    <a:lnTo>
                      <a:pt x="2559" y="43"/>
                    </a:lnTo>
                    <a:lnTo>
                      <a:pt x="2539" y="54"/>
                    </a:lnTo>
                    <a:lnTo>
                      <a:pt x="2523" y="60"/>
                    </a:lnTo>
                    <a:lnTo>
                      <a:pt x="2504" y="72"/>
                    </a:lnTo>
                    <a:lnTo>
                      <a:pt x="2491" y="76"/>
                    </a:lnTo>
                    <a:lnTo>
                      <a:pt x="2470" y="74"/>
                    </a:lnTo>
                    <a:lnTo>
                      <a:pt x="2447" y="60"/>
                    </a:lnTo>
                    <a:lnTo>
                      <a:pt x="2422" y="51"/>
                    </a:lnTo>
                    <a:lnTo>
                      <a:pt x="2384" y="56"/>
                    </a:lnTo>
                    <a:lnTo>
                      <a:pt x="2365" y="64"/>
                    </a:lnTo>
                    <a:lnTo>
                      <a:pt x="2336" y="78"/>
                    </a:lnTo>
                    <a:lnTo>
                      <a:pt x="2311" y="90"/>
                    </a:lnTo>
                    <a:lnTo>
                      <a:pt x="2286" y="101"/>
                    </a:lnTo>
                    <a:lnTo>
                      <a:pt x="2258" y="111"/>
                    </a:lnTo>
                    <a:lnTo>
                      <a:pt x="2233" y="119"/>
                    </a:lnTo>
                    <a:lnTo>
                      <a:pt x="2204" y="125"/>
                    </a:lnTo>
                    <a:lnTo>
                      <a:pt x="2176" y="129"/>
                    </a:lnTo>
                    <a:lnTo>
                      <a:pt x="2151" y="133"/>
                    </a:lnTo>
                    <a:lnTo>
                      <a:pt x="2128" y="144"/>
                    </a:lnTo>
                    <a:lnTo>
                      <a:pt x="2110" y="160"/>
                    </a:lnTo>
                    <a:lnTo>
                      <a:pt x="2090" y="176"/>
                    </a:lnTo>
                    <a:lnTo>
                      <a:pt x="2074" y="195"/>
                    </a:lnTo>
                    <a:lnTo>
                      <a:pt x="2058" y="213"/>
                    </a:lnTo>
                    <a:lnTo>
                      <a:pt x="2042" y="229"/>
                    </a:lnTo>
                    <a:lnTo>
                      <a:pt x="2021" y="240"/>
                    </a:lnTo>
                    <a:lnTo>
                      <a:pt x="2012" y="244"/>
                    </a:lnTo>
                    <a:lnTo>
                      <a:pt x="1993" y="246"/>
                    </a:lnTo>
                    <a:lnTo>
                      <a:pt x="1973" y="244"/>
                    </a:lnTo>
                    <a:lnTo>
                      <a:pt x="1955" y="240"/>
                    </a:lnTo>
                    <a:lnTo>
                      <a:pt x="1936" y="238"/>
                    </a:lnTo>
                    <a:lnTo>
                      <a:pt x="1914" y="234"/>
                    </a:lnTo>
                    <a:lnTo>
                      <a:pt x="1891" y="230"/>
                    </a:lnTo>
                    <a:lnTo>
                      <a:pt x="1870" y="229"/>
                    </a:lnTo>
                    <a:lnTo>
                      <a:pt x="1845" y="227"/>
                    </a:lnTo>
                    <a:lnTo>
                      <a:pt x="1816" y="229"/>
                    </a:lnTo>
                    <a:lnTo>
                      <a:pt x="1781" y="230"/>
                    </a:lnTo>
                    <a:lnTo>
                      <a:pt x="1750" y="236"/>
                    </a:lnTo>
                    <a:lnTo>
                      <a:pt x="1722" y="246"/>
                    </a:lnTo>
                    <a:lnTo>
                      <a:pt x="1695" y="256"/>
                    </a:lnTo>
                    <a:lnTo>
                      <a:pt x="1677" y="268"/>
                    </a:lnTo>
                    <a:lnTo>
                      <a:pt x="1667" y="279"/>
                    </a:lnTo>
                    <a:lnTo>
                      <a:pt x="1661" y="293"/>
                    </a:lnTo>
                    <a:lnTo>
                      <a:pt x="1642" y="307"/>
                    </a:lnTo>
                    <a:lnTo>
                      <a:pt x="1617" y="317"/>
                    </a:lnTo>
                    <a:lnTo>
                      <a:pt x="1592" y="322"/>
                    </a:lnTo>
                    <a:lnTo>
                      <a:pt x="1563" y="328"/>
                    </a:lnTo>
                    <a:lnTo>
                      <a:pt x="1535" y="330"/>
                    </a:lnTo>
                    <a:lnTo>
                      <a:pt x="1510" y="334"/>
                    </a:lnTo>
                    <a:lnTo>
                      <a:pt x="1487" y="334"/>
                    </a:lnTo>
                    <a:lnTo>
                      <a:pt x="1462" y="334"/>
                    </a:lnTo>
                    <a:lnTo>
                      <a:pt x="1433" y="330"/>
                    </a:lnTo>
                    <a:lnTo>
                      <a:pt x="1396" y="328"/>
                    </a:lnTo>
                    <a:lnTo>
                      <a:pt x="1360" y="326"/>
                    </a:lnTo>
                    <a:lnTo>
                      <a:pt x="1323" y="326"/>
                    </a:lnTo>
                    <a:lnTo>
                      <a:pt x="1295" y="328"/>
                    </a:lnTo>
                    <a:lnTo>
                      <a:pt x="1270" y="334"/>
                    </a:lnTo>
                    <a:lnTo>
                      <a:pt x="1254" y="342"/>
                    </a:lnTo>
                    <a:lnTo>
                      <a:pt x="1232" y="364"/>
                    </a:lnTo>
                    <a:lnTo>
                      <a:pt x="1206" y="387"/>
                    </a:lnTo>
                    <a:lnTo>
                      <a:pt x="1181" y="407"/>
                    </a:lnTo>
                    <a:lnTo>
                      <a:pt x="1172" y="412"/>
                    </a:lnTo>
                    <a:lnTo>
                      <a:pt x="1065" y="407"/>
                    </a:lnTo>
                    <a:lnTo>
                      <a:pt x="1058" y="408"/>
                    </a:lnTo>
                    <a:lnTo>
                      <a:pt x="1042" y="410"/>
                    </a:lnTo>
                    <a:lnTo>
                      <a:pt x="1026" y="416"/>
                    </a:lnTo>
                    <a:lnTo>
                      <a:pt x="1004" y="420"/>
                    </a:lnTo>
                    <a:lnTo>
                      <a:pt x="985" y="422"/>
                    </a:lnTo>
                    <a:lnTo>
                      <a:pt x="969" y="424"/>
                    </a:lnTo>
                    <a:lnTo>
                      <a:pt x="967" y="422"/>
                    </a:lnTo>
                    <a:lnTo>
                      <a:pt x="979" y="412"/>
                    </a:lnTo>
                    <a:lnTo>
                      <a:pt x="995" y="389"/>
                    </a:lnTo>
                    <a:lnTo>
                      <a:pt x="992" y="358"/>
                    </a:lnTo>
                    <a:lnTo>
                      <a:pt x="967" y="334"/>
                    </a:lnTo>
                    <a:lnTo>
                      <a:pt x="938" y="326"/>
                    </a:lnTo>
                    <a:lnTo>
                      <a:pt x="919" y="328"/>
                    </a:lnTo>
                    <a:lnTo>
                      <a:pt x="894" y="330"/>
                    </a:lnTo>
                    <a:lnTo>
                      <a:pt x="869" y="334"/>
                    </a:lnTo>
                    <a:lnTo>
                      <a:pt x="841" y="334"/>
                    </a:lnTo>
                    <a:lnTo>
                      <a:pt x="812" y="330"/>
                    </a:lnTo>
                    <a:lnTo>
                      <a:pt x="789" y="328"/>
                    </a:lnTo>
                    <a:lnTo>
                      <a:pt x="775" y="322"/>
                    </a:lnTo>
                    <a:lnTo>
                      <a:pt x="768" y="313"/>
                    </a:lnTo>
                    <a:lnTo>
                      <a:pt x="759" y="287"/>
                    </a:lnTo>
                    <a:lnTo>
                      <a:pt x="743" y="248"/>
                    </a:lnTo>
                    <a:lnTo>
                      <a:pt x="711" y="215"/>
                    </a:lnTo>
                    <a:lnTo>
                      <a:pt x="679" y="195"/>
                    </a:lnTo>
                    <a:lnTo>
                      <a:pt x="657" y="193"/>
                    </a:lnTo>
                    <a:lnTo>
                      <a:pt x="632" y="197"/>
                    </a:lnTo>
                    <a:lnTo>
                      <a:pt x="604" y="209"/>
                    </a:lnTo>
                    <a:lnTo>
                      <a:pt x="568" y="221"/>
                    </a:lnTo>
                    <a:lnTo>
                      <a:pt x="536" y="236"/>
                    </a:lnTo>
                    <a:lnTo>
                      <a:pt x="502" y="254"/>
                    </a:lnTo>
                    <a:lnTo>
                      <a:pt x="467" y="272"/>
                    </a:lnTo>
                    <a:lnTo>
                      <a:pt x="440" y="287"/>
                    </a:lnTo>
                    <a:lnTo>
                      <a:pt x="408" y="305"/>
                    </a:lnTo>
                    <a:lnTo>
                      <a:pt x="372" y="324"/>
                    </a:lnTo>
                    <a:lnTo>
                      <a:pt x="338" y="346"/>
                    </a:lnTo>
                    <a:lnTo>
                      <a:pt x="299" y="369"/>
                    </a:lnTo>
                    <a:lnTo>
                      <a:pt x="265" y="391"/>
                    </a:lnTo>
                    <a:lnTo>
                      <a:pt x="230" y="408"/>
                    </a:lnTo>
                    <a:lnTo>
                      <a:pt x="203" y="426"/>
                    </a:lnTo>
                    <a:lnTo>
                      <a:pt x="180" y="440"/>
                    </a:lnTo>
                    <a:lnTo>
                      <a:pt x="151" y="461"/>
                    </a:lnTo>
                    <a:lnTo>
                      <a:pt x="132" y="485"/>
                    </a:lnTo>
                    <a:lnTo>
                      <a:pt x="130" y="510"/>
                    </a:lnTo>
                    <a:lnTo>
                      <a:pt x="146" y="540"/>
                    </a:lnTo>
                    <a:lnTo>
                      <a:pt x="167" y="571"/>
                    </a:lnTo>
                    <a:lnTo>
                      <a:pt x="189" y="606"/>
                    </a:lnTo>
                    <a:lnTo>
                      <a:pt x="208" y="635"/>
                    </a:lnTo>
                    <a:lnTo>
                      <a:pt x="240" y="643"/>
                    </a:lnTo>
                    <a:lnTo>
                      <a:pt x="257" y="643"/>
                    </a:lnTo>
                    <a:lnTo>
                      <a:pt x="278" y="641"/>
                    </a:lnTo>
                    <a:lnTo>
                      <a:pt x="299" y="639"/>
                    </a:lnTo>
                    <a:lnTo>
                      <a:pt x="322" y="635"/>
                    </a:lnTo>
                    <a:lnTo>
                      <a:pt x="344" y="626"/>
                    </a:lnTo>
                    <a:lnTo>
                      <a:pt x="367" y="622"/>
                    </a:lnTo>
                    <a:lnTo>
                      <a:pt x="383" y="616"/>
                    </a:lnTo>
                    <a:lnTo>
                      <a:pt x="392" y="604"/>
                    </a:lnTo>
                    <a:lnTo>
                      <a:pt x="411" y="585"/>
                    </a:lnTo>
                    <a:lnTo>
                      <a:pt x="436" y="565"/>
                    </a:lnTo>
                    <a:lnTo>
                      <a:pt x="449" y="543"/>
                    </a:lnTo>
                    <a:lnTo>
                      <a:pt x="449" y="520"/>
                    </a:lnTo>
                    <a:lnTo>
                      <a:pt x="436" y="491"/>
                    </a:lnTo>
                    <a:lnTo>
                      <a:pt x="429" y="467"/>
                    </a:lnTo>
                    <a:lnTo>
                      <a:pt x="433" y="446"/>
                    </a:lnTo>
                    <a:lnTo>
                      <a:pt x="449" y="426"/>
                    </a:lnTo>
                    <a:lnTo>
                      <a:pt x="467" y="416"/>
                    </a:lnTo>
                    <a:lnTo>
                      <a:pt x="486" y="407"/>
                    </a:lnTo>
                    <a:lnTo>
                      <a:pt x="509" y="395"/>
                    </a:lnTo>
                    <a:lnTo>
                      <a:pt x="527" y="387"/>
                    </a:lnTo>
                    <a:lnTo>
                      <a:pt x="543" y="377"/>
                    </a:lnTo>
                    <a:lnTo>
                      <a:pt x="559" y="371"/>
                    </a:lnTo>
                    <a:lnTo>
                      <a:pt x="568" y="369"/>
                    </a:lnTo>
                    <a:lnTo>
                      <a:pt x="575" y="367"/>
                    </a:lnTo>
                    <a:lnTo>
                      <a:pt x="579" y="367"/>
                    </a:lnTo>
                    <a:lnTo>
                      <a:pt x="588" y="369"/>
                    </a:lnTo>
                    <a:lnTo>
                      <a:pt x="600" y="377"/>
                    </a:lnTo>
                    <a:lnTo>
                      <a:pt x="604" y="393"/>
                    </a:lnTo>
                    <a:lnTo>
                      <a:pt x="600" y="407"/>
                    </a:lnTo>
                    <a:lnTo>
                      <a:pt x="584" y="410"/>
                    </a:lnTo>
                    <a:lnTo>
                      <a:pt x="563" y="420"/>
                    </a:lnTo>
                    <a:lnTo>
                      <a:pt x="536" y="432"/>
                    </a:lnTo>
                    <a:lnTo>
                      <a:pt x="515" y="455"/>
                    </a:lnTo>
                    <a:lnTo>
                      <a:pt x="515" y="487"/>
                    </a:lnTo>
                    <a:lnTo>
                      <a:pt x="534" y="510"/>
                    </a:lnTo>
                    <a:lnTo>
                      <a:pt x="575" y="520"/>
                    </a:lnTo>
                    <a:lnTo>
                      <a:pt x="604" y="514"/>
                    </a:lnTo>
                    <a:lnTo>
                      <a:pt x="632" y="506"/>
                    </a:lnTo>
                    <a:lnTo>
                      <a:pt x="661" y="500"/>
                    </a:lnTo>
                    <a:lnTo>
                      <a:pt x="691" y="491"/>
                    </a:lnTo>
                    <a:lnTo>
                      <a:pt x="719" y="483"/>
                    </a:lnTo>
                    <a:lnTo>
                      <a:pt x="746" y="475"/>
                    </a:lnTo>
                    <a:lnTo>
                      <a:pt x="764" y="471"/>
                    </a:lnTo>
                    <a:lnTo>
                      <a:pt x="776" y="471"/>
                    </a:lnTo>
                    <a:lnTo>
                      <a:pt x="800" y="485"/>
                    </a:lnTo>
                    <a:lnTo>
                      <a:pt x="821" y="506"/>
                    </a:lnTo>
                    <a:lnTo>
                      <a:pt x="841" y="528"/>
                    </a:lnTo>
                    <a:lnTo>
                      <a:pt x="853" y="543"/>
                    </a:lnTo>
                    <a:lnTo>
                      <a:pt x="830" y="545"/>
                    </a:lnTo>
                    <a:lnTo>
                      <a:pt x="812" y="549"/>
                    </a:lnTo>
                    <a:lnTo>
                      <a:pt x="792" y="557"/>
                    </a:lnTo>
                    <a:lnTo>
                      <a:pt x="775" y="565"/>
                    </a:lnTo>
                    <a:lnTo>
                      <a:pt x="759" y="571"/>
                    </a:lnTo>
                    <a:lnTo>
                      <a:pt x="748" y="577"/>
                    </a:lnTo>
                    <a:lnTo>
                      <a:pt x="743" y="583"/>
                    </a:lnTo>
                    <a:lnTo>
                      <a:pt x="735" y="585"/>
                    </a:lnTo>
                    <a:lnTo>
                      <a:pt x="730" y="585"/>
                    </a:lnTo>
                    <a:lnTo>
                      <a:pt x="711" y="583"/>
                    </a:lnTo>
                    <a:lnTo>
                      <a:pt x="682" y="579"/>
                    </a:lnTo>
                    <a:lnTo>
                      <a:pt x="654" y="577"/>
                    </a:lnTo>
                    <a:lnTo>
                      <a:pt x="622" y="577"/>
                    </a:lnTo>
                    <a:lnTo>
                      <a:pt x="591" y="579"/>
                    </a:lnTo>
                    <a:lnTo>
                      <a:pt x="575" y="585"/>
                    </a:lnTo>
                    <a:lnTo>
                      <a:pt x="565" y="590"/>
                    </a:lnTo>
                    <a:lnTo>
                      <a:pt x="559" y="620"/>
                    </a:lnTo>
                    <a:lnTo>
                      <a:pt x="543" y="651"/>
                    </a:lnTo>
                    <a:lnTo>
                      <a:pt x="511" y="680"/>
                    </a:lnTo>
                    <a:lnTo>
                      <a:pt x="467" y="684"/>
                    </a:lnTo>
                    <a:lnTo>
                      <a:pt x="440" y="680"/>
                    </a:lnTo>
                    <a:lnTo>
                      <a:pt x="397" y="676"/>
                    </a:lnTo>
                    <a:lnTo>
                      <a:pt x="356" y="680"/>
                    </a:lnTo>
                    <a:lnTo>
                      <a:pt x="310" y="682"/>
                    </a:lnTo>
                    <a:lnTo>
                      <a:pt x="265" y="686"/>
                    </a:lnTo>
                    <a:lnTo>
                      <a:pt x="221" y="698"/>
                    </a:lnTo>
                    <a:lnTo>
                      <a:pt x="189" y="712"/>
                    </a:lnTo>
                    <a:lnTo>
                      <a:pt x="160" y="731"/>
                    </a:lnTo>
                    <a:lnTo>
                      <a:pt x="146" y="747"/>
                    </a:lnTo>
                    <a:lnTo>
                      <a:pt x="127" y="763"/>
                    </a:lnTo>
                    <a:lnTo>
                      <a:pt x="111" y="774"/>
                    </a:lnTo>
                    <a:lnTo>
                      <a:pt x="94" y="786"/>
                    </a:lnTo>
                    <a:lnTo>
                      <a:pt x="78" y="798"/>
                    </a:lnTo>
                    <a:lnTo>
                      <a:pt x="62" y="806"/>
                    </a:lnTo>
                    <a:lnTo>
                      <a:pt x="50" y="817"/>
                    </a:lnTo>
                    <a:lnTo>
                      <a:pt x="38" y="831"/>
                    </a:lnTo>
                    <a:lnTo>
                      <a:pt x="29" y="841"/>
                    </a:lnTo>
                    <a:lnTo>
                      <a:pt x="16" y="853"/>
                    </a:lnTo>
                    <a:lnTo>
                      <a:pt x="7" y="864"/>
                    </a:lnTo>
                    <a:lnTo>
                      <a:pt x="0" y="876"/>
                    </a:lnTo>
                    <a:lnTo>
                      <a:pt x="3524" y="876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86" name="Freeform 1159"/>
              <p:cNvSpPr/>
              <p:nvPr/>
            </p:nvSpPr>
            <p:spPr>
              <a:xfrm>
                <a:off x="4295880" y="3732480"/>
                <a:ext cx="2987640" cy="664200"/>
              </a:xfrm>
              <a:custGeom>
                <a:avLst/>
                <a:gdLst/>
                <a:ahLst/>
                <a:rect l="l" t="t" r="r" b="b"/>
                <a:pathLst>
                  <a:path w="3764" h="874">
                    <a:moveTo>
                      <a:pt x="240" y="0"/>
                    </a:moveTo>
                    <a:lnTo>
                      <a:pt x="227" y="16"/>
                    </a:lnTo>
                    <a:lnTo>
                      <a:pt x="217" y="27"/>
                    </a:lnTo>
                    <a:lnTo>
                      <a:pt x="208" y="39"/>
                    </a:lnTo>
                    <a:lnTo>
                      <a:pt x="203" y="43"/>
                    </a:lnTo>
                    <a:lnTo>
                      <a:pt x="183" y="53"/>
                    </a:lnTo>
                    <a:lnTo>
                      <a:pt x="160" y="53"/>
                    </a:lnTo>
                    <a:lnTo>
                      <a:pt x="135" y="53"/>
                    </a:lnTo>
                    <a:lnTo>
                      <a:pt x="110" y="45"/>
                    </a:lnTo>
                    <a:lnTo>
                      <a:pt x="85" y="41"/>
                    </a:lnTo>
                    <a:lnTo>
                      <a:pt x="62" y="37"/>
                    </a:lnTo>
                    <a:lnTo>
                      <a:pt x="49" y="33"/>
                    </a:lnTo>
                    <a:lnTo>
                      <a:pt x="48" y="31"/>
                    </a:lnTo>
                    <a:lnTo>
                      <a:pt x="37" y="37"/>
                    </a:lnTo>
                    <a:lnTo>
                      <a:pt x="24" y="53"/>
                    </a:lnTo>
                    <a:lnTo>
                      <a:pt x="7" y="72"/>
                    </a:lnTo>
                    <a:lnTo>
                      <a:pt x="0" y="92"/>
                    </a:lnTo>
                    <a:lnTo>
                      <a:pt x="7" y="115"/>
                    </a:lnTo>
                    <a:lnTo>
                      <a:pt x="19" y="149"/>
                    </a:lnTo>
                    <a:lnTo>
                      <a:pt x="37" y="178"/>
                    </a:lnTo>
                    <a:lnTo>
                      <a:pt x="57" y="196"/>
                    </a:lnTo>
                    <a:lnTo>
                      <a:pt x="65" y="201"/>
                    </a:lnTo>
                    <a:lnTo>
                      <a:pt x="78" y="207"/>
                    </a:lnTo>
                    <a:lnTo>
                      <a:pt x="97" y="209"/>
                    </a:lnTo>
                    <a:lnTo>
                      <a:pt x="113" y="211"/>
                    </a:lnTo>
                    <a:lnTo>
                      <a:pt x="135" y="209"/>
                    </a:lnTo>
                    <a:lnTo>
                      <a:pt x="154" y="207"/>
                    </a:lnTo>
                    <a:lnTo>
                      <a:pt x="174" y="198"/>
                    </a:lnTo>
                    <a:lnTo>
                      <a:pt x="192" y="190"/>
                    </a:lnTo>
                    <a:lnTo>
                      <a:pt x="204" y="174"/>
                    </a:lnTo>
                    <a:lnTo>
                      <a:pt x="227" y="156"/>
                    </a:lnTo>
                    <a:lnTo>
                      <a:pt x="249" y="135"/>
                    </a:lnTo>
                    <a:lnTo>
                      <a:pt x="274" y="111"/>
                    </a:lnTo>
                    <a:lnTo>
                      <a:pt x="299" y="92"/>
                    </a:lnTo>
                    <a:lnTo>
                      <a:pt x="325" y="74"/>
                    </a:lnTo>
                    <a:lnTo>
                      <a:pt x="350" y="59"/>
                    </a:lnTo>
                    <a:lnTo>
                      <a:pt x="372" y="53"/>
                    </a:lnTo>
                    <a:lnTo>
                      <a:pt x="395" y="45"/>
                    </a:lnTo>
                    <a:lnTo>
                      <a:pt x="416" y="45"/>
                    </a:lnTo>
                    <a:lnTo>
                      <a:pt x="439" y="43"/>
                    </a:lnTo>
                    <a:lnTo>
                      <a:pt x="461" y="45"/>
                    </a:lnTo>
                    <a:lnTo>
                      <a:pt x="482" y="47"/>
                    </a:lnTo>
                    <a:lnTo>
                      <a:pt x="505" y="55"/>
                    </a:lnTo>
                    <a:lnTo>
                      <a:pt x="521" y="61"/>
                    </a:lnTo>
                    <a:lnTo>
                      <a:pt x="535" y="72"/>
                    </a:lnTo>
                    <a:lnTo>
                      <a:pt x="551" y="82"/>
                    </a:lnTo>
                    <a:lnTo>
                      <a:pt x="568" y="98"/>
                    </a:lnTo>
                    <a:lnTo>
                      <a:pt x="587" y="115"/>
                    </a:lnTo>
                    <a:lnTo>
                      <a:pt x="607" y="135"/>
                    </a:lnTo>
                    <a:lnTo>
                      <a:pt x="625" y="149"/>
                    </a:lnTo>
                    <a:lnTo>
                      <a:pt x="637" y="162"/>
                    </a:lnTo>
                    <a:lnTo>
                      <a:pt x="648" y="174"/>
                    </a:lnTo>
                    <a:lnTo>
                      <a:pt x="649" y="176"/>
                    </a:lnTo>
                    <a:lnTo>
                      <a:pt x="673" y="131"/>
                    </a:lnTo>
                    <a:lnTo>
                      <a:pt x="747" y="115"/>
                    </a:lnTo>
                    <a:lnTo>
                      <a:pt x="776" y="196"/>
                    </a:lnTo>
                    <a:lnTo>
                      <a:pt x="779" y="192"/>
                    </a:lnTo>
                    <a:lnTo>
                      <a:pt x="795" y="178"/>
                    </a:lnTo>
                    <a:lnTo>
                      <a:pt x="817" y="158"/>
                    </a:lnTo>
                    <a:lnTo>
                      <a:pt x="844" y="137"/>
                    </a:lnTo>
                    <a:lnTo>
                      <a:pt x="874" y="106"/>
                    </a:lnTo>
                    <a:lnTo>
                      <a:pt x="902" y="72"/>
                    </a:lnTo>
                    <a:lnTo>
                      <a:pt x="925" y="43"/>
                    </a:lnTo>
                    <a:lnTo>
                      <a:pt x="938" y="31"/>
                    </a:lnTo>
                    <a:lnTo>
                      <a:pt x="943" y="33"/>
                    </a:lnTo>
                    <a:lnTo>
                      <a:pt x="963" y="37"/>
                    </a:lnTo>
                    <a:lnTo>
                      <a:pt x="984" y="43"/>
                    </a:lnTo>
                    <a:lnTo>
                      <a:pt x="1007" y="53"/>
                    </a:lnTo>
                    <a:lnTo>
                      <a:pt x="1020" y="57"/>
                    </a:lnTo>
                    <a:lnTo>
                      <a:pt x="1036" y="59"/>
                    </a:lnTo>
                    <a:lnTo>
                      <a:pt x="1057" y="63"/>
                    </a:lnTo>
                    <a:lnTo>
                      <a:pt x="1077" y="65"/>
                    </a:lnTo>
                    <a:lnTo>
                      <a:pt x="1093" y="70"/>
                    </a:lnTo>
                    <a:lnTo>
                      <a:pt x="1107" y="70"/>
                    </a:lnTo>
                    <a:lnTo>
                      <a:pt x="1118" y="72"/>
                    </a:lnTo>
                    <a:lnTo>
                      <a:pt x="1123" y="72"/>
                    </a:lnTo>
                    <a:lnTo>
                      <a:pt x="1136" y="74"/>
                    </a:lnTo>
                    <a:lnTo>
                      <a:pt x="1164" y="78"/>
                    </a:lnTo>
                    <a:lnTo>
                      <a:pt x="1203" y="86"/>
                    </a:lnTo>
                    <a:lnTo>
                      <a:pt x="1228" y="96"/>
                    </a:lnTo>
                    <a:lnTo>
                      <a:pt x="1248" y="111"/>
                    </a:lnTo>
                    <a:lnTo>
                      <a:pt x="1273" y="131"/>
                    </a:lnTo>
                    <a:lnTo>
                      <a:pt x="1294" y="149"/>
                    </a:lnTo>
                    <a:lnTo>
                      <a:pt x="1303" y="156"/>
                    </a:lnTo>
                    <a:lnTo>
                      <a:pt x="1274" y="158"/>
                    </a:lnTo>
                    <a:lnTo>
                      <a:pt x="1249" y="160"/>
                    </a:lnTo>
                    <a:lnTo>
                      <a:pt x="1225" y="162"/>
                    </a:lnTo>
                    <a:lnTo>
                      <a:pt x="1203" y="162"/>
                    </a:lnTo>
                    <a:lnTo>
                      <a:pt x="1180" y="162"/>
                    </a:lnTo>
                    <a:lnTo>
                      <a:pt x="1159" y="162"/>
                    </a:lnTo>
                    <a:lnTo>
                      <a:pt x="1139" y="160"/>
                    </a:lnTo>
                    <a:lnTo>
                      <a:pt x="1123" y="156"/>
                    </a:lnTo>
                    <a:lnTo>
                      <a:pt x="1102" y="153"/>
                    </a:lnTo>
                    <a:lnTo>
                      <a:pt x="1080" y="153"/>
                    </a:lnTo>
                    <a:lnTo>
                      <a:pt x="1057" y="153"/>
                    </a:lnTo>
                    <a:lnTo>
                      <a:pt x="1036" y="153"/>
                    </a:lnTo>
                    <a:lnTo>
                      <a:pt x="1011" y="155"/>
                    </a:lnTo>
                    <a:lnTo>
                      <a:pt x="988" y="158"/>
                    </a:lnTo>
                    <a:lnTo>
                      <a:pt x="966" y="162"/>
                    </a:lnTo>
                    <a:lnTo>
                      <a:pt x="947" y="170"/>
                    </a:lnTo>
                    <a:lnTo>
                      <a:pt x="918" y="190"/>
                    </a:lnTo>
                    <a:lnTo>
                      <a:pt x="897" y="211"/>
                    </a:lnTo>
                    <a:lnTo>
                      <a:pt x="886" y="235"/>
                    </a:lnTo>
                    <a:lnTo>
                      <a:pt x="884" y="241"/>
                    </a:lnTo>
                    <a:lnTo>
                      <a:pt x="893" y="244"/>
                    </a:lnTo>
                    <a:lnTo>
                      <a:pt x="918" y="248"/>
                    </a:lnTo>
                    <a:lnTo>
                      <a:pt x="956" y="256"/>
                    </a:lnTo>
                    <a:lnTo>
                      <a:pt x="988" y="260"/>
                    </a:lnTo>
                    <a:lnTo>
                      <a:pt x="1011" y="270"/>
                    </a:lnTo>
                    <a:lnTo>
                      <a:pt x="1023" y="276"/>
                    </a:lnTo>
                    <a:lnTo>
                      <a:pt x="1032" y="291"/>
                    </a:lnTo>
                    <a:lnTo>
                      <a:pt x="1036" y="309"/>
                    </a:lnTo>
                    <a:lnTo>
                      <a:pt x="1029" y="329"/>
                    </a:lnTo>
                    <a:lnTo>
                      <a:pt x="1016" y="352"/>
                    </a:lnTo>
                    <a:lnTo>
                      <a:pt x="1004" y="368"/>
                    </a:lnTo>
                    <a:lnTo>
                      <a:pt x="995" y="374"/>
                    </a:lnTo>
                    <a:lnTo>
                      <a:pt x="1016" y="387"/>
                    </a:lnTo>
                    <a:lnTo>
                      <a:pt x="1045" y="405"/>
                    </a:lnTo>
                    <a:lnTo>
                      <a:pt x="1070" y="426"/>
                    </a:lnTo>
                    <a:lnTo>
                      <a:pt x="1082" y="442"/>
                    </a:lnTo>
                    <a:lnTo>
                      <a:pt x="1111" y="452"/>
                    </a:lnTo>
                    <a:lnTo>
                      <a:pt x="1134" y="471"/>
                    </a:lnTo>
                    <a:lnTo>
                      <a:pt x="1152" y="493"/>
                    </a:lnTo>
                    <a:lnTo>
                      <a:pt x="1159" y="516"/>
                    </a:lnTo>
                    <a:lnTo>
                      <a:pt x="1164" y="526"/>
                    </a:lnTo>
                    <a:lnTo>
                      <a:pt x="1178" y="548"/>
                    </a:lnTo>
                    <a:lnTo>
                      <a:pt x="1196" y="569"/>
                    </a:lnTo>
                    <a:lnTo>
                      <a:pt x="1212" y="599"/>
                    </a:lnTo>
                    <a:lnTo>
                      <a:pt x="1233" y="624"/>
                    </a:lnTo>
                    <a:lnTo>
                      <a:pt x="1253" y="647"/>
                    </a:lnTo>
                    <a:lnTo>
                      <a:pt x="1273" y="665"/>
                    </a:lnTo>
                    <a:lnTo>
                      <a:pt x="1282" y="673"/>
                    </a:lnTo>
                    <a:lnTo>
                      <a:pt x="1306" y="681"/>
                    </a:lnTo>
                    <a:lnTo>
                      <a:pt x="1339" y="694"/>
                    </a:lnTo>
                    <a:lnTo>
                      <a:pt x="1367" y="708"/>
                    </a:lnTo>
                    <a:lnTo>
                      <a:pt x="1387" y="718"/>
                    </a:lnTo>
                    <a:lnTo>
                      <a:pt x="1395" y="718"/>
                    </a:lnTo>
                    <a:lnTo>
                      <a:pt x="1404" y="718"/>
                    </a:lnTo>
                    <a:lnTo>
                      <a:pt x="1424" y="714"/>
                    </a:lnTo>
                    <a:lnTo>
                      <a:pt x="1440" y="706"/>
                    </a:lnTo>
                    <a:lnTo>
                      <a:pt x="1458" y="702"/>
                    </a:lnTo>
                    <a:lnTo>
                      <a:pt x="1470" y="694"/>
                    </a:lnTo>
                    <a:lnTo>
                      <a:pt x="1486" y="685"/>
                    </a:lnTo>
                    <a:lnTo>
                      <a:pt x="1493" y="675"/>
                    </a:lnTo>
                    <a:lnTo>
                      <a:pt x="1499" y="665"/>
                    </a:lnTo>
                    <a:lnTo>
                      <a:pt x="1513" y="649"/>
                    </a:lnTo>
                    <a:lnTo>
                      <a:pt x="1531" y="636"/>
                    </a:lnTo>
                    <a:lnTo>
                      <a:pt x="1543" y="618"/>
                    </a:lnTo>
                    <a:lnTo>
                      <a:pt x="1563" y="602"/>
                    </a:lnTo>
                    <a:lnTo>
                      <a:pt x="1582" y="587"/>
                    </a:lnTo>
                    <a:lnTo>
                      <a:pt x="1600" y="577"/>
                    </a:lnTo>
                    <a:lnTo>
                      <a:pt x="1613" y="569"/>
                    </a:lnTo>
                    <a:lnTo>
                      <a:pt x="1641" y="559"/>
                    </a:lnTo>
                    <a:lnTo>
                      <a:pt x="1673" y="548"/>
                    </a:lnTo>
                    <a:lnTo>
                      <a:pt x="1689" y="538"/>
                    </a:lnTo>
                    <a:lnTo>
                      <a:pt x="1698" y="532"/>
                    </a:lnTo>
                    <a:lnTo>
                      <a:pt x="1657" y="524"/>
                    </a:lnTo>
                    <a:lnTo>
                      <a:pt x="1616" y="518"/>
                    </a:lnTo>
                    <a:lnTo>
                      <a:pt x="1579" y="509"/>
                    </a:lnTo>
                    <a:lnTo>
                      <a:pt x="1538" y="503"/>
                    </a:lnTo>
                    <a:lnTo>
                      <a:pt x="1499" y="491"/>
                    </a:lnTo>
                    <a:lnTo>
                      <a:pt x="1468" y="483"/>
                    </a:lnTo>
                    <a:lnTo>
                      <a:pt x="1442" y="471"/>
                    </a:lnTo>
                    <a:lnTo>
                      <a:pt x="1424" y="460"/>
                    </a:lnTo>
                    <a:lnTo>
                      <a:pt x="1404" y="434"/>
                    </a:lnTo>
                    <a:lnTo>
                      <a:pt x="1401" y="411"/>
                    </a:lnTo>
                    <a:lnTo>
                      <a:pt x="1417" y="391"/>
                    </a:lnTo>
                    <a:lnTo>
                      <a:pt x="1442" y="376"/>
                    </a:lnTo>
                    <a:lnTo>
                      <a:pt x="1470" y="374"/>
                    </a:lnTo>
                    <a:lnTo>
                      <a:pt x="1497" y="383"/>
                    </a:lnTo>
                    <a:lnTo>
                      <a:pt x="1518" y="395"/>
                    </a:lnTo>
                    <a:lnTo>
                      <a:pt x="1534" y="411"/>
                    </a:lnTo>
                    <a:lnTo>
                      <a:pt x="1540" y="421"/>
                    </a:lnTo>
                    <a:lnTo>
                      <a:pt x="1547" y="426"/>
                    </a:lnTo>
                    <a:lnTo>
                      <a:pt x="1563" y="436"/>
                    </a:lnTo>
                    <a:lnTo>
                      <a:pt x="1579" y="446"/>
                    </a:lnTo>
                    <a:lnTo>
                      <a:pt x="1591" y="458"/>
                    </a:lnTo>
                    <a:lnTo>
                      <a:pt x="1609" y="466"/>
                    </a:lnTo>
                    <a:lnTo>
                      <a:pt x="1629" y="467"/>
                    </a:lnTo>
                    <a:lnTo>
                      <a:pt x="1652" y="467"/>
                    </a:lnTo>
                    <a:lnTo>
                      <a:pt x="1677" y="467"/>
                    </a:lnTo>
                    <a:lnTo>
                      <a:pt x="1707" y="467"/>
                    </a:lnTo>
                    <a:lnTo>
                      <a:pt x="1746" y="471"/>
                    </a:lnTo>
                    <a:lnTo>
                      <a:pt x="1784" y="479"/>
                    </a:lnTo>
                    <a:lnTo>
                      <a:pt x="1821" y="489"/>
                    </a:lnTo>
                    <a:lnTo>
                      <a:pt x="1857" y="501"/>
                    </a:lnTo>
                    <a:lnTo>
                      <a:pt x="1890" y="509"/>
                    </a:lnTo>
                    <a:lnTo>
                      <a:pt x="1914" y="522"/>
                    </a:lnTo>
                    <a:lnTo>
                      <a:pt x="1930" y="536"/>
                    </a:lnTo>
                    <a:lnTo>
                      <a:pt x="1951" y="544"/>
                    </a:lnTo>
                    <a:lnTo>
                      <a:pt x="1972" y="556"/>
                    </a:lnTo>
                    <a:lnTo>
                      <a:pt x="1996" y="561"/>
                    </a:lnTo>
                    <a:lnTo>
                      <a:pt x="2017" y="569"/>
                    </a:lnTo>
                    <a:lnTo>
                      <a:pt x="2033" y="579"/>
                    </a:lnTo>
                    <a:lnTo>
                      <a:pt x="2042" y="589"/>
                    </a:lnTo>
                    <a:lnTo>
                      <a:pt x="2049" y="602"/>
                    </a:lnTo>
                    <a:lnTo>
                      <a:pt x="2058" y="634"/>
                    </a:lnTo>
                    <a:lnTo>
                      <a:pt x="2065" y="659"/>
                    </a:lnTo>
                    <a:lnTo>
                      <a:pt x="2074" y="689"/>
                    </a:lnTo>
                    <a:lnTo>
                      <a:pt x="2093" y="714"/>
                    </a:lnTo>
                    <a:lnTo>
                      <a:pt x="2115" y="735"/>
                    </a:lnTo>
                    <a:lnTo>
                      <a:pt x="2138" y="763"/>
                    </a:lnTo>
                    <a:lnTo>
                      <a:pt x="2163" y="790"/>
                    </a:lnTo>
                    <a:lnTo>
                      <a:pt x="2188" y="810"/>
                    </a:lnTo>
                    <a:lnTo>
                      <a:pt x="2213" y="820"/>
                    </a:lnTo>
                    <a:lnTo>
                      <a:pt x="2232" y="822"/>
                    </a:lnTo>
                    <a:lnTo>
                      <a:pt x="2241" y="810"/>
                    </a:lnTo>
                    <a:lnTo>
                      <a:pt x="2248" y="775"/>
                    </a:lnTo>
                    <a:lnTo>
                      <a:pt x="2250" y="732"/>
                    </a:lnTo>
                    <a:lnTo>
                      <a:pt x="2264" y="685"/>
                    </a:lnTo>
                    <a:lnTo>
                      <a:pt x="2289" y="649"/>
                    </a:lnTo>
                    <a:lnTo>
                      <a:pt x="2334" y="620"/>
                    </a:lnTo>
                    <a:lnTo>
                      <a:pt x="2359" y="606"/>
                    </a:lnTo>
                    <a:lnTo>
                      <a:pt x="2380" y="599"/>
                    </a:lnTo>
                    <a:lnTo>
                      <a:pt x="2403" y="587"/>
                    </a:lnTo>
                    <a:lnTo>
                      <a:pt x="2425" y="579"/>
                    </a:lnTo>
                    <a:lnTo>
                      <a:pt x="2444" y="571"/>
                    </a:lnTo>
                    <a:lnTo>
                      <a:pt x="2462" y="567"/>
                    </a:lnTo>
                    <a:lnTo>
                      <a:pt x="2474" y="561"/>
                    </a:lnTo>
                    <a:lnTo>
                      <a:pt x="2489" y="557"/>
                    </a:lnTo>
                    <a:lnTo>
                      <a:pt x="2515" y="542"/>
                    </a:lnTo>
                    <a:lnTo>
                      <a:pt x="2547" y="522"/>
                    </a:lnTo>
                    <a:lnTo>
                      <a:pt x="2572" y="516"/>
                    </a:lnTo>
                    <a:lnTo>
                      <a:pt x="2583" y="540"/>
                    </a:lnTo>
                    <a:lnTo>
                      <a:pt x="2576" y="579"/>
                    </a:lnTo>
                    <a:lnTo>
                      <a:pt x="2576" y="608"/>
                    </a:lnTo>
                    <a:lnTo>
                      <a:pt x="2588" y="638"/>
                    </a:lnTo>
                    <a:lnTo>
                      <a:pt x="2617" y="665"/>
                    </a:lnTo>
                    <a:lnTo>
                      <a:pt x="2645" y="694"/>
                    </a:lnTo>
                    <a:lnTo>
                      <a:pt x="2669" y="724"/>
                    </a:lnTo>
                    <a:lnTo>
                      <a:pt x="2683" y="755"/>
                    </a:lnTo>
                    <a:lnTo>
                      <a:pt x="2694" y="777"/>
                    </a:lnTo>
                    <a:lnTo>
                      <a:pt x="2702" y="802"/>
                    </a:lnTo>
                    <a:lnTo>
                      <a:pt x="2706" y="831"/>
                    </a:lnTo>
                    <a:lnTo>
                      <a:pt x="2711" y="853"/>
                    </a:lnTo>
                    <a:lnTo>
                      <a:pt x="2711" y="863"/>
                    </a:lnTo>
                    <a:lnTo>
                      <a:pt x="2779" y="831"/>
                    </a:lnTo>
                    <a:lnTo>
                      <a:pt x="2784" y="839"/>
                    </a:lnTo>
                    <a:lnTo>
                      <a:pt x="2804" y="857"/>
                    </a:lnTo>
                    <a:lnTo>
                      <a:pt x="2825" y="874"/>
                    </a:lnTo>
                    <a:lnTo>
                      <a:pt x="2848" y="874"/>
                    </a:lnTo>
                    <a:lnTo>
                      <a:pt x="2850" y="857"/>
                    </a:lnTo>
                    <a:lnTo>
                      <a:pt x="2836" y="831"/>
                    </a:lnTo>
                    <a:lnTo>
                      <a:pt x="2816" y="802"/>
                    </a:lnTo>
                    <a:lnTo>
                      <a:pt x="2816" y="777"/>
                    </a:lnTo>
                    <a:lnTo>
                      <a:pt x="2832" y="763"/>
                    </a:lnTo>
                    <a:lnTo>
                      <a:pt x="2850" y="757"/>
                    </a:lnTo>
                    <a:lnTo>
                      <a:pt x="2873" y="757"/>
                    </a:lnTo>
                    <a:lnTo>
                      <a:pt x="2895" y="757"/>
                    </a:lnTo>
                    <a:lnTo>
                      <a:pt x="2920" y="753"/>
                    </a:lnTo>
                    <a:lnTo>
                      <a:pt x="2948" y="741"/>
                    </a:lnTo>
                    <a:lnTo>
                      <a:pt x="2975" y="726"/>
                    </a:lnTo>
                    <a:lnTo>
                      <a:pt x="3000" y="714"/>
                    </a:lnTo>
                    <a:lnTo>
                      <a:pt x="3005" y="698"/>
                    </a:lnTo>
                    <a:lnTo>
                      <a:pt x="2996" y="683"/>
                    </a:lnTo>
                    <a:lnTo>
                      <a:pt x="2977" y="667"/>
                    </a:lnTo>
                    <a:lnTo>
                      <a:pt x="2971" y="653"/>
                    </a:lnTo>
                    <a:lnTo>
                      <a:pt x="2959" y="638"/>
                    </a:lnTo>
                    <a:lnTo>
                      <a:pt x="2943" y="624"/>
                    </a:lnTo>
                    <a:lnTo>
                      <a:pt x="2923" y="616"/>
                    </a:lnTo>
                    <a:lnTo>
                      <a:pt x="2923" y="600"/>
                    </a:lnTo>
                    <a:lnTo>
                      <a:pt x="2934" y="591"/>
                    </a:lnTo>
                    <a:lnTo>
                      <a:pt x="2952" y="583"/>
                    </a:lnTo>
                    <a:lnTo>
                      <a:pt x="2977" y="575"/>
                    </a:lnTo>
                    <a:lnTo>
                      <a:pt x="3003" y="565"/>
                    </a:lnTo>
                    <a:lnTo>
                      <a:pt x="3037" y="556"/>
                    </a:lnTo>
                    <a:lnTo>
                      <a:pt x="3066" y="548"/>
                    </a:lnTo>
                    <a:lnTo>
                      <a:pt x="3091" y="540"/>
                    </a:lnTo>
                    <a:lnTo>
                      <a:pt x="3115" y="532"/>
                    </a:lnTo>
                    <a:lnTo>
                      <a:pt x="3135" y="526"/>
                    </a:lnTo>
                    <a:lnTo>
                      <a:pt x="3156" y="518"/>
                    </a:lnTo>
                    <a:lnTo>
                      <a:pt x="3172" y="509"/>
                    </a:lnTo>
                    <a:lnTo>
                      <a:pt x="3196" y="497"/>
                    </a:lnTo>
                    <a:lnTo>
                      <a:pt x="3213" y="487"/>
                    </a:lnTo>
                    <a:lnTo>
                      <a:pt x="3237" y="473"/>
                    </a:lnTo>
                    <a:lnTo>
                      <a:pt x="3254" y="466"/>
                    </a:lnTo>
                    <a:lnTo>
                      <a:pt x="3274" y="454"/>
                    </a:lnTo>
                    <a:lnTo>
                      <a:pt x="3302" y="428"/>
                    </a:lnTo>
                    <a:lnTo>
                      <a:pt x="3315" y="401"/>
                    </a:lnTo>
                    <a:lnTo>
                      <a:pt x="3311" y="370"/>
                    </a:lnTo>
                    <a:lnTo>
                      <a:pt x="3302" y="342"/>
                    </a:lnTo>
                    <a:lnTo>
                      <a:pt x="3290" y="319"/>
                    </a:lnTo>
                    <a:lnTo>
                      <a:pt x="3290" y="293"/>
                    </a:lnTo>
                    <a:lnTo>
                      <a:pt x="3302" y="272"/>
                    </a:lnTo>
                    <a:lnTo>
                      <a:pt x="3324" y="248"/>
                    </a:lnTo>
                    <a:lnTo>
                      <a:pt x="3338" y="237"/>
                    </a:lnTo>
                    <a:lnTo>
                      <a:pt x="3352" y="221"/>
                    </a:lnTo>
                    <a:lnTo>
                      <a:pt x="3372" y="209"/>
                    </a:lnTo>
                    <a:lnTo>
                      <a:pt x="3384" y="196"/>
                    </a:lnTo>
                    <a:lnTo>
                      <a:pt x="3404" y="190"/>
                    </a:lnTo>
                    <a:lnTo>
                      <a:pt x="3413" y="188"/>
                    </a:lnTo>
                    <a:lnTo>
                      <a:pt x="3429" y="192"/>
                    </a:lnTo>
                    <a:lnTo>
                      <a:pt x="3436" y="205"/>
                    </a:lnTo>
                    <a:lnTo>
                      <a:pt x="3448" y="241"/>
                    </a:lnTo>
                    <a:lnTo>
                      <a:pt x="3454" y="278"/>
                    </a:lnTo>
                    <a:lnTo>
                      <a:pt x="3457" y="309"/>
                    </a:lnTo>
                    <a:lnTo>
                      <a:pt x="3457" y="323"/>
                    </a:lnTo>
                    <a:lnTo>
                      <a:pt x="3498" y="295"/>
                    </a:lnTo>
                    <a:lnTo>
                      <a:pt x="3523" y="260"/>
                    </a:lnTo>
                    <a:lnTo>
                      <a:pt x="3539" y="227"/>
                    </a:lnTo>
                    <a:lnTo>
                      <a:pt x="3552" y="205"/>
                    </a:lnTo>
                    <a:lnTo>
                      <a:pt x="3575" y="180"/>
                    </a:lnTo>
                    <a:lnTo>
                      <a:pt x="3600" y="149"/>
                    </a:lnTo>
                    <a:lnTo>
                      <a:pt x="3634" y="115"/>
                    </a:lnTo>
                    <a:lnTo>
                      <a:pt x="3659" y="96"/>
                    </a:lnTo>
                    <a:lnTo>
                      <a:pt x="3682" y="80"/>
                    </a:lnTo>
                    <a:lnTo>
                      <a:pt x="3707" y="57"/>
                    </a:lnTo>
                    <a:lnTo>
                      <a:pt x="3732" y="31"/>
                    </a:lnTo>
                    <a:lnTo>
                      <a:pt x="3755" y="12"/>
                    </a:lnTo>
                    <a:lnTo>
                      <a:pt x="3756" y="8"/>
                    </a:lnTo>
                    <a:lnTo>
                      <a:pt x="3760" y="6"/>
                    </a:lnTo>
                    <a:lnTo>
                      <a:pt x="3760" y="4"/>
                    </a:lnTo>
                    <a:lnTo>
                      <a:pt x="3764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87" name="Freeform 1160"/>
              <p:cNvSpPr/>
              <p:nvPr/>
            </p:nvSpPr>
            <p:spPr>
              <a:xfrm>
                <a:off x="4084560" y="3916440"/>
                <a:ext cx="1336680" cy="1033560"/>
              </a:xfrm>
              <a:custGeom>
                <a:avLst/>
                <a:gdLst/>
                <a:ahLst/>
                <a:rect l="l" t="t" r="r" b="b"/>
                <a:pathLst>
                  <a:path w="1685" h="1359">
                    <a:moveTo>
                      <a:pt x="1229" y="138"/>
                    </a:moveTo>
                    <a:lnTo>
                      <a:pt x="1206" y="138"/>
                    </a:lnTo>
                    <a:lnTo>
                      <a:pt x="1181" y="138"/>
                    </a:lnTo>
                    <a:lnTo>
                      <a:pt x="1156" y="133"/>
                    </a:lnTo>
                    <a:lnTo>
                      <a:pt x="1134" y="129"/>
                    </a:lnTo>
                    <a:lnTo>
                      <a:pt x="1111" y="125"/>
                    </a:lnTo>
                    <a:lnTo>
                      <a:pt x="1093" y="115"/>
                    </a:lnTo>
                    <a:lnTo>
                      <a:pt x="1077" y="111"/>
                    </a:lnTo>
                    <a:lnTo>
                      <a:pt x="1065" y="107"/>
                    </a:lnTo>
                    <a:lnTo>
                      <a:pt x="1053" y="101"/>
                    </a:lnTo>
                    <a:lnTo>
                      <a:pt x="1040" y="101"/>
                    </a:lnTo>
                    <a:lnTo>
                      <a:pt x="1024" y="109"/>
                    </a:lnTo>
                    <a:lnTo>
                      <a:pt x="1012" y="113"/>
                    </a:lnTo>
                    <a:lnTo>
                      <a:pt x="992" y="119"/>
                    </a:lnTo>
                    <a:lnTo>
                      <a:pt x="976" y="129"/>
                    </a:lnTo>
                    <a:lnTo>
                      <a:pt x="958" y="133"/>
                    </a:lnTo>
                    <a:lnTo>
                      <a:pt x="942" y="138"/>
                    </a:lnTo>
                    <a:lnTo>
                      <a:pt x="923" y="138"/>
                    </a:lnTo>
                    <a:lnTo>
                      <a:pt x="898" y="135"/>
                    </a:lnTo>
                    <a:lnTo>
                      <a:pt x="873" y="133"/>
                    </a:lnTo>
                    <a:lnTo>
                      <a:pt x="848" y="127"/>
                    </a:lnTo>
                    <a:lnTo>
                      <a:pt x="823" y="115"/>
                    </a:lnTo>
                    <a:lnTo>
                      <a:pt x="796" y="107"/>
                    </a:lnTo>
                    <a:lnTo>
                      <a:pt x="775" y="93"/>
                    </a:lnTo>
                    <a:lnTo>
                      <a:pt x="759" y="78"/>
                    </a:lnTo>
                    <a:lnTo>
                      <a:pt x="741" y="62"/>
                    </a:lnTo>
                    <a:lnTo>
                      <a:pt x="714" y="45"/>
                    </a:lnTo>
                    <a:lnTo>
                      <a:pt x="684" y="31"/>
                    </a:lnTo>
                    <a:lnTo>
                      <a:pt x="655" y="17"/>
                    </a:lnTo>
                    <a:lnTo>
                      <a:pt x="620" y="7"/>
                    </a:lnTo>
                    <a:lnTo>
                      <a:pt x="591" y="0"/>
                    </a:lnTo>
                    <a:lnTo>
                      <a:pt x="566" y="0"/>
                    </a:lnTo>
                    <a:lnTo>
                      <a:pt x="549" y="3"/>
                    </a:lnTo>
                    <a:lnTo>
                      <a:pt x="533" y="13"/>
                    </a:lnTo>
                    <a:lnTo>
                      <a:pt x="509" y="19"/>
                    </a:lnTo>
                    <a:lnTo>
                      <a:pt x="479" y="23"/>
                    </a:lnTo>
                    <a:lnTo>
                      <a:pt x="451" y="25"/>
                    </a:lnTo>
                    <a:lnTo>
                      <a:pt x="422" y="29"/>
                    </a:lnTo>
                    <a:lnTo>
                      <a:pt x="394" y="31"/>
                    </a:lnTo>
                    <a:lnTo>
                      <a:pt x="369" y="37"/>
                    </a:lnTo>
                    <a:lnTo>
                      <a:pt x="347" y="45"/>
                    </a:lnTo>
                    <a:lnTo>
                      <a:pt x="328" y="56"/>
                    </a:lnTo>
                    <a:lnTo>
                      <a:pt x="306" y="70"/>
                    </a:lnTo>
                    <a:lnTo>
                      <a:pt x="280" y="88"/>
                    </a:lnTo>
                    <a:lnTo>
                      <a:pt x="258" y="107"/>
                    </a:lnTo>
                    <a:lnTo>
                      <a:pt x="237" y="125"/>
                    </a:lnTo>
                    <a:lnTo>
                      <a:pt x="214" y="142"/>
                    </a:lnTo>
                    <a:lnTo>
                      <a:pt x="198" y="158"/>
                    </a:lnTo>
                    <a:lnTo>
                      <a:pt x="185" y="170"/>
                    </a:lnTo>
                    <a:lnTo>
                      <a:pt x="169" y="183"/>
                    </a:lnTo>
                    <a:lnTo>
                      <a:pt x="152" y="193"/>
                    </a:lnTo>
                    <a:lnTo>
                      <a:pt x="128" y="207"/>
                    </a:lnTo>
                    <a:lnTo>
                      <a:pt x="103" y="219"/>
                    </a:lnTo>
                    <a:lnTo>
                      <a:pt x="82" y="230"/>
                    </a:lnTo>
                    <a:lnTo>
                      <a:pt x="61" y="244"/>
                    </a:lnTo>
                    <a:lnTo>
                      <a:pt x="45" y="258"/>
                    </a:lnTo>
                    <a:lnTo>
                      <a:pt x="41" y="271"/>
                    </a:lnTo>
                    <a:lnTo>
                      <a:pt x="34" y="301"/>
                    </a:lnTo>
                    <a:lnTo>
                      <a:pt x="22" y="332"/>
                    </a:lnTo>
                    <a:lnTo>
                      <a:pt x="9" y="352"/>
                    </a:lnTo>
                    <a:lnTo>
                      <a:pt x="0" y="361"/>
                    </a:lnTo>
                    <a:lnTo>
                      <a:pt x="4" y="377"/>
                    </a:lnTo>
                    <a:lnTo>
                      <a:pt x="13" y="414"/>
                    </a:lnTo>
                    <a:lnTo>
                      <a:pt x="22" y="455"/>
                    </a:lnTo>
                    <a:lnTo>
                      <a:pt x="41" y="483"/>
                    </a:lnTo>
                    <a:lnTo>
                      <a:pt x="57" y="506"/>
                    </a:lnTo>
                    <a:lnTo>
                      <a:pt x="66" y="539"/>
                    </a:lnTo>
                    <a:lnTo>
                      <a:pt x="89" y="567"/>
                    </a:lnTo>
                    <a:lnTo>
                      <a:pt x="128" y="588"/>
                    </a:lnTo>
                    <a:lnTo>
                      <a:pt x="160" y="592"/>
                    </a:lnTo>
                    <a:lnTo>
                      <a:pt x="205" y="598"/>
                    </a:lnTo>
                    <a:lnTo>
                      <a:pt x="251" y="604"/>
                    </a:lnTo>
                    <a:lnTo>
                      <a:pt x="303" y="606"/>
                    </a:lnTo>
                    <a:lnTo>
                      <a:pt x="353" y="608"/>
                    </a:lnTo>
                    <a:lnTo>
                      <a:pt x="401" y="610"/>
                    </a:lnTo>
                    <a:lnTo>
                      <a:pt x="442" y="610"/>
                    </a:lnTo>
                    <a:lnTo>
                      <a:pt x="472" y="608"/>
                    </a:lnTo>
                    <a:lnTo>
                      <a:pt x="497" y="606"/>
                    </a:lnTo>
                    <a:lnTo>
                      <a:pt x="520" y="606"/>
                    </a:lnTo>
                    <a:lnTo>
                      <a:pt x="542" y="606"/>
                    </a:lnTo>
                    <a:lnTo>
                      <a:pt x="565" y="608"/>
                    </a:lnTo>
                    <a:lnTo>
                      <a:pt x="582" y="610"/>
                    </a:lnTo>
                    <a:lnTo>
                      <a:pt x="598" y="616"/>
                    </a:lnTo>
                    <a:lnTo>
                      <a:pt x="618" y="622"/>
                    </a:lnTo>
                    <a:lnTo>
                      <a:pt x="632" y="627"/>
                    </a:lnTo>
                    <a:lnTo>
                      <a:pt x="661" y="643"/>
                    </a:lnTo>
                    <a:lnTo>
                      <a:pt x="680" y="663"/>
                    </a:lnTo>
                    <a:lnTo>
                      <a:pt x="686" y="682"/>
                    </a:lnTo>
                    <a:lnTo>
                      <a:pt x="684" y="706"/>
                    </a:lnTo>
                    <a:lnTo>
                      <a:pt x="671" y="729"/>
                    </a:lnTo>
                    <a:lnTo>
                      <a:pt x="671" y="743"/>
                    </a:lnTo>
                    <a:lnTo>
                      <a:pt x="689" y="757"/>
                    </a:lnTo>
                    <a:lnTo>
                      <a:pt x="730" y="766"/>
                    </a:lnTo>
                    <a:lnTo>
                      <a:pt x="762" y="778"/>
                    </a:lnTo>
                    <a:lnTo>
                      <a:pt x="771" y="798"/>
                    </a:lnTo>
                    <a:lnTo>
                      <a:pt x="766" y="823"/>
                    </a:lnTo>
                    <a:lnTo>
                      <a:pt x="762" y="847"/>
                    </a:lnTo>
                    <a:lnTo>
                      <a:pt x="762" y="874"/>
                    </a:lnTo>
                    <a:lnTo>
                      <a:pt x="759" y="903"/>
                    </a:lnTo>
                    <a:lnTo>
                      <a:pt x="753" y="936"/>
                    </a:lnTo>
                    <a:lnTo>
                      <a:pt x="750" y="974"/>
                    </a:lnTo>
                    <a:lnTo>
                      <a:pt x="741" y="989"/>
                    </a:lnTo>
                    <a:lnTo>
                      <a:pt x="730" y="1005"/>
                    </a:lnTo>
                    <a:lnTo>
                      <a:pt x="727" y="1021"/>
                    </a:lnTo>
                    <a:lnTo>
                      <a:pt x="737" y="1044"/>
                    </a:lnTo>
                    <a:lnTo>
                      <a:pt x="750" y="1060"/>
                    </a:lnTo>
                    <a:lnTo>
                      <a:pt x="762" y="1087"/>
                    </a:lnTo>
                    <a:lnTo>
                      <a:pt x="778" y="1111"/>
                    </a:lnTo>
                    <a:lnTo>
                      <a:pt x="791" y="1128"/>
                    </a:lnTo>
                    <a:lnTo>
                      <a:pt x="807" y="1146"/>
                    </a:lnTo>
                    <a:lnTo>
                      <a:pt x="828" y="1173"/>
                    </a:lnTo>
                    <a:lnTo>
                      <a:pt x="850" y="1204"/>
                    </a:lnTo>
                    <a:lnTo>
                      <a:pt x="866" y="1226"/>
                    </a:lnTo>
                    <a:lnTo>
                      <a:pt x="876" y="1253"/>
                    </a:lnTo>
                    <a:lnTo>
                      <a:pt x="891" y="1294"/>
                    </a:lnTo>
                    <a:lnTo>
                      <a:pt x="910" y="1328"/>
                    </a:lnTo>
                    <a:lnTo>
                      <a:pt x="931" y="1351"/>
                    </a:lnTo>
                    <a:lnTo>
                      <a:pt x="947" y="1355"/>
                    </a:lnTo>
                    <a:lnTo>
                      <a:pt x="972" y="1357"/>
                    </a:lnTo>
                    <a:lnTo>
                      <a:pt x="999" y="1359"/>
                    </a:lnTo>
                    <a:lnTo>
                      <a:pt x="1033" y="1359"/>
                    </a:lnTo>
                    <a:lnTo>
                      <a:pt x="1061" y="1357"/>
                    </a:lnTo>
                    <a:lnTo>
                      <a:pt x="1090" y="1353"/>
                    </a:lnTo>
                    <a:lnTo>
                      <a:pt x="1111" y="1341"/>
                    </a:lnTo>
                    <a:lnTo>
                      <a:pt x="1131" y="1328"/>
                    </a:lnTo>
                    <a:lnTo>
                      <a:pt x="1143" y="1314"/>
                    </a:lnTo>
                    <a:lnTo>
                      <a:pt x="1165" y="1302"/>
                    </a:lnTo>
                    <a:lnTo>
                      <a:pt x="1188" y="1289"/>
                    </a:lnTo>
                    <a:lnTo>
                      <a:pt x="1209" y="1277"/>
                    </a:lnTo>
                    <a:lnTo>
                      <a:pt x="1231" y="1267"/>
                    </a:lnTo>
                    <a:lnTo>
                      <a:pt x="1250" y="1257"/>
                    </a:lnTo>
                    <a:lnTo>
                      <a:pt x="1263" y="1246"/>
                    </a:lnTo>
                    <a:lnTo>
                      <a:pt x="1275" y="1238"/>
                    </a:lnTo>
                    <a:lnTo>
                      <a:pt x="1282" y="1216"/>
                    </a:lnTo>
                    <a:lnTo>
                      <a:pt x="1275" y="1191"/>
                    </a:lnTo>
                    <a:lnTo>
                      <a:pt x="1266" y="1169"/>
                    </a:lnTo>
                    <a:lnTo>
                      <a:pt x="1263" y="1152"/>
                    </a:lnTo>
                    <a:lnTo>
                      <a:pt x="1275" y="1144"/>
                    </a:lnTo>
                    <a:lnTo>
                      <a:pt x="1300" y="1144"/>
                    </a:lnTo>
                    <a:lnTo>
                      <a:pt x="1329" y="1146"/>
                    </a:lnTo>
                    <a:lnTo>
                      <a:pt x="1352" y="1144"/>
                    </a:lnTo>
                    <a:lnTo>
                      <a:pt x="1353" y="1134"/>
                    </a:lnTo>
                    <a:lnTo>
                      <a:pt x="1352" y="1114"/>
                    </a:lnTo>
                    <a:lnTo>
                      <a:pt x="1348" y="1093"/>
                    </a:lnTo>
                    <a:lnTo>
                      <a:pt x="1352" y="1071"/>
                    </a:lnTo>
                    <a:lnTo>
                      <a:pt x="1369" y="1056"/>
                    </a:lnTo>
                    <a:lnTo>
                      <a:pt x="1398" y="1040"/>
                    </a:lnTo>
                    <a:lnTo>
                      <a:pt x="1426" y="1026"/>
                    </a:lnTo>
                    <a:lnTo>
                      <a:pt x="1446" y="1013"/>
                    </a:lnTo>
                    <a:lnTo>
                      <a:pt x="1455" y="981"/>
                    </a:lnTo>
                    <a:lnTo>
                      <a:pt x="1458" y="944"/>
                    </a:lnTo>
                    <a:lnTo>
                      <a:pt x="1455" y="905"/>
                    </a:lnTo>
                    <a:lnTo>
                      <a:pt x="1455" y="872"/>
                    </a:lnTo>
                    <a:lnTo>
                      <a:pt x="1446" y="852"/>
                    </a:lnTo>
                    <a:lnTo>
                      <a:pt x="1423" y="839"/>
                    </a:lnTo>
                    <a:lnTo>
                      <a:pt x="1405" y="827"/>
                    </a:lnTo>
                    <a:lnTo>
                      <a:pt x="1398" y="807"/>
                    </a:lnTo>
                    <a:lnTo>
                      <a:pt x="1410" y="782"/>
                    </a:lnTo>
                    <a:lnTo>
                      <a:pt x="1442" y="760"/>
                    </a:lnTo>
                    <a:lnTo>
                      <a:pt x="1475" y="737"/>
                    </a:lnTo>
                    <a:lnTo>
                      <a:pt x="1501" y="706"/>
                    </a:lnTo>
                    <a:lnTo>
                      <a:pt x="1521" y="686"/>
                    </a:lnTo>
                    <a:lnTo>
                      <a:pt x="1546" y="659"/>
                    </a:lnTo>
                    <a:lnTo>
                      <a:pt x="1578" y="627"/>
                    </a:lnTo>
                    <a:lnTo>
                      <a:pt x="1610" y="598"/>
                    </a:lnTo>
                    <a:lnTo>
                      <a:pt x="1637" y="567"/>
                    </a:lnTo>
                    <a:lnTo>
                      <a:pt x="1663" y="545"/>
                    </a:lnTo>
                    <a:lnTo>
                      <a:pt x="1678" y="528"/>
                    </a:lnTo>
                    <a:lnTo>
                      <a:pt x="1685" y="524"/>
                    </a:lnTo>
                    <a:lnTo>
                      <a:pt x="1665" y="516"/>
                    </a:lnTo>
                    <a:lnTo>
                      <a:pt x="1640" y="516"/>
                    </a:lnTo>
                    <a:lnTo>
                      <a:pt x="1615" y="524"/>
                    </a:lnTo>
                    <a:lnTo>
                      <a:pt x="1590" y="524"/>
                    </a:lnTo>
                    <a:lnTo>
                      <a:pt x="1574" y="516"/>
                    </a:lnTo>
                    <a:lnTo>
                      <a:pt x="1558" y="508"/>
                    </a:lnTo>
                    <a:lnTo>
                      <a:pt x="1533" y="494"/>
                    </a:lnTo>
                    <a:lnTo>
                      <a:pt x="1505" y="483"/>
                    </a:lnTo>
                    <a:lnTo>
                      <a:pt x="1480" y="467"/>
                    </a:lnTo>
                    <a:lnTo>
                      <a:pt x="1455" y="449"/>
                    </a:lnTo>
                    <a:lnTo>
                      <a:pt x="1434" y="434"/>
                    </a:lnTo>
                    <a:lnTo>
                      <a:pt x="1418" y="422"/>
                    </a:lnTo>
                    <a:lnTo>
                      <a:pt x="1385" y="395"/>
                    </a:lnTo>
                    <a:lnTo>
                      <a:pt x="1366" y="361"/>
                    </a:lnTo>
                    <a:lnTo>
                      <a:pt x="1345" y="328"/>
                    </a:lnTo>
                    <a:lnTo>
                      <a:pt x="1332" y="297"/>
                    </a:lnTo>
                    <a:lnTo>
                      <a:pt x="1325" y="262"/>
                    </a:lnTo>
                    <a:lnTo>
                      <a:pt x="1323" y="223"/>
                    </a:lnTo>
                    <a:lnTo>
                      <a:pt x="1323" y="191"/>
                    </a:lnTo>
                    <a:lnTo>
                      <a:pt x="1323" y="178"/>
                    </a:lnTo>
                    <a:lnTo>
                      <a:pt x="1307" y="164"/>
                    </a:lnTo>
                    <a:lnTo>
                      <a:pt x="1282" y="150"/>
                    </a:lnTo>
                    <a:lnTo>
                      <a:pt x="1254" y="142"/>
                    </a:lnTo>
                    <a:lnTo>
                      <a:pt x="1229" y="138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88" name="Freeform 1161"/>
              <p:cNvSpPr/>
              <p:nvPr/>
            </p:nvSpPr>
            <p:spPr>
              <a:xfrm>
                <a:off x="5695920" y="3092400"/>
                <a:ext cx="271440" cy="113760"/>
              </a:xfrm>
              <a:custGeom>
                <a:avLst/>
                <a:gdLst/>
                <a:ahLst/>
                <a:rect l="l" t="t" r="r" b="b"/>
                <a:pathLst>
                  <a:path w="342" h="149">
                    <a:moveTo>
                      <a:pt x="59" y="76"/>
                    </a:moveTo>
                    <a:lnTo>
                      <a:pt x="86" y="72"/>
                    </a:lnTo>
                    <a:lnTo>
                      <a:pt x="107" y="66"/>
                    </a:lnTo>
                    <a:lnTo>
                      <a:pt x="128" y="55"/>
                    </a:lnTo>
                    <a:lnTo>
                      <a:pt x="144" y="43"/>
                    </a:lnTo>
                    <a:lnTo>
                      <a:pt x="160" y="35"/>
                    </a:lnTo>
                    <a:lnTo>
                      <a:pt x="178" y="23"/>
                    </a:lnTo>
                    <a:lnTo>
                      <a:pt x="191" y="19"/>
                    </a:lnTo>
                    <a:lnTo>
                      <a:pt x="210" y="17"/>
                    </a:lnTo>
                    <a:lnTo>
                      <a:pt x="230" y="16"/>
                    </a:lnTo>
                    <a:lnTo>
                      <a:pt x="248" y="12"/>
                    </a:lnTo>
                    <a:lnTo>
                      <a:pt x="264" y="6"/>
                    </a:lnTo>
                    <a:lnTo>
                      <a:pt x="283" y="2"/>
                    </a:lnTo>
                    <a:lnTo>
                      <a:pt x="297" y="0"/>
                    </a:lnTo>
                    <a:lnTo>
                      <a:pt x="310" y="0"/>
                    </a:lnTo>
                    <a:lnTo>
                      <a:pt x="326" y="4"/>
                    </a:lnTo>
                    <a:lnTo>
                      <a:pt x="333" y="17"/>
                    </a:lnTo>
                    <a:lnTo>
                      <a:pt x="342" y="43"/>
                    </a:lnTo>
                    <a:lnTo>
                      <a:pt x="329" y="66"/>
                    </a:lnTo>
                    <a:lnTo>
                      <a:pt x="297" y="80"/>
                    </a:lnTo>
                    <a:lnTo>
                      <a:pt x="251" y="86"/>
                    </a:lnTo>
                    <a:lnTo>
                      <a:pt x="226" y="86"/>
                    </a:lnTo>
                    <a:lnTo>
                      <a:pt x="201" y="86"/>
                    </a:lnTo>
                    <a:lnTo>
                      <a:pt x="178" y="88"/>
                    </a:lnTo>
                    <a:lnTo>
                      <a:pt x="164" y="90"/>
                    </a:lnTo>
                    <a:lnTo>
                      <a:pt x="151" y="92"/>
                    </a:lnTo>
                    <a:lnTo>
                      <a:pt x="139" y="98"/>
                    </a:lnTo>
                    <a:lnTo>
                      <a:pt x="132" y="104"/>
                    </a:lnTo>
                    <a:lnTo>
                      <a:pt x="125" y="109"/>
                    </a:lnTo>
                    <a:lnTo>
                      <a:pt x="110" y="127"/>
                    </a:lnTo>
                    <a:lnTo>
                      <a:pt x="86" y="141"/>
                    </a:lnTo>
                    <a:lnTo>
                      <a:pt x="50" y="149"/>
                    </a:lnTo>
                    <a:lnTo>
                      <a:pt x="20" y="143"/>
                    </a:lnTo>
                    <a:lnTo>
                      <a:pt x="0" y="125"/>
                    </a:lnTo>
                    <a:lnTo>
                      <a:pt x="0" y="106"/>
                    </a:lnTo>
                    <a:lnTo>
                      <a:pt x="20" y="88"/>
                    </a:lnTo>
                    <a:lnTo>
                      <a:pt x="59" y="76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89" name="Freeform 1162"/>
              <p:cNvSpPr/>
              <p:nvPr/>
            </p:nvSpPr>
            <p:spPr>
              <a:xfrm>
                <a:off x="5572080" y="3224520"/>
                <a:ext cx="84240" cy="69840"/>
              </a:xfrm>
              <a:custGeom>
                <a:avLst/>
                <a:gdLst/>
                <a:ahLst/>
                <a:rect l="l" t="t" r="r" b="b"/>
                <a:pathLst>
                  <a:path w="107" h="92">
                    <a:moveTo>
                      <a:pt x="91" y="0"/>
                    </a:moveTo>
                    <a:lnTo>
                      <a:pt x="86" y="2"/>
                    </a:lnTo>
                    <a:lnTo>
                      <a:pt x="73" y="4"/>
                    </a:lnTo>
                    <a:lnTo>
                      <a:pt x="54" y="10"/>
                    </a:lnTo>
                    <a:lnTo>
                      <a:pt x="34" y="18"/>
                    </a:lnTo>
                    <a:lnTo>
                      <a:pt x="20" y="25"/>
                    </a:lnTo>
                    <a:lnTo>
                      <a:pt x="4" y="31"/>
                    </a:lnTo>
                    <a:lnTo>
                      <a:pt x="0" y="37"/>
                    </a:lnTo>
                    <a:lnTo>
                      <a:pt x="4" y="43"/>
                    </a:lnTo>
                    <a:lnTo>
                      <a:pt x="32" y="61"/>
                    </a:lnTo>
                    <a:lnTo>
                      <a:pt x="70" y="80"/>
                    </a:lnTo>
                    <a:lnTo>
                      <a:pt x="98" y="92"/>
                    </a:lnTo>
                    <a:lnTo>
                      <a:pt x="107" y="82"/>
                    </a:lnTo>
                    <a:lnTo>
                      <a:pt x="104" y="57"/>
                    </a:lnTo>
                    <a:lnTo>
                      <a:pt x="100" y="29"/>
                    </a:lnTo>
                    <a:lnTo>
                      <a:pt x="95" y="6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90" name="Freeform 1163"/>
              <p:cNvSpPr/>
              <p:nvPr/>
            </p:nvSpPr>
            <p:spPr>
              <a:xfrm>
                <a:off x="4264200" y="3502800"/>
                <a:ext cx="236520" cy="187200"/>
              </a:xfrm>
              <a:custGeom>
                <a:avLst/>
                <a:gdLst/>
                <a:ahLst/>
                <a:rect l="l" t="t" r="r" b="b"/>
                <a:pathLst>
                  <a:path w="298" h="244">
                    <a:moveTo>
                      <a:pt x="4" y="127"/>
                    </a:moveTo>
                    <a:lnTo>
                      <a:pt x="0" y="115"/>
                    </a:lnTo>
                    <a:lnTo>
                      <a:pt x="7" y="105"/>
                    </a:lnTo>
                    <a:lnTo>
                      <a:pt x="16" y="100"/>
                    </a:lnTo>
                    <a:lnTo>
                      <a:pt x="29" y="96"/>
                    </a:lnTo>
                    <a:lnTo>
                      <a:pt x="48" y="90"/>
                    </a:lnTo>
                    <a:lnTo>
                      <a:pt x="66" y="82"/>
                    </a:lnTo>
                    <a:lnTo>
                      <a:pt x="82" y="76"/>
                    </a:lnTo>
                    <a:lnTo>
                      <a:pt x="98" y="62"/>
                    </a:lnTo>
                    <a:lnTo>
                      <a:pt x="114" y="47"/>
                    </a:lnTo>
                    <a:lnTo>
                      <a:pt x="127" y="33"/>
                    </a:lnTo>
                    <a:lnTo>
                      <a:pt x="143" y="19"/>
                    </a:lnTo>
                    <a:lnTo>
                      <a:pt x="162" y="11"/>
                    </a:lnTo>
                    <a:lnTo>
                      <a:pt x="177" y="2"/>
                    </a:lnTo>
                    <a:lnTo>
                      <a:pt x="196" y="0"/>
                    </a:lnTo>
                    <a:lnTo>
                      <a:pt x="219" y="2"/>
                    </a:lnTo>
                    <a:lnTo>
                      <a:pt x="244" y="11"/>
                    </a:lnTo>
                    <a:lnTo>
                      <a:pt x="276" y="35"/>
                    </a:lnTo>
                    <a:lnTo>
                      <a:pt x="291" y="60"/>
                    </a:lnTo>
                    <a:lnTo>
                      <a:pt x="291" y="86"/>
                    </a:lnTo>
                    <a:lnTo>
                      <a:pt x="294" y="115"/>
                    </a:lnTo>
                    <a:lnTo>
                      <a:pt x="298" y="135"/>
                    </a:lnTo>
                    <a:lnTo>
                      <a:pt x="291" y="156"/>
                    </a:lnTo>
                    <a:lnTo>
                      <a:pt x="282" y="172"/>
                    </a:lnTo>
                    <a:lnTo>
                      <a:pt x="269" y="189"/>
                    </a:lnTo>
                    <a:lnTo>
                      <a:pt x="262" y="201"/>
                    </a:lnTo>
                    <a:lnTo>
                      <a:pt x="250" y="215"/>
                    </a:lnTo>
                    <a:lnTo>
                      <a:pt x="237" y="225"/>
                    </a:lnTo>
                    <a:lnTo>
                      <a:pt x="219" y="233"/>
                    </a:lnTo>
                    <a:lnTo>
                      <a:pt x="196" y="242"/>
                    </a:lnTo>
                    <a:lnTo>
                      <a:pt x="184" y="244"/>
                    </a:lnTo>
                    <a:lnTo>
                      <a:pt x="168" y="240"/>
                    </a:lnTo>
                    <a:lnTo>
                      <a:pt x="155" y="227"/>
                    </a:lnTo>
                    <a:lnTo>
                      <a:pt x="143" y="199"/>
                    </a:lnTo>
                    <a:lnTo>
                      <a:pt x="136" y="180"/>
                    </a:lnTo>
                    <a:lnTo>
                      <a:pt x="139" y="164"/>
                    </a:lnTo>
                    <a:lnTo>
                      <a:pt x="168" y="156"/>
                    </a:lnTo>
                    <a:lnTo>
                      <a:pt x="200" y="141"/>
                    </a:lnTo>
                    <a:lnTo>
                      <a:pt x="221" y="117"/>
                    </a:lnTo>
                    <a:lnTo>
                      <a:pt x="221" y="96"/>
                    </a:lnTo>
                    <a:lnTo>
                      <a:pt x="203" y="82"/>
                    </a:lnTo>
                    <a:lnTo>
                      <a:pt x="191" y="80"/>
                    </a:lnTo>
                    <a:lnTo>
                      <a:pt x="171" y="78"/>
                    </a:lnTo>
                    <a:lnTo>
                      <a:pt x="152" y="78"/>
                    </a:lnTo>
                    <a:lnTo>
                      <a:pt x="136" y="80"/>
                    </a:lnTo>
                    <a:lnTo>
                      <a:pt x="121" y="84"/>
                    </a:lnTo>
                    <a:lnTo>
                      <a:pt x="105" y="90"/>
                    </a:lnTo>
                    <a:lnTo>
                      <a:pt x="95" y="98"/>
                    </a:lnTo>
                    <a:lnTo>
                      <a:pt x="89" y="109"/>
                    </a:lnTo>
                    <a:lnTo>
                      <a:pt x="73" y="131"/>
                    </a:lnTo>
                    <a:lnTo>
                      <a:pt x="50" y="146"/>
                    </a:lnTo>
                    <a:lnTo>
                      <a:pt x="22" y="148"/>
                    </a:lnTo>
                    <a:lnTo>
                      <a:pt x="4" y="127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91" name="Freeform 1164"/>
              <p:cNvSpPr/>
              <p:nvPr/>
            </p:nvSpPr>
            <p:spPr>
              <a:xfrm>
                <a:off x="6837480" y="4601880"/>
                <a:ext cx="811080" cy="416880"/>
              </a:xfrm>
              <a:custGeom>
                <a:avLst/>
                <a:gdLst/>
                <a:ahLst/>
                <a:rect l="l" t="t" r="r" b="b"/>
                <a:pathLst>
                  <a:path w="1022" h="548">
                    <a:moveTo>
                      <a:pt x="719" y="108"/>
                    </a:moveTo>
                    <a:lnTo>
                      <a:pt x="699" y="106"/>
                    </a:lnTo>
                    <a:lnTo>
                      <a:pt x="682" y="104"/>
                    </a:lnTo>
                    <a:lnTo>
                      <a:pt x="666" y="104"/>
                    </a:lnTo>
                    <a:lnTo>
                      <a:pt x="646" y="102"/>
                    </a:lnTo>
                    <a:lnTo>
                      <a:pt x="625" y="100"/>
                    </a:lnTo>
                    <a:lnTo>
                      <a:pt x="609" y="96"/>
                    </a:lnTo>
                    <a:lnTo>
                      <a:pt x="596" y="96"/>
                    </a:lnTo>
                    <a:lnTo>
                      <a:pt x="584" y="94"/>
                    </a:lnTo>
                    <a:lnTo>
                      <a:pt x="573" y="88"/>
                    </a:lnTo>
                    <a:lnTo>
                      <a:pt x="573" y="79"/>
                    </a:lnTo>
                    <a:lnTo>
                      <a:pt x="584" y="69"/>
                    </a:lnTo>
                    <a:lnTo>
                      <a:pt x="602" y="59"/>
                    </a:lnTo>
                    <a:lnTo>
                      <a:pt x="605" y="49"/>
                    </a:lnTo>
                    <a:lnTo>
                      <a:pt x="587" y="37"/>
                    </a:lnTo>
                    <a:lnTo>
                      <a:pt x="561" y="26"/>
                    </a:lnTo>
                    <a:lnTo>
                      <a:pt x="545" y="18"/>
                    </a:lnTo>
                    <a:lnTo>
                      <a:pt x="532" y="8"/>
                    </a:lnTo>
                    <a:lnTo>
                      <a:pt x="523" y="2"/>
                    </a:lnTo>
                    <a:lnTo>
                      <a:pt x="511" y="0"/>
                    </a:lnTo>
                    <a:lnTo>
                      <a:pt x="507" y="6"/>
                    </a:lnTo>
                    <a:lnTo>
                      <a:pt x="491" y="18"/>
                    </a:lnTo>
                    <a:lnTo>
                      <a:pt x="463" y="28"/>
                    </a:lnTo>
                    <a:lnTo>
                      <a:pt x="432" y="39"/>
                    </a:lnTo>
                    <a:lnTo>
                      <a:pt x="404" y="49"/>
                    </a:lnTo>
                    <a:lnTo>
                      <a:pt x="384" y="57"/>
                    </a:lnTo>
                    <a:lnTo>
                      <a:pt x="372" y="65"/>
                    </a:lnTo>
                    <a:lnTo>
                      <a:pt x="356" y="67"/>
                    </a:lnTo>
                    <a:lnTo>
                      <a:pt x="334" y="69"/>
                    </a:lnTo>
                    <a:lnTo>
                      <a:pt x="318" y="73"/>
                    </a:lnTo>
                    <a:lnTo>
                      <a:pt x="299" y="75"/>
                    </a:lnTo>
                    <a:lnTo>
                      <a:pt x="278" y="82"/>
                    </a:lnTo>
                    <a:lnTo>
                      <a:pt x="261" y="88"/>
                    </a:lnTo>
                    <a:lnTo>
                      <a:pt x="240" y="100"/>
                    </a:lnTo>
                    <a:lnTo>
                      <a:pt x="221" y="108"/>
                    </a:lnTo>
                    <a:lnTo>
                      <a:pt x="205" y="122"/>
                    </a:lnTo>
                    <a:lnTo>
                      <a:pt x="192" y="135"/>
                    </a:lnTo>
                    <a:lnTo>
                      <a:pt x="180" y="147"/>
                    </a:lnTo>
                    <a:lnTo>
                      <a:pt x="171" y="155"/>
                    </a:lnTo>
                    <a:lnTo>
                      <a:pt x="155" y="165"/>
                    </a:lnTo>
                    <a:lnTo>
                      <a:pt x="142" y="170"/>
                    </a:lnTo>
                    <a:lnTo>
                      <a:pt x="126" y="178"/>
                    </a:lnTo>
                    <a:lnTo>
                      <a:pt x="107" y="188"/>
                    </a:lnTo>
                    <a:lnTo>
                      <a:pt x="85" y="198"/>
                    </a:lnTo>
                    <a:lnTo>
                      <a:pt x="66" y="206"/>
                    </a:lnTo>
                    <a:lnTo>
                      <a:pt x="37" y="210"/>
                    </a:lnTo>
                    <a:lnTo>
                      <a:pt x="19" y="210"/>
                    </a:lnTo>
                    <a:lnTo>
                      <a:pt x="3" y="225"/>
                    </a:lnTo>
                    <a:lnTo>
                      <a:pt x="0" y="282"/>
                    </a:lnTo>
                    <a:lnTo>
                      <a:pt x="0" y="303"/>
                    </a:lnTo>
                    <a:lnTo>
                      <a:pt x="3" y="317"/>
                    </a:lnTo>
                    <a:lnTo>
                      <a:pt x="7" y="325"/>
                    </a:lnTo>
                    <a:lnTo>
                      <a:pt x="19" y="339"/>
                    </a:lnTo>
                    <a:lnTo>
                      <a:pt x="34" y="348"/>
                    </a:lnTo>
                    <a:lnTo>
                      <a:pt x="53" y="356"/>
                    </a:lnTo>
                    <a:lnTo>
                      <a:pt x="60" y="366"/>
                    </a:lnTo>
                    <a:lnTo>
                      <a:pt x="57" y="382"/>
                    </a:lnTo>
                    <a:lnTo>
                      <a:pt x="48" y="397"/>
                    </a:lnTo>
                    <a:lnTo>
                      <a:pt x="34" y="407"/>
                    </a:lnTo>
                    <a:lnTo>
                      <a:pt x="28" y="423"/>
                    </a:lnTo>
                    <a:lnTo>
                      <a:pt x="28" y="444"/>
                    </a:lnTo>
                    <a:lnTo>
                      <a:pt x="34" y="452"/>
                    </a:lnTo>
                    <a:lnTo>
                      <a:pt x="48" y="462"/>
                    </a:lnTo>
                    <a:lnTo>
                      <a:pt x="69" y="468"/>
                    </a:lnTo>
                    <a:lnTo>
                      <a:pt x="91" y="470"/>
                    </a:lnTo>
                    <a:lnTo>
                      <a:pt x="110" y="470"/>
                    </a:lnTo>
                    <a:lnTo>
                      <a:pt x="139" y="470"/>
                    </a:lnTo>
                    <a:lnTo>
                      <a:pt x="158" y="468"/>
                    </a:lnTo>
                    <a:lnTo>
                      <a:pt x="176" y="464"/>
                    </a:lnTo>
                    <a:lnTo>
                      <a:pt x="192" y="458"/>
                    </a:lnTo>
                    <a:lnTo>
                      <a:pt x="212" y="452"/>
                    </a:lnTo>
                    <a:lnTo>
                      <a:pt x="228" y="448"/>
                    </a:lnTo>
                    <a:lnTo>
                      <a:pt x="245" y="444"/>
                    </a:lnTo>
                    <a:lnTo>
                      <a:pt x="269" y="438"/>
                    </a:lnTo>
                    <a:lnTo>
                      <a:pt x="290" y="433"/>
                    </a:lnTo>
                    <a:lnTo>
                      <a:pt x="311" y="429"/>
                    </a:lnTo>
                    <a:lnTo>
                      <a:pt x="334" y="423"/>
                    </a:lnTo>
                    <a:lnTo>
                      <a:pt x="359" y="419"/>
                    </a:lnTo>
                    <a:lnTo>
                      <a:pt x="388" y="415"/>
                    </a:lnTo>
                    <a:lnTo>
                      <a:pt x="420" y="413"/>
                    </a:lnTo>
                    <a:lnTo>
                      <a:pt x="454" y="411"/>
                    </a:lnTo>
                    <a:lnTo>
                      <a:pt x="486" y="413"/>
                    </a:lnTo>
                    <a:lnTo>
                      <a:pt x="520" y="415"/>
                    </a:lnTo>
                    <a:lnTo>
                      <a:pt x="548" y="423"/>
                    </a:lnTo>
                    <a:lnTo>
                      <a:pt x="573" y="431"/>
                    </a:lnTo>
                    <a:lnTo>
                      <a:pt x="596" y="440"/>
                    </a:lnTo>
                    <a:lnTo>
                      <a:pt x="618" y="452"/>
                    </a:lnTo>
                    <a:lnTo>
                      <a:pt x="634" y="466"/>
                    </a:lnTo>
                    <a:lnTo>
                      <a:pt x="653" y="481"/>
                    </a:lnTo>
                    <a:lnTo>
                      <a:pt x="669" y="495"/>
                    </a:lnTo>
                    <a:lnTo>
                      <a:pt x="687" y="507"/>
                    </a:lnTo>
                    <a:lnTo>
                      <a:pt x="698" y="521"/>
                    </a:lnTo>
                    <a:lnTo>
                      <a:pt x="707" y="532"/>
                    </a:lnTo>
                    <a:lnTo>
                      <a:pt x="723" y="540"/>
                    </a:lnTo>
                    <a:lnTo>
                      <a:pt x="744" y="546"/>
                    </a:lnTo>
                    <a:lnTo>
                      <a:pt x="769" y="548"/>
                    </a:lnTo>
                    <a:lnTo>
                      <a:pt x="797" y="546"/>
                    </a:lnTo>
                    <a:lnTo>
                      <a:pt x="826" y="544"/>
                    </a:lnTo>
                    <a:lnTo>
                      <a:pt x="849" y="540"/>
                    </a:lnTo>
                    <a:lnTo>
                      <a:pt x="867" y="534"/>
                    </a:lnTo>
                    <a:lnTo>
                      <a:pt x="874" y="528"/>
                    </a:lnTo>
                    <a:lnTo>
                      <a:pt x="883" y="511"/>
                    </a:lnTo>
                    <a:lnTo>
                      <a:pt x="895" y="487"/>
                    </a:lnTo>
                    <a:lnTo>
                      <a:pt x="911" y="468"/>
                    </a:lnTo>
                    <a:lnTo>
                      <a:pt x="919" y="450"/>
                    </a:lnTo>
                    <a:lnTo>
                      <a:pt x="931" y="435"/>
                    </a:lnTo>
                    <a:lnTo>
                      <a:pt x="952" y="419"/>
                    </a:lnTo>
                    <a:lnTo>
                      <a:pt x="974" y="401"/>
                    </a:lnTo>
                    <a:lnTo>
                      <a:pt x="984" y="384"/>
                    </a:lnTo>
                    <a:lnTo>
                      <a:pt x="988" y="366"/>
                    </a:lnTo>
                    <a:lnTo>
                      <a:pt x="1000" y="346"/>
                    </a:lnTo>
                    <a:lnTo>
                      <a:pt x="1013" y="325"/>
                    </a:lnTo>
                    <a:lnTo>
                      <a:pt x="1022" y="305"/>
                    </a:lnTo>
                    <a:lnTo>
                      <a:pt x="1015" y="298"/>
                    </a:lnTo>
                    <a:lnTo>
                      <a:pt x="1009" y="284"/>
                    </a:lnTo>
                    <a:lnTo>
                      <a:pt x="993" y="272"/>
                    </a:lnTo>
                    <a:lnTo>
                      <a:pt x="981" y="264"/>
                    </a:lnTo>
                    <a:lnTo>
                      <a:pt x="961" y="251"/>
                    </a:lnTo>
                    <a:lnTo>
                      <a:pt x="943" y="241"/>
                    </a:lnTo>
                    <a:lnTo>
                      <a:pt x="927" y="235"/>
                    </a:lnTo>
                    <a:lnTo>
                      <a:pt x="915" y="223"/>
                    </a:lnTo>
                    <a:lnTo>
                      <a:pt x="883" y="200"/>
                    </a:lnTo>
                    <a:lnTo>
                      <a:pt x="858" y="178"/>
                    </a:lnTo>
                    <a:lnTo>
                      <a:pt x="835" y="161"/>
                    </a:lnTo>
                    <a:lnTo>
                      <a:pt x="822" y="141"/>
                    </a:lnTo>
                    <a:lnTo>
                      <a:pt x="817" y="118"/>
                    </a:lnTo>
                    <a:lnTo>
                      <a:pt x="813" y="90"/>
                    </a:lnTo>
                    <a:lnTo>
                      <a:pt x="810" y="69"/>
                    </a:lnTo>
                    <a:lnTo>
                      <a:pt x="797" y="49"/>
                    </a:lnTo>
                    <a:lnTo>
                      <a:pt x="785" y="34"/>
                    </a:lnTo>
                    <a:lnTo>
                      <a:pt x="765" y="20"/>
                    </a:lnTo>
                    <a:lnTo>
                      <a:pt x="748" y="6"/>
                    </a:lnTo>
                    <a:lnTo>
                      <a:pt x="735" y="0"/>
                    </a:lnTo>
                    <a:lnTo>
                      <a:pt x="740" y="24"/>
                    </a:lnTo>
                    <a:lnTo>
                      <a:pt x="748" y="49"/>
                    </a:lnTo>
                    <a:lnTo>
                      <a:pt x="748" y="73"/>
                    </a:lnTo>
                    <a:lnTo>
                      <a:pt x="748" y="88"/>
                    </a:lnTo>
                    <a:lnTo>
                      <a:pt x="748" y="100"/>
                    </a:lnTo>
                    <a:lnTo>
                      <a:pt x="740" y="106"/>
                    </a:lnTo>
                    <a:lnTo>
                      <a:pt x="735" y="108"/>
                    </a:lnTo>
                    <a:lnTo>
                      <a:pt x="719" y="108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92" name="Freeform 1165"/>
              <p:cNvSpPr/>
              <p:nvPr/>
            </p:nvSpPr>
            <p:spPr>
              <a:xfrm>
                <a:off x="6767640" y="4351320"/>
                <a:ext cx="160200" cy="148680"/>
              </a:xfrm>
              <a:custGeom>
                <a:avLst/>
                <a:gdLst/>
                <a:ahLst/>
                <a:rect l="l" t="t" r="r" b="b"/>
                <a:pathLst>
                  <a:path w="203" h="195">
                    <a:moveTo>
                      <a:pt x="58" y="70"/>
                    </a:moveTo>
                    <a:lnTo>
                      <a:pt x="83" y="62"/>
                    </a:lnTo>
                    <a:lnTo>
                      <a:pt x="103" y="51"/>
                    </a:lnTo>
                    <a:lnTo>
                      <a:pt x="119" y="37"/>
                    </a:lnTo>
                    <a:lnTo>
                      <a:pt x="139" y="21"/>
                    </a:lnTo>
                    <a:lnTo>
                      <a:pt x="155" y="8"/>
                    </a:lnTo>
                    <a:lnTo>
                      <a:pt x="178" y="0"/>
                    </a:lnTo>
                    <a:lnTo>
                      <a:pt x="196" y="4"/>
                    </a:lnTo>
                    <a:lnTo>
                      <a:pt x="203" y="23"/>
                    </a:lnTo>
                    <a:lnTo>
                      <a:pt x="203" y="51"/>
                    </a:lnTo>
                    <a:lnTo>
                      <a:pt x="199" y="70"/>
                    </a:lnTo>
                    <a:lnTo>
                      <a:pt x="194" y="86"/>
                    </a:lnTo>
                    <a:lnTo>
                      <a:pt x="196" y="103"/>
                    </a:lnTo>
                    <a:lnTo>
                      <a:pt x="196" y="121"/>
                    </a:lnTo>
                    <a:lnTo>
                      <a:pt x="190" y="139"/>
                    </a:lnTo>
                    <a:lnTo>
                      <a:pt x="174" y="154"/>
                    </a:lnTo>
                    <a:lnTo>
                      <a:pt x="151" y="162"/>
                    </a:lnTo>
                    <a:lnTo>
                      <a:pt x="128" y="168"/>
                    </a:lnTo>
                    <a:lnTo>
                      <a:pt x="107" y="174"/>
                    </a:lnTo>
                    <a:lnTo>
                      <a:pt x="91" y="182"/>
                    </a:lnTo>
                    <a:lnTo>
                      <a:pt x="76" y="189"/>
                    </a:lnTo>
                    <a:lnTo>
                      <a:pt x="67" y="195"/>
                    </a:lnTo>
                    <a:lnTo>
                      <a:pt x="48" y="191"/>
                    </a:lnTo>
                    <a:lnTo>
                      <a:pt x="28" y="184"/>
                    </a:lnTo>
                    <a:lnTo>
                      <a:pt x="16" y="172"/>
                    </a:lnTo>
                    <a:lnTo>
                      <a:pt x="0" y="150"/>
                    </a:lnTo>
                    <a:lnTo>
                      <a:pt x="0" y="119"/>
                    </a:lnTo>
                    <a:lnTo>
                      <a:pt x="19" y="90"/>
                    </a:lnTo>
                    <a:lnTo>
                      <a:pt x="58" y="70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93" name="Freeform 1166"/>
              <p:cNvSpPr/>
              <p:nvPr/>
            </p:nvSpPr>
            <p:spPr>
              <a:xfrm>
                <a:off x="6451560" y="4427280"/>
                <a:ext cx="236520" cy="150480"/>
              </a:xfrm>
              <a:custGeom>
                <a:avLst/>
                <a:gdLst/>
                <a:ahLst/>
                <a:rect l="l" t="t" r="r" b="b"/>
                <a:pathLst>
                  <a:path w="297" h="200">
                    <a:moveTo>
                      <a:pt x="0" y="4"/>
                    </a:moveTo>
                    <a:lnTo>
                      <a:pt x="3" y="18"/>
                    </a:lnTo>
                    <a:lnTo>
                      <a:pt x="33" y="26"/>
                    </a:lnTo>
                    <a:lnTo>
                      <a:pt x="66" y="40"/>
                    </a:lnTo>
                    <a:lnTo>
                      <a:pt x="87" y="57"/>
                    </a:lnTo>
                    <a:lnTo>
                      <a:pt x="99" y="73"/>
                    </a:lnTo>
                    <a:lnTo>
                      <a:pt x="112" y="87"/>
                    </a:lnTo>
                    <a:lnTo>
                      <a:pt x="121" y="98"/>
                    </a:lnTo>
                    <a:lnTo>
                      <a:pt x="133" y="114"/>
                    </a:lnTo>
                    <a:lnTo>
                      <a:pt x="146" y="132"/>
                    </a:lnTo>
                    <a:lnTo>
                      <a:pt x="167" y="151"/>
                    </a:lnTo>
                    <a:lnTo>
                      <a:pt x="188" y="171"/>
                    </a:lnTo>
                    <a:lnTo>
                      <a:pt x="213" y="194"/>
                    </a:lnTo>
                    <a:lnTo>
                      <a:pt x="231" y="200"/>
                    </a:lnTo>
                    <a:lnTo>
                      <a:pt x="254" y="200"/>
                    </a:lnTo>
                    <a:lnTo>
                      <a:pt x="276" y="198"/>
                    </a:lnTo>
                    <a:lnTo>
                      <a:pt x="293" y="188"/>
                    </a:lnTo>
                    <a:lnTo>
                      <a:pt x="297" y="177"/>
                    </a:lnTo>
                    <a:lnTo>
                      <a:pt x="292" y="161"/>
                    </a:lnTo>
                    <a:lnTo>
                      <a:pt x="276" y="143"/>
                    </a:lnTo>
                    <a:lnTo>
                      <a:pt x="254" y="132"/>
                    </a:lnTo>
                    <a:lnTo>
                      <a:pt x="235" y="122"/>
                    </a:lnTo>
                    <a:lnTo>
                      <a:pt x="220" y="110"/>
                    </a:lnTo>
                    <a:lnTo>
                      <a:pt x="197" y="102"/>
                    </a:lnTo>
                    <a:lnTo>
                      <a:pt x="179" y="90"/>
                    </a:lnTo>
                    <a:lnTo>
                      <a:pt x="163" y="81"/>
                    </a:lnTo>
                    <a:lnTo>
                      <a:pt x="151" y="71"/>
                    </a:lnTo>
                    <a:lnTo>
                      <a:pt x="139" y="59"/>
                    </a:lnTo>
                    <a:lnTo>
                      <a:pt x="130" y="51"/>
                    </a:lnTo>
                    <a:lnTo>
                      <a:pt x="117" y="38"/>
                    </a:lnTo>
                    <a:lnTo>
                      <a:pt x="105" y="26"/>
                    </a:lnTo>
                    <a:lnTo>
                      <a:pt x="89" y="20"/>
                    </a:lnTo>
                    <a:lnTo>
                      <a:pt x="71" y="18"/>
                    </a:lnTo>
                    <a:lnTo>
                      <a:pt x="55" y="14"/>
                    </a:lnTo>
                    <a:lnTo>
                      <a:pt x="33" y="4"/>
                    </a:lnTo>
                    <a:lnTo>
                      <a:pt x="1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94" name="Freeform 1167"/>
              <p:cNvSpPr/>
              <p:nvPr/>
            </p:nvSpPr>
            <p:spPr>
              <a:xfrm>
                <a:off x="7218360" y="3811320"/>
                <a:ext cx="260280" cy="167040"/>
              </a:xfrm>
              <a:custGeom>
                <a:avLst/>
                <a:gdLst/>
                <a:ahLst/>
                <a:rect l="l" t="t" r="r" b="b"/>
                <a:pathLst>
                  <a:path w="327" h="221">
                    <a:moveTo>
                      <a:pt x="203" y="199"/>
                    </a:moveTo>
                    <a:lnTo>
                      <a:pt x="237" y="172"/>
                    </a:lnTo>
                    <a:lnTo>
                      <a:pt x="267" y="142"/>
                    </a:lnTo>
                    <a:lnTo>
                      <a:pt x="286" y="109"/>
                    </a:lnTo>
                    <a:lnTo>
                      <a:pt x="292" y="86"/>
                    </a:lnTo>
                    <a:lnTo>
                      <a:pt x="302" y="66"/>
                    </a:lnTo>
                    <a:lnTo>
                      <a:pt x="318" y="43"/>
                    </a:lnTo>
                    <a:lnTo>
                      <a:pt x="327" y="23"/>
                    </a:lnTo>
                    <a:lnTo>
                      <a:pt x="311" y="6"/>
                    </a:lnTo>
                    <a:lnTo>
                      <a:pt x="279" y="0"/>
                    </a:lnTo>
                    <a:lnTo>
                      <a:pt x="267" y="2"/>
                    </a:lnTo>
                    <a:lnTo>
                      <a:pt x="260" y="15"/>
                    </a:lnTo>
                    <a:lnTo>
                      <a:pt x="251" y="33"/>
                    </a:lnTo>
                    <a:lnTo>
                      <a:pt x="240" y="56"/>
                    </a:lnTo>
                    <a:lnTo>
                      <a:pt x="219" y="86"/>
                    </a:lnTo>
                    <a:lnTo>
                      <a:pt x="196" y="109"/>
                    </a:lnTo>
                    <a:lnTo>
                      <a:pt x="172" y="133"/>
                    </a:lnTo>
                    <a:lnTo>
                      <a:pt x="156" y="142"/>
                    </a:lnTo>
                    <a:lnTo>
                      <a:pt x="131" y="152"/>
                    </a:lnTo>
                    <a:lnTo>
                      <a:pt x="107" y="164"/>
                    </a:lnTo>
                    <a:lnTo>
                      <a:pt x="76" y="172"/>
                    </a:lnTo>
                    <a:lnTo>
                      <a:pt x="48" y="182"/>
                    </a:lnTo>
                    <a:lnTo>
                      <a:pt x="23" y="187"/>
                    </a:lnTo>
                    <a:lnTo>
                      <a:pt x="7" y="189"/>
                    </a:lnTo>
                    <a:lnTo>
                      <a:pt x="0" y="191"/>
                    </a:lnTo>
                    <a:lnTo>
                      <a:pt x="19" y="205"/>
                    </a:lnTo>
                    <a:lnTo>
                      <a:pt x="44" y="215"/>
                    </a:lnTo>
                    <a:lnTo>
                      <a:pt x="71" y="221"/>
                    </a:lnTo>
                    <a:lnTo>
                      <a:pt x="96" y="221"/>
                    </a:lnTo>
                    <a:lnTo>
                      <a:pt x="124" y="221"/>
                    </a:lnTo>
                    <a:lnTo>
                      <a:pt x="151" y="217"/>
                    </a:lnTo>
                    <a:lnTo>
                      <a:pt x="180" y="207"/>
                    </a:lnTo>
                    <a:lnTo>
                      <a:pt x="203" y="199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95" name="Freeform 1168"/>
              <p:cNvSpPr/>
              <p:nvPr/>
            </p:nvSpPr>
            <p:spPr>
              <a:xfrm>
                <a:off x="7234200" y="4475880"/>
                <a:ext cx="335160" cy="115560"/>
              </a:xfrm>
              <a:custGeom>
                <a:avLst/>
                <a:gdLst/>
                <a:ahLst/>
                <a:rect l="l" t="t" r="r" b="b"/>
                <a:pathLst>
                  <a:path w="422" h="153">
                    <a:moveTo>
                      <a:pt x="75" y="6"/>
                    </a:moveTo>
                    <a:lnTo>
                      <a:pt x="91" y="4"/>
                    </a:lnTo>
                    <a:lnTo>
                      <a:pt x="107" y="2"/>
                    </a:lnTo>
                    <a:lnTo>
                      <a:pt x="125" y="2"/>
                    </a:lnTo>
                    <a:lnTo>
                      <a:pt x="137" y="0"/>
                    </a:lnTo>
                    <a:lnTo>
                      <a:pt x="153" y="0"/>
                    </a:lnTo>
                    <a:lnTo>
                      <a:pt x="173" y="2"/>
                    </a:lnTo>
                    <a:lnTo>
                      <a:pt x="185" y="6"/>
                    </a:lnTo>
                    <a:lnTo>
                      <a:pt x="203" y="16"/>
                    </a:lnTo>
                    <a:lnTo>
                      <a:pt x="223" y="23"/>
                    </a:lnTo>
                    <a:lnTo>
                      <a:pt x="241" y="35"/>
                    </a:lnTo>
                    <a:lnTo>
                      <a:pt x="253" y="49"/>
                    </a:lnTo>
                    <a:lnTo>
                      <a:pt x="273" y="57"/>
                    </a:lnTo>
                    <a:lnTo>
                      <a:pt x="285" y="70"/>
                    </a:lnTo>
                    <a:lnTo>
                      <a:pt x="303" y="80"/>
                    </a:lnTo>
                    <a:lnTo>
                      <a:pt x="319" y="88"/>
                    </a:lnTo>
                    <a:lnTo>
                      <a:pt x="339" y="94"/>
                    </a:lnTo>
                    <a:lnTo>
                      <a:pt x="369" y="110"/>
                    </a:lnTo>
                    <a:lnTo>
                      <a:pt x="397" y="127"/>
                    </a:lnTo>
                    <a:lnTo>
                      <a:pt x="415" y="147"/>
                    </a:lnTo>
                    <a:lnTo>
                      <a:pt x="422" y="153"/>
                    </a:lnTo>
                    <a:lnTo>
                      <a:pt x="301" y="133"/>
                    </a:lnTo>
                    <a:lnTo>
                      <a:pt x="225" y="139"/>
                    </a:lnTo>
                    <a:lnTo>
                      <a:pt x="219" y="139"/>
                    </a:lnTo>
                    <a:lnTo>
                      <a:pt x="203" y="139"/>
                    </a:lnTo>
                    <a:lnTo>
                      <a:pt x="182" y="137"/>
                    </a:lnTo>
                    <a:lnTo>
                      <a:pt x="157" y="133"/>
                    </a:lnTo>
                    <a:lnTo>
                      <a:pt x="128" y="125"/>
                    </a:lnTo>
                    <a:lnTo>
                      <a:pt x="100" y="115"/>
                    </a:lnTo>
                    <a:lnTo>
                      <a:pt x="79" y="100"/>
                    </a:lnTo>
                    <a:lnTo>
                      <a:pt x="63" y="80"/>
                    </a:lnTo>
                    <a:lnTo>
                      <a:pt x="54" y="68"/>
                    </a:lnTo>
                    <a:lnTo>
                      <a:pt x="34" y="55"/>
                    </a:lnTo>
                    <a:lnTo>
                      <a:pt x="20" y="49"/>
                    </a:lnTo>
                    <a:lnTo>
                      <a:pt x="7" y="37"/>
                    </a:lnTo>
                    <a:lnTo>
                      <a:pt x="0" y="25"/>
                    </a:lnTo>
                    <a:lnTo>
                      <a:pt x="9" y="20"/>
                    </a:lnTo>
                    <a:lnTo>
                      <a:pt x="34" y="12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96" name="Freeform 1169"/>
              <p:cNvSpPr/>
              <p:nvPr/>
            </p:nvSpPr>
            <p:spPr>
              <a:xfrm>
                <a:off x="7869240" y="5026680"/>
                <a:ext cx="154080" cy="124200"/>
              </a:xfrm>
              <a:custGeom>
                <a:avLst/>
                <a:gdLst/>
                <a:ahLst/>
                <a:rect l="l" t="t" r="r" b="b"/>
                <a:pathLst>
                  <a:path w="194" h="164">
                    <a:moveTo>
                      <a:pt x="53" y="88"/>
                    </a:moveTo>
                    <a:lnTo>
                      <a:pt x="69" y="82"/>
                    </a:lnTo>
                    <a:lnTo>
                      <a:pt x="87" y="76"/>
                    </a:lnTo>
                    <a:lnTo>
                      <a:pt x="110" y="62"/>
                    </a:lnTo>
                    <a:lnTo>
                      <a:pt x="124" y="47"/>
                    </a:lnTo>
                    <a:lnTo>
                      <a:pt x="147" y="35"/>
                    </a:lnTo>
                    <a:lnTo>
                      <a:pt x="165" y="21"/>
                    </a:lnTo>
                    <a:lnTo>
                      <a:pt x="181" y="11"/>
                    </a:lnTo>
                    <a:lnTo>
                      <a:pt x="186" y="4"/>
                    </a:lnTo>
                    <a:lnTo>
                      <a:pt x="194" y="0"/>
                    </a:lnTo>
                    <a:lnTo>
                      <a:pt x="194" y="6"/>
                    </a:lnTo>
                    <a:lnTo>
                      <a:pt x="194" y="21"/>
                    </a:lnTo>
                    <a:lnTo>
                      <a:pt x="190" y="43"/>
                    </a:lnTo>
                    <a:lnTo>
                      <a:pt x="185" y="64"/>
                    </a:lnTo>
                    <a:lnTo>
                      <a:pt x="165" y="82"/>
                    </a:lnTo>
                    <a:lnTo>
                      <a:pt x="144" y="96"/>
                    </a:lnTo>
                    <a:lnTo>
                      <a:pt x="122" y="103"/>
                    </a:lnTo>
                    <a:lnTo>
                      <a:pt x="112" y="109"/>
                    </a:lnTo>
                    <a:lnTo>
                      <a:pt x="106" y="125"/>
                    </a:lnTo>
                    <a:lnTo>
                      <a:pt x="106" y="143"/>
                    </a:lnTo>
                    <a:lnTo>
                      <a:pt x="106" y="156"/>
                    </a:lnTo>
                    <a:lnTo>
                      <a:pt x="90" y="162"/>
                    </a:lnTo>
                    <a:lnTo>
                      <a:pt x="62" y="164"/>
                    </a:lnTo>
                    <a:lnTo>
                      <a:pt x="24" y="160"/>
                    </a:lnTo>
                    <a:lnTo>
                      <a:pt x="3" y="146"/>
                    </a:lnTo>
                    <a:lnTo>
                      <a:pt x="0" y="129"/>
                    </a:lnTo>
                    <a:lnTo>
                      <a:pt x="7" y="109"/>
                    </a:lnTo>
                    <a:lnTo>
                      <a:pt x="24" y="96"/>
                    </a:lnTo>
                    <a:lnTo>
                      <a:pt x="53" y="88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97" name="Freeform 1170"/>
              <p:cNvSpPr/>
              <p:nvPr/>
            </p:nvSpPr>
            <p:spPr>
              <a:xfrm>
                <a:off x="8034480" y="4937040"/>
                <a:ext cx="125280" cy="102960"/>
              </a:xfrm>
              <a:custGeom>
                <a:avLst/>
                <a:gdLst/>
                <a:ahLst/>
                <a:rect l="l" t="t" r="r" b="b"/>
                <a:pathLst>
                  <a:path w="157" h="135">
                    <a:moveTo>
                      <a:pt x="7" y="0"/>
                    </a:moveTo>
                    <a:lnTo>
                      <a:pt x="28" y="12"/>
                    </a:lnTo>
                    <a:lnTo>
                      <a:pt x="52" y="32"/>
                    </a:lnTo>
                    <a:lnTo>
                      <a:pt x="71" y="51"/>
                    </a:lnTo>
                    <a:lnTo>
                      <a:pt x="84" y="61"/>
                    </a:lnTo>
                    <a:lnTo>
                      <a:pt x="101" y="61"/>
                    </a:lnTo>
                    <a:lnTo>
                      <a:pt x="125" y="61"/>
                    </a:lnTo>
                    <a:lnTo>
                      <a:pt x="148" y="63"/>
                    </a:lnTo>
                    <a:lnTo>
                      <a:pt x="157" y="71"/>
                    </a:lnTo>
                    <a:lnTo>
                      <a:pt x="157" y="83"/>
                    </a:lnTo>
                    <a:lnTo>
                      <a:pt x="149" y="96"/>
                    </a:lnTo>
                    <a:lnTo>
                      <a:pt x="133" y="112"/>
                    </a:lnTo>
                    <a:lnTo>
                      <a:pt x="121" y="124"/>
                    </a:lnTo>
                    <a:lnTo>
                      <a:pt x="105" y="131"/>
                    </a:lnTo>
                    <a:lnTo>
                      <a:pt x="92" y="135"/>
                    </a:lnTo>
                    <a:lnTo>
                      <a:pt x="73" y="133"/>
                    </a:lnTo>
                    <a:lnTo>
                      <a:pt x="57" y="124"/>
                    </a:lnTo>
                    <a:lnTo>
                      <a:pt x="48" y="110"/>
                    </a:lnTo>
                    <a:lnTo>
                      <a:pt x="39" y="94"/>
                    </a:lnTo>
                    <a:lnTo>
                      <a:pt x="35" y="79"/>
                    </a:lnTo>
                    <a:lnTo>
                      <a:pt x="35" y="67"/>
                    </a:lnTo>
                    <a:lnTo>
                      <a:pt x="32" y="55"/>
                    </a:lnTo>
                    <a:lnTo>
                      <a:pt x="23" y="41"/>
                    </a:lnTo>
                    <a:lnTo>
                      <a:pt x="7" y="32"/>
                    </a:lnTo>
                    <a:lnTo>
                      <a:pt x="0" y="2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98" name="Freeform 1171"/>
              <p:cNvSpPr/>
              <p:nvPr/>
            </p:nvSpPr>
            <p:spPr>
              <a:xfrm>
                <a:off x="2747880" y="4194720"/>
                <a:ext cx="220680" cy="69480"/>
              </a:xfrm>
              <a:custGeom>
                <a:avLst/>
                <a:gdLst/>
                <a:ahLst/>
                <a:rect l="l" t="t" r="r" b="b"/>
                <a:pathLst>
                  <a:path w="278" h="92">
                    <a:moveTo>
                      <a:pt x="0" y="10"/>
                    </a:moveTo>
                    <a:lnTo>
                      <a:pt x="9" y="0"/>
                    </a:lnTo>
                    <a:lnTo>
                      <a:pt x="28" y="0"/>
                    </a:lnTo>
                    <a:lnTo>
                      <a:pt x="57" y="4"/>
                    </a:lnTo>
                    <a:lnTo>
                      <a:pt x="89" y="14"/>
                    </a:lnTo>
                    <a:lnTo>
                      <a:pt x="121" y="26"/>
                    </a:lnTo>
                    <a:lnTo>
                      <a:pt x="153" y="36"/>
                    </a:lnTo>
                    <a:lnTo>
                      <a:pt x="181" y="49"/>
                    </a:lnTo>
                    <a:lnTo>
                      <a:pt x="205" y="57"/>
                    </a:lnTo>
                    <a:lnTo>
                      <a:pt x="242" y="65"/>
                    </a:lnTo>
                    <a:lnTo>
                      <a:pt x="270" y="79"/>
                    </a:lnTo>
                    <a:lnTo>
                      <a:pt x="278" y="88"/>
                    </a:lnTo>
                    <a:lnTo>
                      <a:pt x="262" y="92"/>
                    </a:lnTo>
                    <a:lnTo>
                      <a:pt x="242" y="92"/>
                    </a:lnTo>
                    <a:lnTo>
                      <a:pt x="221" y="90"/>
                    </a:lnTo>
                    <a:lnTo>
                      <a:pt x="201" y="88"/>
                    </a:lnTo>
                    <a:lnTo>
                      <a:pt x="178" y="84"/>
                    </a:lnTo>
                    <a:lnTo>
                      <a:pt x="162" y="84"/>
                    </a:lnTo>
                    <a:lnTo>
                      <a:pt x="146" y="82"/>
                    </a:lnTo>
                    <a:lnTo>
                      <a:pt x="140" y="81"/>
                    </a:lnTo>
                    <a:lnTo>
                      <a:pt x="133" y="81"/>
                    </a:lnTo>
                    <a:lnTo>
                      <a:pt x="128" y="79"/>
                    </a:lnTo>
                    <a:lnTo>
                      <a:pt x="116" y="73"/>
                    </a:lnTo>
                    <a:lnTo>
                      <a:pt x="92" y="65"/>
                    </a:lnTo>
                    <a:lnTo>
                      <a:pt x="67" y="57"/>
                    </a:lnTo>
                    <a:lnTo>
                      <a:pt x="41" y="43"/>
                    </a:lnTo>
                    <a:lnTo>
                      <a:pt x="19" y="32"/>
                    </a:lnTo>
                    <a:lnTo>
                      <a:pt x="3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199" name="Freeform 1172"/>
              <p:cNvSpPr/>
              <p:nvPr/>
            </p:nvSpPr>
            <p:spPr>
              <a:xfrm>
                <a:off x="5305320" y="4618800"/>
                <a:ext cx="155520" cy="212760"/>
              </a:xfrm>
              <a:custGeom>
                <a:avLst/>
                <a:gdLst/>
                <a:ahLst/>
                <a:rect l="l" t="t" r="r" b="b"/>
                <a:pathLst>
                  <a:path w="195" h="280">
                    <a:moveTo>
                      <a:pt x="130" y="4"/>
                    </a:moveTo>
                    <a:lnTo>
                      <a:pt x="167" y="0"/>
                    </a:lnTo>
                    <a:lnTo>
                      <a:pt x="187" y="4"/>
                    </a:lnTo>
                    <a:lnTo>
                      <a:pt x="195" y="19"/>
                    </a:lnTo>
                    <a:lnTo>
                      <a:pt x="195" y="39"/>
                    </a:lnTo>
                    <a:lnTo>
                      <a:pt x="192" y="62"/>
                    </a:lnTo>
                    <a:lnTo>
                      <a:pt x="187" y="88"/>
                    </a:lnTo>
                    <a:lnTo>
                      <a:pt x="176" y="111"/>
                    </a:lnTo>
                    <a:lnTo>
                      <a:pt x="174" y="131"/>
                    </a:lnTo>
                    <a:lnTo>
                      <a:pt x="174" y="168"/>
                    </a:lnTo>
                    <a:lnTo>
                      <a:pt x="171" y="205"/>
                    </a:lnTo>
                    <a:lnTo>
                      <a:pt x="163" y="238"/>
                    </a:lnTo>
                    <a:lnTo>
                      <a:pt x="155" y="260"/>
                    </a:lnTo>
                    <a:lnTo>
                      <a:pt x="147" y="264"/>
                    </a:lnTo>
                    <a:lnTo>
                      <a:pt x="139" y="268"/>
                    </a:lnTo>
                    <a:lnTo>
                      <a:pt x="119" y="274"/>
                    </a:lnTo>
                    <a:lnTo>
                      <a:pt x="101" y="280"/>
                    </a:lnTo>
                    <a:lnTo>
                      <a:pt x="78" y="280"/>
                    </a:lnTo>
                    <a:lnTo>
                      <a:pt x="60" y="278"/>
                    </a:lnTo>
                    <a:lnTo>
                      <a:pt x="48" y="266"/>
                    </a:lnTo>
                    <a:lnTo>
                      <a:pt x="32" y="254"/>
                    </a:lnTo>
                    <a:lnTo>
                      <a:pt x="12" y="219"/>
                    </a:lnTo>
                    <a:lnTo>
                      <a:pt x="3" y="188"/>
                    </a:lnTo>
                    <a:lnTo>
                      <a:pt x="0" y="164"/>
                    </a:lnTo>
                    <a:lnTo>
                      <a:pt x="3" y="146"/>
                    </a:lnTo>
                    <a:lnTo>
                      <a:pt x="12" y="129"/>
                    </a:lnTo>
                    <a:lnTo>
                      <a:pt x="32" y="107"/>
                    </a:lnTo>
                    <a:lnTo>
                      <a:pt x="57" y="94"/>
                    </a:lnTo>
                    <a:lnTo>
                      <a:pt x="78" y="88"/>
                    </a:lnTo>
                    <a:lnTo>
                      <a:pt x="94" y="74"/>
                    </a:lnTo>
                    <a:lnTo>
                      <a:pt x="105" y="49"/>
                    </a:lnTo>
                    <a:lnTo>
                      <a:pt x="117" y="19"/>
                    </a:lnTo>
                    <a:lnTo>
                      <a:pt x="130" y="4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Group 1173"/>
          <p:cNvGrpSpPr/>
          <p:nvPr/>
        </p:nvGrpSpPr>
        <p:grpSpPr>
          <a:xfrm>
            <a:off x="4775040" y="2333520"/>
            <a:ext cx="4032360" cy="3803760"/>
            <a:chOff x="4775040" y="2333520"/>
            <a:chExt cx="4032360" cy="3803760"/>
          </a:xfrm>
        </p:grpSpPr>
        <p:sp>
          <p:nvSpPr>
            <p:cNvPr id="201" name="Line 1174"/>
            <p:cNvSpPr/>
            <p:nvPr/>
          </p:nvSpPr>
          <p:spPr>
            <a:xfrm>
              <a:off x="4809960" y="2333520"/>
              <a:ext cx="3997440" cy="2878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02" name="Line 1175"/>
            <p:cNvSpPr/>
            <p:nvPr/>
          </p:nvSpPr>
          <p:spPr>
            <a:xfrm>
              <a:off x="4809960" y="2333520"/>
              <a:ext cx="3997440" cy="340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03" name="Line 1176"/>
            <p:cNvSpPr/>
            <p:nvPr/>
          </p:nvSpPr>
          <p:spPr>
            <a:xfrm>
              <a:off x="4809960" y="2333520"/>
              <a:ext cx="378792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04" name="Line 1177"/>
            <p:cNvSpPr/>
            <p:nvPr/>
          </p:nvSpPr>
          <p:spPr>
            <a:xfrm>
              <a:off x="4809960" y="2333520"/>
              <a:ext cx="316080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05" name="Line 1178"/>
            <p:cNvSpPr/>
            <p:nvPr/>
          </p:nvSpPr>
          <p:spPr>
            <a:xfrm>
              <a:off x="4809960" y="2333520"/>
              <a:ext cx="257364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06" name="Line 1179"/>
            <p:cNvSpPr/>
            <p:nvPr/>
          </p:nvSpPr>
          <p:spPr>
            <a:xfrm>
              <a:off x="4809960" y="2333520"/>
              <a:ext cx="198468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07" name="Line 1180"/>
            <p:cNvSpPr/>
            <p:nvPr/>
          </p:nvSpPr>
          <p:spPr>
            <a:xfrm>
              <a:off x="4809960" y="2333520"/>
              <a:ext cx="146232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08" name="Line 1181"/>
            <p:cNvSpPr/>
            <p:nvPr/>
          </p:nvSpPr>
          <p:spPr>
            <a:xfrm>
              <a:off x="4809960" y="2333520"/>
              <a:ext cx="94464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09" name="Line 1182"/>
            <p:cNvSpPr/>
            <p:nvPr/>
          </p:nvSpPr>
          <p:spPr>
            <a:xfrm>
              <a:off x="4809960" y="2333520"/>
              <a:ext cx="42228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0" name="Line 1183"/>
            <p:cNvSpPr/>
            <p:nvPr/>
          </p:nvSpPr>
          <p:spPr>
            <a:xfrm>
              <a:off x="4775040" y="2333520"/>
              <a:ext cx="180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1" name="Line 1184"/>
            <p:cNvSpPr/>
            <p:nvPr/>
          </p:nvSpPr>
          <p:spPr>
            <a:xfrm>
              <a:off x="4809960" y="2333520"/>
              <a:ext cx="3997440" cy="2479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2" name="Line 1185"/>
            <p:cNvSpPr/>
            <p:nvPr/>
          </p:nvSpPr>
          <p:spPr>
            <a:xfrm>
              <a:off x="4809960" y="2333520"/>
              <a:ext cx="3997440" cy="2127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3" name="Line 1186"/>
            <p:cNvSpPr/>
            <p:nvPr/>
          </p:nvSpPr>
          <p:spPr>
            <a:xfrm>
              <a:off x="4809960" y="2333520"/>
              <a:ext cx="3997440" cy="18241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4" name="Line 1187"/>
            <p:cNvSpPr/>
            <p:nvPr/>
          </p:nvSpPr>
          <p:spPr>
            <a:xfrm>
              <a:off x="4809960" y="2333520"/>
              <a:ext cx="3997440" cy="1516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5" name="Line 1188"/>
            <p:cNvSpPr/>
            <p:nvPr/>
          </p:nvSpPr>
          <p:spPr>
            <a:xfrm>
              <a:off x="4844880" y="2333520"/>
              <a:ext cx="3962520" cy="1254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6" name="Line 1189"/>
            <p:cNvSpPr/>
            <p:nvPr/>
          </p:nvSpPr>
          <p:spPr>
            <a:xfrm>
              <a:off x="4809960" y="2333520"/>
              <a:ext cx="3997440" cy="989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7" name="Line 1190"/>
            <p:cNvSpPr/>
            <p:nvPr/>
          </p:nvSpPr>
          <p:spPr>
            <a:xfrm>
              <a:off x="4809960" y="2333520"/>
              <a:ext cx="3997440" cy="765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8" name="Line 1191"/>
            <p:cNvSpPr/>
            <p:nvPr/>
          </p:nvSpPr>
          <p:spPr>
            <a:xfrm>
              <a:off x="4809960" y="2333520"/>
              <a:ext cx="3997440" cy="5461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19" name="Line 1192"/>
            <p:cNvSpPr/>
            <p:nvPr/>
          </p:nvSpPr>
          <p:spPr>
            <a:xfrm>
              <a:off x="4809960" y="2333520"/>
              <a:ext cx="3997440" cy="370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20" name="Line 1193"/>
            <p:cNvSpPr/>
            <p:nvPr/>
          </p:nvSpPr>
          <p:spPr>
            <a:xfrm>
              <a:off x="4809960" y="2333520"/>
              <a:ext cx="3997440" cy="193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21" name="Line 1194"/>
            <p:cNvSpPr/>
            <p:nvPr/>
          </p:nvSpPr>
          <p:spPr>
            <a:xfrm>
              <a:off x="4809960" y="2333520"/>
              <a:ext cx="3997440" cy="60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22" name="Group 1195"/>
          <p:cNvGrpSpPr/>
          <p:nvPr/>
        </p:nvGrpSpPr>
        <p:grpSpPr>
          <a:xfrm>
            <a:off x="694800" y="2297160"/>
            <a:ext cx="4109040" cy="3840120"/>
            <a:chOff x="694800" y="2297160"/>
            <a:chExt cx="4109040" cy="3840120"/>
          </a:xfrm>
        </p:grpSpPr>
        <p:sp>
          <p:nvSpPr>
            <p:cNvPr id="223" name="Line 1196"/>
            <p:cNvSpPr/>
            <p:nvPr/>
          </p:nvSpPr>
          <p:spPr>
            <a:xfrm flipH="1">
              <a:off x="694800" y="2297160"/>
              <a:ext cx="4108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24" name="Line 1197"/>
            <p:cNvSpPr/>
            <p:nvPr/>
          </p:nvSpPr>
          <p:spPr>
            <a:xfrm flipH="1">
              <a:off x="694800" y="2333520"/>
              <a:ext cx="4108680" cy="2878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25" name="Line 1198"/>
            <p:cNvSpPr/>
            <p:nvPr/>
          </p:nvSpPr>
          <p:spPr>
            <a:xfrm flipH="1">
              <a:off x="694800" y="2333520"/>
              <a:ext cx="4108680" cy="340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26" name="Line 1199"/>
            <p:cNvSpPr/>
            <p:nvPr/>
          </p:nvSpPr>
          <p:spPr>
            <a:xfrm flipH="1">
              <a:off x="905040" y="2333520"/>
              <a:ext cx="389880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27" name="Line 1200"/>
            <p:cNvSpPr/>
            <p:nvPr/>
          </p:nvSpPr>
          <p:spPr>
            <a:xfrm flipH="1">
              <a:off x="1530000" y="2333520"/>
              <a:ext cx="327348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28" name="Line 1201"/>
            <p:cNvSpPr/>
            <p:nvPr/>
          </p:nvSpPr>
          <p:spPr>
            <a:xfrm flipH="1">
              <a:off x="2117520" y="2333520"/>
              <a:ext cx="268596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29" name="Line 1202"/>
            <p:cNvSpPr/>
            <p:nvPr/>
          </p:nvSpPr>
          <p:spPr>
            <a:xfrm flipH="1">
              <a:off x="2706480" y="2333520"/>
              <a:ext cx="209700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30" name="Line 1203"/>
            <p:cNvSpPr/>
            <p:nvPr/>
          </p:nvSpPr>
          <p:spPr>
            <a:xfrm flipH="1">
              <a:off x="3228480" y="2333520"/>
              <a:ext cx="157500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31" name="Line 1204"/>
            <p:cNvSpPr/>
            <p:nvPr/>
          </p:nvSpPr>
          <p:spPr>
            <a:xfrm flipH="1">
              <a:off x="3747600" y="2333520"/>
              <a:ext cx="105588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32" name="Line 1205"/>
            <p:cNvSpPr/>
            <p:nvPr/>
          </p:nvSpPr>
          <p:spPr>
            <a:xfrm flipH="1">
              <a:off x="4270320" y="2333520"/>
              <a:ext cx="53352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33" name="Line 1206"/>
            <p:cNvSpPr/>
            <p:nvPr/>
          </p:nvSpPr>
          <p:spPr>
            <a:xfrm flipH="1">
              <a:off x="694800" y="2333520"/>
              <a:ext cx="4108680" cy="2479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34" name="Line 1207"/>
            <p:cNvSpPr/>
            <p:nvPr/>
          </p:nvSpPr>
          <p:spPr>
            <a:xfrm flipH="1">
              <a:off x="694800" y="2333520"/>
              <a:ext cx="4108680" cy="2127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35" name="Line 1208"/>
            <p:cNvSpPr/>
            <p:nvPr/>
          </p:nvSpPr>
          <p:spPr>
            <a:xfrm flipH="1">
              <a:off x="694800" y="2333520"/>
              <a:ext cx="4108680" cy="18241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36" name="Line 1209"/>
            <p:cNvSpPr/>
            <p:nvPr/>
          </p:nvSpPr>
          <p:spPr>
            <a:xfrm flipH="1">
              <a:off x="694800" y="2333520"/>
              <a:ext cx="4108680" cy="1516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37" name="Line 1210"/>
            <p:cNvSpPr/>
            <p:nvPr/>
          </p:nvSpPr>
          <p:spPr>
            <a:xfrm flipH="1">
              <a:off x="695160" y="2333520"/>
              <a:ext cx="4073760" cy="1254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38" name="Line 1211"/>
            <p:cNvSpPr/>
            <p:nvPr/>
          </p:nvSpPr>
          <p:spPr>
            <a:xfrm flipH="1">
              <a:off x="694800" y="2333520"/>
              <a:ext cx="4108680" cy="989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39" name="Line 1212"/>
            <p:cNvSpPr/>
            <p:nvPr/>
          </p:nvSpPr>
          <p:spPr>
            <a:xfrm flipH="1">
              <a:off x="694800" y="2333520"/>
              <a:ext cx="4108680" cy="765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40" name="Line 1213"/>
            <p:cNvSpPr/>
            <p:nvPr/>
          </p:nvSpPr>
          <p:spPr>
            <a:xfrm flipH="1">
              <a:off x="694800" y="2333520"/>
              <a:ext cx="4108680" cy="5461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41" name="Line 1214"/>
            <p:cNvSpPr/>
            <p:nvPr/>
          </p:nvSpPr>
          <p:spPr>
            <a:xfrm flipH="1">
              <a:off x="694800" y="2333520"/>
              <a:ext cx="4108680" cy="370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42" name="Line 1215"/>
            <p:cNvSpPr/>
            <p:nvPr/>
          </p:nvSpPr>
          <p:spPr>
            <a:xfrm flipH="1">
              <a:off x="694800" y="2333520"/>
              <a:ext cx="4108680" cy="193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43" name="Line 1216"/>
            <p:cNvSpPr/>
            <p:nvPr/>
          </p:nvSpPr>
          <p:spPr>
            <a:xfrm flipH="1">
              <a:off x="694800" y="2333520"/>
              <a:ext cx="4108680" cy="60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244" name="Group 1217"/>
          <p:cNvGrpSpPr/>
          <p:nvPr/>
        </p:nvGrpSpPr>
        <p:grpSpPr>
          <a:xfrm>
            <a:off x="695160" y="2336760"/>
            <a:ext cx="8112240" cy="3305160"/>
            <a:chOff x="695160" y="2336760"/>
            <a:chExt cx="8112240" cy="3305160"/>
          </a:xfrm>
        </p:grpSpPr>
        <p:grpSp>
          <p:nvGrpSpPr>
            <p:cNvPr id="245" name="Group 1218"/>
            <p:cNvGrpSpPr/>
            <p:nvPr/>
          </p:nvGrpSpPr>
          <p:grpSpPr>
            <a:xfrm>
              <a:off x="698400" y="4202280"/>
              <a:ext cx="8109000" cy="1439640"/>
              <a:chOff x="698400" y="4202280"/>
              <a:chExt cx="8109000" cy="1439640"/>
            </a:xfrm>
          </p:grpSpPr>
          <p:sp>
            <p:nvSpPr>
              <p:cNvPr id="246" name="Line 1219"/>
              <p:cNvSpPr/>
              <p:nvPr/>
            </p:nvSpPr>
            <p:spPr>
              <a:xfrm>
                <a:off x="698400" y="5640480"/>
                <a:ext cx="8109000" cy="144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47" name="Line 1220"/>
              <p:cNvSpPr/>
              <p:nvPr/>
            </p:nvSpPr>
            <p:spPr>
              <a:xfrm>
                <a:off x="698400" y="5108400"/>
                <a:ext cx="8109000" cy="180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48" name="Line 1221"/>
              <p:cNvSpPr/>
              <p:nvPr/>
            </p:nvSpPr>
            <p:spPr>
              <a:xfrm>
                <a:off x="698400" y="4630680"/>
                <a:ext cx="8105760" cy="180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49" name="Line 1222"/>
              <p:cNvSpPr/>
              <p:nvPr/>
            </p:nvSpPr>
            <p:spPr>
              <a:xfrm>
                <a:off x="698400" y="4202280"/>
                <a:ext cx="8105760" cy="144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1223"/>
            <p:cNvGrpSpPr/>
            <p:nvPr/>
          </p:nvGrpSpPr>
          <p:grpSpPr>
            <a:xfrm>
              <a:off x="695160" y="2336760"/>
              <a:ext cx="8112240" cy="1500120"/>
              <a:chOff x="695160" y="2336760"/>
              <a:chExt cx="8112240" cy="1500120"/>
            </a:xfrm>
          </p:grpSpPr>
          <p:sp>
            <p:nvSpPr>
              <p:cNvPr id="251" name="Line 1224"/>
              <p:cNvSpPr/>
              <p:nvPr/>
            </p:nvSpPr>
            <p:spPr>
              <a:xfrm>
                <a:off x="698400" y="3835440"/>
                <a:ext cx="8109000" cy="144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52" name="Line 1225"/>
              <p:cNvSpPr/>
              <p:nvPr/>
            </p:nvSpPr>
            <p:spPr>
              <a:xfrm flipV="1">
                <a:off x="695160" y="3454200"/>
                <a:ext cx="8109000" cy="5868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53" name="Line 1226"/>
              <p:cNvSpPr/>
              <p:nvPr/>
            </p:nvSpPr>
            <p:spPr>
              <a:xfrm>
                <a:off x="698400" y="3168720"/>
                <a:ext cx="8109000" cy="468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54" name="Line 1227"/>
              <p:cNvSpPr/>
              <p:nvPr/>
            </p:nvSpPr>
            <p:spPr>
              <a:xfrm>
                <a:off x="698400" y="2906640"/>
                <a:ext cx="8070840" cy="180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55" name="Line 1228"/>
              <p:cNvSpPr/>
              <p:nvPr/>
            </p:nvSpPr>
            <p:spPr>
              <a:xfrm flipV="1">
                <a:off x="695160" y="2662200"/>
                <a:ext cx="8109000" cy="6840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56" name="Line 1229"/>
              <p:cNvSpPr/>
              <p:nvPr/>
            </p:nvSpPr>
            <p:spPr>
              <a:xfrm>
                <a:off x="698400" y="2552760"/>
                <a:ext cx="8109000" cy="324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57" name="Line 1230"/>
              <p:cNvSpPr/>
              <p:nvPr/>
            </p:nvSpPr>
            <p:spPr>
              <a:xfrm flipV="1">
                <a:off x="695160" y="2441520"/>
                <a:ext cx="8109000" cy="7632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58" name="Line 1231"/>
              <p:cNvSpPr/>
              <p:nvPr/>
            </p:nvSpPr>
            <p:spPr>
              <a:xfrm flipV="1">
                <a:off x="730080" y="2354400"/>
                <a:ext cx="8074080" cy="5688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259" name="Line 1232"/>
              <p:cNvSpPr/>
              <p:nvPr/>
            </p:nvSpPr>
            <p:spPr>
              <a:xfrm>
                <a:off x="698400" y="2336760"/>
                <a:ext cx="8109000" cy="180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Text Box 1233"/>
          <p:cNvSpPr/>
          <p:nvPr/>
        </p:nvSpPr>
        <p:spPr>
          <a:xfrm>
            <a:off x="2616480" y="16002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信息流的分布与处理决定了企业的组织架构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61" name="Text Box 1234"/>
          <p:cNvSpPr/>
          <p:nvPr/>
        </p:nvSpPr>
        <p:spPr>
          <a:xfrm>
            <a:off x="2265840" y="23623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资金流的安全性，高效性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62" name="Text Box 1235"/>
          <p:cNvSpPr/>
          <p:nvPr/>
        </p:nvSpPr>
        <p:spPr>
          <a:xfrm>
            <a:off x="2520360" y="32781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物流成为电子商务企业飞速发展的瓶颈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63" name="Text Box 1236"/>
          <p:cNvSpPr/>
          <p:nvPr/>
        </p:nvSpPr>
        <p:spPr>
          <a:xfrm>
            <a:off x="2431080" y="43434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企业的组织架构，人员构成，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人力资源战略规划必须适应以上变化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64" name="Rectangle 1237"/>
          <p:cNvSpPr/>
          <p:nvPr/>
        </p:nvSpPr>
        <p:spPr>
          <a:xfrm>
            <a:off x="0" y="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网络时代的企业组织架构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网络时代企业最需要什么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148"/>
          <p:cNvGrpSpPr/>
          <p:nvPr/>
        </p:nvGrpSpPr>
        <p:grpSpPr>
          <a:xfrm>
            <a:off x="0" y="2297160"/>
            <a:ext cx="9143640" cy="4255560"/>
            <a:chOff x="0" y="2297160"/>
            <a:chExt cx="9143640" cy="4255560"/>
          </a:xfrm>
        </p:grpSpPr>
        <p:sp>
          <p:nvSpPr>
            <p:cNvPr id="267" name="Rectangle 1050"/>
            <p:cNvSpPr/>
            <p:nvPr/>
          </p:nvSpPr>
          <p:spPr>
            <a:xfrm>
              <a:off x="0" y="2297160"/>
              <a:ext cx="9143640" cy="8892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68" name="Rectangle 1051"/>
            <p:cNvSpPr/>
            <p:nvPr/>
          </p:nvSpPr>
          <p:spPr>
            <a:xfrm>
              <a:off x="0" y="2386080"/>
              <a:ext cx="9143640" cy="8892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69" name="Rectangle 1052"/>
            <p:cNvSpPr/>
            <p:nvPr/>
          </p:nvSpPr>
          <p:spPr>
            <a:xfrm>
              <a:off x="0" y="2475000"/>
              <a:ext cx="9143640" cy="8676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0" name="Rectangle 1053"/>
            <p:cNvSpPr/>
            <p:nvPr/>
          </p:nvSpPr>
          <p:spPr>
            <a:xfrm>
              <a:off x="0" y="2562120"/>
              <a:ext cx="9143640" cy="88920"/>
            </a:xfrm>
            <a:prstGeom prst="rect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1" name="Rectangle 1054"/>
            <p:cNvSpPr/>
            <p:nvPr/>
          </p:nvSpPr>
          <p:spPr>
            <a:xfrm>
              <a:off x="0" y="2651040"/>
              <a:ext cx="9143640" cy="88920"/>
            </a:xfrm>
            <a:prstGeom prst="rect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2" name="Rectangle 1055"/>
            <p:cNvSpPr/>
            <p:nvPr/>
          </p:nvSpPr>
          <p:spPr>
            <a:xfrm>
              <a:off x="0" y="2740320"/>
              <a:ext cx="9143640" cy="88920"/>
            </a:xfrm>
            <a:prstGeom prst="rect">
              <a:avLst/>
            </a:prstGeom>
            <a:solidFill>
              <a:srgbClr val="fc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3" name="Rectangle 1056"/>
            <p:cNvSpPr/>
            <p:nvPr/>
          </p:nvSpPr>
          <p:spPr>
            <a:xfrm>
              <a:off x="0" y="2829240"/>
              <a:ext cx="9143640" cy="88920"/>
            </a:xfrm>
            <a:prstGeom prst="rect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4" name="Rectangle 1057"/>
            <p:cNvSpPr/>
            <p:nvPr/>
          </p:nvSpPr>
          <p:spPr>
            <a:xfrm>
              <a:off x="0" y="2918160"/>
              <a:ext cx="9143640" cy="88920"/>
            </a:xfrm>
            <a:prstGeom prst="rect">
              <a:avLst/>
            </a:prstGeom>
            <a:solidFill>
              <a:srgbClr val="fb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5" name="Rectangle 1058"/>
            <p:cNvSpPr/>
            <p:nvPr/>
          </p:nvSpPr>
          <p:spPr>
            <a:xfrm>
              <a:off x="0" y="3007440"/>
              <a:ext cx="9143640" cy="88920"/>
            </a:xfrm>
            <a:prstGeom prst="rect">
              <a:avLst/>
            </a:prstGeom>
            <a:solidFill>
              <a:srgbClr val="fa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6" name="Rectangle 1059"/>
            <p:cNvSpPr/>
            <p:nvPr/>
          </p:nvSpPr>
          <p:spPr>
            <a:xfrm>
              <a:off x="0" y="3096360"/>
              <a:ext cx="9143640" cy="86760"/>
            </a:xfrm>
            <a:prstGeom prst="rect">
              <a:avLst/>
            </a:prstGeom>
            <a:solidFill>
              <a:srgbClr val="f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7" name="Rectangle 1060"/>
            <p:cNvSpPr/>
            <p:nvPr/>
          </p:nvSpPr>
          <p:spPr>
            <a:xfrm>
              <a:off x="0" y="3183480"/>
              <a:ext cx="9143640" cy="88920"/>
            </a:xfrm>
            <a:prstGeom prst="rect">
              <a:avLst/>
            </a:prstGeom>
            <a:solidFill>
              <a:srgbClr val="f8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8" name="Rectangle 1061"/>
            <p:cNvSpPr/>
            <p:nvPr/>
          </p:nvSpPr>
          <p:spPr>
            <a:xfrm>
              <a:off x="0" y="3272400"/>
              <a:ext cx="9143640" cy="86760"/>
            </a:xfrm>
            <a:prstGeom prst="rect">
              <a:avLst/>
            </a:prstGeom>
            <a:solidFill>
              <a:srgbClr val="f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79" name="Rectangle 1062"/>
            <p:cNvSpPr/>
            <p:nvPr/>
          </p:nvSpPr>
          <p:spPr>
            <a:xfrm>
              <a:off x="0" y="3359520"/>
              <a:ext cx="9143640" cy="88920"/>
            </a:xfrm>
            <a:prstGeom prst="rect">
              <a:avLst/>
            </a:prstGeom>
            <a:solidFill>
              <a:srgbClr val="f6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0" name="Rectangle 1063"/>
            <p:cNvSpPr/>
            <p:nvPr/>
          </p:nvSpPr>
          <p:spPr>
            <a:xfrm>
              <a:off x="0" y="3448440"/>
              <a:ext cx="9143640" cy="88920"/>
            </a:xfrm>
            <a:prstGeom prst="rect">
              <a:avLst/>
            </a:prstGeom>
            <a:solidFill>
              <a:srgbClr val="f5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1" name="Rectangle 1064"/>
            <p:cNvSpPr/>
            <p:nvPr/>
          </p:nvSpPr>
          <p:spPr>
            <a:xfrm>
              <a:off x="0" y="3537360"/>
              <a:ext cx="9143640" cy="88920"/>
            </a:xfrm>
            <a:prstGeom prst="rect">
              <a:avLst/>
            </a:prstGeom>
            <a:solidFill>
              <a:srgbClr val="f3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2" name="Rectangle 1065"/>
            <p:cNvSpPr/>
            <p:nvPr/>
          </p:nvSpPr>
          <p:spPr>
            <a:xfrm>
              <a:off x="0" y="3626640"/>
              <a:ext cx="9143640" cy="88920"/>
            </a:xfrm>
            <a:prstGeom prst="rect">
              <a:avLst/>
            </a:prstGeom>
            <a:solidFill>
              <a:srgbClr val="f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3" name="Rectangle 1066"/>
            <p:cNvSpPr/>
            <p:nvPr/>
          </p:nvSpPr>
          <p:spPr>
            <a:xfrm>
              <a:off x="0" y="3715560"/>
              <a:ext cx="9143640" cy="86760"/>
            </a:xfrm>
            <a:prstGeom prst="rect">
              <a:avLst/>
            </a:prstGeom>
            <a:solidFill>
              <a:srgbClr val="f0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4" name="Rectangle 1067"/>
            <p:cNvSpPr/>
            <p:nvPr/>
          </p:nvSpPr>
          <p:spPr>
            <a:xfrm>
              <a:off x="0" y="3802680"/>
              <a:ext cx="9143640" cy="88920"/>
            </a:xfrm>
            <a:prstGeom prst="rect">
              <a:avLst/>
            </a:prstGeom>
            <a:solidFill>
              <a:srgbClr val="ee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5" name="Rectangle 1068"/>
            <p:cNvSpPr/>
            <p:nvPr/>
          </p:nvSpPr>
          <p:spPr>
            <a:xfrm>
              <a:off x="0" y="3891600"/>
              <a:ext cx="9143640" cy="88920"/>
            </a:xfrm>
            <a:prstGeom prst="rect">
              <a:avLst/>
            </a:prstGeom>
            <a:solidFill>
              <a:srgbClr val="ed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6" name="Rectangle 1069"/>
            <p:cNvSpPr/>
            <p:nvPr/>
          </p:nvSpPr>
          <p:spPr>
            <a:xfrm>
              <a:off x="0" y="3980880"/>
              <a:ext cx="9143640" cy="88920"/>
            </a:xfrm>
            <a:prstGeom prst="rect">
              <a:avLst/>
            </a:prstGeom>
            <a:solidFill>
              <a:srgbClr val="eb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7" name="Rectangle 1070"/>
            <p:cNvSpPr/>
            <p:nvPr/>
          </p:nvSpPr>
          <p:spPr>
            <a:xfrm>
              <a:off x="0" y="4069800"/>
              <a:ext cx="9143640" cy="88920"/>
            </a:xfrm>
            <a:prstGeom prst="rect">
              <a:avLst/>
            </a:prstGeom>
            <a:solidFill>
              <a:srgbClr val="e9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8" name="Rectangle 1071"/>
            <p:cNvSpPr/>
            <p:nvPr/>
          </p:nvSpPr>
          <p:spPr>
            <a:xfrm>
              <a:off x="0" y="4158720"/>
              <a:ext cx="9143640" cy="88920"/>
            </a:xfrm>
            <a:prstGeom prst="rect">
              <a:avLst/>
            </a:prstGeom>
            <a:solidFill>
              <a:srgbClr val="e7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89" name="Rectangle 1072"/>
            <p:cNvSpPr/>
            <p:nvPr/>
          </p:nvSpPr>
          <p:spPr>
            <a:xfrm>
              <a:off x="0" y="4248000"/>
              <a:ext cx="9143640" cy="88920"/>
            </a:xfrm>
            <a:prstGeom prst="rect">
              <a:avLst/>
            </a:prstGeom>
            <a:solidFill>
              <a:srgbClr val="e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90" name="Rectangle 1073"/>
            <p:cNvSpPr/>
            <p:nvPr/>
          </p:nvSpPr>
          <p:spPr>
            <a:xfrm>
              <a:off x="0" y="4336920"/>
              <a:ext cx="9143640" cy="86760"/>
            </a:xfrm>
            <a:prstGeom prst="rect">
              <a:avLst/>
            </a:prstGeom>
            <a:solidFill>
              <a:srgbClr val="e2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91" name="Rectangle 1074"/>
            <p:cNvSpPr/>
            <p:nvPr/>
          </p:nvSpPr>
          <p:spPr>
            <a:xfrm>
              <a:off x="0" y="4424040"/>
              <a:ext cx="9143640" cy="88920"/>
            </a:xfrm>
            <a:prstGeom prst="rect">
              <a:avLst/>
            </a:prstGeom>
            <a:solidFill>
              <a:srgbClr val="e0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92" name="Rectangle 1075"/>
            <p:cNvSpPr/>
            <p:nvPr/>
          </p:nvSpPr>
          <p:spPr>
            <a:xfrm>
              <a:off x="0" y="4512960"/>
              <a:ext cx="9143640" cy="88920"/>
            </a:xfrm>
            <a:prstGeom prst="rect">
              <a:avLst/>
            </a:prstGeom>
            <a:solidFill>
              <a:srgbClr val="de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93" name="Rectangle 1076"/>
            <p:cNvSpPr/>
            <p:nvPr/>
          </p:nvSpPr>
          <p:spPr>
            <a:xfrm>
              <a:off x="0" y="4601880"/>
              <a:ext cx="9143640" cy="88920"/>
            </a:xfrm>
            <a:prstGeom prst="rect">
              <a:avLst/>
            </a:prstGeom>
            <a:solidFill>
              <a:srgbClr val="dc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94" name="Rectangle 1077"/>
            <p:cNvSpPr/>
            <p:nvPr/>
          </p:nvSpPr>
          <p:spPr>
            <a:xfrm>
              <a:off x="0" y="4691160"/>
              <a:ext cx="9143640" cy="88920"/>
            </a:xfrm>
            <a:prstGeom prst="rect">
              <a:avLst/>
            </a:prstGeom>
            <a:solidFill>
              <a:srgbClr val="da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95" name="Rectangle 1078"/>
            <p:cNvSpPr/>
            <p:nvPr/>
          </p:nvSpPr>
          <p:spPr>
            <a:xfrm>
              <a:off x="0" y="4780080"/>
              <a:ext cx="9143640" cy="88920"/>
            </a:xfrm>
            <a:prstGeom prst="rect">
              <a:avLst/>
            </a:prstGeom>
            <a:solidFill>
              <a:srgbClr val="d7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96" name="Rectangle 1079"/>
            <p:cNvSpPr/>
            <p:nvPr/>
          </p:nvSpPr>
          <p:spPr>
            <a:xfrm>
              <a:off x="0" y="4869000"/>
              <a:ext cx="9143640" cy="88920"/>
            </a:xfrm>
            <a:prstGeom prst="rect">
              <a:avLst/>
            </a:prstGeom>
            <a:solidFill>
              <a:srgbClr val="d5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97" name="Rectangle 1080"/>
            <p:cNvSpPr/>
            <p:nvPr/>
          </p:nvSpPr>
          <p:spPr>
            <a:xfrm>
              <a:off x="0" y="4958280"/>
              <a:ext cx="9143640" cy="86760"/>
            </a:xfrm>
            <a:prstGeom prst="rect">
              <a:avLst/>
            </a:prstGeom>
            <a:solidFill>
              <a:srgbClr val="d3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98" name="Rectangle 1081"/>
            <p:cNvSpPr/>
            <p:nvPr/>
          </p:nvSpPr>
          <p:spPr>
            <a:xfrm>
              <a:off x="0" y="5045040"/>
              <a:ext cx="9143640" cy="88920"/>
            </a:xfrm>
            <a:prstGeom prst="rect">
              <a:avLst/>
            </a:prstGeom>
            <a:solidFill>
              <a:srgbClr val="d1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299" name="Rectangle 1082"/>
            <p:cNvSpPr/>
            <p:nvPr/>
          </p:nvSpPr>
          <p:spPr>
            <a:xfrm>
              <a:off x="0" y="5134320"/>
              <a:ext cx="9143640" cy="88920"/>
            </a:xfrm>
            <a:prstGeom prst="rect">
              <a:avLst/>
            </a:prstGeom>
            <a:solidFill>
              <a:srgbClr val="cf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00" name="Rectangle 1083"/>
            <p:cNvSpPr/>
            <p:nvPr/>
          </p:nvSpPr>
          <p:spPr>
            <a:xfrm>
              <a:off x="0" y="5223240"/>
              <a:ext cx="9143640" cy="88920"/>
            </a:xfrm>
            <a:prstGeom prst="rect">
              <a:avLst/>
            </a:prstGeom>
            <a:solidFill>
              <a:srgbClr val="ce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01" name="Rectangle 1084"/>
            <p:cNvSpPr/>
            <p:nvPr/>
          </p:nvSpPr>
          <p:spPr>
            <a:xfrm>
              <a:off x="0" y="5312160"/>
              <a:ext cx="9143640" cy="88920"/>
            </a:xfrm>
            <a:prstGeom prst="rect">
              <a:avLst/>
            </a:prstGeom>
            <a:solidFill>
              <a:srgbClr val="cc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02" name="Rectangle 1085"/>
            <p:cNvSpPr/>
            <p:nvPr/>
          </p:nvSpPr>
          <p:spPr>
            <a:xfrm>
              <a:off x="0" y="5401440"/>
              <a:ext cx="9143640" cy="86760"/>
            </a:xfrm>
            <a:prstGeom prst="rect">
              <a:avLst/>
            </a:prstGeom>
            <a:solidFill>
              <a:srgbClr val="ca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03" name="Rectangle 1086"/>
            <p:cNvSpPr/>
            <p:nvPr/>
          </p:nvSpPr>
          <p:spPr>
            <a:xfrm>
              <a:off x="0" y="5488560"/>
              <a:ext cx="9143640" cy="88920"/>
            </a:xfrm>
            <a:prstGeom prst="rect">
              <a:avLst/>
            </a:prstGeom>
            <a:solidFill>
              <a:srgbClr val="c9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04" name="Rectangle 1087"/>
            <p:cNvSpPr/>
            <p:nvPr/>
          </p:nvSpPr>
          <p:spPr>
            <a:xfrm>
              <a:off x="0" y="5577480"/>
              <a:ext cx="9143640" cy="87120"/>
            </a:xfrm>
            <a:prstGeom prst="rect">
              <a:avLst/>
            </a:prstGeom>
            <a:solidFill>
              <a:srgbClr val="c8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05" name="Rectangle 1088"/>
            <p:cNvSpPr/>
            <p:nvPr/>
          </p:nvSpPr>
          <p:spPr>
            <a:xfrm>
              <a:off x="0" y="5664960"/>
              <a:ext cx="9143640" cy="88920"/>
            </a:xfrm>
            <a:prstGeom prst="rect">
              <a:avLst/>
            </a:prstGeom>
            <a:solidFill>
              <a:srgbClr val="c6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06" name="Rectangle 1089"/>
            <p:cNvSpPr/>
            <p:nvPr/>
          </p:nvSpPr>
          <p:spPr>
            <a:xfrm>
              <a:off x="0" y="5753880"/>
              <a:ext cx="9143640" cy="88560"/>
            </a:xfrm>
            <a:prstGeom prst="rect">
              <a:avLst/>
            </a:prstGeom>
            <a:solidFill>
              <a:srgbClr val="c5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07" name="Rectangle 1090"/>
            <p:cNvSpPr/>
            <p:nvPr/>
          </p:nvSpPr>
          <p:spPr>
            <a:xfrm>
              <a:off x="0" y="5842440"/>
              <a:ext cx="9143640" cy="88920"/>
            </a:xfrm>
            <a:prstGeom prst="rect">
              <a:avLst/>
            </a:prstGeom>
            <a:solidFill>
              <a:srgbClr val="c4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08" name="Rectangle 1091"/>
            <p:cNvSpPr/>
            <p:nvPr/>
          </p:nvSpPr>
          <p:spPr>
            <a:xfrm>
              <a:off x="0" y="5931720"/>
              <a:ext cx="9143640" cy="88920"/>
            </a:xfrm>
            <a:prstGeom prst="rect">
              <a:avLst/>
            </a:prstGeom>
            <a:solidFill>
              <a:srgbClr val="c3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09" name="Rectangle 1092"/>
            <p:cNvSpPr/>
            <p:nvPr/>
          </p:nvSpPr>
          <p:spPr>
            <a:xfrm>
              <a:off x="0" y="6020640"/>
              <a:ext cx="9143640" cy="88920"/>
            </a:xfrm>
            <a:prstGeom prst="rect">
              <a:avLst/>
            </a:prstGeom>
            <a:solidFill>
              <a:srgbClr val="c2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10" name="Rectangle 1093"/>
            <p:cNvSpPr/>
            <p:nvPr/>
          </p:nvSpPr>
          <p:spPr>
            <a:xfrm>
              <a:off x="0" y="6109560"/>
              <a:ext cx="9143640" cy="88920"/>
            </a:xfrm>
            <a:prstGeom prst="rect">
              <a:avLst/>
            </a:prstGeom>
            <a:solidFill>
              <a:srgbClr val="c2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11" name="Rectangle 1094"/>
            <p:cNvSpPr/>
            <p:nvPr/>
          </p:nvSpPr>
          <p:spPr>
            <a:xfrm>
              <a:off x="0" y="6198840"/>
              <a:ext cx="9143640" cy="86760"/>
            </a:xfrm>
            <a:prstGeom prst="rect">
              <a:avLst/>
            </a:prstGeom>
            <a:solidFill>
              <a:srgbClr val="c1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12" name="Rectangle 1095"/>
            <p:cNvSpPr/>
            <p:nvPr/>
          </p:nvSpPr>
          <p:spPr>
            <a:xfrm>
              <a:off x="0" y="6285600"/>
              <a:ext cx="9143640" cy="8892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13" name="Rectangle 1096"/>
            <p:cNvSpPr/>
            <p:nvPr/>
          </p:nvSpPr>
          <p:spPr>
            <a:xfrm>
              <a:off x="0" y="6374880"/>
              <a:ext cx="9143640" cy="88920"/>
            </a:xfrm>
            <a:prstGeom prst="rect">
              <a:avLst/>
            </a:prstGeom>
            <a:solidFill>
              <a:srgbClr val="c0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14" name="Rectangle 1097"/>
            <p:cNvSpPr/>
            <p:nvPr/>
          </p:nvSpPr>
          <p:spPr>
            <a:xfrm>
              <a:off x="0" y="6463800"/>
              <a:ext cx="9143640" cy="88920"/>
            </a:xfrm>
            <a:prstGeom prst="rect">
              <a:avLst/>
            </a:prstGeom>
            <a:solidFill>
              <a:srgbClr val="c0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15" name="Rectangle 1098"/>
            <p:cNvSpPr/>
            <p:nvPr/>
          </p:nvSpPr>
          <p:spPr>
            <a:xfrm>
              <a:off x="0" y="2297160"/>
              <a:ext cx="9141840" cy="4254120"/>
            </a:xfrm>
            <a:prstGeom prst="rect">
              <a:avLst/>
            </a:prstGeom>
            <a:solidFill>
              <a:srgbClr val="c0ce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16" name="Rectangle 1099"/>
            <p:cNvSpPr/>
            <p:nvPr/>
          </p:nvSpPr>
          <p:spPr>
            <a:xfrm>
              <a:off x="0" y="2297160"/>
              <a:ext cx="9141840" cy="425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17" name="Rectangle 1100"/>
            <p:cNvSpPr/>
            <p:nvPr/>
          </p:nvSpPr>
          <p:spPr>
            <a:xfrm>
              <a:off x="0" y="2297160"/>
              <a:ext cx="9143640" cy="8892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18" name="Rectangle 1101"/>
            <p:cNvSpPr/>
            <p:nvPr/>
          </p:nvSpPr>
          <p:spPr>
            <a:xfrm>
              <a:off x="0" y="2386080"/>
              <a:ext cx="9143640" cy="8892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19" name="Rectangle 1102"/>
            <p:cNvSpPr/>
            <p:nvPr/>
          </p:nvSpPr>
          <p:spPr>
            <a:xfrm>
              <a:off x="0" y="2475000"/>
              <a:ext cx="9143640" cy="86760"/>
            </a:xfrm>
            <a:prstGeom prst="rect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20" name="Rectangle 1103"/>
            <p:cNvSpPr/>
            <p:nvPr/>
          </p:nvSpPr>
          <p:spPr>
            <a:xfrm>
              <a:off x="0" y="2562120"/>
              <a:ext cx="9143640" cy="88920"/>
            </a:xfrm>
            <a:prstGeom prst="rect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21" name="Rectangle 1104"/>
            <p:cNvSpPr/>
            <p:nvPr/>
          </p:nvSpPr>
          <p:spPr>
            <a:xfrm>
              <a:off x="0" y="2651040"/>
              <a:ext cx="9143640" cy="88920"/>
            </a:xfrm>
            <a:prstGeom prst="rect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22" name="Rectangle 1105"/>
            <p:cNvSpPr/>
            <p:nvPr/>
          </p:nvSpPr>
          <p:spPr>
            <a:xfrm>
              <a:off x="0" y="2740320"/>
              <a:ext cx="9143640" cy="88920"/>
            </a:xfrm>
            <a:prstGeom prst="rect">
              <a:avLst/>
            </a:prstGeom>
            <a:solidFill>
              <a:srgbClr val="fc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23" name="Rectangle 1106"/>
            <p:cNvSpPr/>
            <p:nvPr/>
          </p:nvSpPr>
          <p:spPr>
            <a:xfrm>
              <a:off x="0" y="2829240"/>
              <a:ext cx="9143640" cy="88920"/>
            </a:xfrm>
            <a:prstGeom prst="rect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24" name="Rectangle 1107"/>
            <p:cNvSpPr/>
            <p:nvPr/>
          </p:nvSpPr>
          <p:spPr>
            <a:xfrm>
              <a:off x="0" y="2918160"/>
              <a:ext cx="9143640" cy="88920"/>
            </a:xfrm>
            <a:prstGeom prst="rect">
              <a:avLst/>
            </a:prstGeom>
            <a:solidFill>
              <a:srgbClr val="fb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25" name="Rectangle 1108"/>
            <p:cNvSpPr/>
            <p:nvPr/>
          </p:nvSpPr>
          <p:spPr>
            <a:xfrm>
              <a:off x="0" y="3007440"/>
              <a:ext cx="9143640" cy="88920"/>
            </a:xfrm>
            <a:prstGeom prst="rect">
              <a:avLst/>
            </a:prstGeom>
            <a:solidFill>
              <a:srgbClr val="fa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26" name="Rectangle 1109"/>
            <p:cNvSpPr/>
            <p:nvPr/>
          </p:nvSpPr>
          <p:spPr>
            <a:xfrm>
              <a:off x="0" y="3096360"/>
              <a:ext cx="9143640" cy="86760"/>
            </a:xfrm>
            <a:prstGeom prst="rect">
              <a:avLst/>
            </a:prstGeom>
            <a:solidFill>
              <a:srgbClr val="f9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27" name="Rectangle 1110"/>
            <p:cNvSpPr/>
            <p:nvPr/>
          </p:nvSpPr>
          <p:spPr>
            <a:xfrm>
              <a:off x="0" y="3183480"/>
              <a:ext cx="9143640" cy="88920"/>
            </a:xfrm>
            <a:prstGeom prst="rect">
              <a:avLst/>
            </a:prstGeom>
            <a:solidFill>
              <a:srgbClr val="f8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28" name="Rectangle 1111"/>
            <p:cNvSpPr/>
            <p:nvPr/>
          </p:nvSpPr>
          <p:spPr>
            <a:xfrm>
              <a:off x="0" y="3272400"/>
              <a:ext cx="9143640" cy="86760"/>
            </a:xfrm>
            <a:prstGeom prst="rect">
              <a:avLst/>
            </a:prstGeom>
            <a:solidFill>
              <a:srgbClr val="f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29" name="Rectangle 1112"/>
            <p:cNvSpPr/>
            <p:nvPr/>
          </p:nvSpPr>
          <p:spPr>
            <a:xfrm>
              <a:off x="0" y="3359520"/>
              <a:ext cx="9143640" cy="88920"/>
            </a:xfrm>
            <a:prstGeom prst="rect">
              <a:avLst/>
            </a:prstGeom>
            <a:solidFill>
              <a:srgbClr val="f6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30" name="Rectangle 1113"/>
            <p:cNvSpPr/>
            <p:nvPr/>
          </p:nvSpPr>
          <p:spPr>
            <a:xfrm>
              <a:off x="0" y="3448440"/>
              <a:ext cx="9143640" cy="88920"/>
            </a:xfrm>
            <a:prstGeom prst="rect">
              <a:avLst/>
            </a:prstGeom>
            <a:solidFill>
              <a:srgbClr val="f5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31" name="Rectangle 1114"/>
            <p:cNvSpPr/>
            <p:nvPr/>
          </p:nvSpPr>
          <p:spPr>
            <a:xfrm>
              <a:off x="0" y="3537360"/>
              <a:ext cx="9143640" cy="88920"/>
            </a:xfrm>
            <a:prstGeom prst="rect">
              <a:avLst/>
            </a:prstGeom>
            <a:solidFill>
              <a:srgbClr val="f3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32" name="Rectangle 1115"/>
            <p:cNvSpPr/>
            <p:nvPr/>
          </p:nvSpPr>
          <p:spPr>
            <a:xfrm>
              <a:off x="0" y="3626640"/>
              <a:ext cx="9143640" cy="88920"/>
            </a:xfrm>
            <a:prstGeom prst="rect">
              <a:avLst/>
            </a:prstGeom>
            <a:solidFill>
              <a:srgbClr val="f2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33" name="Rectangle 1116"/>
            <p:cNvSpPr/>
            <p:nvPr/>
          </p:nvSpPr>
          <p:spPr>
            <a:xfrm>
              <a:off x="0" y="3715560"/>
              <a:ext cx="9143640" cy="86760"/>
            </a:xfrm>
            <a:prstGeom prst="rect">
              <a:avLst/>
            </a:prstGeom>
            <a:solidFill>
              <a:srgbClr val="f0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34" name="Rectangle 1117"/>
            <p:cNvSpPr/>
            <p:nvPr/>
          </p:nvSpPr>
          <p:spPr>
            <a:xfrm>
              <a:off x="0" y="3802680"/>
              <a:ext cx="9143640" cy="88920"/>
            </a:xfrm>
            <a:prstGeom prst="rect">
              <a:avLst/>
            </a:prstGeom>
            <a:solidFill>
              <a:srgbClr val="ee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35" name="Rectangle 1118"/>
            <p:cNvSpPr/>
            <p:nvPr/>
          </p:nvSpPr>
          <p:spPr>
            <a:xfrm>
              <a:off x="0" y="3891600"/>
              <a:ext cx="9143640" cy="88920"/>
            </a:xfrm>
            <a:prstGeom prst="rect">
              <a:avLst/>
            </a:prstGeom>
            <a:solidFill>
              <a:srgbClr val="ed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36" name="Rectangle 1119"/>
            <p:cNvSpPr/>
            <p:nvPr/>
          </p:nvSpPr>
          <p:spPr>
            <a:xfrm>
              <a:off x="0" y="3980880"/>
              <a:ext cx="9143640" cy="88920"/>
            </a:xfrm>
            <a:prstGeom prst="rect">
              <a:avLst/>
            </a:prstGeom>
            <a:solidFill>
              <a:srgbClr val="eb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37" name="Rectangle 1120"/>
            <p:cNvSpPr/>
            <p:nvPr/>
          </p:nvSpPr>
          <p:spPr>
            <a:xfrm>
              <a:off x="0" y="4069800"/>
              <a:ext cx="9143640" cy="88920"/>
            </a:xfrm>
            <a:prstGeom prst="rect">
              <a:avLst/>
            </a:prstGeom>
            <a:solidFill>
              <a:srgbClr val="e9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38" name="Rectangle 1121"/>
            <p:cNvSpPr/>
            <p:nvPr/>
          </p:nvSpPr>
          <p:spPr>
            <a:xfrm>
              <a:off x="0" y="4158720"/>
              <a:ext cx="9143640" cy="88920"/>
            </a:xfrm>
            <a:prstGeom prst="rect">
              <a:avLst/>
            </a:prstGeom>
            <a:solidFill>
              <a:srgbClr val="e7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39" name="Rectangle 1122"/>
            <p:cNvSpPr/>
            <p:nvPr/>
          </p:nvSpPr>
          <p:spPr>
            <a:xfrm>
              <a:off x="0" y="4248000"/>
              <a:ext cx="9143640" cy="88920"/>
            </a:xfrm>
            <a:prstGeom prst="rect">
              <a:avLst/>
            </a:prstGeom>
            <a:solidFill>
              <a:srgbClr val="e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40" name="Rectangle 1123"/>
            <p:cNvSpPr/>
            <p:nvPr/>
          </p:nvSpPr>
          <p:spPr>
            <a:xfrm>
              <a:off x="0" y="4336920"/>
              <a:ext cx="9143640" cy="86760"/>
            </a:xfrm>
            <a:prstGeom prst="rect">
              <a:avLst/>
            </a:prstGeom>
            <a:solidFill>
              <a:srgbClr val="e2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41" name="Rectangle 1124"/>
            <p:cNvSpPr/>
            <p:nvPr/>
          </p:nvSpPr>
          <p:spPr>
            <a:xfrm>
              <a:off x="0" y="4424040"/>
              <a:ext cx="9143640" cy="88920"/>
            </a:xfrm>
            <a:prstGeom prst="rect">
              <a:avLst/>
            </a:prstGeom>
            <a:solidFill>
              <a:srgbClr val="e0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42" name="Rectangle 1125"/>
            <p:cNvSpPr/>
            <p:nvPr/>
          </p:nvSpPr>
          <p:spPr>
            <a:xfrm>
              <a:off x="0" y="4512960"/>
              <a:ext cx="9143640" cy="88920"/>
            </a:xfrm>
            <a:prstGeom prst="rect">
              <a:avLst/>
            </a:prstGeom>
            <a:solidFill>
              <a:srgbClr val="de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43" name="Rectangle 1126"/>
            <p:cNvSpPr/>
            <p:nvPr/>
          </p:nvSpPr>
          <p:spPr>
            <a:xfrm>
              <a:off x="0" y="4601880"/>
              <a:ext cx="9143640" cy="88920"/>
            </a:xfrm>
            <a:prstGeom prst="rect">
              <a:avLst/>
            </a:prstGeom>
            <a:solidFill>
              <a:srgbClr val="dc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44" name="Rectangle 1127"/>
            <p:cNvSpPr/>
            <p:nvPr/>
          </p:nvSpPr>
          <p:spPr>
            <a:xfrm>
              <a:off x="0" y="4691160"/>
              <a:ext cx="9143640" cy="88920"/>
            </a:xfrm>
            <a:prstGeom prst="rect">
              <a:avLst/>
            </a:prstGeom>
            <a:solidFill>
              <a:srgbClr val="da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45" name="Rectangle 1128"/>
            <p:cNvSpPr/>
            <p:nvPr/>
          </p:nvSpPr>
          <p:spPr>
            <a:xfrm>
              <a:off x="0" y="4780080"/>
              <a:ext cx="9143640" cy="88920"/>
            </a:xfrm>
            <a:prstGeom prst="rect">
              <a:avLst/>
            </a:prstGeom>
            <a:solidFill>
              <a:srgbClr val="d7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46" name="Rectangle 1129"/>
            <p:cNvSpPr/>
            <p:nvPr/>
          </p:nvSpPr>
          <p:spPr>
            <a:xfrm>
              <a:off x="0" y="4869000"/>
              <a:ext cx="9143640" cy="88920"/>
            </a:xfrm>
            <a:prstGeom prst="rect">
              <a:avLst/>
            </a:prstGeom>
            <a:solidFill>
              <a:srgbClr val="d5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47" name="Rectangle 1130"/>
            <p:cNvSpPr/>
            <p:nvPr/>
          </p:nvSpPr>
          <p:spPr>
            <a:xfrm>
              <a:off x="0" y="4958280"/>
              <a:ext cx="9143640" cy="86760"/>
            </a:xfrm>
            <a:prstGeom prst="rect">
              <a:avLst/>
            </a:prstGeom>
            <a:solidFill>
              <a:srgbClr val="d3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48" name="Rectangle 1131"/>
            <p:cNvSpPr/>
            <p:nvPr/>
          </p:nvSpPr>
          <p:spPr>
            <a:xfrm>
              <a:off x="0" y="5045040"/>
              <a:ext cx="9143640" cy="88920"/>
            </a:xfrm>
            <a:prstGeom prst="rect">
              <a:avLst/>
            </a:prstGeom>
            <a:solidFill>
              <a:srgbClr val="d1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49" name="Rectangle 1132"/>
            <p:cNvSpPr/>
            <p:nvPr/>
          </p:nvSpPr>
          <p:spPr>
            <a:xfrm>
              <a:off x="0" y="5134320"/>
              <a:ext cx="9143640" cy="88920"/>
            </a:xfrm>
            <a:prstGeom prst="rect">
              <a:avLst/>
            </a:prstGeom>
            <a:solidFill>
              <a:srgbClr val="cf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50" name="Rectangle 1133"/>
            <p:cNvSpPr/>
            <p:nvPr/>
          </p:nvSpPr>
          <p:spPr>
            <a:xfrm>
              <a:off x="0" y="5223240"/>
              <a:ext cx="9143640" cy="88920"/>
            </a:xfrm>
            <a:prstGeom prst="rect">
              <a:avLst/>
            </a:prstGeom>
            <a:solidFill>
              <a:srgbClr val="ce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51" name="Rectangle 1134"/>
            <p:cNvSpPr/>
            <p:nvPr/>
          </p:nvSpPr>
          <p:spPr>
            <a:xfrm>
              <a:off x="0" y="5312160"/>
              <a:ext cx="9143640" cy="88920"/>
            </a:xfrm>
            <a:prstGeom prst="rect">
              <a:avLst/>
            </a:prstGeom>
            <a:solidFill>
              <a:srgbClr val="cc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52" name="Rectangle 1135"/>
            <p:cNvSpPr/>
            <p:nvPr/>
          </p:nvSpPr>
          <p:spPr>
            <a:xfrm>
              <a:off x="0" y="5401440"/>
              <a:ext cx="9143640" cy="86760"/>
            </a:xfrm>
            <a:prstGeom prst="rect">
              <a:avLst/>
            </a:prstGeom>
            <a:solidFill>
              <a:srgbClr val="ca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53" name="Rectangle 1136"/>
            <p:cNvSpPr/>
            <p:nvPr/>
          </p:nvSpPr>
          <p:spPr>
            <a:xfrm>
              <a:off x="0" y="5488560"/>
              <a:ext cx="9143640" cy="88920"/>
            </a:xfrm>
            <a:prstGeom prst="rect">
              <a:avLst/>
            </a:prstGeom>
            <a:solidFill>
              <a:srgbClr val="c9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54" name="Rectangle 1137"/>
            <p:cNvSpPr/>
            <p:nvPr/>
          </p:nvSpPr>
          <p:spPr>
            <a:xfrm>
              <a:off x="0" y="5577480"/>
              <a:ext cx="9143640" cy="87120"/>
            </a:xfrm>
            <a:prstGeom prst="rect">
              <a:avLst/>
            </a:prstGeom>
            <a:solidFill>
              <a:srgbClr val="c8d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55" name="Rectangle 1138"/>
            <p:cNvSpPr/>
            <p:nvPr/>
          </p:nvSpPr>
          <p:spPr>
            <a:xfrm>
              <a:off x="0" y="5664960"/>
              <a:ext cx="9143640" cy="88920"/>
            </a:xfrm>
            <a:prstGeom prst="rect">
              <a:avLst/>
            </a:prstGeom>
            <a:solidFill>
              <a:srgbClr val="c6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56" name="Rectangle 1139"/>
            <p:cNvSpPr/>
            <p:nvPr/>
          </p:nvSpPr>
          <p:spPr>
            <a:xfrm>
              <a:off x="0" y="5753880"/>
              <a:ext cx="9143640" cy="88560"/>
            </a:xfrm>
            <a:prstGeom prst="rect">
              <a:avLst/>
            </a:prstGeom>
            <a:solidFill>
              <a:srgbClr val="c5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57" name="Rectangle 1140"/>
            <p:cNvSpPr/>
            <p:nvPr/>
          </p:nvSpPr>
          <p:spPr>
            <a:xfrm>
              <a:off x="0" y="5842440"/>
              <a:ext cx="9143640" cy="88920"/>
            </a:xfrm>
            <a:prstGeom prst="rect">
              <a:avLst/>
            </a:prstGeom>
            <a:solidFill>
              <a:srgbClr val="c4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58" name="Rectangle 1141"/>
            <p:cNvSpPr/>
            <p:nvPr/>
          </p:nvSpPr>
          <p:spPr>
            <a:xfrm>
              <a:off x="0" y="5931720"/>
              <a:ext cx="9143640" cy="88920"/>
            </a:xfrm>
            <a:prstGeom prst="rect">
              <a:avLst/>
            </a:prstGeom>
            <a:solidFill>
              <a:srgbClr val="c3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59" name="Rectangle 1142"/>
            <p:cNvSpPr/>
            <p:nvPr/>
          </p:nvSpPr>
          <p:spPr>
            <a:xfrm>
              <a:off x="0" y="6020640"/>
              <a:ext cx="9143640" cy="88920"/>
            </a:xfrm>
            <a:prstGeom prst="rect">
              <a:avLst/>
            </a:prstGeom>
            <a:solidFill>
              <a:srgbClr val="c2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60" name="Rectangle 1143"/>
            <p:cNvSpPr/>
            <p:nvPr/>
          </p:nvSpPr>
          <p:spPr>
            <a:xfrm>
              <a:off x="0" y="6109560"/>
              <a:ext cx="9143640" cy="88920"/>
            </a:xfrm>
            <a:prstGeom prst="rect">
              <a:avLst/>
            </a:prstGeom>
            <a:solidFill>
              <a:srgbClr val="c2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61" name="Rectangle 1144"/>
            <p:cNvSpPr/>
            <p:nvPr/>
          </p:nvSpPr>
          <p:spPr>
            <a:xfrm>
              <a:off x="0" y="6198840"/>
              <a:ext cx="9143640" cy="86760"/>
            </a:xfrm>
            <a:prstGeom prst="rect">
              <a:avLst/>
            </a:prstGeom>
            <a:solidFill>
              <a:srgbClr val="c1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62" name="Rectangle 1145"/>
            <p:cNvSpPr/>
            <p:nvPr/>
          </p:nvSpPr>
          <p:spPr>
            <a:xfrm>
              <a:off x="0" y="6285600"/>
              <a:ext cx="9143640" cy="8892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63" name="Rectangle 1146"/>
            <p:cNvSpPr/>
            <p:nvPr/>
          </p:nvSpPr>
          <p:spPr>
            <a:xfrm>
              <a:off x="0" y="6374880"/>
              <a:ext cx="9143640" cy="88920"/>
            </a:xfrm>
            <a:prstGeom prst="rect">
              <a:avLst/>
            </a:prstGeom>
            <a:solidFill>
              <a:srgbClr val="c0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364" name="Rectangle 1147"/>
            <p:cNvSpPr/>
            <p:nvPr/>
          </p:nvSpPr>
          <p:spPr>
            <a:xfrm>
              <a:off x="0" y="6463800"/>
              <a:ext cx="9143640" cy="88920"/>
            </a:xfrm>
            <a:prstGeom prst="rect">
              <a:avLst/>
            </a:prstGeom>
            <a:solidFill>
              <a:srgbClr val="c0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365" name="Group 1195"/>
          <p:cNvGrpSpPr/>
          <p:nvPr/>
        </p:nvGrpSpPr>
        <p:grpSpPr>
          <a:xfrm>
            <a:off x="990720" y="2895480"/>
            <a:ext cx="7312680" cy="2567160"/>
            <a:chOff x="990720" y="2895480"/>
            <a:chExt cx="7312680" cy="2567160"/>
          </a:xfrm>
        </p:grpSpPr>
        <p:grpSp>
          <p:nvGrpSpPr>
            <p:cNvPr id="366" name="Group 1171"/>
            <p:cNvGrpSpPr/>
            <p:nvPr/>
          </p:nvGrpSpPr>
          <p:grpSpPr>
            <a:xfrm>
              <a:off x="1000080" y="2908080"/>
              <a:ext cx="7303320" cy="2554560"/>
              <a:chOff x="1000080" y="2908080"/>
              <a:chExt cx="7303320" cy="2554560"/>
            </a:xfrm>
          </p:grpSpPr>
          <p:sp>
            <p:nvSpPr>
              <p:cNvPr id="367" name="Freeform 1149"/>
              <p:cNvSpPr/>
              <p:nvPr/>
            </p:nvSpPr>
            <p:spPr>
              <a:xfrm>
                <a:off x="2745720" y="4408200"/>
                <a:ext cx="901440" cy="1054440"/>
              </a:xfrm>
              <a:custGeom>
                <a:avLst/>
                <a:gdLst/>
                <a:ahLst/>
                <a:rect l="l" t="t" r="r" b="b"/>
                <a:pathLst>
                  <a:path w="1136" h="1329">
                    <a:moveTo>
                      <a:pt x="37" y="85"/>
                    </a:moveTo>
                    <a:lnTo>
                      <a:pt x="16" y="141"/>
                    </a:lnTo>
                    <a:lnTo>
                      <a:pt x="0" y="222"/>
                    </a:lnTo>
                    <a:lnTo>
                      <a:pt x="4" y="304"/>
                    </a:lnTo>
                    <a:lnTo>
                      <a:pt x="28" y="372"/>
                    </a:lnTo>
                    <a:lnTo>
                      <a:pt x="53" y="396"/>
                    </a:lnTo>
                    <a:lnTo>
                      <a:pt x="85" y="421"/>
                    </a:lnTo>
                    <a:lnTo>
                      <a:pt x="118" y="443"/>
                    </a:lnTo>
                    <a:lnTo>
                      <a:pt x="148" y="468"/>
                    </a:lnTo>
                    <a:lnTo>
                      <a:pt x="176" y="490"/>
                    </a:lnTo>
                    <a:lnTo>
                      <a:pt x="208" y="511"/>
                    </a:lnTo>
                    <a:lnTo>
                      <a:pt x="224" y="534"/>
                    </a:lnTo>
                    <a:lnTo>
                      <a:pt x="240" y="558"/>
                    </a:lnTo>
                    <a:lnTo>
                      <a:pt x="256" y="609"/>
                    </a:lnTo>
                    <a:lnTo>
                      <a:pt x="258" y="668"/>
                    </a:lnTo>
                    <a:lnTo>
                      <a:pt x="253" y="726"/>
                    </a:lnTo>
                    <a:lnTo>
                      <a:pt x="233" y="791"/>
                    </a:lnTo>
                    <a:lnTo>
                      <a:pt x="217" y="832"/>
                    </a:lnTo>
                    <a:lnTo>
                      <a:pt x="212" y="871"/>
                    </a:lnTo>
                    <a:lnTo>
                      <a:pt x="208" y="914"/>
                    </a:lnTo>
                    <a:lnTo>
                      <a:pt x="205" y="953"/>
                    </a:lnTo>
                    <a:lnTo>
                      <a:pt x="199" y="990"/>
                    </a:lnTo>
                    <a:lnTo>
                      <a:pt x="196" y="1027"/>
                    </a:lnTo>
                    <a:lnTo>
                      <a:pt x="189" y="1059"/>
                    </a:lnTo>
                    <a:lnTo>
                      <a:pt x="183" y="1084"/>
                    </a:lnTo>
                    <a:lnTo>
                      <a:pt x="167" y="1112"/>
                    </a:lnTo>
                    <a:lnTo>
                      <a:pt x="158" y="1139"/>
                    </a:lnTo>
                    <a:lnTo>
                      <a:pt x="148" y="1166"/>
                    </a:lnTo>
                    <a:lnTo>
                      <a:pt x="160" y="1196"/>
                    </a:lnTo>
                    <a:lnTo>
                      <a:pt x="176" y="1223"/>
                    </a:lnTo>
                    <a:lnTo>
                      <a:pt x="205" y="1260"/>
                    </a:lnTo>
                    <a:lnTo>
                      <a:pt x="230" y="1293"/>
                    </a:lnTo>
                    <a:lnTo>
                      <a:pt x="258" y="1313"/>
                    </a:lnTo>
                    <a:lnTo>
                      <a:pt x="278" y="1317"/>
                    </a:lnTo>
                    <a:lnTo>
                      <a:pt x="294" y="1321"/>
                    </a:lnTo>
                    <a:lnTo>
                      <a:pt x="312" y="1327"/>
                    </a:lnTo>
                    <a:lnTo>
                      <a:pt x="331" y="1327"/>
                    </a:lnTo>
                    <a:lnTo>
                      <a:pt x="353" y="1329"/>
                    </a:lnTo>
                    <a:lnTo>
                      <a:pt x="367" y="1329"/>
                    </a:lnTo>
                    <a:lnTo>
                      <a:pt x="381" y="1327"/>
                    </a:lnTo>
                    <a:lnTo>
                      <a:pt x="392" y="1323"/>
                    </a:lnTo>
                    <a:lnTo>
                      <a:pt x="392" y="1313"/>
                    </a:lnTo>
                    <a:lnTo>
                      <a:pt x="381" y="1307"/>
                    </a:lnTo>
                    <a:lnTo>
                      <a:pt x="372" y="1301"/>
                    </a:lnTo>
                    <a:lnTo>
                      <a:pt x="356" y="1288"/>
                    </a:lnTo>
                    <a:lnTo>
                      <a:pt x="340" y="1272"/>
                    </a:lnTo>
                    <a:lnTo>
                      <a:pt x="331" y="1252"/>
                    </a:lnTo>
                    <a:lnTo>
                      <a:pt x="326" y="1223"/>
                    </a:lnTo>
                    <a:lnTo>
                      <a:pt x="328" y="1188"/>
                    </a:lnTo>
                    <a:lnTo>
                      <a:pt x="340" y="1153"/>
                    </a:lnTo>
                    <a:lnTo>
                      <a:pt x="360" y="1131"/>
                    </a:lnTo>
                    <a:lnTo>
                      <a:pt x="385" y="1113"/>
                    </a:lnTo>
                    <a:lnTo>
                      <a:pt x="413" y="1096"/>
                    </a:lnTo>
                    <a:lnTo>
                      <a:pt x="445" y="1074"/>
                    </a:lnTo>
                    <a:lnTo>
                      <a:pt x="461" y="1049"/>
                    </a:lnTo>
                    <a:lnTo>
                      <a:pt x="477" y="1022"/>
                    </a:lnTo>
                    <a:lnTo>
                      <a:pt x="491" y="998"/>
                    </a:lnTo>
                    <a:lnTo>
                      <a:pt x="507" y="975"/>
                    </a:lnTo>
                    <a:lnTo>
                      <a:pt x="531" y="967"/>
                    </a:lnTo>
                    <a:lnTo>
                      <a:pt x="556" y="957"/>
                    </a:lnTo>
                    <a:lnTo>
                      <a:pt x="580" y="949"/>
                    </a:lnTo>
                    <a:lnTo>
                      <a:pt x="602" y="935"/>
                    </a:lnTo>
                    <a:lnTo>
                      <a:pt x="625" y="916"/>
                    </a:lnTo>
                    <a:lnTo>
                      <a:pt x="645" y="898"/>
                    </a:lnTo>
                    <a:lnTo>
                      <a:pt x="662" y="885"/>
                    </a:lnTo>
                    <a:lnTo>
                      <a:pt x="678" y="869"/>
                    </a:lnTo>
                    <a:lnTo>
                      <a:pt x="698" y="853"/>
                    </a:lnTo>
                    <a:lnTo>
                      <a:pt x="714" y="838"/>
                    </a:lnTo>
                    <a:lnTo>
                      <a:pt x="732" y="820"/>
                    </a:lnTo>
                    <a:lnTo>
                      <a:pt x="744" y="804"/>
                    </a:lnTo>
                    <a:lnTo>
                      <a:pt x="755" y="793"/>
                    </a:lnTo>
                    <a:lnTo>
                      <a:pt x="764" y="781"/>
                    </a:lnTo>
                    <a:lnTo>
                      <a:pt x="780" y="767"/>
                    </a:lnTo>
                    <a:lnTo>
                      <a:pt x="785" y="752"/>
                    </a:lnTo>
                    <a:lnTo>
                      <a:pt x="783" y="732"/>
                    </a:lnTo>
                    <a:lnTo>
                      <a:pt x="780" y="714"/>
                    </a:lnTo>
                    <a:lnTo>
                      <a:pt x="785" y="701"/>
                    </a:lnTo>
                    <a:lnTo>
                      <a:pt x="805" y="697"/>
                    </a:lnTo>
                    <a:lnTo>
                      <a:pt x="826" y="691"/>
                    </a:lnTo>
                    <a:lnTo>
                      <a:pt x="842" y="691"/>
                    </a:lnTo>
                    <a:lnTo>
                      <a:pt x="865" y="687"/>
                    </a:lnTo>
                    <a:lnTo>
                      <a:pt x="887" y="683"/>
                    </a:lnTo>
                    <a:lnTo>
                      <a:pt x="912" y="675"/>
                    </a:lnTo>
                    <a:lnTo>
                      <a:pt x="937" y="668"/>
                    </a:lnTo>
                    <a:lnTo>
                      <a:pt x="963" y="666"/>
                    </a:lnTo>
                    <a:lnTo>
                      <a:pt x="985" y="664"/>
                    </a:lnTo>
                    <a:lnTo>
                      <a:pt x="1004" y="652"/>
                    </a:lnTo>
                    <a:lnTo>
                      <a:pt x="1018" y="640"/>
                    </a:lnTo>
                    <a:lnTo>
                      <a:pt x="1033" y="626"/>
                    </a:lnTo>
                    <a:lnTo>
                      <a:pt x="1047" y="605"/>
                    </a:lnTo>
                    <a:lnTo>
                      <a:pt x="1067" y="570"/>
                    </a:lnTo>
                    <a:lnTo>
                      <a:pt x="1083" y="533"/>
                    </a:lnTo>
                    <a:lnTo>
                      <a:pt x="1099" y="501"/>
                    </a:lnTo>
                    <a:lnTo>
                      <a:pt x="1104" y="476"/>
                    </a:lnTo>
                    <a:lnTo>
                      <a:pt x="1116" y="450"/>
                    </a:lnTo>
                    <a:lnTo>
                      <a:pt x="1124" y="423"/>
                    </a:lnTo>
                    <a:lnTo>
                      <a:pt x="1129" y="403"/>
                    </a:lnTo>
                    <a:lnTo>
                      <a:pt x="1136" y="384"/>
                    </a:lnTo>
                    <a:lnTo>
                      <a:pt x="1129" y="358"/>
                    </a:lnTo>
                    <a:lnTo>
                      <a:pt x="1120" y="335"/>
                    </a:lnTo>
                    <a:lnTo>
                      <a:pt x="1107" y="321"/>
                    </a:lnTo>
                    <a:lnTo>
                      <a:pt x="1099" y="319"/>
                    </a:lnTo>
                    <a:lnTo>
                      <a:pt x="1083" y="312"/>
                    </a:lnTo>
                    <a:lnTo>
                      <a:pt x="1067" y="310"/>
                    </a:lnTo>
                    <a:lnTo>
                      <a:pt x="1047" y="306"/>
                    </a:lnTo>
                    <a:lnTo>
                      <a:pt x="1033" y="302"/>
                    </a:lnTo>
                    <a:lnTo>
                      <a:pt x="1013" y="292"/>
                    </a:lnTo>
                    <a:lnTo>
                      <a:pt x="1004" y="286"/>
                    </a:lnTo>
                    <a:lnTo>
                      <a:pt x="997" y="278"/>
                    </a:lnTo>
                    <a:lnTo>
                      <a:pt x="985" y="263"/>
                    </a:lnTo>
                    <a:lnTo>
                      <a:pt x="972" y="251"/>
                    </a:lnTo>
                    <a:lnTo>
                      <a:pt x="953" y="243"/>
                    </a:lnTo>
                    <a:lnTo>
                      <a:pt x="935" y="241"/>
                    </a:lnTo>
                    <a:lnTo>
                      <a:pt x="924" y="241"/>
                    </a:lnTo>
                    <a:lnTo>
                      <a:pt x="908" y="241"/>
                    </a:lnTo>
                    <a:lnTo>
                      <a:pt x="894" y="241"/>
                    </a:lnTo>
                    <a:lnTo>
                      <a:pt x="878" y="241"/>
                    </a:lnTo>
                    <a:lnTo>
                      <a:pt x="858" y="239"/>
                    </a:lnTo>
                    <a:lnTo>
                      <a:pt x="842" y="233"/>
                    </a:lnTo>
                    <a:lnTo>
                      <a:pt x="833" y="227"/>
                    </a:lnTo>
                    <a:lnTo>
                      <a:pt x="821" y="222"/>
                    </a:lnTo>
                    <a:lnTo>
                      <a:pt x="805" y="202"/>
                    </a:lnTo>
                    <a:lnTo>
                      <a:pt x="780" y="173"/>
                    </a:lnTo>
                    <a:lnTo>
                      <a:pt x="757" y="151"/>
                    </a:lnTo>
                    <a:lnTo>
                      <a:pt x="735" y="135"/>
                    </a:lnTo>
                    <a:lnTo>
                      <a:pt x="719" y="128"/>
                    </a:lnTo>
                    <a:lnTo>
                      <a:pt x="694" y="116"/>
                    </a:lnTo>
                    <a:lnTo>
                      <a:pt x="662" y="100"/>
                    </a:lnTo>
                    <a:lnTo>
                      <a:pt x="621" y="83"/>
                    </a:lnTo>
                    <a:lnTo>
                      <a:pt x="577" y="69"/>
                    </a:lnTo>
                    <a:lnTo>
                      <a:pt x="534" y="53"/>
                    </a:lnTo>
                    <a:lnTo>
                      <a:pt x="491" y="42"/>
                    </a:lnTo>
                    <a:lnTo>
                      <a:pt x="450" y="38"/>
                    </a:lnTo>
                    <a:lnTo>
                      <a:pt x="413" y="36"/>
                    </a:lnTo>
                    <a:lnTo>
                      <a:pt x="385" y="34"/>
                    </a:lnTo>
                    <a:lnTo>
                      <a:pt x="356" y="28"/>
                    </a:lnTo>
                    <a:lnTo>
                      <a:pt x="335" y="26"/>
                    </a:lnTo>
                    <a:lnTo>
                      <a:pt x="312" y="26"/>
                    </a:lnTo>
                    <a:lnTo>
                      <a:pt x="294" y="24"/>
                    </a:lnTo>
                    <a:lnTo>
                      <a:pt x="283" y="24"/>
                    </a:lnTo>
                    <a:lnTo>
                      <a:pt x="271" y="26"/>
                    </a:lnTo>
                    <a:lnTo>
                      <a:pt x="258" y="26"/>
                    </a:lnTo>
                    <a:lnTo>
                      <a:pt x="242" y="22"/>
                    </a:lnTo>
                    <a:lnTo>
                      <a:pt x="230" y="14"/>
                    </a:lnTo>
                    <a:lnTo>
                      <a:pt x="217" y="6"/>
                    </a:lnTo>
                    <a:lnTo>
                      <a:pt x="205" y="2"/>
                    </a:lnTo>
                    <a:lnTo>
                      <a:pt x="189" y="0"/>
                    </a:lnTo>
                    <a:lnTo>
                      <a:pt x="171" y="4"/>
                    </a:lnTo>
                    <a:lnTo>
                      <a:pt x="158" y="8"/>
                    </a:lnTo>
                    <a:lnTo>
                      <a:pt x="142" y="20"/>
                    </a:lnTo>
                    <a:lnTo>
                      <a:pt x="123" y="36"/>
                    </a:lnTo>
                    <a:lnTo>
                      <a:pt x="110" y="45"/>
                    </a:lnTo>
                    <a:lnTo>
                      <a:pt x="91" y="57"/>
                    </a:lnTo>
                    <a:lnTo>
                      <a:pt x="85" y="59"/>
                    </a:lnTo>
                    <a:lnTo>
                      <a:pt x="69" y="63"/>
                    </a:lnTo>
                    <a:lnTo>
                      <a:pt x="50" y="75"/>
                    </a:lnTo>
                    <a:lnTo>
                      <a:pt x="37" y="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68" name="Freeform 1150"/>
              <p:cNvSpPr/>
              <p:nvPr/>
            </p:nvSpPr>
            <p:spPr>
              <a:xfrm>
                <a:off x="1000080" y="3300120"/>
                <a:ext cx="2277720" cy="1178280"/>
              </a:xfrm>
              <a:custGeom>
                <a:avLst/>
                <a:gdLst/>
                <a:ahLst/>
                <a:rect l="l" t="t" r="r" b="b"/>
                <a:pathLst>
                  <a:path w="2870" h="1485">
                    <a:moveTo>
                      <a:pt x="2098" y="1078"/>
                    </a:moveTo>
                    <a:lnTo>
                      <a:pt x="2073" y="1080"/>
                    </a:lnTo>
                    <a:lnTo>
                      <a:pt x="2050" y="1074"/>
                    </a:lnTo>
                    <a:lnTo>
                      <a:pt x="2028" y="1068"/>
                    </a:lnTo>
                    <a:lnTo>
                      <a:pt x="2003" y="1076"/>
                    </a:lnTo>
                    <a:lnTo>
                      <a:pt x="1978" y="1091"/>
                    </a:lnTo>
                    <a:lnTo>
                      <a:pt x="1962" y="1097"/>
                    </a:lnTo>
                    <a:lnTo>
                      <a:pt x="1943" y="1103"/>
                    </a:lnTo>
                    <a:lnTo>
                      <a:pt x="1921" y="1105"/>
                    </a:lnTo>
                    <a:lnTo>
                      <a:pt x="1909" y="1105"/>
                    </a:lnTo>
                    <a:lnTo>
                      <a:pt x="1889" y="1105"/>
                    </a:lnTo>
                    <a:lnTo>
                      <a:pt x="1870" y="1105"/>
                    </a:lnTo>
                    <a:lnTo>
                      <a:pt x="1852" y="1105"/>
                    </a:lnTo>
                    <a:lnTo>
                      <a:pt x="1840" y="1113"/>
                    </a:lnTo>
                    <a:lnTo>
                      <a:pt x="1824" y="1123"/>
                    </a:lnTo>
                    <a:lnTo>
                      <a:pt x="1811" y="1140"/>
                    </a:lnTo>
                    <a:lnTo>
                      <a:pt x="1800" y="1164"/>
                    </a:lnTo>
                    <a:lnTo>
                      <a:pt x="1799" y="1193"/>
                    </a:lnTo>
                    <a:lnTo>
                      <a:pt x="1800" y="1215"/>
                    </a:lnTo>
                    <a:lnTo>
                      <a:pt x="1816" y="1234"/>
                    </a:lnTo>
                    <a:lnTo>
                      <a:pt x="1832" y="1248"/>
                    </a:lnTo>
                    <a:lnTo>
                      <a:pt x="1848" y="1260"/>
                    </a:lnTo>
                    <a:lnTo>
                      <a:pt x="1868" y="1271"/>
                    </a:lnTo>
                    <a:lnTo>
                      <a:pt x="1886" y="1275"/>
                    </a:lnTo>
                    <a:lnTo>
                      <a:pt x="1898" y="1279"/>
                    </a:lnTo>
                    <a:lnTo>
                      <a:pt x="1914" y="1279"/>
                    </a:lnTo>
                    <a:lnTo>
                      <a:pt x="1930" y="1277"/>
                    </a:lnTo>
                    <a:lnTo>
                      <a:pt x="1943" y="1273"/>
                    </a:lnTo>
                    <a:lnTo>
                      <a:pt x="1962" y="1267"/>
                    </a:lnTo>
                    <a:lnTo>
                      <a:pt x="1978" y="1258"/>
                    </a:lnTo>
                    <a:lnTo>
                      <a:pt x="1991" y="1248"/>
                    </a:lnTo>
                    <a:lnTo>
                      <a:pt x="2007" y="1240"/>
                    </a:lnTo>
                    <a:lnTo>
                      <a:pt x="2019" y="1230"/>
                    </a:lnTo>
                    <a:lnTo>
                      <a:pt x="2041" y="1228"/>
                    </a:lnTo>
                    <a:lnTo>
                      <a:pt x="2053" y="1246"/>
                    </a:lnTo>
                    <a:lnTo>
                      <a:pt x="2053" y="1271"/>
                    </a:lnTo>
                    <a:lnTo>
                      <a:pt x="2041" y="1293"/>
                    </a:lnTo>
                    <a:lnTo>
                      <a:pt x="2032" y="1308"/>
                    </a:lnTo>
                    <a:lnTo>
                      <a:pt x="2037" y="1316"/>
                    </a:lnTo>
                    <a:lnTo>
                      <a:pt x="2053" y="1324"/>
                    </a:lnTo>
                    <a:lnTo>
                      <a:pt x="2076" y="1326"/>
                    </a:lnTo>
                    <a:lnTo>
                      <a:pt x="2098" y="1330"/>
                    </a:lnTo>
                    <a:lnTo>
                      <a:pt x="2119" y="1342"/>
                    </a:lnTo>
                    <a:lnTo>
                      <a:pt x="2139" y="1357"/>
                    </a:lnTo>
                    <a:lnTo>
                      <a:pt x="2151" y="1385"/>
                    </a:lnTo>
                    <a:lnTo>
                      <a:pt x="2155" y="1406"/>
                    </a:lnTo>
                    <a:lnTo>
                      <a:pt x="2158" y="1422"/>
                    </a:lnTo>
                    <a:lnTo>
                      <a:pt x="2160" y="1438"/>
                    </a:lnTo>
                    <a:lnTo>
                      <a:pt x="2174" y="1445"/>
                    </a:lnTo>
                    <a:lnTo>
                      <a:pt x="2187" y="1451"/>
                    </a:lnTo>
                    <a:lnTo>
                      <a:pt x="2208" y="1457"/>
                    </a:lnTo>
                    <a:lnTo>
                      <a:pt x="2229" y="1459"/>
                    </a:lnTo>
                    <a:lnTo>
                      <a:pt x="2249" y="1461"/>
                    </a:lnTo>
                    <a:lnTo>
                      <a:pt x="2265" y="1461"/>
                    </a:lnTo>
                    <a:lnTo>
                      <a:pt x="2270" y="1459"/>
                    </a:lnTo>
                    <a:lnTo>
                      <a:pt x="2274" y="1459"/>
                    </a:lnTo>
                    <a:lnTo>
                      <a:pt x="2274" y="1461"/>
                    </a:lnTo>
                    <a:lnTo>
                      <a:pt x="2270" y="1467"/>
                    </a:lnTo>
                    <a:lnTo>
                      <a:pt x="2265" y="1473"/>
                    </a:lnTo>
                    <a:lnTo>
                      <a:pt x="2253" y="1483"/>
                    </a:lnTo>
                    <a:lnTo>
                      <a:pt x="2240" y="1485"/>
                    </a:lnTo>
                    <a:lnTo>
                      <a:pt x="2228" y="1485"/>
                    </a:lnTo>
                    <a:lnTo>
                      <a:pt x="2208" y="1483"/>
                    </a:lnTo>
                    <a:lnTo>
                      <a:pt x="2196" y="1483"/>
                    </a:lnTo>
                    <a:lnTo>
                      <a:pt x="2176" y="1477"/>
                    </a:lnTo>
                    <a:lnTo>
                      <a:pt x="2158" y="1473"/>
                    </a:lnTo>
                    <a:lnTo>
                      <a:pt x="2139" y="1471"/>
                    </a:lnTo>
                    <a:lnTo>
                      <a:pt x="2130" y="1467"/>
                    </a:lnTo>
                    <a:lnTo>
                      <a:pt x="2123" y="1463"/>
                    </a:lnTo>
                    <a:lnTo>
                      <a:pt x="2110" y="1459"/>
                    </a:lnTo>
                    <a:lnTo>
                      <a:pt x="2091" y="1451"/>
                    </a:lnTo>
                    <a:lnTo>
                      <a:pt x="2073" y="1441"/>
                    </a:lnTo>
                    <a:lnTo>
                      <a:pt x="2044" y="1428"/>
                    </a:lnTo>
                    <a:lnTo>
                      <a:pt x="2025" y="1416"/>
                    </a:lnTo>
                    <a:lnTo>
                      <a:pt x="2009" y="1406"/>
                    </a:lnTo>
                    <a:lnTo>
                      <a:pt x="2000" y="1395"/>
                    </a:lnTo>
                    <a:lnTo>
                      <a:pt x="1987" y="1389"/>
                    </a:lnTo>
                    <a:lnTo>
                      <a:pt x="1978" y="1381"/>
                    </a:lnTo>
                    <a:lnTo>
                      <a:pt x="1962" y="1373"/>
                    </a:lnTo>
                    <a:lnTo>
                      <a:pt x="1939" y="1367"/>
                    </a:lnTo>
                    <a:lnTo>
                      <a:pt x="1911" y="1357"/>
                    </a:lnTo>
                    <a:lnTo>
                      <a:pt x="1889" y="1353"/>
                    </a:lnTo>
                    <a:lnTo>
                      <a:pt x="1864" y="1346"/>
                    </a:lnTo>
                    <a:lnTo>
                      <a:pt x="1843" y="1342"/>
                    </a:lnTo>
                    <a:lnTo>
                      <a:pt x="1820" y="1334"/>
                    </a:lnTo>
                    <a:lnTo>
                      <a:pt x="1799" y="1328"/>
                    </a:lnTo>
                    <a:lnTo>
                      <a:pt x="1779" y="1324"/>
                    </a:lnTo>
                    <a:lnTo>
                      <a:pt x="1763" y="1318"/>
                    </a:lnTo>
                    <a:lnTo>
                      <a:pt x="1745" y="1312"/>
                    </a:lnTo>
                    <a:lnTo>
                      <a:pt x="1726" y="1308"/>
                    </a:lnTo>
                    <a:lnTo>
                      <a:pt x="1706" y="1297"/>
                    </a:lnTo>
                    <a:lnTo>
                      <a:pt x="1690" y="1287"/>
                    </a:lnTo>
                    <a:lnTo>
                      <a:pt x="1672" y="1273"/>
                    </a:lnTo>
                    <a:lnTo>
                      <a:pt x="1656" y="1260"/>
                    </a:lnTo>
                    <a:lnTo>
                      <a:pt x="1644" y="1248"/>
                    </a:lnTo>
                    <a:lnTo>
                      <a:pt x="1628" y="1238"/>
                    </a:lnTo>
                    <a:lnTo>
                      <a:pt x="1622" y="1234"/>
                    </a:lnTo>
                    <a:lnTo>
                      <a:pt x="1606" y="1222"/>
                    </a:lnTo>
                    <a:lnTo>
                      <a:pt x="1587" y="1209"/>
                    </a:lnTo>
                    <a:lnTo>
                      <a:pt x="1571" y="1195"/>
                    </a:lnTo>
                    <a:lnTo>
                      <a:pt x="1542" y="1189"/>
                    </a:lnTo>
                    <a:lnTo>
                      <a:pt x="1526" y="1187"/>
                    </a:lnTo>
                    <a:lnTo>
                      <a:pt x="1508" y="1183"/>
                    </a:lnTo>
                    <a:lnTo>
                      <a:pt x="1485" y="1177"/>
                    </a:lnTo>
                    <a:lnTo>
                      <a:pt x="1464" y="1174"/>
                    </a:lnTo>
                    <a:lnTo>
                      <a:pt x="1442" y="1164"/>
                    </a:lnTo>
                    <a:lnTo>
                      <a:pt x="1419" y="1156"/>
                    </a:lnTo>
                    <a:lnTo>
                      <a:pt x="1403" y="1146"/>
                    </a:lnTo>
                    <a:lnTo>
                      <a:pt x="1386" y="1136"/>
                    </a:lnTo>
                    <a:lnTo>
                      <a:pt x="1350" y="1113"/>
                    </a:lnTo>
                    <a:lnTo>
                      <a:pt x="1321" y="1091"/>
                    </a:lnTo>
                    <a:lnTo>
                      <a:pt x="1300" y="1068"/>
                    </a:lnTo>
                    <a:lnTo>
                      <a:pt x="1291" y="1046"/>
                    </a:lnTo>
                    <a:lnTo>
                      <a:pt x="1277" y="1027"/>
                    </a:lnTo>
                    <a:lnTo>
                      <a:pt x="1272" y="1007"/>
                    </a:lnTo>
                    <a:lnTo>
                      <a:pt x="1263" y="988"/>
                    </a:lnTo>
                    <a:lnTo>
                      <a:pt x="1248" y="970"/>
                    </a:lnTo>
                    <a:lnTo>
                      <a:pt x="1243" y="962"/>
                    </a:lnTo>
                    <a:lnTo>
                      <a:pt x="1231" y="952"/>
                    </a:lnTo>
                    <a:lnTo>
                      <a:pt x="1215" y="943"/>
                    </a:lnTo>
                    <a:lnTo>
                      <a:pt x="1195" y="929"/>
                    </a:lnTo>
                    <a:lnTo>
                      <a:pt x="1177" y="921"/>
                    </a:lnTo>
                    <a:lnTo>
                      <a:pt x="1154" y="906"/>
                    </a:lnTo>
                    <a:lnTo>
                      <a:pt x="1142" y="892"/>
                    </a:lnTo>
                    <a:lnTo>
                      <a:pt x="1126" y="876"/>
                    </a:lnTo>
                    <a:lnTo>
                      <a:pt x="1117" y="845"/>
                    </a:lnTo>
                    <a:lnTo>
                      <a:pt x="1117" y="810"/>
                    </a:lnTo>
                    <a:lnTo>
                      <a:pt x="1126" y="778"/>
                    </a:lnTo>
                    <a:lnTo>
                      <a:pt x="1136" y="759"/>
                    </a:lnTo>
                    <a:lnTo>
                      <a:pt x="1142" y="737"/>
                    </a:lnTo>
                    <a:lnTo>
                      <a:pt x="1142" y="708"/>
                    </a:lnTo>
                    <a:lnTo>
                      <a:pt x="1136" y="673"/>
                    </a:lnTo>
                    <a:lnTo>
                      <a:pt x="1126" y="640"/>
                    </a:lnTo>
                    <a:lnTo>
                      <a:pt x="1111" y="616"/>
                    </a:lnTo>
                    <a:lnTo>
                      <a:pt x="1101" y="600"/>
                    </a:lnTo>
                    <a:lnTo>
                      <a:pt x="1083" y="593"/>
                    </a:lnTo>
                    <a:lnTo>
                      <a:pt x="1056" y="579"/>
                    </a:lnTo>
                    <a:lnTo>
                      <a:pt x="1035" y="563"/>
                    </a:lnTo>
                    <a:lnTo>
                      <a:pt x="1022" y="548"/>
                    </a:lnTo>
                    <a:lnTo>
                      <a:pt x="1010" y="534"/>
                    </a:lnTo>
                    <a:lnTo>
                      <a:pt x="1003" y="514"/>
                    </a:lnTo>
                    <a:lnTo>
                      <a:pt x="987" y="497"/>
                    </a:lnTo>
                    <a:lnTo>
                      <a:pt x="965" y="481"/>
                    </a:lnTo>
                    <a:lnTo>
                      <a:pt x="940" y="475"/>
                    </a:lnTo>
                    <a:lnTo>
                      <a:pt x="915" y="475"/>
                    </a:lnTo>
                    <a:lnTo>
                      <a:pt x="905" y="477"/>
                    </a:lnTo>
                    <a:lnTo>
                      <a:pt x="887" y="475"/>
                    </a:lnTo>
                    <a:lnTo>
                      <a:pt x="871" y="469"/>
                    </a:lnTo>
                    <a:lnTo>
                      <a:pt x="855" y="463"/>
                    </a:lnTo>
                    <a:lnTo>
                      <a:pt x="834" y="460"/>
                    </a:lnTo>
                    <a:lnTo>
                      <a:pt x="814" y="452"/>
                    </a:lnTo>
                    <a:lnTo>
                      <a:pt x="794" y="446"/>
                    </a:lnTo>
                    <a:lnTo>
                      <a:pt x="782" y="442"/>
                    </a:lnTo>
                    <a:lnTo>
                      <a:pt x="753" y="432"/>
                    </a:lnTo>
                    <a:lnTo>
                      <a:pt x="739" y="426"/>
                    </a:lnTo>
                    <a:lnTo>
                      <a:pt x="720" y="418"/>
                    </a:lnTo>
                    <a:lnTo>
                      <a:pt x="695" y="413"/>
                    </a:lnTo>
                    <a:lnTo>
                      <a:pt x="679" y="413"/>
                    </a:lnTo>
                    <a:lnTo>
                      <a:pt x="666" y="411"/>
                    </a:lnTo>
                    <a:lnTo>
                      <a:pt x="650" y="413"/>
                    </a:lnTo>
                    <a:lnTo>
                      <a:pt x="631" y="413"/>
                    </a:lnTo>
                    <a:lnTo>
                      <a:pt x="615" y="413"/>
                    </a:lnTo>
                    <a:lnTo>
                      <a:pt x="597" y="411"/>
                    </a:lnTo>
                    <a:lnTo>
                      <a:pt x="577" y="407"/>
                    </a:lnTo>
                    <a:lnTo>
                      <a:pt x="559" y="401"/>
                    </a:lnTo>
                    <a:lnTo>
                      <a:pt x="540" y="393"/>
                    </a:lnTo>
                    <a:lnTo>
                      <a:pt x="527" y="387"/>
                    </a:lnTo>
                    <a:lnTo>
                      <a:pt x="508" y="385"/>
                    </a:lnTo>
                    <a:lnTo>
                      <a:pt x="490" y="383"/>
                    </a:lnTo>
                    <a:lnTo>
                      <a:pt x="474" y="383"/>
                    </a:lnTo>
                    <a:lnTo>
                      <a:pt x="451" y="383"/>
                    </a:lnTo>
                    <a:lnTo>
                      <a:pt x="426" y="385"/>
                    </a:lnTo>
                    <a:lnTo>
                      <a:pt x="401" y="387"/>
                    </a:lnTo>
                    <a:lnTo>
                      <a:pt x="372" y="393"/>
                    </a:lnTo>
                    <a:lnTo>
                      <a:pt x="347" y="407"/>
                    </a:lnTo>
                    <a:lnTo>
                      <a:pt x="331" y="420"/>
                    </a:lnTo>
                    <a:lnTo>
                      <a:pt x="310" y="436"/>
                    </a:lnTo>
                    <a:lnTo>
                      <a:pt x="290" y="450"/>
                    </a:lnTo>
                    <a:lnTo>
                      <a:pt x="269" y="463"/>
                    </a:lnTo>
                    <a:lnTo>
                      <a:pt x="246" y="475"/>
                    </a:lnTo>
                    <a:lnTo>
                      <a:pt x="221" y="475"/>
                    </a:lnTo>
                    <a:lnTo>
                      <a:pt x="196" y="465"/>
                    </a:lnTo>
                    <a:lnTo>
                      <a:pt x="180" y="458"/>
                    </a:lnTo>
                    <a:lnTo>
                      <a:pt x="171" y="446"/>
                    </a:lnTo>
                    <a:lnTo>
                      <a:pt x="148" y="432"/>
                    </a:lnTo>
                    <a:lnTo>
                      <a:pt x="127" y="418"/>
                    </a:lnTo>
                    <a:lnTo>
                      <a:pt x="118" y="393"/>
                    </a:lnTo>
                    <a:lnTo>
                      <a:pt x="118" y="362"/>
                    </a:lnTo>
                    <a:lnTo>
                      <a:pt x="130" y="325"/>
                    </a:lnTo>
                    <a:lnTo>
                      <a:pt x="139" y="303"/>
                    </a:lnTo>
                    <a:lnTo>
                      <a:pt x="132" y="287"/>
                    </a:lnTo>
                    <a:lnTo>
                      <a:pt x="123" y="282"/>
                    </a:lnTo>
                    <a:lnTo>
                      <a:pt x="104" y="276"/>
                    </a:lnTo>
                    <a:lnTo>
                      <a:pt x="86" y="274"/>
                    </a:lnTo>
                    <a:lnTo>
                      <a:pt x="61" y="268"/>
                    </a:lnTo>
                    <a:lnTo>
                      <a:pt x="34" y="264"/>
                    </a:lnTo>
                    <a:lnTo>
                      <a:pt x="13" y="254"/>
                    </a:lnTo>
                    <a:lnTo>
                      <a:pt x="0" y="244"/>
                    </a:lnTo>
                    <a:lnTo>
                      <a:pt x="0" y="227"/>
                    </a:lnTo>
                    <a:lnTo>
                      <a:pt x="9" y="205"/>
                    </a:lnTo>
                    <a:lnTo>
                      <a:pt x="29" y="182"/>
                    </a:lnTo>
                    <a:lnTo>
                      <a:pt x="54" y="162"/>
                    </a:lnTo>
                    <a:lnTo>
                      <a:pt x="79" y="139"/>
                    </a:lnTo>
                    <a:lnTo>
                      <a:pt x="104" y="121"/>
                    </a:lnTo>
                    <a:lnTo>
                      <a:pt x="130" y="111"/>
                    </a:lnTo>
                    <a:lnTo>
                      <a:pt x="152" y="100"/>
                    </a:lnTo>
                    <a:lnTo>
                      <a:pt x="171" y="88"/>
                    </a:lnTo>
                    <a:lnTo>
                      <a:pt x="193" y="76"/>
                    </a:lnTo>
                    <a:lnTo>
                      <a:pt x="217" y="64"/>
                    </a:lnTo>
                    <a:lnTo>
                      <a:pt x="253" y="57"/>
                    </a:lnTo>
                    <a:lnTo>
                      <a:pt x="299" y="53"/>
                    </a:lnTo>
                    <a:lnTo>
                      <a:pt x="360" y="53"/>
                    </a:lnTo>
                    <a:lnTo>
                      <a:pt x="435" y="57"/>
                    </a:lnTo>
                    <a:lnTo>
                      <a:pt x="474" y="72"/>
                    </a:lnTo>
                    <a:lnTo>
                      <a:pt x="502" y="82"/>
                    </a:lnTo>
                    <a:lnTo>
                      <a:pt x="527" y="90"/>
                    </a:lnTo>
                    <a:lnTo>
                      <a:pt x="549" y="96"/>
                    </a:lnTo>
                    <a:lnTo>
                      <a:pt x="568" y="98"/>
                    </a:lnTo>
                    <a:lnTo>
                      <a:pt x="584" y="102"/>
                    </a:lnTo>
                    <a:lnTo>
                      <a:pt x="602" y="104"/>
                    </a:lnTo>
                    <a:lnTo>
                      <a:pt x="618" y="109"/>
                    </a:lnTo>
                    <a:lnTo>
                      <a:pt x="641" y="113"/>
                    </a:lnTo>
                    <a:lnTo>
                      <a:pt x="670" y="115"/>
                    </a:lnTo>
                    <a:lnTo>
                      <a:pt x="704" y="117"/>
                    </a:lnTo>
                    <a:lnTo>
                      <a:pt x="745" y="121"/>
                    </a:lnTo>
                    <a:lnTo>
                      <a:pt x="782" y="127"/>
                    </a:lnTo>
                    <a:lnTo>
                      <a:pt x="818" y="127"/>
                    </a:lnTo>
                    <a:lnTo>
                      <a:pt x="850" y="127"/>
                    </a:lnTo>
                    <a:lnTo>
                      <a:pt x="871" y="127"/>
                    </a:lnTo>
                    <a:lnTo>
                      <a:pt x="892" y="121"/>
                    </a:lnTo>
                    <a:lnTo>
                      <a:pt x="921" y="121"/>
                    </a:lnTo>
                    <a:lnTo>
                      <a:pt x="956" y="121"/>
                    </a:lnTo>
                    <a:lnTo>
                      <a:pt x="990" y="121"/>
                    </a:lnTo>
                    <a:lnTo>
                      <a:pt x="1028" y="121"/>
                    </a:lnTo>
                    <a:lnTo>
                      <a:pt x="1060" y="127"/>
                    </a:lnTo>
                    <a:lnTo>
                      <a:pt x="1088" y="127"/>
                    </a:lnTo>
                    <a:lnTo>
                      <a:pt x="1108" y="127"/>
                    </a:lnTo>
                    <a:lnTo>
                      <a:pt x="1124" y="127"/>
                    </a:lnTo>
                    <a:lnTo>
                      <a:pt x="1142" y="129"/>
                    </a:lnTo>
                    <a:lnTo>
                      <a:pt x="1165" y="131"/>
                    </a:lnTo>
                    <a:lnTo>
                      <a:pt x="1183" y="133"/>
                    </a:lnTo>
                    <a:lnTo>
                      <a:pt x="1206" y="135"/>
                    </a:lnTo>
                    <a:lnTo>
                      <a:pt x="1227" y="139"/>
                    </a:lnTo>
                    <a:lnTo>
                      <a:pt x="1248" y="143"/>
                    </a:lnTo>
                    <a:lnTo>
                      <a:pt x="1268" y="149"/>
                    </a:lnTo>
                    <a:lnTo>
                      <a:pt x="1293" y="152"/>
                    </a:lnTo>
                    <a:lnTo>
                      <a:pt x="1321" y="158"/>
                    </a:lnTo>
                    <a:lnTo>
                      <a:pt x="1362" y="162"/>
                    </a:lnTo>
                    <a:lnTo>
                      <a:pt x="1403" y="166"/>
                    </a:lnTo>
                    <a:lnTo>
                      <a:pt x="1442" y="170"/>
                    </a:lnTo>
                    <a:lnTo>
                      <a:pt x="1480" y="176"/>
                    </a:lnTo>
                    <a:lnTo>
                      <a:pt x="1512" y="178"/>
                    </a:lnTo>
                    <a:lnTo>
                      <a:pt x="1533" y="178"/>
                    </a:lnTo>
                    <a:lnTo>
                      <a:pt x="1555" y="178"/>
                    </a:lnTo>
                    <a:lnTo>
                      <a:pt x="1587" y="178"/>
                    </a:lnTo>
                    <a:lnTo>
                      <a:pt x="1624" y="176"/>
                    </a:lnTo>
                    <a:lnTo>
                      <a:pt x="1669" y="172"/>
                    </a:lnTo>
                    <a:lnTo>
                      <a:pt x="1706" y="170"/>
                    </a:lnTo>
                    <a:lnTo>
                      <a:pt x="1747" y="166"/>
                    </a:lnTo>
                    <a:lnTo>
                      <a:pt x="1779" y="160"/>
                    </a:lnTo>
                    <a:lnTo>
                      <a:pt x="1811" y="152"/>
                    </a:lnTo>
                    <a:lnTo>
                      <a:pt x="1845" y="139"/>
                    </a:lnTo>
                    <a:lnTo>
                      <a:pt x="1868" y="131"/>
                    </a:lnTo>
                    <a:lnTo>
                      <a:pt x="1873" y="119"/>
                    </a:lnTo>
                    <a:lnTo>
                      <a:pt x="1877" y="111"/>
                    </a:lnTo>
                    <a:lnTo>
                      <a:pt x="1870" y="100"/>
                    </a:lnTo>
                    <a:lnTo>
                      <a:pt x="1852" y="84"/>
                    </a:lnTo>
                    <a:lnTo>
                      <a:pt x="1836" y="72"/>
                    </a:lnTo>
                    <a:lnTo>
                      <a:pt x="1820" y="62"/>
                    </a:lnTo>
                    <a:lnTo>
                      <a:pt x="1816" y="51"/>
                    </a:lnTo>
                    <a:lnTo>
                      <a:pt x="1824" y="35"/>
                    </a:lnTo>
                    <a:lnTo>
                      <a:pt x="1840" y="19"/>
                    </a:lnTo>
                    <a:lnTo>
                      <a:pt x="1852" y="4"/>
                    </a:lnTo>
                    <a:lnTo>
                      <a:pt x="1873" y="0"/>
                    </a:lnTo>
                    <a:lnTo>
                      <a:pt x="1897" y="2"/>
                    </a:lnTo>
                    <a:lnTo>
                      <a:pt x="1925" y="12"/>
                    </a:lnTo>
                    <a:lnTo>
                      <a:pt x="1953" y="17"/>
                    </a:lnTo>
                    <a:lnTo>
                      <a:pt x="1966" y="27"/>
                    </a:lnTo>
                    <a:lnTo>
                      <a:pt x="1968" y="43"/>
                    </a:lnTo>
                    <a:lnTo>
                      <a:pt x="1968" y="57"/>
                    </a:lnTo>
                    <a:lnTo>
                      <a:pt x="1968" y="70"/>
                    </a:lnTo>
                    <a:lnTo>
                      <a:pt x="1978" y="82"/>
                    </a:lnTo>
                    <a:lnTo>
                      <a:pt x="1994" y="100"/>
                    </a:lnTo>
                    <a:lnTo>
                      <a:pt x="2019" y="111"/>
                    </a:lnTo>
                    <a:lnTo>
                      <a:pt x="2053" y="115"/>
                    </a:lnTo>
                    <a:lnTo>
                      <a:pt x="2073" y="115"/>
                    </a:lnTo>
                    <a:lnTo>
                      <a:pt x="2089" y="115"/>
                    </a:lnTo>
                    <a:lnTo>
                      <a:pt x="2107" y="117"/>
                    </a:lnTo>
                    <a:lnTo>
                      <a:pt x="2126" y="119"/>
                    </a:lnTo>
                    <a:lnTo>
                      <a:pt x="2146" y="127"/>
                    </a:lnTo>
                    <a:lnTo>
                      <a:pt x="2160" y="129"/>
                    </a:lnTo>
                    <a:lnTo>
                      <a:pt x="2180" y="131"/>
                    </a:lnTo>
                    <a:lnTo>
                      <a:pt x="2199" y="133"/>
                    </a:lnTo>
                    <a:lnTo>
                      <a:pt x="2228" y="135"/>
                    </a:lnTo>
                    <a:lnTo>
                      <a:pt x="2242" y="139"/>
                    </a:lnTo>
                    <a:lnTo>
                      <a:pt x="2242" y="150"/>
                    </a:lnTo>
                    <a:lnTo>
                      <a:pt x="2240" y="162"/>
                    </a:lnTo>
                    <a:lnTo>
                      <a:pt x="2229" y="170"/>
                    </a:lnTo>
                    <a:lnTo>
                      <a:pt x="2224" y="178"/>
                    </a:lnTo>
                    <a:lnTo>
                      <a:pt x="2208" y="182"/>
                    </a:lnTo>
                    <a:lnTo>
                      <a:pt x="2196" y="186"/>
                    </a:lnTo>
                    <a:lnTo>
                      <a:pt x="2176" y="188"/>
                    </a:lnTo>
                    <a:lnTo>
                      <a:pt x="2158" y="192"/>
                    </a:lnTo>
                    <a:lnTo>
                      <a:pt x="2139" y="192"/>
                    </a:lnTo>
                    <a:lnTo>
                      <a:pt x="2123" y="194"/>
                    </a:lnTo>
                    <a:lnTo>
                      <a:pt x="2089" y="199"/>
                    </a:lnTo>
                    <a:lnTo>
                      <a:pt x="2064" y="209"/>
                    </a:lnTo>
                    <a:lnTo>
                      <a:pt x="2037" y="219"/>
                    </a:lnTo>
                    <a:lnTo>
                      <a:pt x="2016" y="233"/>
                    </a:lnTo>
                    <a:lnTo>
                      <a:pt x="1994" y="248"/>
                    </a:lnTo>
                    <a:lnTo>
                      <a:pt x="1968" y="266"/>
                    </a:lnTo>
                    <a:lnTo>
                      <a:pt x="1939" y="285"/>
                    </a:lnTo>
                    <a:lnTo>
                      <a:pt x="1914" y="313"/>
                    </a:lnTo>
                    <a:lnTo>
                      <a:pt x="1898" y="348"/>
                    </a:lnTo>
                    <a:lnTo>
                      <a:pt x="1898" y="393"/>
                    </a:lnTo>
                    <a:lnTo>
                      <a:pt x="1909" y="432"/>
                    </a:lnTo>
                    <a:lnTo>
                      <a:pt x="1914" y="462"/>
                    </a:lnTo>
                    <a:lnTo>
                      <a:pt x="1925" y="475"/>
                    </a:lnTo>
                    <a:lnTo>
                      <a:pt x="1939" y="477"/>
                    </a:lnTo>
                    <a:lnTo>
                      <a:pt x="1959" y="475"/>
                    </a:lnTo>
                    <a:lnTo>
                      <a:pt x="1978" y="475"/>
                    </a:lnTo>
                    <a:lnTo>
                      <a:pt x="2000" y="477"/>
                    </a:lnTo>
                    <a:lnTo>
                      <a:pt x="2025" y="479"/>
                    </a:lnTo>
                    <a:lnTo>
                      <a:pt x="2044" y="485"/>
                    </a:lnTo>
                    <a:lnTo>
                      <a:pt x="2066" y="495"/>
                    </a:lnTo>
                    <a:lnTo>
                      <a:pt x="2089" y="499"/>
                    </a:lnTo>
                    <a:lnTo>
                      <a:pt x="2107" y="503"/>
                    </a:lnTo>
                    <a:lnTo>
                      <a:pt x="2123" y="506"/>
                    </a:lnTo>
                    <a:lnTo>
                      <a:pt x="2139" y="506"/>
                    </a:lnTo>
                    <a:lnTo>
                      <a:pt x="2158" y="506"/>
                    </a:lnTo>
                    <a:lnTo>
                      <a:pt x="2174" y="512"/>
                    </a:lnTo>
                    <a:lnTo>
                      <a:pt x="2183" y="518"/>
                    </a:lnTo>
                    <a:lnTo>
                      <a:pt x="2187" y="532"/>
                    </a:lnTo>
                    <a:lnTo>
                      <a:pt x="2196" y="544"/>
                    </a:lnTo>
                    <a:lnTo>
                      <a:pt x="2205" y="551"/>
                    </a:lnTo>
                    <a:lnTo>
                      <a:pt x="2221" y="557"/>
                    </a:lnTo>
                    <a:lnTo>
                      <a:pt x="2240" y="559"/>
                    </a:lnTo>
                    <a:lnTo>
                      <a:pt x="2249" y="551"/>
                    </a:lnTo>
                    <a:lnTo>
                      <a:pt x="2253" y="532"/>
                    </a:lnTo>
                    <a:lnTo>
                      <a:pt x="2253" y="508"/>
                    </a:lnTo>
                    <a:lnTo>
                      <a:pt x="2246" y="485"/>
                    </a:lnTo>
                    <a:lnTo>
                      <a:pt x="2249" y="475"/>
                    </a:lnTo>
                    <a:lnTo>
                      <a:pt x="2269" y="463"/>
                    </a:lnTo>
                    <a:lnTo>
                      <a:pt x="2297" y="460"/>
                    </a:lnTo>
                    <a:lnTo>
                      <a:pt x="2322" y="450"/>
                    </a:lnTo>
                    <a:lnTo>
                      <a:pt x="2340" y="442"/>
                    </a:lnTo>
                    <a:lnTo>
                      <a:pt x="2338" y="424"/>
                    </a:lnTo>
                    <a:lnTo>
                      <a:pt x="2326" y="409"/>
                    </a:lnTo>
                    <a:lnTo>
                      <a:pt x="2302" y="397"/>
                    </a:lnTo>
                    <a:lnTo>
                      <a:pt x="2290" y="383"/>
                    </a:lnTo>
                    <a:lnTo>
                      <a:pt x="2281" y="368"/>
                    </a:lnTo>
                    <a:lnTo>
                      <a:pt x="2286" y="352"/>
                    </a:lnTo>
                    <a:lnTo>
                      <a:pt x="2294" y="334"/>
                    </a:lnTo>
                    <a:lnTo>
                      <a:pt x="2315" y="325"/>
                    </a:lnTo>
                    <a:lnTo>
                      <a:pt x="2343" y="317"/>
                    </a:lnTo>
                    <a:lnTo>
                      <a:pt x="2375" y="325"/>
                    </a:lnTo>
                    <a:lnTo>
                      <a:pt x="2395" y="332"/>
                    </a:lnTo>
                    <a:lnTo>
                      <a:pt x="2409" y="344"/>
                    </a:lnTo>
                    <a:lnTo>
                      <a:pt x="2432" y="352"/>
                    </a:lnTo>
                    <a:lnTo>
                      <a:pt x="2454" y="360"/>
                    </a:lnTo>
                    <a:lnTo>
                      <a:pt x="2470" y="366"/>
                    </a:lnTo>
                    <a:lnTo>
                      <a:pt x="2486" y="373"/>
                    </a:lnTo>
                    <a:lnTo>
                      <a:pt x="2502" y="383"/>
                    </a:lnTo>
                    <a:lnTo>
                      <a:pt x="2514" y="397"/>
                    </a:lnTo>
                    <a:lnTo>
                      <a:pt x="2530" y="407"/>
                    </a:lnTo>
                    <a:lnTo>
                      <a:pt x="2546" y="409"/>
                    </a:lnTo>
                    <a:lnTo>
                      <a:pt x="2564" y="399"/>
                    </a:lnTo>
                    <a:lnTo>
                      <a:pt x="2587" y="383"/>
                    </a:lnTo>
                    <a:lnTo>
                      <a:pt x="2602" y="368"/>
                    </a:lnTo>
                    <a:lnTo>
                      <a:pt x="2616" y="362"/>
                    </a:lnTo>
                    <a:lnTo>
                      <a:pt x="2641" y="366"/>
                    </a:lnTo>
                    <a:lnTo>
                      <a:pt x="2662" y="379"/>
                    </a:lnTo>
                    <a:lnTo>
                      <a:pt x="2678" y="399"/>
                    </a:lnTo>
                    <a:lnTo>
                      <a:pt x="2687" y="413"/>
                    </a:lnTo>
                    <a:lnTo>
                      <a:pt x="2703" y="428"/>
                    </a:lnTo>
                    <a:lnTo>
                      <a:pt x="2719" y="442"/>
                    </a:lnTo>
                    <a:lnTo>
                      <a:pt x="2741" y="460"/>
                    </a:lnTo>
                    <a:lnTo>
                      <a:pt x="2760" y="477"/>
                    </a:lnTo>
                    <a:lnTo>
                      <a:pt x="2773" y="489"/>
                    </a:lnTo>
                    <a:lnTo>
                      <a:pt x="2780" y="501"/>
                    </a:lnTo>
                    <a:lnTo>
                      <a:pt x="2781" y="514"/>
                    </a:lnTo>
                    <a:lnTo>
                      <a:pt x="2792" y="524"/>
                    </a:lnTo>
                    <a:lnTo>
                      <a:pt x="2808" y="526"/>
                    </a:lnTo>
                    <a:lnTo>
                      <a:pt x="2830" y="524"/>
                    </a:lnTo>
                    <a:lnTo>
                      <a:pt x="2849" y="522"/>
                    </a:lnTo>
                    <a:lnTo>
                      <a:pt x="2863" y="524"/>
                    </a:lnTo>
                    <a:lnTo>
                      <a:pt x="2870" y="534"/>
                    </a:lnTo>
                    <a:lnTo>
                      <a:pt x="2867" y="553"/>
                    </a:lnTo>
                    <a:lnTo>
                      <a:pt x="2854" y="577"/>
                    </a:lnTo>
                    <a:lnTo>
                      <a:pt x="2838" y="595"/>
                    </a:lnTo>
                    <a:lnTo>
                      <a:pt x="2821" y="600"/>
                    </a:lnTo>
                    <a:lnTo>
                      <a:pt x="2797" y="604"/>
                    </a:lnTo>
                    <a:lnTo>
                      <a:pt x="2773" y="606"/>
                    </a:lnTo>
                    <a:lnTo>
                      <a:pt x="2751" y="610"/>
                    </a:lnTo>
                    <a:lnTo>
                      <a:pt x="2732" y="612"/>
                    </a:lnTo>
                    <a:lnTo>
                      <a:pt x="2712" y="614"/>
                    </a:lnTo>
                    <a:lnTo>
                      <a:pt x="2700" y="618"/>
                    </a:lnTo>
                    <a:lnTo>
                      <a:pt x="2694" y="632"/>
                    </a:lnTo>
                    <a:lnTo>
                      <a:pt x="2694" y="649"/>
                    </a:lnTo>
                    <a:lnTo>
                      <a:pt x="2698" y="669"/>
                    </a:lnTo>
                    <a:lnTo>
                      <a:pt x="2700" y="690"/>
                    </a:lnTo>
                    <a:lnTo>
                      <a:pt x="2694" y="708"/>
                    </a:lnTo>
                    <a:lnTo>
                      <a:pt x="2669" y="726"/>
                    </a:lnTo>
                    <a:lnTo>
                      <a:pt x="2634" y="737"/>
                    </a:lnTo>
                    <a:lnTo>
                      <a:pt x="2605" y="745"/>
                    </a:lnTo>
                    <a:lnTo>
                      <a:pt x="2584" y="751"/>
                    </a:lnTo>
                    <a:lnTo>
                      <a:pt x="2561" y="765"/>
                    </a:lnTo>
                    <a:lnTo>
                      <a:pt x="2539" y="778"/>
                    </a:lnTo>
                    <a:lnTo>
                      <a:pt x="2530" y="796"/>
                    </a:lnTo>
                    <a:lnTo>
                      <a:pt x="2518" y="812"/>
                    </a:lnTo>
                    <a:lnTo>
                      <a:pt x="2507" y="825"/>
                    </a:lnTo>
                    <a:lnTo>
                      <a:pt x="2489" y="831"/>
                    </a:lnTo>
                    <a:lnTo>
                      <a:pt x="2470" y="845"/>
                    </a:lnTo>
                    <a:lnTo>
                      <a:pt x="2454" y="855"/>
                    </a:lnTo>
                    <a:lnTo>
                      <a:pt x="2438" y="857"/>
                    </a:lnTo>
                    <a:lnTo>
                      <a:pt x="2420" y="861"/>
                    </a:lnTo>
                    <a:lnTo>
                      <a:pt x="2397" y="866"/>
                    </a:lnTo>
                    <a:lnTo>
                      <a:pt x="2384" y="876"/>
                    </a:lnTo>
                    <a:lnTo>
                      <a:pt x="2384" y="888"/>
                    </a:lnTo>
                    <a:lnTo>
                      <a:pt x="2384" y="898"/>
                    </a:lnTo>
                    <a:lnTo>
                      <a:pt x="2379" y="909"/>
                    </a:lnTo>
                    <a:lnTo>
                      <a:pt x="2372" y="925"/>
                    </a:lnTo>
                    <a:lnTo>
                      <a:pt x="2368" y="941"/>
                    </a:lnTo>
                    <a:lnTo>
                      <a:pt x="2363" y="958"/>
                    </a:lnTo>
                    <a:lnTo>
                      <a:pt x="2351" y="972"/>
                    </a:lnTo>
                    <a:lnTo>
                      <a:pt x="2343" y="986"/>
                    </a:lnTo>
                    <a:lnTo>
                      <a:pt x="2343" y="996"/>
                    </a:lnTo>
                    <a:lnTo>
                      <a:pt x="2340" y="1003"/>
                    </a:lnTo>
                    <a:lnTo>
                      <a:pt x="2322" y="1005"/>
                    </a:lnTo>
                    <a:lnTo>
                      <a:pt x="2299" y="1007"/>
                    </a:lnTo>
                    <a:lnTo>
                      <a:pt x="2286" y="1009"/>
                    </a:lnTo>
                    <a:lnTo>
                      <a:pt x="2274" y="1019"/>
                    </a:lnTo>
                    <a:lnTo>
                      <a:pt x="2265" y="1037"/>
                    </a:lnTo>
                    <a:lnTo>
                      <a:pt x="2269" y="1068"/>
                    </a:lnTo>
                    <a:lnTo>
                      <a:pt x="2278" y="1107"/>
                    </a:lnTo>
                    <a:lnTo>
                      <a:pt x="2281" y="1144"/>
                    </a:lnTo>
                    <a:lnTo>
                      <a:pt x="2265" y="1160"/>
                    </a:lnTo>
                    <a:lnTo>
                      <a:pt x="2242" y="1158"/>
                    </a:lnTo>
                    <a:lnTo>
                      <a:pt x="2224" y="1154"/>
                    </a:lnTo>
                    <a:lnTo>
                      <a:pt x="2212" y="1142"/>
                    </a:lnTo>
                    <a:lnTo>
                      <a:pt x="2201" y="1130"/>
                    </a:lnTo>
                    <a:lnTo>
                      <a:pt x="2192" y="1115"/>
                    </a:lnTo>
                    <a:lnTo>
                      <a:pt x="2183" y="1097"/>
                    </a:lnTo>
                    <a:lnTo>
                      <a:pt x="2176" y="1082"/>
                    </a:lnTo>
                    <a:lnTo>
                      <a:pt x="2174" y="1078"/>
                    </a:lnTo>
                    <a:lnTo>
                      <a:pt x="2167" y="1078"/>
                    </a:lnTo>
                    <a:lnTo>
                      <a:pt x="2146" y="1076"/>
                    </a:lnTo>
                    <a:lnTo>
                      <a:pt x="2119" y="1076"/>
                    </a:lnTo>
                    <a:lnTo>
                      <a:pt x="2098" y="1078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69" name="Freeform 1151"/>
              <p:cNvSpPr/>
              <p:nvPr/>
            </p:nvSpPr>
            <p:spPr>
              <a:xfrm>
                <a:off x="2636280" y="3251160"/>
                <a:ext cx="550440" cy="299880"/>
              </a:xfrm>
              <a:custGeom>
                <a:avLst/>
                <a:gdLst/>
                <a:ahLst/>
                <a:rect l="l" t="t" r="r" b="b"/>
                <a:pathLst>
                  <a:path w="695" h="380">
                    <a:moveTo>
                      <a:pt x="32" y="12"/>
                    </a:moveTo>
                    <a:lnTo>
                      <a:pt x="46" y="6"/>
                    </a:lnTo>
                    <a:lnTo>
                      <a:pt x="66" y="0"/>
                    </a:lnTo>
                    <a:lnTo>
                      <a:pt x="86" y="0"/>
                    </a:lnTo>
                    <a:lnTo>
                      <a:pt x="100" y="0"/>
                    </a:lnTo>
                    <a:lnTo>
                      <a:pt x="119" y="4"/>
                    </a:lnTo>
                    <a:lnTo>
                      <a:pt x="139" y="6"/>
                    </a:lnTo>
                    <a:lnTo>
                      <a:pt x="157" y="8"/>
                    </a:lnTo>
                    <a:lnTo>
                      <a:pt x="180" y="14"/>
                    </a:lnTo>
                    <a:lnTo>
                      <a:pt x="198" y="18"/>
                    </a:lnTo>
                    <a:lnTo>
                      <a:pt x="221" y="24"/>
                    </a:lnTo>
                    <a:lnTo>
                      <a:pt x="246" y="28"/>
                    </a:lnTo>
                    <a:lnTo>
                      <a:pt x="274" y="34"/>
                    </a:lnTo>
                    <a:lnTo>
                      <a:pt x="292" y="41"/>
                    </a:lnTo>
                    <a:lnTo>
                      <a:pt x="313" y="45"/>
                    </a:lnTo>
                    <a:lnTo>
                      <a:pt x="337" y="51"/>
                    </a:lnTo>
                    <a:lnTo>
                      <a:pt x="353" y="55"/>
                    </a:lnTo>
                    <a:lnTo>
                      <a:pt x="370" y="57"/>
                    </a:lnTo>
                    <a:lnTo>
                      <a:pt x="395" y="61"/>
                    </a:lnTo>
                    <a:lnTo>
                      <a:pt x="420" y="65"/>
                    </a:lnTo>
                    <a:lnTo>
                      <a:pt x="449" y="75"/>
                    </a:lnTo>
                    <a:lnTo>
                      <a:pt x="477" y="82"/>
                    </a:lnTo>
                    <a:lnTo>
                      <a:pt x="506" y="92"/>
                    </a:lnTo>
                    <a:lnTo>
                      <a:pt x="527" y="106"/>
                    </a:lnTo>
                    <a:lnTo>
                      <a:pt x="547" y="114"/>
                    </a:lnTo>
                    <a:lnTo>
                      <a:pt x="572" y="141"/>
                    </a:lnTo>
                    <a:lnTo>
                      <a:pt x="595" y="178"/>
                    </a:lnTo>
                    <a:lnTo>
                      <a:pt x="613" y="212"/>
                    </a:lnTo>
                    <a:lnTo>
                      <a:pt x="632" y="229"/>
                    </a:lnTo>
                    <a:lnTo>
                      <a:pt x="648" y="241"/>
                    </a:lnTo>
                    <a:lnTo>
                      <a:pt x="662" y="258"/>
                    </a:lnTo>
                    <a:lnTo>
                      <a:pt x="670" y="278"/>
                    </a:lnTo>
                    <a:lnTo>
                      <a:pt x="673" y="298"/>
                    </a:lnTo>
                    <a:lnTo>
                      <a:pt x="673" y="315"/>
                    </a:lnTo>
                    <a:lnTo>
                      <a:pt x="682" y="329"/>
                    </a:lnTo>
                    <a:lnTo>
                      <a:pt x="687" y="343"/>
                    </a:lnTo>
                    <a:lnTo>
                      <a:pt x="695" y="356"/>
                    </a:lnTo>
                    <a:lnTo>
                      <a:pt x="691" y="362"/>
                    </a:lnTo>
                    <a:lnTo>
                      <a:pt x="679" y="372"/>
                    </a:lnTo>
                    <a:lnTo>
                      <a:pt x="661" y="376"/>
                    </a:lnTo>
                    <a:lnTo>
                      <a:pt x="634" y="378"/>
                    </a:lnTo>
                    <a:lnTo>
                      <a:pt x="609" y="380"/>
                    </a:lnTo>
                    <a:lnTo>
                      <a:pt x="584" y="378"/>
                    </a:lnTo>
                    <a:lnTo>
                      <a:pt x="559" y="372"/>
                    </a:lnTo>
                    <a:lnTo>
                      <a:pt x="541" y="360"/>
                    </a:lnTo>
                    <a:lnTo>
                      <a:pt x="522" y="347"/>
                    </a:lnTo>
                    <a:lnTo>
                      <a:pt x="502" y="337"/>
                    </a:lnTo>
                    <a:lnTo>
                      <a:pt x="481" y="325"/>
                    </a:lnTo>
                    <a:lnTo>
                      <a:pt x="459" y="315"/>
                    </a:lnTo>
                    <a:lnTo>
                      <a:pt x="440" y="307"/>
                    </a:lnTo>
                    <a:lnTo>
                      <a:pt x="419" y="300"/>
                    </a:lnTo>
                    <a:lnTo>
                      <a:pt x="395" y="298"/>
                    </a:lnTo>
                    <a:lnTo>
                      <a:pt x="378" y="296"/>
                    </a:lnTo>
                    <a:lnTo>
                      <a:pt x="340" y="290"/>
                    </a:lnTo>
                    <a:lnTo>
                      <a:pt x="308" y="274"/>
                    </a:lnTo>
                    <a:lnTo>
                      <a:pt x="289" y="260"/>
                    </a:lnTo>
                    <a:lnTo>
                      <a:pt x="289" y="243"/>
                    </a:lnTo>
                    <a:lnTo>
                      <a:pt x="299" y="239"/>
                    </a:lnTo>
                    <a:lnTo>
                      <a:pt x="312" y="231"/>
                    </a:lnTo>
                    <a:lnTo>
                      <a:pt x="328" y="229"/>
                    </a:lnTo>
                    <a:lnTo>
                      <a:pt x="346" y="229"/>
                    </a:lnTo>
                    <a:lnTo>
                      <a:pt x="358" y="227"/>
                    </a:lnTo>
                    <a:lnTo>
                      <a:pt x="378" y="227"/>
                    </a:lnTo>
                    <a:lnTo>
                      <a:pt x="394" y="227"/>
                    </a:lnTo>
                    <a:lnTo>
                      <a:pt x="406" y="225"/>
                    </a:lnTo>
                    <a:lnTo>
                      <a:pt x="411" y="212"/>
                    </a:lnTo>
                    <a:lnTo>
                      <a:pt x="399" y="192"/>
                    </a:lnTo>
                    <a:lnTo>
                      <a:pt x="374" y="172"/>
                    </a:lnTo>
                    <a:lnTo>
                      <a:pt x="349" y="157"/>
                    </a:lnTo>
                    <a:lnTo>
                      <a:pt x="333" y="151"/>
                    </a:lnTo>
                    <a:lnTo>
                      <a:pt x="308" y="149"/>
                    </a:lnTo>
                    <a:lnTo>
                      <a:pt x="280" y="141"/>
                    </a:lnTo>
                    <a:lnTo>
                      <a:pt x="246" y="137"/>
                    </a:lnTo>
                    <a:lnTo>
                      <a:pt x="210" y="131"/>
                    </a:lnTo>
                    <a:lnTo>
                      <a:pt x="180" y="127"/>
                    </a:lnTo>
                    <a:lnTo>
                      <a:pt x="148" y="122"/>
                    </a:lnTo>
                    <a:lnTo>
                      <a:pt x="123" y="116"/>
                    </a:lnTo>
                    <a:lnTo>
                      <a:pt x="100" y="110"/>
                    </a:lnTo>
                    <a:lnTo>
                      <a:pt x="75" y="100"/>
                    </a:lnTo>
                    <a:lnTo>
                      <a:pt x="46" y="90"/>
                    </a:lnTo>
                    <a:lnTo>
                      <a:pt x="25" y="75"/>
                    </a:lnTo>
                    <a:lnTo>
                      <a:pt x="7" y="59"/>
                    </a:lnTo>
                    <a:lnTo>
                      <a:pt x="0" y="43"/>
                    </a:lnTo>
                    <a:lnTo>
                      <a:pt x="7" y="26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70" name="Freeform 1152"/>
              <p:cNvSpPr/>
              <p:nvPr/>
            </p:nvSpPr>
            <p:spPr>
              <a:xfrm>
                <a:off x="2982240" y="2908080"/>
                <a:ext cx="1130040" cy="642960"/>
              </a:xfrm>
              <a:custGeom>
                <a:avLst/>
                <a:gdLst/>
                <a:ahLst/>
                <a:rect l="l" t="t" r="r" b="b"/>
                <a:pathLst>
                  <a:path w="1425" h="810">
                    <a:moveTo>
                      <a:pt x="326" y="113"/>
                    </a:moveTo>
                    <a:lnTo>
                      <a:pt x="307" y="115"/>
                    </a:lnTo>
                    <a:lnTo>
                      <a:pt x="294" y="117"/>
                    </a:lnTo>
                    <a:lnTo>
                      <a:pt x="278" y="115"/>
                    </a:lnTo>
                    <a:lnTo>
                      <a:pt x="266" y="115"/>
                    </a:lnTo>
                    <a:lnTo>
                      <a:pt x="250" y="115"/>
                    </a:lnTo>
                    <a:lnTo>
                      <a:pt x="235" y="117"/>
                    </a:lnTo>
                    <a:lnTo>
                      <a:pt x="219" y="127"/>
                    </a:lnTo>
                    <a:lnTo>
                      <a:pt x="200" y="135"/>
                    </a:lnTo>
                    <a:lnTo>
                      <a:pt x="171" y="162"/>
                    </a:lnTo>
                    <a:lnTo>
                      <a:pt x="152" y="186"/>
                    </a:lnTo>
                    <a:lnTo>
                      <a:pt x="134" y="207"/>
                    </a:lnTo>
                    <a:lnTo>
                      <a:pt x="107" y="219"/>
                    </a:lnTo>
                    <a:lnTo>
                      <a:pt x="89" y="229"/>
                    </a:lnTo>
                    <a:lnTo>
                      <a:pt x="73" y="233"/>
                    </a:lnTo>
                    <a:lnTo>
                      <a:pt x="50" y="242"/>
                    </a:lnTo>
                    <a:lnTo>
                      <a:pt x="32" y="248"/>
                    </a:lnTo>
                    <a:lnTo>
                      <a:pt x="13" y="256"/>
                    </a:lnTo>
                    <a:lnTo>
                      <a:pt x="4" y="264"/>
                    </a:lnTo>
                    <a:lnTo>
                      <a:pt x="0" y="272"/>
                    </a:lnTo>
                    <a:lnTo>
                      <a:pt x="4" y="278"/>
                    </a:lnTo>
                    <a:lnTo>
                      <a:pt x="20" y="289"/>
                    </a:lnTo>
                    <a:lnTo>
                      <a:pt x="36" y="293"/>
                    </a:lnTo>
                    <a:lnTo>
                      <a:pt x="45" y="301"/>
                    </a:lnTo>
                    <a:lnTo>
                      <a:pt x="57" y="311"/>
                    </a:lnTo>
                    <a:lnTo>
                      <a:pt x="64" y="327"/>
                    </a:lnTo>
                    <a:lnTo>
                      <a:pt x="82" y="342"/>
                    </a:lnTo>
                    <a:lnTo>
                      <a:pt x="105" y="348"/>
                    </a:lnTo>
                    <a:lnTo>
                      <a:pt x="134" y="340"/>
                    </a:lnTo>
                    <a:lnTo>
                      <a:pt x="162" y="325"/>
                    </a:lnTo>
                    <a:lnTo>
                      <a:pt x="184" y="315"/>
                    </a:lnTo>
                    <a:lnTo>
                      <a:pt x="209" y="313"/>
                    </a:lnTo>
                    <a:lnTo>
                      <a:pt x="235" y="311"/>
                    </a:lnTo>
                    <a:lnTo>
                      <a:pt x="253" y="307"/>
                    </a:lnTo>
                    <a:lnTo>
                      <a:pt x="269" y="303"/>
                    </a:lnTo>
                    <a:lnTo>
                      <a:pt x="278" y="303"/>
                    </a:lnTo>
                    <a:lnTo>
                      <a:pt x="292" y="313"/>
                    </a:lnTo>
                    <a:lnTo>
                      <a:pt x="307" y="331"/>
                    </a:lnTo>
                    <a:lnTo>
                      <a:pt x="330" y="348"/>
                    </a:lnTo>
                    <a:lnTo>
                      <a:pt x="349" y="360"/>
                    </a:lnTo>
                    <a:lnTo>
                      <a:pt x="355" y="364"/>
                    </a:lnTo>
                    <a:lnTo>
                      <a:pt x="355" y="368"/>
                    </a:lnTo>
                    <a:lnTo>
                      <a:pt x="355" y="379"/>
                    </a:lnTo>
                    <a:lnTo>
                      <a:pt x="355" y="393"/>
                    </a:lnTo>
                    <a:lnTo>
                      <a:pt x="362" y="407"/>
                    </a:lnTo>
                    <a:lnTo>
                      <a:pt x="367" y="422"/>
                    </a:lnTo>
                    <a:lnTo>
                      <a:pt x="387" y="438"/>
                    </a:lnTo>
                    <a:lnTo>
                      <a:pt x="412" y="450"/>
                    </a:lnTo>
                    <a:lnTo>
                      <a:pt x="435" y="465"/>
                    </a:lnTo>
                    <a:lnTo>
                      <a:pt x="447" y="481"/>
                    </a:lnTo>
                    <a:lnTo>
                      <a:pt x="456" y="495"/>
                    </a:lnTo>
                    <a:lnTo>
                      <a:pt x="460" y="512"/>
                    </a:lnTo>
                    <a:lnTo>
                      <a:pt x="463" y="532"/>
                    </a:lnTo>
                    <a:lnTo>
                      <a:pt x="465" y="557"/>
                    </a:lnTo>
                    <a:lnTo>
                      <a:pt x="469" y="583"/>
                    </a:lnTo>
                    <a:lnTo>
                      <a:pt x="469" y="610"/>
                    </a:lnTo>
                    <a:lnTo>
                      <a:pt x="465" y="624"/>
                    </a:lnTo>
                    <a:lnTo>
                      <a:pt x="456" y="640"/>
                    </a:lnTo>
                    <a:lnTo>
                      <a:pt x="444" y="655"/>
                    </a:lnTo>
                    <a:lnTo>
                      <a:pt x="437" y="671"/>
                    </a:lnTo>
                    <a:lnTo>
                      <a:pt x="435" y="687"/>
                    </a:lnTo>
                    <a:lnTo>
                      <a:pt x="437" y="696"/>
                    </a:lnTo>
                    <a:lnTo>
                      <a:pt x="447" y="706"/>
                    </a:lnTo>
                    <a:lnTo>
                      <a:pt x="460" y="710"/>
                    </a:lnTo>
                    <a:lnTo>
                      <a:pt x="465" y="720"/>
                    </a:lnTo>
                    <a:lnTo>
                      <a:pt x="469" y="735"/>
                    </a:lnTo>
                    <a:lnTo>
                      <a:pt x="472" y="749"/>
                    </a:lnTo>
                    <a:lnTo>
                      <a:pt x="485" y="765"/>
                    </a:lnTo>
                    <a:lnTo>
                      <a:pt x="497" y="777"/>
                    </a:lnTo>
                    <a:lnTo>
                      <a:pt x="513" y="782"/>
                    </a:lnTo>
                    <a:lnTo>
                      <a:pt x="533" y="790"/>
                    </a:lnTo>
                    <a:lnTo>
                      <a:pt x="554" y="796"/>
                    </a:lnTo>
                    <a:lnTo>
                      <a:pt x="579" y="806"/>
                    </a:lnTo>
                    <a:lnTo>
                      <a:pt x="606" y="810"/>
                    </a:lnTo>
                    <a:lnTo>
                      <a:pt x="627" y="810"/>
                    </a:lnTo>
                    <a:lnTo>
                      <a:pt x="643" y="810"/>
                    </a:lnTo>
                    <a:lnTo>
                      <a:pt x="659" y="804"/>
                    </a:lnTo>
                    <a:lnTo>
                      <a:pt x="672" y="792"/>
                    </a:lnTo>
                    <a:lnTo>
                      <a:pt x="684" y="778"/>
                    </a:lnTo>
                    <a:lnTo>
                      <a:pt x="705" y="769"/>
                    </a:lnTo>
                    <a:lnTo>
                      <a:pt x="729" y="755"/>
                    </a:lnTo>
                    <a:lnTo>
                      <a:pt x="750" y="739"/>
                    </a:lnTo>
                    <a:lnTo>
                      <a:pt x="773" y="726"/>
                    </a:lnTo>
                    <a:lnTo>
                      <a:pt x="794" y="712"/>
                    </a:lnTo>
                    <a:lnTo>
                      <a:pt x="810" y="698"/>
                    </a:lnTo>
                    <a:lnTo>
                      <a:pt x="827" y="688"/>
                    </a:lnTo>
                    <a:lnTo>
                      <a:pt x="843" y="675"/>
                    </a:lnTo>
                    <a:lnTo>
                      <a:pt x="855" y="659"/>
                    </a:lnTo>
                    <a:lnTo>
                      <a:pt x="871" y="643"/>
                    </a:lnTo>
                    <a:lnTo>
                      <a:pt x="883" y="630"/>
                    </a:lnTo>
                    <a:lnTo>
                      <a:pt x="900" y="616"/>
                    </a:lnTo>
                    <a:lnTo>
                      <a:pt x="919" y="606"/>
                    </a:lnTo>
                    <a:lnTo>
                      <a:pt x="937" y="602"/>
                    </a:lnTo>
                    <a:lnTo>
                      <a:pt x="953" y="599"/>
                    </a:lnTo>
                    <a:lnTo>
                      <a:pt x="976" y="597"/>
                    </a:lnTo>
                    <a:lnTo>
                      <a:pt x="994" y="595"/>
                    </a:lnTo>
                    <a:lnTo>
                      <a:pt x="1013" y="593"/>
                    </a:lnTo>
                    <a:lnTo>
                      <a:pt x="1026" y="591"/>
                    </a:lnTo>
                    <a:lnTo>
                      <a:pt x="1046" y="583"/>
                    </a:lnTo>
                    <a:lnTo>
                      <a:pt x="1062" y="579"/>
                    </a:lnTo>
                    <a:lnTo>
                      <a:pt x="1070" y="575"/>
                    </a:lnTo>
                    <a:lnTo>
                      <a:pt x="1092" y="563"/>
                    </a:lnTo>
                    <a:lnTo>
                      <a:pt x="1111" y="557"/>
                    </a:lnTo>
                    <a:lnTo>
                      <a:pt x="1127" y="548"/>
                    </a:lnTo>
                    <a:lnTo>
                      <a:pt x="1147" y="542"/>
                    </a:lnTo>
                    <a:lnTo>
                      <a:pt x="1165" y="532"/>
                    </a:lnTo>
                    <a:lnTo>
                      <a:pt x="1181" y="520"/>
                    </a:lnTo>
                    <a:lnTo>
                      <a:pt x="1190" y="509"/>
                    </a:lnTo>
                    <a:lnTo>
                      <a:pt x="1190" y="499"/>
                    </a:lnTo>
                    <a:lnTo>
                      <a:pt x="1184" y="493"/>
                    </a:lnTo>
                    <a:lnTo>
                      <a:pt x="1168" y="483"/>
                    </a:lnTo>
                    <a:lnTo>
                      <a:pt x="1156" y="477"/>
                    </a:lnTo>
                    <a:lnTo>
                      <a:pt x="1143" y="475"/>
                    </a:lnTo>
                    <a:lnTo>
                      <a:pt x="1131" y="471"/>
                    </a:lnTo>
                    <a:lnTo>
                      <a:pt x="1108" y="465"/>
                    </a:lnTo>
                    <a:lnTo>
                      <a:pt x="1092" y="462"/>
                    </a:lnTo>
                    <a:lnTo>
                      <a:pt x="1092" y="448"/>
                    </a:lnTo>
                    <a:lnTo>
                      <a:pt x="1104" y="432"/>
                    </a:lnTo>
                    <a:lnTo>
                      <a:pt x="1115" y="419"/>
                    </a:lnTo>
                    <a:lnTo>
                      <a:pt x="1127" y="411"/>
                    </a:lnTo>
                    <a:lnTo>
                      <a:pt x="1143" y="413"/>
                    </a:lnTo>
                    <a:lnTo>
                      <a:pt x="1165" y="419"/>
                    </a:lnTo>
                    <a:lnTo>
                      <a:pt x="1193" y="422"/>
                    </a:lnTo>
                    <a:lnTo>
                      <a:pt x="1216" y="424"/>
                    </a:lnTo>
                    <a:lnTo>
                      <a:pt x="1229" y="424"/>
                    </a:lnTo>
                    <a:lnTo>
                      <a:pt x="1232" y="422"/>
                    </a:lnTo>
                    <a:lnTo>
                      <a:pt x="1238" y="413"/>
                    </a:lnTo>
                    <a:lnTo>
                      <a:pt x="1241" y="401"/>
                    </a:lnTo>
                    <a:lnTo>
                      <a:pt x="1250" y="381"/>
                    </a:lnTo>
                    <a:lnTo>
                      <a:pt x="1257" y="362"/>
                    </a:lnTo>
                    <a:lnTo>
                      <a:pt x="1261" y="344"/>
                    </a:lnTo>
                    <a:lnTo>
                      <a:pt x="1257" y="329"/>
                    </a:lnTo>
                    <a:lnTo>
                      <a:pt x="1254" y="311"/>
                    </a:lnTo>
                    <a:lnTo>
                      <a:pt x="1247" y="291"/>
                    </a:lnTo>
                    <a:lnTo>
                      <a:pt x="1247" y="266"/>
                    </a:lnTo>
                    <a:lnTo>
                      <a:pt x="1254" y="239"/>
                    </a:lnTo>
                    <a:lnTo>
                      <a:pt x="1266" y="215"/>
                    </a:lnTo>
                    <a:lnTo>
                      <a:pt x="1279" y="198"/>
                    </a:lnTo>
                    <a:lnTo>
                      <a:pt x="1295" y="186"/>
                    </a:lnTo>
                    <a:lnTo>
                      <a:pt x="1311" y="174"/>
                    </a:lnTo>
                    <a:lnTo>
                      <a:pt x="1323" y="166"/>
                    </a:lnTo>
                    <a:lnTo>
                      <a:pt x="1336" y="158"/>
                    </a:lnTo>
                    <a:lnTo>
                      <a:pt x="1352" y="151"/>
                    </a:lnTo>
                    <a:lnTo>
                      <a:pt x="1371" y="143"/>
                    </a:lnTo>
                    <a:lnTo>
                      <a:pt x="1384" y="135"/>
                    </a:lnTo>
                    <a:lnTo>
                      <a:pt x="1400" y="129"/>
                    </a:lnTo>
                    <a:lnTo>
                      <a:pt x="1416" y="117"/>
                    </a:lnTo>
                    <a:lnTo>
                      <a:pt x="1421" y="111"/>
                    </a:lnTo>
                    <a:lnTo>
                      <a:pt x="1425" y="96"/>
                    </a:lnTo>
                    <a:lnTo>
                      <a:pt x="1416" y="88"/>
                    </a:lnTo>
                    <a:lnTo>
                      <a:pt x="1396" y="88"/>
                    </a:lnTo>
                    <a:lnTo>
                      <a:pt x="1375" y="92"/>
                    </a:lnTo>
                    <a:lnTo>
                      <a:pt x="1352" y="92"/>
                    </a:lnTo>
                    <a:lnTo>
                      <a:pt x="1327" y="88"/>
                    </a:lnTo>
                    <a:lnTo>
                      <a:pt x="1302" y="84"/>
                    </a:lnTo>
                    <a:lnTo>
                      <a:pt x="1282" y="82"/>
                    </a:lnTo>
                    <a:lnTo>
                      <a:pt x="1263" y="82"/>
                    </a:lnTo>
                    <a:lnTo>
                      <a:pt x="1250" y="82"/>
                    </a:lnTo>
                    <a:lnTo>
                      <a:pt x="1238" y="92"/>
                    </a:lnTo>
                    <a:lnTo>
                      <a:pt x="1229" y="100"/>
                    </a:lnTo>
                    <a:lnTo>
                      <a:pt x="1218" y="108"/>
                    </a:lnTo>
                    <a:lnTo>
                      <a:pt x="1209" y="109"/>
                    </a:lnTo>
                    <a:lnTo>
                      <a:pt x="1193" y="111"/>
                    </a:lnTo>
                    <a:lnTo>
                      <a:pt x="1181" y="113"/>
                    </a:lnTo>
                    <a:lnTo>
                      <a:pt x="1161" y="113"/>
                    </a:lnTo>
                    <a:lnTo>
                      <a:pt x="1147" y="113"/>
                    </a:lnTo>
                    <a:lnTo>
                      <a:pt x="1131" y="113"/>
                    </a:lnTo>
                    <a:lnTo>
                      <a:pt x="1115" y="113"/>
                    </a:lnTo>
                    <a:lnTo>
                      <a:pt x="1086" y="111"/>
                    </a:lnTo>
                    <a:lnTo>
                      <a:pt x="1058" y="109"/>
                    </a:lnTo>
                    <a:lnTo>
                      <a:pt x="1033" y="108"/>
                    </a:lnTo>
                    <a:lnTo>
                      <a:pt x="1010" y="108"/>
                    </a:lnTo>
                    <a:lnTo>
                      <a:pt x="997" y="108"/>
                    </a:lnTo>
                    <a:lnTo>
                      <a:pt x="1006" y="102"/>
                    </a:lnTo>
                    <a:lnTo>
                      <a:pt x="1022" y="98"/>
                    </a:lnTo>
                    <a:lnTo>
                      <a:pt x="1046" y="84"/>
                    </a:lnTo>
                    <a:lnTo>
                      <a:pt x="1067" y="74"/>
                    </a:lnTo>
                    <a:lnTo>
                      <a:pt x="1090" y="64"/>
                    </a:lnTo>
                    <a:lnTo>
                      <a:pt x="1111" y="63"/>
                    </a:lnTo>
                    <a:lnTo>
                      <a:pt x="1133" y="61"/>
                    </a:lnTo>
                    <a:lnTo>
                      <a:pt x="1159" y="61"/>
                    </a:lnTo>
                    <a:lnTo>
                      <a:pt x="1190" y="63"/>
                    </a:lnTo>
                    <a:lnTo>
                      <a:pt x="1216" y="66"/>
                    </a:lnTo>
                    <a:lnTo>
                      <a:pt x="1229" y="66"/>
                    </a:lnTo>
                    <a:lnTo>
                      <a:pt x="1209" y="47"/>
                    </a:lnTo>
                    <a:lnTo>
                      <a:pt x="1184" y="27"/>
                    </a:lnTo>
                    <a:lnTo>
                      <a:pt x="1159" y="16"/>
                    </a:lnTo>
                    <a:lnTo>
                      <a:pt x="1136" y="8"/>
                    </a:lnTo>
                    <a:lnTo>
                      <a:pt x="1127" y="4"/>
                    </a:lnTo>
                    <a:lnTo>
                      <a:pt x="1108" y="4"/>
                    </a:lnTo>
                    <a:lnTo>
                      <a:pt x="1090" y="2"/>
                    </a:lnTo>
                    <a:lnTo>
                      <a:pt x="1067" y="0"/>
                    </a:lnTo>
                    <a:lnTo>
                      <a:pt x="1046" y="0"/>
                    </a:lnTo>
                    <a:lnTo>
                      <a:pt x="1019" y="0"/>
                    </a:lnTo>
                    <a:lnTo>
                      <a:pt x="994" y="0"/>
                    </a:lnTo>
                    <a:lnTo>
                      <a:pt x="969" y="2"/>
                    </a:lnTo>
                    <a:lnTo>
                      <a:pt x="944" y="4"/>
                    </a:lnTo>
                    <a:lnTo>
                      <a:pt x="919" y="8"/>
                    </a:lnTo>
                    <a:lnTo>
                      <a:pt x="891" y="8"/>
                    </a:lnTo>
                    <a:lnTo>
                      <a:pt x="864" y="8"/>
                    </a:lnTo>
                    <a:lnTo>
                      <a:pt x="839" y="12"/>
                    </a:lnTo>
                    <a:lnTo>
                      <a:pt x="818" y="12"/>
                    </a:lnTo>
                    <a:lnTo>
                      <a:pt x="798" y="12"/>
                    </a:lnTo>
                    <a:lnTo>
                      <a:pt x="782" y="14"/>
                    </a:lnTo>
                    <a:lnTo>
                      <a:pt x="757" y="20"/>
                    </a:lnTo>
                    <a:lnTo>
                      <a:pt x="734" y="27"/>
                    </a:lnTo>
                    <a:lnTo>
                      <a:pt x="713" y="35"/>
                    </a:lnTo>
                    <a:lnTo>
                      <a:pt x="691" y="37"/>
                    </a:lnTo>
                    <a:lnTo>
                      <a:pt x="675" y="37"/>
                    </a:lnTo>
                    <a:lnTo>
                      <a:pt x="663" y="41"/>
                    </a:lnTo>
                    <a:lnTo>
                      <a:pt x="652" y="45"/>
                    </a:lnTo>
                    <a:lnTo>
                      <a:pt x="634" y="51"/>
                    </a:lnTo>
                    <a:lnTo>
                      <a:pt x="624" y="59"/>
                    </a:lnTo>
                    <a:lnTo>
                      <a:pt x="627" y="64"/>
                    </a:lnTo>
                    <a:lnTo>
                      <a:pt x="636" y="78"/>
                    </a:lnTo>
                    <a:lnTo>
                      <a:pt x="643" y="92"/>
                    </a:lnTo>
                    <a:lnTo>
                      <a:pt x="640" y="98"/>
                    </a:lnTo>
                    <a:lnTo>
                      <a:pt x="627" y="98"/>
                    </a:lnTo>
                    <a:lnTo>
                      <a:pt x="606" y="98"/>
                    </a:lnTo>
                    <a:lnTo>
                      <a:pt x="579" y="100"/>
                    </a:lnTo>
                    <a:lnTo>
                      <a:pt x="554" y="108"/>
                    </a:lnTo>
                    <a:lnTo>
                      <a:pt x="535" y="108"/>
                    </a:lnTo>
                    <a:lnTo>
                      <a:pt x="517" y="108"/>
                    </a:lnTo>
                    <a:lnTo>
                      <a:pt x="504" y="102"/>
                    </a:lnTo>
                    <a:lnTo>
                      <a:pt x="485" y="102"/>
                    </a:lnTo>
                    <a:lnTo>
                      <a:pt x="460" y="108"/>
                    </a:lnTo>
                    <a:lnTo>
                      <a:pt x="437" y="109"/>
                    </a:lnTo>
                    <a:lnTo>
                      <a:pt x="424" y="111"/>
                    </a:lnTo>
                    <a:lnTo>
                      <a:pt x="415" y="111"/>
                    </a:lnTo>
                    <a:lnTo>
                      <a:pt x="390" y="109"/>
                    </a:lnTo>
                    <a:lnTo>
                      <a:pt x="355" y="109"/>
                    </a:lnTo>
                    <a:lnTo>
                      <a:pt x="326" y="113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71" name="Freeform 1153"/>
              <p:cNvSpPr/>
              <p:nvPr/>
            </p:nvSpPr>
            <p:spPr>
              <a:xfrm>
                <a:off x="2585520" y="2950920"/>
                <a:ext cx="610920" cy="214560"/>
              </a:xfrm>
              <a:custGeom>
                <a:avLst/>
                <a:gdLst/>
                <a:ahLst/>
                <a:rect l="l" t="t" r="r" b="b"/>
                <a:pathLst>
                  <a:path w="769" h="270">
                    <a:moveTo>
                      <a:pt x="769" y="27"/>
                    </a:moveTo>
                    <a:lnTo>
                      <a:pt x="765" y="25"/>
                    </a:lnTo>
                    <a:lnTo>
                      <a:pt x="744" y="25"/>
                    </a:lnTo>
                    <a:lnTo>
                      <a:pt x="705" y="25"/>
                    </a:lnTo>
                    <a:lnTo>
                      <a:pt x="667" y="25"/>
                    </a:lnTo>
                    <a:lnTo>
                      <a:pt x="623" y="23"/>
                    </a:lnTo>
                    <a:lnTo>
                      <a:pt x="582" y="23"/>
                    </a:lnTo>
                    <a:lnTo>
                      <a:pt x="545" y="21"/>
                    </a:lnTo>
                    <a:lnTo>
                      <a:pt x="525" y="17"/>
                    </a:lnTo>
                    <a:lnTo>
                      <a:pt x="504" y="13"/>
                    </a:lnTo>
                    <a:lnTo>
                      <a:pt x="468" y="10"/>
                    </a:lnTo>
                    <a:lnTo>
                      <a:pt x="431" y="6"/>
                    </a:lnTo>
                    <a:lnTo>
                      <a:pt x="386" y="2"/>
                    </a:lnTo>
                    <a:lnTo>
                      <a:pt x="342" y="0"/>
                    </a:lnTo>
                    <a:lnTo>
                      <a:pt x="304" y="2"/>
                    </a:lnTo>
                    <a:lnTo>
                      <a:pt x="272" y="6"/>
                    </a:lnTo>
                    <a:lnTo>
                      <a:pt x="249" y="10"/>
                    </a:lnTo>
                    <a:lnTo>
                      <a:pt x="231" y="17"/>
                    </a:lnTo>
                    <a:lnTo>
                      <a:pt x="208" y="23"/>
                    </a:lnTo>
                    <a:lnTo>
                      <a:pt x="190" y="25"/>
                    </a:lnTo>
                    <a:lnTo>
                      <a:pt x="167" y="27"/>
                    </a:lnTo>
                    <a:lnTo>
                      <a:pt x="146" y="31"/>
                    </a:lnTo>
                    <a:lnTo>
                      <a:pt x="123" y="35"/>
                    </a:lnTo>
                    <a:lnTo>
                      <a:pt x="105" y="39"/>
                    </a:lnTo>
                    <a:lnTo>
                      <a:pt x="89" y="41"/>
                    </a:lnTo>
                    <a:lnTo>
                      <a:pt x="64" y="45"/>
                    </a:lnTo>
                    <a:lnTo>
                      <a:pt x="35" y="45"/>
                    </a:lnTo>
                    <a:lnTo>
                      <a:pt x="12" y="45"/>
                    </a:lnTo>
                    <a:lnTo>
                      <a:pt x="0" y="53"/>
                    </a:lnTo>
                    <a:lnTo>
                      <a:pt x="3" y="64"/>
                    </a:lnTo>
                    <a:lnTo>
                      <a:pt x="16" y="74"/>
                    </a:lnTo>
                    <a:lnTo>
                      <a:pt x="37" y="82"/>
                    </a:lnTo>
                    <a:lnTo>
                      <a:pt x="57" y="90"/>
                    </a:lnTo>
                    <a:lnTo>
                      <a:pt x="76" y="94"/>
                    </a:lnTo>
                    <a:lnTo>
                      <a:pt x="98" y="96"/>
                    </a:lnTo>
                    <a:lnTo>
                      <a:pt x="123" y="103"/>
                    </a:lnTo>
                    <a:lnTo>
                      <a:pt x="146" y="109"/>
                    </a:lnTo>
                    <a:lnTo>
                      <a:pt x="167" y="121"/>
                    </a:lnTo>
                    <a:lnTo>
                      <a:pt x="183" y="137"/>
                    </a:lnTo>
                    <a:lnTo>
                      <a:pt x="190" y="152"/>
                    </a:lnTo>
                    <a:lnTo>
                      <a:pt x="167" y="162"/>
                    </a:lnTo>
                    <a:lnTo>
                      <a:pt x="133" y="176"/>
                    </a:lnTo>
                    <a:lnTo>
                      <a:pt x="117" y="193"/>
                    </a:lnTo>
                    <a:lnTo>
                      <a:pt x="105" y="207"/>
                    </a:lnTo>
                    <a:lnTo>
                      <a:pt x="101" y="217"/>
                    </a:lnTo>
                    <a:lnTo>
                      <a:pt x="94" y="256"/>
                    </a:lnTo>
                    <a:lnTo>
                      <a:pt x="192" y="256"/>
                    </a:lnTo>
                    <a:lnTo>
                      <a:pt x="199" y="260"/>
                    </a:lnTo>
                    <a:lnTo>
                      <a:pt x="215" y="266"/>
                    </a:lnTo>
                    <a:lnTo>
                      <a:pt x="231" y="270"/>
                    </a:lnTo>
                    <a:lnTo>
                      <a:pt x="249" y="268"/>
                    </a:lnTo>
                    <a:lnTo>
                      <a:pt x="263" y="262"/>
                    </a:lnTo>
                    <a:lnTo>
                      <a:pt x="276" y="256"/>
                    </a:lnTo>
                    <a:lnTo>
                      <a:pt x="294" y="250"/>
                    </a:lnTo>
                    <a:lnTo>
                      <a:pt x="313" y="240"/>
                    </a:lnTo>
                    <a:lnTo>
                      <a:pt x="335" y="233"/>
                    </a:lnTo>
                    <a:lnTo>
                      <a:pt x="349" y="225"/>
                    </a:lnTo>
                    <a:lnTo>
                      <a:pt x="361" y="219"/>
                    </a:lnTo>
                    <a:lnTo>
                      <a:pt x="363" y="211"/>
                    </a:lnTo>
                    <a:lnTo>
                      <a:pt x="363" y="203"/>
                    </a:lnTo>
                    <a:lnTo>
                      <a:pt x="361" y="189"/>
                    </a:lnTo>
                    <a:lnTo>
                      <a:pt x="363" y="176"/>
                    </a:lnTo>
                    <a:lnTo>
                      <a:pt x="367" y="160"/>
                    </a:lnTo>
                    <a:lnTo>
                      <a:pt x="377" y="143"/>
                    </a:lnTo>
                    <a:lnTo>
                      <a:pt x="392" y="127"/>
                    </a:lnTo>
                    <a:lnTo>
                      <a:pt x="408" y="115"/>
                    </a:lnTo>
                    <a:lnTo>
                      <a:pt x="424" y="113"/>
                    </a:lnTo>
                    <a:lnTo>
                      <a:pt x="447" y="121"/>
                    </a:lnTo>
                    <a:lnTo>
                      <a:pt x="465" y="135"/>
                    </a:lnTo>
                    <a:lnTo>
                      <a:pt x="481" y="145"/>
                    </a:lnTo>
                    <a:lnTo>
                      <a:pt x="488" y="160"/>
                    </a:lnTo>
                    <a:lnTo>
                      <a:pt x="491" y="172"/>
                    </a:lnTo>
                    <a:lnTo>
                      <a:pt x="500" y="176"/>
                    </a:lnTo>
                    <a:lnTo>
                      <a:pt x="513" y="178"/>
                    </a:lnTo>
                    <a:lnTo>
                      <a:pt x="538" y="172"/>
                    </a:lnTo>
                    <a:lnTo>
                      <a:pt x="561" y="160"/>
                    </a:lnTo>
                    <a:lnTo>
                      <a:pt x="578" y="145"/>
                    </a:lnTo>
                    <a:lnTo>
                      <a:pt x="602" y="127"/>
                    </a:lnTo>
                    <a:lnTo>
                      <a:pt x="627" y="107"/>
                    </a:lnTo>
                    <a:lnTo>
                      <a:pt x="651" y="84"/>
                    </a:lnTo>
                    <a:lnTo>
                      <a:pt x="684" y="62"/>
                    </a:lnTo>
                    <a:lnTo>
                      <a:pt x="724" y="43"/>
                    </a:lnTo>
                    <a:lnTo>
                      <a:pt x="769" y="2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72" name="Freeform 1154"/>
              <p:cNvSpPr/>
              <p:nvPr/>
            </p:nvSpPr>
            <p:spPr>
              <a:xfrm>
                <a:off x="2050560" y="3286080"/>
                <a:ext cx="304200" cy="110880"/>
              </a:xfrm>
              <a:custGeom>
                <a:avLst/>
                <a:gdLst/>
                <a:ahLst/>
                <a:rect l="l" t="t" r="r" b="b"/>
                <a:pathLst>
                  <a:path w="385" h="139">
                    <a:moveTo>
                      <a:pt x="41" y="12"/>
                    </a:moveTo>
                    <a:lnTo>
                      <a:pt x="61" y="4"/>
                    </a:lnTo>
                    <a:lnTo>
                      <a:pt x="82" y="0"/>
                    </a:lnTo>
                    <a:lnTo>
                      <a:pt x="107" y="0"/>
                    </a:lnTo>
                    <a:lnTo>
                      <a:pt x="130" y="0"/>
                    </a:lnTo>
                    <a:lnTo>
                      <a:pt x="155" y="2"/>
                    </a:lnTo>
                    <a:lnTo>
                      <a:pt x="173" y="4"/>
                    </a:lnTo>
                    <a:lnTo>
                      <a:pt x="189" y="12"/>
                    </a:lnTo>
                    <a:lnTo>
                      <a:pt x="205" y="16"/>
                    </a:lnTo>
                    <a:lnTo>
                      <a:pt x="214" y="20"/>
                    </a:lnTo>
                    <a:lnTo>
                      <a:pt x="226" y="30"/>
                    </a:lnTo>
                    <a:lnTo>
                      <a:pt x="237" y="34"/>
                    </a:lnTo>
                    <a:lnTo>
                      <a:pt x="253" y="37"/>
                    </a:lnTo>
                    <a:lnTo>
                      <a:pt x="265" y="45"/>
                    </a:lnTo>
                    <a:lnTo>
                      <a:pt x="283" y="49"/>
                    </a:lnTo>
                    <a:lnTo>
                      <a:pt x="299" y="51"/>
                    </a:lnTo>
                    <a:lnTo>
                      <a:pt x="319" y="51"/>
                    </a:lnTo>
                    <a:lnTo>
                      <a:pt x="347" y="57"/>
                    </a:lnTo>
                    <a:lnTo>
                      <a:pt x="369" y="75"/>
                    </a:lnTo>
                    <a:lnTo>
                      <a:pt x="381" y="98"/>
                    </a:lnTo>
                    <a:lnTo>
                      <a:pt x="385" y="104"/>
                    </a:lnTo>
                    <a:lnTo>
                      <a:pt x="381" y="104"/>
                    </a:lnTo>
                    <a:lnTo>
                      <a:pt x="376" y="106"/>
                    </a:lnTo>
                    <a:lnTo>
                      <a:pt x="360" y="108"/>
                    </a:lnTo>
                    <a:lnTo>
                      <a:pt x="347" y="116"/>
                    </a:lnTo>
                    <a:lnTo>
                      <a:pt x="328" y="118"/>
                    </a:lnTo>
                    <a:lnTo>
                      <a:pt x="306" y="118"/>
                    </a:lnTo>
                    <a:lnTo>
                      <a:pt x="287" y="120"/>
                    </a:lnTo>
                    <a:lnTo>
                      <a:pt x="271" y="118"/>
                    </a:lnTo>
                    <a:lnTo>
                      <a:pt x="253" y="116"/>
                    </a:lnTo>
                    <a:lnTo>
                      <a:pt x="230" y="118"/>
                    </a:lnTo>
                    <a:lnTo>
                      <a:pt x="208" y="120"/>
                    </a:lnTo>
                    <a:lnTo>
                      <a:pt x="185" y="124"/>
                    </a:lnTo>
                    <a:lnTo>
                      <a:pt x="164" y="129"/>
                    </a:lnTo>
                    <a:lnTo>
                      <a:pt x="151" y="133"/>
                    </a:lnTo>
                    <a:lnTo>
                      <a:pt x="139" y="137"/>
                    </a:lnTo>
                    <a:lnTo>
                      <a:pt x="135" y="137"/>
                    </a:lnTo>
                    <a:lnTo>
                      <a:pt x="117" y="139"/>
                    </a:lnTo>
                    <a:lnTo>
                      <a:pt x="85" y="139"/>
                    </a:lnTo>
                    <a:lnTo>
                      <a:pt x="48" y="139"/>
                    </a:lnTo>
                    <a:lnTo>
                      <a:pt x="32" y="129"/>
                    </a:lnTo>
                    <a:lnTo>
                      <a:pt x="37" y="112"/>
                    </a:lnTo>
                    <a:lnTo>
                      <a:pt x="57" y="90"/>
                    </a:lnTo>
                    <a:lnTo>
                      <a:pt x="69" y="75"/>
                    </a:lnTo>
                    <a:lnTo>
                      <a:pt x="78" y="71"/>
                    </a:lnTo>
                    <a:lnTo>
                      <a:pt x="0" y="35"/>
                    </a:lnTo>
                    <a:lnTo>
                      <a:pt x="7" y="32"/>
                    </a:lnTo>
                    <a:lnTo>
                      <a:pt x="16" y="22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73" name="Freeform 1155"/>
              <p:cNvSpPr/>
              <p:nvPr/>
            </p:nvSpPr>
            <p:spPr>
              <a:xfrm>
                <a:off x="3882600" y="3409920"/>
                <a:ext cx="234360" cy="82440"/>
              </a:xfrm>
              <a:custGeom>
                <a:avLst/>
                <a:gdLst/>
                <a:ahLst/>
                <a:rect l="l" t="t" r="r" b="b"/>
                <a:pathLst>
                  <a:path w="297" h="103">
                    <a:moveTo>
                      <a:pt x="117" y="31"/>
                    </a:moveTo>
                    <a:lnTo>
                      <a:pt x="121" y="43"/>
                    </a:lnTo>
                    <a:lnTo>
                      <a:pt x="135" y="45"/>
                    </a:lnTo>
                    <a:lnTo>
                      <a:pt x="158" y="41"/>
                    </a:lnTo>
                    <a:lnTo>
                      <a:pt x="176" y="31"/>
                    </a:lnTo>
                    <a:lnTo>
                      <a:pt x="204" y="23"/>
                    </a:lnTo>
                    <a:lnTo>
                      <a:pt x="231" y="10"/>
                    </a:lnTo>
                    <a:lnTo>
                      <a:pt x="249" y="6"/>
                    </a:lnTo>
                    <a:lnTo>
                      <a:pt x="268" y="6"/>
                    </a:lnTo>
                    <a:lnTo>
                      <a:pt x="290" y="23"/>
                    </a:lnTo>
                    <a:lnTo>
                      <a:pt x="297" y="45"/>
                    </a:lnTo>
                    <a:lnTo>
                      <a:pt x="297" y="64"/>
                    </a:lnTo>
                    <a:lnTo>
                      <a:pt x="297" y="74"/>
                    </a:lnTo>
                    <a:lnTo>
                      <a:pt x="290" y="78"/>
                    </a:lnTo>
                    <a:lnTo>
                      <a:pt x="272" y="88"/>
                    </a:lnTo>
                    <a:lnTo>
                      <a:pt x="240" y="96"/>
                    </a:lnTo>
                    <a:lnTo>
                      <a:pt x="204" y="101"/>
                    </a:lnTo>
                    <a:lnTo>
                      <a:pt x="183" y="101"/>
                    </a:lnTo>
                    <a:lnTo>
                      <a:pt x="162" y="101"/>
                    </a:lnTo>
                    <a:lnTo>
                      <a:pt x="138" y="103"/>
                    </a:lnTo>
                    <a:lnTo>
                      <a:pt x="117" y="101"/>
                    </a:lnTo>
                    <a:lnTo>
                      <a:pt x="97" y="101"/>
                    </a:lnTo>
                    <a:lnTo>
                      <a:pt x="81" y="100"/>
                    </a:lnTo>
                    <a:lnTo>
                      <a:pt x="76" y="96"/>
                    </a:lnTo>
                    <a:lnTo>
                      <a:pt x="69" y="90"/>
                    </a:lnTo>
                    <a:lnTo>
                      <a:pt x="53" y="76"/>
                    </a:lnTo>
                    <a:lnTo>
                      <a:pt x="28" y="64"/>
                    </a:lnTo>
                    <a:lnTo>
                      <a:pt x="8" y="60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3" y="31"/>
                    </a:lnTo>
                    <a:lnTo>
                      <a:pt x="19" y="11"/>
                    </a:lnTo>
                    <a:lnTo>
                      <a:pt x="41" y="0"/>
                    </a:lnTo>
                    <a:lnTo>
                      <a:pt x="69" y="0"/>
                    </a:lnTo>
                    <a:lnTo>
                      <a:pt x="92" y="6"/>
                    </a:lnTo>
                    <a:lnTo>
                      <a:pt x="110" y="15"/>
                    </a:lnTo>
                    <a:lnTo>
                      <a:pt x="117" y="3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74" name="Freeform 1156"/>
              <p:cNvSpPr/>
              <p:nvPr/>
            </p:nvSpPr>
            <p:spPr>
              <a:xfrm>
                <a:off x="4517640" y="3109680"/>
                <a:ext cx="3785760" cy="695520"/>
              </a:xfrm>
              <a:custGeom>
                <a:avLst/>
                <a:gdLst/>
                <a:ahLst/>
                <a:rect l="l" t="t" r="r" b="b"/>
                <a:pathLst>
                  <a:path w="4768" h="877">
                    <a:moveTo>
                      <a:pt x="3524" y="877"/>
                    </a:moveTo>
                    <a:lnTo>
                      <a:pt x="3547" y="851"/>
                    </a:lnTo>
                    <a:lnTo>
                      <a:pt x="3568" y="816"/>
                    </a:lnTo>
                    <a:lnTo>
                      <a:pt x="3588" y="783"/>
                    </a:lnTo>
                    <a:lnTo>
                      <a:pt x="3600" y="763"/>
                    </a:lnTo>
                    <a:lnTo>
                      <a:pt x="3604" y="742"/>
                    </a:lnTo>
                    <a:lnTo>
                      <a:pt x="3593" y="718"/>
                    </a:lnTo>
                    <a:lnTo>
                      <a:pt x="3568" y="699"/>
                    </a:lnTo>
                    <a:lnTo>
                      <a:pt x="3524" y="689"/>
                    </a:lnTo>
                    <a:lnTo>
                      <a:pt x="3490" y="685"/>
                    </a:lnTo>
                    <a:lnTo>
                      <a:pt x="3483" y="669"/>
                    </a:lnTo>
                    <a:lnTo>
                      <a:pt x="3502" y="650"/>
                    </a:lnTo>
                    <a:lnTo>
                      <a:pt x="3536" y="624"/>
                    </a:lnTo>
                    <a:lnTo>
                      <a:pt x="3556" y="611"/>
                    </a:lnTo>
                    <a:lnTo>
                      <a:pt x="3580" y="599"/>
                    </a:lnTo>
                    <a:lnTo>
                      <a:pt x="3613" y="585"/>
                    </a:lnTo>
                    <a:lnTo>
                      <a:pt x="3641" y="571"/>
                    </a:lnTo>
                    <a:lnTo>
                      <a:pt x="3666" y="562"/>
                    </a:lnTo>
                    <a:lnTo>
                      <a:pt x="3691" y="554"/>
                    </a:lnTo>
                    <a:lnTo>
                      <a:pt x="3710" y="554"/>
                    </a:lnTo>
                    <a:lnTo>
                      <a:pt x="3716" y="558"/>
                    </a:lnTo>
                    <a:lnTo>
                      <a:pt x="3730" y="573"/>
                    </a:lnTo>
                    <a:lnTo>
                      <a:pt x="3744" y="589"/>
                    </a:lnTo>
                    <a:lnTo>
                      <a:pt x="3764" y="599"/>
                    </a:lnTo>
                    <a:lnTo>
                      <a:pt x="3783" y="591"/>
                    </a:lnTo>
                    <a:lnTo>
                      <a:pt x="3808" y="577"/>
                    </a:lnTo>
                    <a:lnTo>
                      <a:pt x="3840" y="568"/>
                    </a:lnTo>
                    <a:lnTo>
                      <a:pt x="3874" y="568"/>
                    </a:lnTo>
                    <a:lnTo>
                      <a:pt x="3887" y="577"/>
                    </a:lnTo>
                    <a:lnTo>
                      <a:pt x="3890" y="593"/>
                    </a:lnTo>
                    <a:lnTo>
                      <a:pt x="3903" y="607"/>
                    </a:lnTo>
                    <a:lnTo>
                      <a:pt x="3922" y="609"/>
                    </a:lnTo>
                    <a:lnTo>
                      <a:pt x="3947" y="599"/>
                    </a:lnTo>
                    <a:lnTo>
                      <a:pt x="3960" y="585"/>
                    </a:lnTo>
                    <a:lnTo>
                      <a:pt x="3979" y="569"/>
                    </a:lnTo>
                    <a:lnTo>
                      <a:pt x="3997" y="554"/>
                    </a:lnTo>
                    <a:lnTo>
                      <a:pt x="4020" y="540"/>
                    </a:lnTo>
                    <a:lnTo>
                      <a:pt x="4038" y="526"/>
                    </a:lnTo>
                    <a:lnTo>
                      <a:pt x="4054" y="521"/>
                    </a:lnTo>
                    <a:lnTo>
                      <a:pt x="4074" y="519"/>
                    </a:lnTo>
                    <a:lnTo>
                      <a:pt x="4090" y="525"/>
                    </a:lnTo>
                    <a:lnTo>
                      <a:pt x="4106" y="544"/>
                    </a:lnTo>
                    <a:lnTo>
                      <a:pt x="4106" y="558"/>
                    </a:lnTo>
                    <a:lnTo>
                      <a:pt x="4092" y="568"/>
                    </a:lnTo>
                    <a:lnTo>
                      <a:pt x="4070" y="585"/>
                    </a:lnTo>
                    <a:lnTo>
                      <a:pt x="4054" y="593"/>
                    </a:lnTo>
                    <a:lnTo>
                      <a:pt x="4038" y="605"/>
                    </a:lnTo>
                    <a:lnTo>
                      <a:pt x="4020" y="611"/>
                    </a:lnTo>
                    <a:lnTo>
                      <a:pt x="4001" y="620"/>
                    </a:lnTo>
                    <a:lnTo>
                      <a:pt x="3981" y="628"/>
                    </a:lnTo>
                    <a:lnTo>
                      <a:pt x="3969" y="638"/>
                    </a:lnTo>
                    <a:lnTo>
                      <a:pt x="3960" y="648"/>
                    </a:lnTo>
                    <a:lnTo>
                      <a:pt x="3963" y="658"/>
                    </a:lnTo>
                    <a:lnTo>
                      <a:pt x="3976" y="687"/>
                    </a:lnTo>
                    <a:lnTo>
                      <a:pt x="3981" y="724"/>
                    </a:lnTo>
                    <a:lnTo>
                      <a:pt x="3992" y="757"/>
                    </a:lnTo>
                    <a:lnTo>
                      <a:pt x="4010" y="775"/>
                    </a:lnTo>
                    <a:lnTo>
                      <a:pt x="4026" y="775"/>
                    </a:lnTo>
                    <a:lnTo>
                      <a:pt x="4045" y="771"/>
                    </a:lnTo>
                    <a:lnTo>
                      <a:pt x="4065" y="759"/>
                    </a:lnTo>
                    <a:lnTo>
                      <a:pt x="4083" y="751"/>
                    </a:lnTo>
                    <a:lnTo>
                      <a:pt x="4102" y="736"/>
                    </a:lnTo>
                    <a:lnTo>
                      <a:pt x="4118" y="722"/>
                    </a:lnTo>
                    <a:lnTo>
                      <a:pt x="4136" y="712"/>
                    </a:lnTo>
                    <a:lnTo>
                      <a:pt x="4147" y="703"/>
                    </a:lnTo>
                    <a:lnTo>
                      <a:pt x="4165" y="685"/>
                    </a:lnTo>
                    <a:lnTo>
                      <a:pt x="4184" y="659"/>
                    </a:lnTo>
                    <a:lnTo>
                      <a:pt x="4189" y="638"/>
                    </a:lnTo>
                    <a:lnTo>
                      <a:pt x="4193" y="618"/>
                    </a:lnTo>
                    <a:lnTo>
                      <a:pt x="4200" y="603"/>
                    </a:lnTo>
                    <a:lnTo>
                      <a:pt x="4216" y="587"/>
                    </a:lnTo>
                    <a:lnTo>
                      <a:pt x="4246" y="573"/>
                    </a:lnTo>
                    <a:lnTo>
                      <a:pt x="4291" y="566"/>
                    </a:lnTo>
                    <a:lnTo>
                      <a:pt x="4319" y="560"/>
                    </a:lnTo>
                    <a:lnTo>
                      <a:pt x="4355" y="554"/>
                    </a:lnTo>
                    <a:lnTo>
                      <a:pt x="4389" y="546"/>
                    </a:lnTo>
                    <a:lnTo>
                      <a:pt x="4424" y="540"/>
                    </a:lnTo>
                    <a:lnTo>
                      <a:pt x="4458" y="532"/>
                    </a:lnTo>
                    <a:lnTo>
                      <a:pt x="4487" y="525"/>
                    </a:lnTo>
                    <a:lnTo>
                      <a:pt x="4510" y="515"/>
                    </a:lnTo>
                    <a:lnTo>
                      <a:pt x="4522" y="505"/>
                    </a:lnTo>
                    <a:lnTo>
                      <a:pt x="4540" y="485"/>
                    </a:lnTo>
                    <a:lnTo>
                      <a:pt x="4565" y="462"/>
                    </a:lnTo>
                    <a:lnTo>
                      <a:pt x="4585" y="446"/>
                    </a:lnTo>
                    <a:lnTo>
                      <a:pt x="4597" y="440"/>
                    </a:lnTo>
                    <a:lnTo>
                      <a:pt x="4715" y="501"/>
                    </a:lnTo>
                    <a:lnTo>
                      <a:pt x="4727" y="470"/>
                    </a:lnTo>
                    <a:lnTo>
                      <a:pt x="4749" y="433"/>
                    </a:lnTo>
                    <a:lnTo>
                      <a:pt x="4768" y="393"/>
                    </a:lnTo>
                    <a:lnTo>
                      <a:pt x="4761" y="374"/>
                    </a:lnTo>
                    <a:lnTo>
                      <a:pt x="4747" y="370"/>
                    </a:lnTo>
                    <a:lnTo>
                      <a:pt x="4733" y="370"/>
                    </a:lnTo>
                    <a:lnTo>
                      <a:pt x="4711" y="370"/>
                    </a:lnTo>
                    <a:lnTo>
                      <a:pt x="4692" y="372"/>
                    </a:lnTo>
                    <a:lnTo>
                      <a:pt x="4674" y="374"/>
                    </a:lnTo>
                    <a:lnTo>
                      <a:pt x="4661" y="376"/>
                    </a:lnTo>
                    <a:lnTo>
                      <a:pt x="4649" y="378"/>
                    </a:lnTo>
                    <a:lnTo>
                      <a:pt x="4645" y="378"/>
                    </a:lnTo>
                    <a:lnTo>
                      <a:pt x="4633" y="378"/>
                    </a:lnTo>
                    <a:lnTo>
                      <a:pt x="4608" y="374"/>
                    </a:lnTo>
                    <a:lnTo>
                      <a:pt x="4576" y="364"/>
                    </a:lnTo>
                    <a:lnTo>
                      <a:pt x="4551" y="347"/>
                    </a:lnTo>
                    <a:lnTo>
                      <a:pt x="4535" y="337"/>
                    </a:lnTo>
                    <a:lnTo>
                      <a:pt x="4512" y="327"/>
                    </a:lnTo>
                    <a:lnTo>
                      <a:pt x="4487" y="317"/>
                    </a:lnTo>
                    <a:lnTo>
                      <a:pt x="4458" y="307"/>
                    </a:lnTo>
                    <a:lnTo>
                      <a:pt x="4433" y="303"/>
                    </a:lnTo>
                    <a:lnTo>
                      <a:pt x="4408" y="298"/>
                    </a:lnTo>
                    <a:lnTo>
                      <a:pt x="4385" y="298"/>
                    </a:lnTo>
                    <a:lnTo>
                      <a:pt x="4376" y="307"/>
                    </a:lnTo>
                    <a:lnTo>
                      <a:pt x="4364" y="317"/>
                    </a:lnTo>
                    <a:lnTo>
                      <a:pt x="4343" y="323"/>
                    </a:lnTo>
                    <a:lnTo>
                      <a:pt x="4314" y="327"/>
                    </a:lnTo>
                    <a:lnTo>
                      <a:pt x="4282" y="327"/>
                    </a:lnTo>
                    <a:lnTo>
                      <a:pt x="4241" y="327"/>
                    </a:lnTo>
                    <a:lnTo>
                      <a:pt x="4200" y="323"/>
                    </a:lnTo>
                    <a:lnTo>
                      <a:pt x="4159" y="317"/>
                    </a:lnTo>
                    <a:lnTo>
                      <a:pt x="4118" y="307"/>
                    </a:lnTo>
                    <a:lnTo>
                      <a:pt x="4074" y="294"/>
                    </a:lnTo>
                    <a:lnTo>
                      <a:pt x="4026" y="278"/>
                    </a:lnTo>
                    <a:lnTo>
                      <a:pt x="3976" y="260"/>
                    </a:lnTo>
                    <a:lnTo>
                      <a:pt x="3928" y="247"/>
                    </a:lnTo>
                    <a:lnTo>
                      <a:pt x="3878" y="229"/>
                    </a:lnTo>
                    <a:lnTo>
                      <a:pt x="3837" y="215"/>
                    </a:lnTo>
                    <a:lnTo>
                      <a:pt x="3796" y="210"/>
                    </a:lnTo>
                    <a:lnTo>
                      <a:pt x="3771" y="210"/>
                    </a:lnTo>
                    <a:lnTo>
                      <a:pt x="3755" y="210"/>
                    </a:lnTo>
                    <a:lnTo>
                      <a:pt x="3743" y="202"/>
                    </a:lnTo>
                    <a:lnTo>
                      <a:pt x="3732" y="194"/>
                    </a:lnTo>
                    <a:lnTo>
                      <a:pt x="3719" y="184"/>
                    </a:lnTo>
                    <a:lnTo>
                      <a:pt x="3710" y="176"/>
                    </a:lnTo>
                    <a:lnTo>
                      <a:pt x="3694" y="172"/>
                    </a:lnTo>
                    <a:lnTo>
                      <a:pt x="3675" y="170"/>
                    </a:lnTo>
                    <a:lnTo>
                      <a:pt x="3646" y="176"/>
                    </a:lnTo>
                    <a:lnTo>
                      <a:pt x="3616" y="188"/>
                    </a:lnTo>
                    <a:lnTo>
                      <a:pt x="3577" y="198"/>
                    </a:lnTo>
                    <a:lnTo>
                      <a:pt x="3543" y="212"/>
                    </a:lnTo>
                    <a:lnTo>
                      <a:pt x="3502" y="221"/>
                    </a:lnTo>
                    <a:lnTo>
                      <a:pt x="3461" y="229"/>
                    </a:lnTo>
                    <a:lnTo>
                      <a:pt x="3420" y="231"/>
                    </a:lnTo>
                    <a:lnTo>
                      <a:pt x="3372" y="229"/>
                    </a:lnTo>
                    <a:lnTo>
                      <a:pt x="3326" y="221"/>
                    </a:lnTo>
                    <a:lnTo>
                      <a:pt x="3274" y="210"/>
                    </a:lnTo>
                    <a:lnTo>
                      <a:pt x="3221" y="196"/>
                    </a:lnTo>
                    <a:lnTo>
                      <a:pt x="3167" y="188"/>
                    </a:lnTo>
                    <a:lnTo>
                      <a:pt x="3119" y="176"/>
                    </a:lnTo>
                    <a:lnTo>
                      <a:pt x="3069" y="170"/>
                    </a:lnTo>
                    <a:lnTo>
                      <a:pt x="3025" y="163"/>
                    </a:lnTo>
                    <a:lnTo>
                      <a:pt x="2991" y="163"/>
                    </a:lnTo>
                    <a:lnTo>
                      <a:pt x="2956" y="170"/>
                    </a:lnTo>
                    <a:lnTo>
                      <a:pt x="2927" y="176"/>
                    </a:lnTo>
                    <a:lnTo>
                      <a:pt x="2893" y="180"/>
                    </a:lnTo>
                    <a:lnTo>
                      <a:pt x="2858" y="188"/>
                    </a:lnTo>
                    <a:lnTo>
                      <a:pt x="2824" y="190"/>
                    </a:lnTo>
                    <a:lnTo>
                      <a:pt x="2788" y="194"/>
                    </a:lnTo>
                    <a:lnTo>
                      <a:pt x="2763" y="194"/>
                    </a:lnTo>
                    <a:lnTo>
                      <a:pt x="2751" y="196"/>
                    </a:lnTo>
                    <a:lnTo>
                      <a:pt x="2740" y="196"/>
                    </a:lnTo>
                    <a:lnTo>
                      <a:pt x="2772" y="174"/>
                    </a:lnTo>
                    <a:lnTo>
                      <a:pt x="2779" y="149"/>
                    </a:lnTo>
                    <a:lnTo>
                      <a:pt x="2776" y="131"/>
                    </a:lnTo>
                    <a:lnTo>
                      <a:pt x="2772" y="124"/>
                    </a:lnTo>
                    <a:lnTo>
                      <a:pt x="2854" y="104"/>
                    </a:lnTo>
                    <a:lnTo>
                      <a:pt x="2820" y="86"/>
                    </a:lnTo>
                    <a:lnTo>
                      <a:pt x="2785" y="71"/>
                    </a:lnTo>
                    <a:lnTo>
                      <a:pt x="2754" y="47"/>
                    </a:lnTo>
                    <a:lnTo>
                      <a:pt x="2726" y="32"/>
                    </a:lnTo>
                    <a:lnTo>
                      <a:pt x="2694" y="16"/>
                    </a:lnTo>
                    <a:lnTo>
                      <a:pt x="2669" y="6"/>
                    </a:lnTo>
                    <a:lnTo>
                      <a:pt x="2642" y="0"/>
                    </a:lnTo>
                    <a:lnTo>
                      <a:pt x="2624" y="4"/>
                    </a:lnTo>
                    <a:lnTo>
                      <a:pt x="2608" y="12"/>
                    </a:lnTo>
                    <a:lnTo>
                      <a:pt x="2589" y="22"/>
                    </a:lnTo>
                    <a:lnTo>
                      <a:pt x="2571" y="32"/>
                    </a:lnTo>
                    <a:lnTo>
                      <a:pt x="2558" y="43"/>
                    </a:lnTo>
                    <a:lnTo>
                      <a:pt x="2539" y="55"/>
                    </a:lnTo>
                    <a:lnTo>
                      <a:pt x="2523" y="61"/>
                    </a:lnTo>
                    <a:lnTo>
                      <a:pt x="2503" y="73"/>
                    </a:lnTo>
                    <a:lnTo>
                      <a:pt x="2491" y="77"/>
                    </a:lnTo>
                    <a:lnTo>
                      <a:pt x="2469" y="75"/>
                    </a:lnTo>
                    <a:lnTo>
                      <a:pt x="2446" y="61"/>
                    </a:lnTo>
                    <a:lnTo>
                      <a:pt x="2421" y="51"/>
                    </a:lnTo>
                    <a:lnTo>
                      <a:pt x="2384" y="57"/>
                    </a:lnTo>
                    <a:lnTo>
                      <a:pt x="2364" y="65"/>
                    </a:lnTo>
                    <a:lnTo>
                      <a:pt x="2336" y="79"/>
                    </a:lnTo>
                    <a:lnTo>
                      <a:pt x="2311" y="90"/>
                    </a:lnTo>
                    <a:lnTo>
                      <a:pt x="2286" y="102"/>
                    </a:lnTo>
                    <a:lnTo>
                      <a:pt x="2258" y="112"/>
                    </a:lnTo>
                    <a:lnTo>
                      <a:pt x="2233" y="120"/>
                    </a:lnTo>
                    <a:lnTo>
                      <a:pt x="2204" y="125"/>
                    </a:lnTo>
                    <a:lnTo>
                      <a:pt x="2176" y="129"/>
                    </a:lnTo>
                    <a:lnTo>
                      <a:pt x="2151" y="133"/>
                    </a:lnTo>
                    <a:lnTo>
                      <a:pt x="2128" y="145"/>
                    </a:lnTo>
                    <a:lnTo>
                      <a:pt x="2110" y="161"/>
                    </a:lnTo>
                    <a:lnTo>
                      <a:pt x="2090" y="176"/>
                    </a:lnTo>
                    <a:lnTo>
                      <a:pt x="2074" y="196"/>
                    </a:lnTo>
                    <a:lnTo>
                      <a:pt x="2058" y="213"/>
                    </a:lnTo>
                    <a:lnTo>
                      <a:pt x="2042" y="229"/>
                    </a:lnTo>
                    <a:lnTo>
                      <a:pt x="2021" y="241"/>
                    </a:lnTo>
                    <a:lnTo>
                      <a:pt x="2012" y="245"/>
                    </a:lnTo>
                    <a:lnTo>
                      <a:pt x="1992" y="247"/>
                    </a:lnTo>
                    <a:lnTo>
                      <a:pt x="1973" y="245"/>
                    </a:lnTo>
                    <a:lnTo>
                      <a:pt x="1955" y="241"/>
                    </a:lnTo>
                    <a:lnTo>
                      <a:pt x="1935" y="239"/>
                    </a:lnTo>
                    <a:lnTo>
                      <a:pt x="1914" y="235"/>
                    </a:lnTo>
                    <a:lnTo>
                      <a:pt x="1891" y="231"/>
                    </a:lnTo>
                    <a:lnTo>
                      <a:pt x="1869" y="229"/>
                    </a:lnTo>
                    <a:lnTo>
                      <a:pt x="1844" y="227"/>
                    </a:lnTo>
                    <a:lnTo>
                      <a:pt x="1816" y="229"/>
                    </a:lnTo>
                    <a:lnTo>
                      <a:pt x="1780" y="231"/>
                    </a:lnTo>
                    <a:lnTo>
                      <a:pt x="1750" y="237"/>
                    </a:lnTo>
                    <a:lnTo>
                      <a:pt x="1722" y="247"/>
                    </a:lnTo>
                    <a:lnTo>
                      <a:pt x="1695" y="257"/>
                    </a:lnTo>
                    <a:lnTo>
                      <a:pt x="1677" y="268"/>
                    </a:lnTo>
                    <a:lnTo>
                      <a:pt x="1666" y="280"/>
                    </a:lnTo>
                    <a:lnTo>
                      <a:pt x="1661" y="294"/>
                    </a:lnTo>
                    <a:lnTo>
                      <a:pt x="1641" y="307"/>
                    </a:lnTo>
                    <a:lnTo>
                      <a:pt x="1617" y="317"/>
                    </a:lnTo>
                    <a:lnTo>
                      <a:pt x="1592" y="323"/>
                    </a:lnTo>
                    <a:lnTo>
                      <a:pt x="1563" y="329"/>
                    </a:lnTo>
                    <a:lnTo>
                      <a:pt x="1535" y="331"/>
                    </a:lnTo>
                    <a:lnTo>
                      <a:pt x="1510" y="335"/>
                    </a:lnTo>
                    <a:lnTo>
                      <a:pt x="1487" y="335"/>
                    </a:lnTo>
                    <a:lnTo>
                      <a:pt x="1462" y="335"/>
                    </a:lnTo>
                    <a:lnTo>
                      <a:pt x="1433" y="331"/>
                    </a:lnTo>
                    <a:lnTo>
                      <a:pt x="1396" y="329"/>
                    </a:lnTo>
                    <a:lnTo>
                      <a:pt x="1360" y="327"/>
                    </a:lnTo>
                    <a:lnTo>
                      <a:pt x="1323" y="327"/>
                    </a:lnTo>
                    <a:lnTo>
                      <a:pt x="1294" y="329"/>
                    </a:lnTo>
                    <a:lnTo>
                      <a:pt x="1269" y="335"/>
                    </a:lnTo>
                    <a:lnTo>
                      <a:pt x="1253" y="343"/>
                    </a:lnTo>
                    <a:lnTo>
                      <a:pt x="1232" y="364"/>
                    </a:lnTo>
                    <a:lnTo>
                      <a:pt x="1205" y="388"/>
                    </a:lnTo>
                    <a:lnTo>
                      <a:pt x="1180" y="407"/>
                    </a:lnTo>
                    <a:lnTo>
                      <a:pt x="1171" y="413"/>
                    </a:lnTo>
                    <a:lnTo>
                      <a:pt x="1065" y="407"/>
                    </a:lnTo>
                    <a:lnTo>
                      <a:pt x="1057" y="409"/>
                    </a:lnTo>
                    <a:lnTo>
                      <a:pt x="1041" y="411"/>
                    </a:lnTo>
                    <a:lnTo>
                      <a:pt x="1025" y="417"/>
                    </a:lnTo>
                    <a:lnTo>
                      <a:pt x="1004" y="421"/>
                    </a:lnTo>
                    <a:lnTo>
                      <a:pt x="984" y="423"/>
                    </a:lnTo>
                    <a:lnTo>
                      <a:pt x="968" y="425"/>
                    </a:lnTo>
                    <a:lnTo>
                      <a:pt x="967" y="423"/>
                    </a:lnTo>
                    <a:lnTo>
                      <a:pt x="979" y="413"/>
                    </a:lnTo>
                    <a:lnTo>
                      <a:pt x="995" y="390"/>
                    </a:lnTo>
                    <a:lnTo>
                      <a:pt x="992" y="358"/>
                    </a:lnTo>
                    <a:lnTo>
                      <a:pt x="967" y="335"/>
                    </a:lnTo>
                    <a:lnTo>
                      <a:pt x="938" y="327"/>
                    </a:lnTo>
                    <a:lnTo>
                      <a:pt x="919" y="329"/>
                    </a:lnTo>
                    <a:lnTo>
                      <a:pt x="894" y="331"/>
                    </a:lnTo>
                    <a:lnTo>
                      <a:pt x="869" y="335"/>
                    </a:lnTo>
                    <a:lnTo>
                      <a:pt x="840" y="335"/>
                    </a:lnTo>
                    <a:lnTo>
                      <a:pt x="812" y="331"/>
                    </a:lnTo>
                    <a:lnTo>
                      <a:pt x="789" y="329"/>
                    </a:lnTo>
                    <a:lnTo>
                      <a:pt x="774" y="323"/>
                    </a:lnTo>
                    <a:lnTo>
                      <a:pt x="767" y="313"/>
                    </a:lnTo>
                    <a:lnTo>
                      <a:pt x="758" y="288"/>
                    </a:lnTo>
                    <a:lnTo>
                      <a:pt x="742" y="249"/>
                    </a:lnTo>
                    <a:lnTo>
                      <a:pt x="710" y="215"/>
                    </a:lnTo>
                    <a:lnTo>
                      <a:pt x="678" y="196"/>
                    </a:lnTo>
                    <a:lnTo>
                      <a:pt x="657" y="194"/>
                    </a:lnTo>
                    <a:lnTo>
                      <a:pt x="632" y="198"/>
                    </a:lnTo>
                    <a:lnTo>
                      <a:pt x="603" y="210"/>
                    </a:lnTo>
                    <a:lnTo>
                      <a:pt x="568" y="221"/>
                    </a:lnTo>
                    <a:lnTo>
                      <a:pt x="536" y="237"/>
                    </a:lnTo>
                    <a:lnTo>
                      <a:pt x="502" y="255"/>
                    </a:lnTo>
                    <a:lnTo>
                      <a:pt x="466" y="272"/>
                    </a:lnTo>
                    <a:lnTo>
                      <a:pt x="440" y="288"/>
                    </a:lnTo>
                    <a:lnTo>
                      <a:pt x="408" y="305"/>
                    </a:lnTo>
                    <a:lnTo>
                      <a:pt x="372" y="325"/>
                    </a:lnTo>
                    <a:lnTo>
                      <a:pt x="338" y="347"/>
                    </a:lnTo>
                    <a:lnTo>
                      <a:pt x="299" y="370"/>
                    </a:lnTo>
                    <a:lnTo>
                      <a:pt x="265" y="391"/>
                    </a:lnTo>
                    <a:lnTo>
                      <a:pt x="229" y="409"/>
                    </a:lnTo>
                    <a:lnTo>
                      <a:pt x="203" y="427"/>
                    </a:lnTo>
                    <a:lnTo>
                      <a:pt x="180" y="440"/>
                    </a:lnTo>
                    <a:lnTo>
                      <a:pt x="151" y="462"/>
                    </a:lnTo>
                    <a:lnTo>
                      <a:pt x="132" y="485"/>
                    </a:lnTo>
                    <a:lnTo>
                      <a:pt x="130" y="511"/>
                    </a:lnTo>
                    <a:lnTo>
                      <a:pt x="146" y="540"/>
                    </a:lnTo>
                    <a:lnTo>
                      <a:pt x="167" y="571"/>
                    </a:lnTo>
                    <a:lnTo>
                      <a:pt x="189" y="607"/>
                    </a:lnTo>
                    <a:lnTo>
                      <a:pt x="208" y="636"/>
                    </a:lnTo>
                    <a:lnTo>
                      <a:pt x="240" y="644"/>
                    </a:lnTo>
                    <a:lnTo>
                      <a:pt x="256" y="644"/>
                    </a:lnTo>
                    <a:lnTo>
                      <a:pt x="278" y="642"/>
                    </a:lnTo>
                    <a:lnTo>
                      <a:pt x="299" y="640"/>
                    </a:lnTo>
                    <a:lnTo>
                      <a:pt x="322" y="636"/>
                    </a:lnTo>
                    <a:lnTo>
                      <a:pt x="343" y="626"/>
                    </a:lnTo>
                    <a:lnTo>
                      <a:pt x="367" y="622"/>
                    </a:lnTo>
                    <a:lnTo>
                      <a:pt x="383" y="616"/>
                    </a:lnTo>
                    <a:lnTo>
                      <a:pt x="392" y="605"/>
                    </a:lnTo>
                    <a:lnTo>
                      <a:pt x="411" y="585"/>
                    </a:lnTo>
                    <a:lnTo>
                      <a:pt x="436" y="566"/>
                    </a:lnTo>
                    <a:lnTo>
                      <a:pt x="449" y="544"/>
                    </a:lnTo>
                    <a:lnTo>
                      <a:pt x="449" y="521"/>
                    </a:lnTo>
                    <a:lnTo>
                      <a:pt x="436" y="491"/>
                    </a:lnTo>
                    <a:lnTo>
                      <a:pt x="429" y="468"/>
                    </a:lnTo>
                    <a:lnTo>
                      <a:pt x="432" y="446"/>
                    </a:lnTo>
                    <a:lnTo>
                      <a:pt x="449" y="427"/>
                    </a:lnTo>
                    <a:lnTo>
                      <a:pt x="466" y="417"/>
                    </a:lnTo>
                    <a:lnTo>
                      <a:pt x="486" y="407"/>
                    </a:lnTo>
                    <a:lnTo>
                      <a:pt x="509" y="395"/>
                    </a:lnTo>
                    <a:lnTo>
                      <a:pt x="527" y="388"/>
                    </a:lnTo>
                    <a:lnTo>
                      <a:pt x="543" y="378"/>
                    </a:lnTo>
                    <a:lnTo>
                      <a:pt x="559" y="372"/>
                    </a:lnTo>
                    <a:lnTo>
                      <a:pt x="568" y="370"/>
                    </a:lnTo>
                    <a:lnTo>
                      <a:pt x="575" y="368"/>
                    </a:lnTo>
                    <a:lnTo>
                      <a:pt x="578" y="368"/>
                    </a:lnTo>
                    <a:lnTo>
                      <a:pt x="587" y="370"/>
                    </a:lnTo>
                    <a:lnTo>
                      <a:pt x="600" y="378"/>
                    </a:lnTo>
                    <a:lnTo>
                      <a:pt x="603" y="393"/>
                    </a:lnTo>
                    <a:lnTo>
                      <a:pt x="600" y="407"/>
                    </a:lnTo>
                    <a:lnTo>
                      <a:pt x="584" y="411"/>
                    </a:lnTo>
                    <a:lnTo>
                      <a:pt x="562" y="421"/>
                    </a:lnTo>
                    <a:lnTo>
                      <a:pt x="536" y="433"/>
                    </a:lnTo>
                    <a:lnTo>
                      <a:pt x="514" y="456"/>
                    </a:lnTo>
                    <a:lnTo>
                      <a:pt x="514" y="487"/>
                    </a:lnTo>
                    <a:lnTo>
                      <a:pt x="534" y="511"/>
                    </a:lnTo>
                    <a:lnTo>
                      <a:pt x="575" y="521"/>
                    </a:lnTo>
                    <a:lnTo>
                      <a:pt x="603" y="515"/>
                    </a:lnTo>
                    <a:lnTo>
                      <a:pt x="632" y="507"/>
                    </a:lnTo>
                    <a:lnTo>
                      <a:pt x="660" y="501"/>
                    </a:lnTo>
                    <a:lnTo>
                      <a:pt x="691" y="491"/>
                    </a:lnTo>
                    <a:lnTo>
                      <a:pt x="719" y="483"/>
                    </a:lnTo>
                    <a:lnTo>
                      <a:pt x="746" y="476"/>
                    </a:lnTo>
                    <a:lnTo>
                      <a:pt x="764" y="472"/>
                    </a:lnTo>
                    <a:lnTo>
                      <a:pt x="776" y="472"/>
                    </a:lnTo>
                    <a:lnTo>
                      <a:pt x="799" y="485"/>
                    </a:lnTo>
                    <a:lnTo>
                      <a:pt x="821" y="507"/>
                    </a:lnTo>
                    <a:lnTo>
                      <a:pt x="840" y="528"/>
                    </a:lnTo>
                    <a:lnTo>
                      <a:pt x="853" y="544"/>
                    </a:lnTo>
                    <a:lnTo>
                      <a:pt x="830" y="546"/>
                    </a:lnTo>
                    <a:lnTo>
                      <a:pt x="812" y="550"/>
                    </a:lnTo>
                    <a:lnTo>
                      <a:pt x="792" y="558"/>
                    </a:lnTo>
                    <a:lnTo>
                      <a:pt x="774" y="566"/>
                    </a:lnTo>
                    <a:lnTo>
                      <a:pt x="758" y="571"/>
                    </a:lnTo>
                    <a:lnTo>
                      <a:pt x="748" y="577"/>
                    </a:lnTo>
                    <a:lnTo>
                      <a:pt x="742" y="583"/>
                    </a:lnTo>
                    <a:lnTo>
                      <a:pt x="735" y="585"/>
                    </a:lnTo>
                    <a:lnTo>
                      <a:pt x="730" y="585"/>
                    </a:lnTo>
                    <a:lnTo>
                      <a:pt x="710" y="583"/>
                    </a:lnTo>
                    <a:lnTo>
                      <a:pt x="682" y="579"/>
                    </a:lnTo>
                    <a:lnTo>
                      <a:pt x="653" y="577"/>
                    </a:lnTo>
                    <a:lnTo>
                      <a:pt x="621" y="577"/>
                    </a:lnTo>
                    <a:lnTo>
                      <a:pt x="591" y="579"/>
                    </a:lnTo>
                    <a:lnTo>
                      <a:pt x="575" y="585"/>
                    </a:lnTo>
                    <a:lnTo>
                      <a:pt x="564" y="591"/>
                    </a:lnTo>
                    <a:lnTo>
                      <a:pt x="559" y="620"/>
                    </a:lnTo>
                    <a:lnTo>
                      <a:pt x="543" y="652"/>
                    </a:lnTo>
                    <a:lnTo>
                      <a:pt x="511" y="681"/>
                    </a:lnTo>
                    <a:lnTo>
                      <a:pt x="466" y="685"/>
                    </a:lnTo>
                    <a:lnTo>
                      <a:pt x="440" y="681"/>
                    </a:lnTo>
                    <a:lnTo>
                      <a:pt x="397" y="677"/>
                    </a:lnTo>
                    <a:lnTo>
                      <a:pt x="356" y="681"/>
                    </a:lnTo>
                    <a:lnTo>
                      <a:pt x="310" y="683"/>
                    </a:lnTo>
                    <a:lnTo>
                      <a:pt x="265" y="687"/>
                    </a:lnTo>
                    <a:lnTo>
                      <a:pt x="221" y="699"/>
                    </a:lnTo>
                    <a:lnTo>
                      <a:pt x="189" y="712"/>
                    </a:lnTo>
                    <a:lnTo>
                      <a:pt x="160" y="732"/>
                    </a:lnTo>
                    <a:lnTo>
                      <a:pt x="146" y="747"/>
                    </a:lnTo>
                    <a:lnTo>
                      <a:pt x="126" y="763"/>
                    </a:lnTo>
                    <a:lnTo>
                      <a:pt x="110" y="775"/>
                    </a:lnTo>
                    <a:lnTo>
                      <a:pt x="94" y="787"/>
                    </a:lnTo>
                    <a:lnTo>
                      <a:pt x="78" y="798"/>
                    </a:lnTo>
                    <a:lnTo>
                      <a:pt x="62" y="806"/>
                    </a:lnTo>
                    <a:lnTo>
                      <a:pt x="50" y="818"/>
                    </a:lnTo>
                    <a:lnTo>
                      <a:pt x="37" y="832"/>
                    </a:lnTo>
                    <a:lnTo>
                      <a:pt x="28" y="841"/>
                    </a:lnTo>
                    <a:lnTo>
                      <a:pt x="16" y="853"/>
                    </a:lnTo>
                    <a:lnTo>
                      <a:pt x="7" y="865"/>
                    </a:lnTo>
                    <a:lnTo>
                      <a:pt x="0" y="877"/>
                    </a:lnTo>
                    <a:lnTo>
                      <a:pt x="3524" y="87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75" name="Freeform 1157"/>
              <p:cNvSpPr/>
              <p:nvPr/>
            </p:nvSpPr>
            <p:spPr>
              <a:xfrm>
                <a:off x="4328640" y="3805200"/>
                <a:ext cx="2987280" cy="693720"/>
              </a:xfrm>
              <a:custGeom>
                <a:avLst/>
                <a:gdLst/>
                <a:ahLst/>
                <a:rect l="l" t="t" r="r" b="b"/>
                <a:pathLst>
                  <a:path w="3764" h="874">
                    <a:moveTo>
                      <a:pt x="241" y="0"/>
                    </a:moveTo>
                    <a:lnTo>
                      <a:pt x="228" y="15"/>
                    </a:lnTo>
                    <a:lnTo>
                      <a:pt x="217" y="27"/>
                    </a:lnTo>
                    <a:lnTo>
                      <a:pt x="209" y="39"/>
                    </a:lnTo>
                    <a:lnTo>
                      <a:pt x="203" y="43"/>
                    </a:lnTo>
                    <a:lnTo>
                      <a:pt x="184" y="52"/>
                    </a:lnTo>
                    <a:lnTo>
                      <a:pt x="160" y="52"/>
                    </a:lnTo>
                    <a:lnTo>
                      <a:pt x="136" y="52"/>
                    </a:lnTo>
                    <a:lnTo>
                      <a:pt x="111" y="45"/>
                    </a:lnTo>
                    <a:lnTo>
                      <a:pt x="86" y="41"/>
                    </a:lnTo>
                    <a:lnTo>
                      <a:pt x="63" y="37"/>
                    </a:lnTo>
                    <a:lnTo>
                      <a:pt x="50" y="33"/>
                    </a:lnTo>
                    <a:lnTo>
                      <a:pt x="48" y="31"/>
                    </a:lnTo>
                    <a:lnTo>
                      <a:pt x="38" y="37"/>
                    </a:lnTo>
                    <a:lnTo>
                      <a:pt x="25" y="52"/>
                    </a:lnTo>
                    <a:lnTo>
                      <a:pt x="7" y="72"/>
                    </a:lnTo>
                    <a:lnTo>
                      <a:pt x="0" y="92"/>
                    </a:lnTo>
                    <a:lnTo>
                      <a:pt x="7" y="115"/>
                    </a:lnTo>
                    <a:lnTo>
                      <a:pt x="20" y="148"/>
                    </a:lnTo>
                    <a:lnTo>
                      <a:pt x="38" y="178"/>
                    </a:lnTo>
                    <a:lnTo>
                      <a:pt x="57" y="195"/>
                    </a:lnTo>
                    <a:lnTo>
                      <a:pt x="66" y="201"/>
                    </a:lnTo>
                    <a:lnTo>
                      <a:pt x="79" y="207"/>
                    </a:lnTo>
                    <a:lnTo>
                      <a:pt x="98" y="209"/>
                    </a:lnTo>
                    <a:lnTo>
                      <a:pt x="114" y="211"/>
                    </a:lnTo>
                    <a:lnTo>
                      <a:pt x="136" y="209"/>
                    </a:lnTo>
                    <a:lnTo>
                      <a:pt x="155" y="207"/>
                    </a:lnTo>
                    <a:lnTo>
                      <a:pt x="175" y="197"/>
                    </a:lnTo>
                    <a:lnTo>
                      <a:pt x="193" y="189"/>
                    </a:lnTo>
                    <a:lnTo>
                      <a:pt x="205" y="174"/>
                    </a:lnTo>
                    <a:lnTo>
                      <a:pt x="228" y="156"/>
                    </a:lnTo>
                    <a:lnTo>
                      <a:pt x="249" y="135"/>
                    </a:lnTo>
                    <a:lnTo>
                      <a:pt x="274" y="111"/>
                    </a:lnTo>
                    <a:lnTo>
                      <a:pt x="299" y="92"/>
                    </a:lnTo>
                    <a:lnTo>
                      <a:pt x="326" y="74"/>
                    </a:lnTo>
                    <a:lnTo>
                      <a:pt x="351" y="58"/>
                    </a:lnTo>
                    <a:lnTo>
                      <a:pt x="372" y="52"/>
                    </a:lnTo>
                    <a:lnTo>
                      <a:pt x="395" y="45"/>
                    </a:lnTo>
                    <a:lnTo>
                      <a:pt x="417" y="45"/>
                    </a:lnTo>
                    <a:lnTo>
                      <a:pt x="440" y="43"/>
                    </a:lnTo>
                    <a:lnTo>
                      <a:pt x="461" y="45"/>
                    </a:lnTo>
                    <a:lnTo>
                      <a:pt x="483" y="47"/>
                    </a:lnTo>
                    <a:lnTo>
                      <a:pt x="506" y="54"/>
                    </a:lnTo>
                    <a:lnTo>
                      <a:pt x="522" y="60"/>
                    </a:lnTo>
                    <a:lnTo>
                      <a:pt x="536" y="72"/>
                    </a:lnTo>
                    <a:lnTo>
                      <a:pt x="552" y="82"/>
                    </a:lnTo>
                    <a:lnTo>
                      <a:pt x="568" y="97"/>
                    </a:lnTo>
                    <a:lnTo>
                      <a:pt x="588" y="115"/>
                    </a:lnTo>
                    <a:lnTo>
                      <a:pt x="607" y="135"/>
                    </a:lnTo>
                    <a:lnTo>
                      <a:pt x="625" y="148"/>
                    </a:lnTo>
                    <a:lnTo>
                      <a:pt x="638" y="162"/>
                    </a:lnTo>
                    <a:lnTo>
                      <a:pt x="648" y="174"/>
                    </a:lnTo>
                    <a:lnTo>
                      <a:pt x="650" y="176"/>
                    </a:lnTo>
                    <a:lnTo>
                      <a:pt x="673" y="131"/>
                    </a:lnTo>
                    <a:lnTo>
                      <a:pt x="748" y="115"/>
                    </a:lnTo>
                    <a:lnTo>
                      <a:pt x="777" y="195"/>
                    </a:lnTo>
                    <a:lnTo>
                      <a:pt x="780" y="191"/>
                    </a:lnTo>
                    <a:lnTo>
                      <a:pt x="796" y="178"/>
                    </a:lnTo>
                    <a:lnTo>
                      <a:pt x="817" y="158"/>
                    </a:lnTo>
                    <a:lnTo>
                      <a:pt x="844" y="137"/>
                    </a:lnTo>
                    <a:lnTo>
                      <a:pt x="874" y="105"/>
                    </a:lnTo>
                    <a:lnTo>
                      <a:pt x="903" y="72"/>
                    </a:lnTo>
                    <a:lnTo>
                      <a:pt x="926" y="43"/>
                    </a:lnTo>
                    <a:lnTo>
                      <a:pt x="939" y="31"/>
                    </a:lnTo>
                    <a:lnTo>
                      <a:pt x="944" y="33"/>
                    </a:lnTo>
                    <a:lnTo>
                      <a:pt x="963" y="37"/>
                    </a:lnTo>
                    <a:lnTo>
                      <a:pt x="985" y="43"/>
                    </a:lnTo>
                    <a:lnTo>
                      <a:pt x="1008" y="52"/>
                    </a:lnTo>
                    <a:lnTo>
                      <a:pt x="1020" y="56"/>
                    </a:lnTo>
                    <a:lnTo>
                      <a:pt x="1036" y="58"/>
                    </a:lnTo>
                    <a:lnTo>
                      <a:pt x="1058" y="62"/>
                    </a:lnTo>
                    <a:lnTo>
                      <a:pt x="1077" y="64"/>
                    </a:lnTo>
                    <a:lnTo>
                      <a:pt x="1093" y="70"/>
                    </a:lnTo>
                    <a:lnTo>
                      <a:pt x="1108" y="70"/>
                    </a:lnTo>
                    <a:lnTo>
                      <a:pt x="1118" y="72"/>
                    </a:lnTo>
                    <a:lnTo>
                      <a:pt x="1124" y="72"/>
                    </a:lnTo>
                    <a:lnTo>
                      <a:pt x="1136" y="74"/>
                    </a:lnTo>
                    <a:lnTo>
                      <a:pt x="1165" y="78"/>
                    </a:lnTo>
                    <a:lnTo>
                      <a:pt x="1204" y="86"/>
                    </a:lnTo>
                    <a:lnTo>
                      <a:pt x="1229" y="95"/>
                    </a:lnTo>
                    <a:lnTo>
                      <a:pt x="1248" y="111"/>
                    </a:lnTo>
                    <a:lnTo>
                      <a:pt x="1273" y="131"/>
                    </a:lnTo>
                    <a:lnTo>
                      <a:pt x="1295" y="148"/>
                    </a:lnTo>
                    <a:lnTo>
                      <a:pt x="1304" y="156"/>
                    </a:lnTo>
                    <a:lnTo>
                      <a:pt x="1275" y="158"/>
                    </a:lnTo>
                    <a:lnTo>
                      <a:pt x="1250" y="160"/>
                    </a:lnTo>
                    <a:lnTo>
                      <a:pt x="1225" y="162"/>
                    </a:lnTo>
                    <a:lnTo>
                      <a:pt x="1204" y="162"/>
                    </a:lnTo>
                    <a:lnTo>
                      <a:pt x="1181" y="162"/>
                    </a:lnTo>
                    <a:lnTo>
                      <a:pt x="1159" y="162"/>
                    </a:lnTo>
                    <a:lnTo>
                      <a:pt x="1140" y="160"/>
                    </a:lnTo>
                    <a:lnTo>
                      <a:pt x="1124" y="156"/>
                    </a:lnTo>
                    <a:lnTo>
                      <a:pt x="1102" y="152"/>
                    </a:lnTo>
                    <a:lnTo>
                      <a:pt x="1081" y="152"/>
                    </a:lnTo>
                    <a:lnTo>
                      <a:pt x="1058" y="152"/>
                    </a:lnTo>
                    <a:lnTo>
                      <a:pt x="1036" y="152"/>
                    </a:lnTo>
                    <a:lnTo>
                      <a:pt x="1012" y="154"/>
                    </a:lnTo>
                    <a:lnTo>
                      <a:pt x="988" y="158"/>
                    </a:lnTo>
                    <a:lnTo>
                      <a:pt x="967" y="162"/>
                    </a:lnTo>
                    <a:lnTo>
                      <a:pt x="947" y="170"/>
                    </a:lnTo>
                    <a:lnTo>
                      <a:pt x="919" y="189"/>
                    </a:lnTo>
                    <a:lnTo>
                      <a:pt x="898" y="211"/>
                    </a:lnTo>
                    <a:lnTo>
                      <a:pt x="887" y="234"/>
                    </a:lnTo>
                    <a:lnTo>
                      <a:pt x="885" y="240"/>
                    </a:lnTo>
                    <a:lnTo>
                      <a:pt x="894" y="244"/>
                    </a:lnTo>
                    <a:lnTo>
                      <a:pt x="919" y="248"/>
                    </a:lnTo>
                    <a:lnTo>
                      <a:pt x="956" y="256"/>
                    </a:lnTo>
                    <a:lnTo>
                      <a:pt x="988" y="260"/>
                    </a:lnTo>
                    <a:lnTo>
                      <a:pt x="1012" y="270"/>
                    </a:lnTo>
                    <a:lnTo>
                      <a:pt x="1024" y="275"/>
                    </a:lnTo>
                    <a:lnTo>
                      <a:pt x="1033" y="291"/>
                    </a:lnTo>
                    <a:lnTo>
                      <a:pt x="1036" y="309"/>
                    </a:lnTo>
                    <a:lnTo>
                      <a:pt x="1029" y="328"/>
                    </a:lnTo>
                    <a:lnTo>
                      <a:pt x="1017" y="352"/>
                    </a:lnTo>
                    <a:lnTo>
                      <a:pt x="1004" y="367"/>
                    </a:lnTo>
                    <a:lnTo>
                      <a:pt x="996" y="373"/>
                    </a:lnTo>
                    <a:lnTo>
                      <a:pt x="1017" y="387"/>
                    </a:lnTo>
                    <a:lnTo>
                      <a:pt x="1045" y="404"/>
                    </a:lnTo>
                    <a:lnTo>
                      <a:pt x="1070" y="426"/>
                    </a:lnTo>
                    <a:lnTo>
                      <a:pt x="1083" y="442"/>
                    </a:lnTo>
                    <a:lnTo>
                      <a:pt x="1111" y="451"/>
                    </a:lnTo>
                    <a:lnTo>
                      <a:pt x="1134" y="471"/>
                    </a:lnTo>
                    <a:lnTo>
                      <a:pt x="1152" y="493"/>
                    </a:lnTo>
                    <a:lnTo>
                      <a:pt x="1159" y="516"/>
                    </a:lnTo>
                    <a:lnTo>
                      <a:pt x="1165" y="526"/>
                    </a:lnTo>
                    <a:lnTo>
                      <a:pt x="1179" y="547"/>
                    </a:lnTo>
                    <a:lnTo>
                      <a:pt x="1197" y="569"/>
                    </a:lnTo>
                    <a:lnTo>
                      <a:pt x="1213" y="598"/>
                    </a:lnTo>
                    <a:lnTo>
                      <a:pt x="1234" y="624"/>
                    </a:lnTo>
                    <a:lnTo>
                      <a:pt x="1254" y="647"/>
                    </a:lnTo>
                    <a:lnTo>
                      <a:pt x="1273" y="665"/>
                    </a:lnTo>
                    <a:lnTo>
                      <a:pt x="1282" y="672"/>
                    </a:lnTo>
                    <a:lnTo>
                      <a:pt x="1307" y="680"/>
                    </a:lnTo>
                    <a:lnTo>
                      <a:pt x="1339" y="694"/>
                    </a:lnTo>
                    <a:lnTo>
                      <a:pt x="1368" y="708"/>
                    </a:lnTo>
                    <a:lnTo>
                      <a:pt x="1387" y="717"/>
                    </a:lnTo>
                    <a:lnTo>
                      <a:pt x="1396" y="717"/>
                    </a:lnTo>
                    <a:lnTo>
                      <a:pt x="1405" y="717"/>
                    </a:lnTo>
                    <a:lnTo>
                      <a:pt x="1425" y="714"/>
                    </a:lnTo>
                    <a:lnTo>
                      <a:pt x="1441" y="706"/>
                    </a:lnTo>
                    <a:lnTo>
                      <a:pt x="1458" y="702"/>
                    </a:lnTo>
                    <a:lnTo>
                      <a:pt x="1471" y="694"/>
                    </a:lnTo>
                    <a:lnTo>
                      <a:pt x="1487" y="684"/>
                    </a:lnTo>
                    <a:lnTo>
                      <a:pt x="1494" y="674"/>
                    </a:lnTo>
                    <a:lnTo>
                      <a:pt x="1499" y="665"/>
                    </a:lnTo>
                    <a:lnTo>
                      <a:pt x="1514" y="649"/>
                    </a:lnTo>
                    <a:lnTo>
                      <a:pt x="1531" y="635"/>
                    </a:lnTo>
                    <a:lnTo>
                      <a:pt x="1544" y="618"/>
                    </a:lnTo>
                    <a:lnTo>
                      <a:pt x="1564" y="602"/>
                    </a:lnTo>
                    <a:lnTo>
                      <a:pt x="1583" y="586"/>
                    </a:lnTo>
                    <a:lnTo>
                      <a:pt x="1601" y="577"/>
                    </a:lnTo>
                    <a:lnTo>
                      <a:pt x="1613" y="569"/>
                    </a:lnTo>
                    <a:lnTo>
                      <a:pt x="1642" y="559"/>
                    </a:lnTo>
                    <a:lnTo>
                      <a:pt x="1674" y="547"/>
                    </a:lnTo>
                    <a:lnTo>
                      <a:pt x="1690" y="538"/>
                    </a:lnTo>
                    <a:lnTo>
                      <a:pt x="1699" y="532"/>
                    </a:lnTo>
                    <a:lnTo>
                      <a:pt x="1658" y="524"/>
                    </a:lnTo>
                    <a:lnTo>
                      <a:pt x="1617" y="518"/>
                    </a:lnTo>
                    <a:lnTo>
                      <a:pt x="1580" y="508"/>
                    </a:lnTo>
                    <a:lnTo>
                      <a:pt x="1539" y="502"/>
                    </a:lnTo>
                    <a:lnTo>
                      <a:pt x="1499" y="491"/>
                    </a:lnTo>
                    <a:lnTo>
                      <a:pt x="1469" y="483"/>
                    </a:lnTo>
                    <a:lnTo>
                      <a:pt x="1442" y="471"/>
                    </a:lnTo>
                    <a:lnTo>
                      <a:pt x="1425" y="459"/>
                    </a:lnTo>
                    <a:lnTo>
                      <a:pt x="1405" y="434"/>
                    </a:lnTo>
                    <a:lnTo>
                      <a:pt x="1402" y="410"/>
                    </a:lnTo>
                    <a:lnTo>
                      <a:pt x="1418" y="391"/>
                    </a:lnTo>
                    <a:lnTo>
                      <a:pt x="1442" y="375"/>
                    </a:lnTo>
                    <a:lnTo>
                      <a:pt x="1471" y="373"/>
                    </a:lnTo>
                    <a:lnTo>
                      <a:pt x="1498" y="383"/>
                    </a:lnTo>
                    <a:lnTo>
                      <a:pt x="1519" y="395"/>
                    </a:lnTo>
                    <a:lnTo>
                      <a:pt x="1535" y="410"/>
                    </a:lnTo>
                    <a:lnTo>
                      <a:pt x="1540" y="420"/>
                    </a:lnTo>
                    <a:lnTo>
                      <a:pt x="1548" y="426"/>
                    </a:lnTo>
                    <a:lnTo>
                      <a:pt x="1564" y="436"/>
                    </a:lnTo>
                    <a:lnTo>
                      <a:pt x="1580" y="446"/>
                    </a:lnTo>
                    <a:lnTo>
                      <a:pt x="1592" y="457"/>
                    </a:lnTo>
                    <a:lnTo>
                      <a:pt x="1610" y="465"/>
                    </a:lnTo>
                    <a:lnTo>
                      <a:pt x="1629" y="467"/>
                    </a:lnTo>
                    <a:lnTo>
                      <a:pt x="1653" y="467"/>
                    </a:lnTo>
                    <a:lnTo>
                      <a:pt x="1677" y="467"/>
                    </a:lnTo>
                    <a:lnTo>
                      <a:pt x="1708" y="467"/>
                    </a:lnTo>
                    <a:lnTo>
                      <a:pt x="1747" y="471"/>
                    </a:lnTo>
                    <a:lnTo>
                      <a:pt x="1784" y="479"/>
                    </a:lnTo>
                    <a:lnTo>
                      <a:pt x="1822" y="489"/>
                    </a:lnTo>
                    <a:lnTo>
                      <a:pt x="1857" y="500"/>
                    </a:lnTo>
                    <a:lnTo>
                      <a:pt x="1891" y="508"/>
                    </a:lnTo>
                    <a:lnTo>
                      <a:pt x="1914" y="522"/>
                    </a:lnTo>
                    <a:lnTo>
                      <a:pt x="1930" y="536"/>
                    </a:lnTo>
                    <a:lnTo>
                      <a:pt x="1952" y="543"/>
                    </a:lnTo>
                    <a:lnTo>
                      <a:pt x="1973" y="555"/>
                    </a:lnTo>
                    <a:lnTo>
                      <a:pt x="1996" y="561"/>
                    </a:lnTo>
                    <a:lnTo>
                      <a:pt x="2018" y="569"/>
                    </a:lnTo>
                    <a:lnTo>
                      <a:pt x="2034" y="579"/>
                    </a:lnTo>
                    <a:lnTo>
                      <a:pt x="2043" y="588"/>
                    </a:lnTo>
                    <a:lnTo>
                      <a:pt x="2050" y="602"/>
                    </a:lnTo>
                    <a:lnTo>
                      <a:pt x="2059" y="633"/>
                    </a:lnTo>
                    <a:lnTo>
                      <a:pt x="2066" y="659"/>
                    </a:lnTo>
                    <a:lnTo>
                      <a:pt x="2075" y="688"/>
                    </a:lnTo>
                    <a:lnTo>
                      <a:pt x="2094" y="714"/>
                    </a:lnTo>
                    <a:lnTo>
                      <a:pt x="2116" y="735"/>
                    </a:lnTo>
                    <a:lnTo>
                      <a:pt x="2139" y="762"/>
                    </a:lnTo>
                    <a:lnTo>
                      <a:pt x="2164" y="790"/>
                    </a:lnTo>
                    <a:lnTo>
                      <a:pt x="2189" y="809"/>
                    </a:lnTo>
                    <a:lnTo>
                      <a:pt x="2213" y="819"/>
                    </a:lnTo>
                    <a:lnTo>
                      <a:pt x="2233" y="821"/>
                    </a:lnTo>
                    <a:lnTo>
                      <a:pt x="2242" y="809"/>
                    </a:lnTo>
                    <a:lnTo>
                      <a:pt x="2249" y="774"/>
                    </a:lnTo>
                    <a:lnTo>
                      <a:pt x="2251" y="731"/>
                    </a:lnTo>
                    <a:lnTo>
                      <a:pt x="2265" y="684"/>
                    </a:lnTo>
                    <a:lnTo>
                      <a:pt x="2290" y="649"/>
                    </a:lnTo>
                    <a:lnTo>
                      <a:pt x="2335" y="620"/>
                    </a:lnTo>
                    <a:lnTo>
                      <a:pt x="2359" y="606"/>
                    </a:lnTo>
                    <a:lnTo>
                      <a:pt x="2381" y="598"/>
                    </a:lnTo>
                    <a:lnTo>
                      <a:pt x="2404" y="586"/>
                    </a:lnTo>
                    <a:lnTo>
                      <a:pt x="2425" y="579"/>
                    </a:lnTo>
                    <a:lnTo>
                      <a:pt x="2445" y="571"/>
                    </a:lnTo>
                    <a:lnTo>
                      <a:pt x="2463" y="567"/>
                    </a:lnTo>
                    <a:lnTo>
                      <a:pt x="2475" y="561"/>
                    </a:lnTo>
                    <a:lnTo>
                      <a:pt x="2489" y="557"/>
                    </a:lnTo>
                    <a:lnTo>
                      <a:pt x="2516" y="541"/>
                    </a:lnTo>
                    <a:lnTo>
                      <a:pt x="2548" y="522"/>
                    </a:lnTo>
                    <a:lnTo>
                      <a:pt x="2573" y="516"/>
                    </a:lnTo>
                    <a:lnTo>
                      <a:pt x="2584" y="539"/>
                    </a:lnTo>
                    <a:lnTo>
                      <a:pt x="2577" y="579"/>
                    </a:lnTo>
                    <a:lnTo>
                      <a:pt x="2577" y="608"/>
                    </a:lnTo>
                    <a:lnTo>
                      <a:pt x="2589" y="637"/>
                    </a:lnTo>
                    <a:lnTo>
                      <a:pt x="2618" y="665"/>
                    </a:lnTo>
                    <a:lnTo>
                      <a:pt x="2646" y="694"/>
                    </a:lnTo>
                    <a:lnTo>
                      <a:pt x="2669" y="723"/>
                    </a:lnTo>
                    <a:lnTo>
                      <a:pt x="2684" y="755"/>
                    </a:lnTo>
                    <a:lnTo>
                      <a:pt x="2694" y="776"/>
                    </a:lnTo>
                    <a:lnTo>
                      <a:pt x="2703" y="802"/>
                    </a:lnTo>
                    <a:lnTo>
                      <a:pt x="2707" y="831"/>
                    </a:lnTo>
                    <a:lnTo>
                      <a:pt x="2712" y="852"/>
                    </a:lnTo>
                    <a:lnTo>
                      <a:pt x="2712" y="862"/>
                    </a:lnTo>
                    <a:lnTo>
                      <a:pt x="2780" y="831"/>
                    </a:lnTo>
                    <a:lnTo>
                      <a:pt x="2785" y="839"/>
                    </a:lnTo>
                    <a:lnTo>
                      <a:pt x="2805" y="856"/>
                    </a:lnTo>
                    <a:lnTo>
                      <a:pt x="2826" y="874"/>
                    </a:lnTo>
                    <a:lnTo>
                      <a:pt x="2849" y="874"/>
                    </a:lnTo>
                    <a:lnTo>
                      <a:pt x="2851" y="856"/>
                    </a:lnTo>
                    <a:lnTo>
                      <a:pt x="2837" y="831"/>
                    </a:lnTo>
                    <a:lnTo>
                      <a:pt x="2817" y="802"/>
                    </a:lnTo>
                    <a:lnTo>
                      <a:pt x="2817" y="776"/>
                    </a:lnTo>
                    <a:lnTo>
                      <a:pt x="2833" y="762"/>
                    </a:lnTo>
                    <a:lnTo>
                      <a:pt x="2851" y="757"/>
                    </a:lnTo>
                    <a:lnTo>
                      <a:pt x="2874" y="757"/>
                    </a:lnTo>
                    <a:lnTo>
                      <a:pt x="2895" y="757"/>
                    </a:lnTo>
                    <a:lnTo>
                      <a:pt x="2920" y="753"/>
                    </a:lnTo>
                    <a:lnTo>
                      <a:pt x="2949" y="741"/>
                    </a:lnTo>
                    <a:lnTo>
                      <a:pt x="2976" y="725"/>
                    </a:lnTo>
                    <a:lnTo>
                      <a:pt x="3000" y="714"/>
                    </a:lnTo>
                    <a:lnTo>
                      <a:pt x="3006" y="698"/>
                    </a:lnTo>
                    <a:lnTo>
                      <a:pt x="2997" y="682"/>
                    </a:lnTo>
                    <a:lnTo>
                      <a:pt x="2977" y="667"/>
                    </a:lnTo>
                    <a:lnTo>
                      <a:pt x="2972" y="653"/>
                    </a:lnTo>
                    <a:lnTo>
                      <a:pt x="2959" y="637"/>
                    </a:lnTo>
                    <a:lnTo>
                      <a:pt x="2943" y="624"/>
                    </a:lnTo>
                    <a:lnTo>
                      <a:pt x="2924" y="616"/>
                    </a:lnTo>
                    <a:lnTo>
                      <a:pt x="2924" y="600"/>
                    </a:lnTo>
                    <a:lnTo>
                      <a:pt x="2935" y="590"/>
                    </a:lnTo>
                    <a:lnTo>
                      <a:pt x="2952" y="582"/>
                    </a:lnTo>
                    <a:lnTo>
                      <a:pt x="2977" y="575"/>
                    </a:lnTo>
                    <a:lnTo>
                      <a:pt x="3004" y="565"/>
                    </a:lnTo>
                    <a:lnTo>
                      <a:pt x="3038" y="555"/>
                    </a:lnTo>
                    <a:lnTo>
                      <a:pt x="3066" y="547"/>
                    </a:lnTo>
                    <a:lnTo>
                      <a:pt x="3091" y="539"/>
                    </a:lnTo>
                    <a:lnTo>
                      <a:pt x="3116" y="532"/>
                    </a:lnTo>
                    <a:lnTo>
                      <a:pt x="3136" y="526"/>
                    </a:lnTo>
                    <a:lnTo>
                      <a:pt x="3157" y="518"/>
                    </a:lnTo>
                    <a:lnTo>
                      <a:pt x="3173" y="508"/>
                    </a:lnTo>
                    <a:lnTo>
                      <a:pt x="3196" y="496"/>
                    </a:lnTo>
                    <a:lnTo>
                      <a:pt x="3214" y="487"/>
                    </a:lnTo>
                    <a:lnTo>
                      <a:pt x="3237" y="473"/>
                    </a:lnTo>
                    <a:lnTo>
                      <a:pt x="3255" y="465"/>
                    </a:lnTo>
                    <a:lnTo>
                      <a:pt x="3275" y="453"/>
                    </a:lnTo>
                    <a:lnTo>
                      <a:pt x="3303" y="428"/>
                    </a:lnTo>
                    <a:lnTo>
                      <a:pt x="3316" y="401"/>
                    </a:lnTo>
                    <a:lnTo>
                      <a:pt x="3312" y="369"/>
                    </a:lnTo>
                    <a:lnTo>
                      <a:pt x="3303" y="342"/>
                    </a:lnTo>
                    <a:lnTo>
                      <a:pt x="3291" y="318"/>
                    </a:lnTo>
                    <a:lnTo>
                      <a:pt x="3291" y="293"/>
                    </a:lnTo>
                    <a:lnTo>
                      <a:pt x="3303" y="271"/>
                    </a:lnTo>
                    <a:lnTo>
                      <a:pt x="3325" y="248"/>
                    </a:lnTo>
                    <a:lnTo>
                      <a:pt x="3339" y="236"/>
                    </a:lnTo>
                    <a:lnTo>
                      <a:pt x="3353" y="221"/>
                    </a:lnTo>
                    <a:lnTo>
                      <a:pt x="3373" y="209"/>
                    </a:lnTo>
                    <a:lnTo>
                      <a:pt x="3385" y="195"/>
                    </a:lnTo>
                    <a:lnTo>
                      <a:pt x="3405" y="189"/>
                    </a:lnTo>
                    <a:lnTo>
                      <a:pt x="3414" y="187"/>
                    </a:lnTo>
                    <a:lnTo>
                      <a:pt x="3430" y="191"/>
                    </a:lnTo>
                    <a:lnTo>
                      <a:pt x="3437" y="205"/>
                    </a:lnTo>
                    <a:lnTo>
                      <a:pt x="3449" y="240"/>
                    </a:lnTo>
                    <a:lnTo>
                      <a:pt x="3454" y="277"/>
                    </a:lnTo>
                    <a:lnTo>
                      <a:pt x="3458" y="309"/>
                    </a:lnTo>
                    <a:lnTo>
                      <a:pt x="3458" y="322"/>
                    </a:lnTo>
                    <a:lnTo>
                      <a:pt x="3499" y="295"/>
                    </a:lnTo>
                    <a:lnTo>
                      <a:pt x="3524" y="260"/>
                    </a:lnTo>
                    <a:lnTo>
                      <a:pt x="3540" y="226"/>
                    </a:lnTo>
                    <a:lnTo>
                      <a:pt x="3552" y="205"/>
                    </a:lnTo>
                    <a:lnTo>
                      <a:pt x="3576" y="180"/>
                    </a:lnTo>
                    <a:lnTo>
                      <a:pt x="3600" y="148"/>
                    </a:lnTo>
                    <a:lnTo>
                      <a:pt x="3634" y="115"/>
                    </a:lnTo>
                    <a:lnTo>
                      <a:pt x="3659" y="95"/>
                    </a:lnTo>
                    <a:lnTo>
                      <a:pt x="3682" y="80"/>
                    </a:lnTo>
                    <a:lnTo>
                      <a:pt x="3707" y="56"/>
                    </a:lnTo>
                    <a:lnTo>
                      <a:pt x="3732" y="31"/>
                    </a:lnTo>
                    <a:lnTo>
                      <a:pt x="3755" y="11"/>
                    </a:lnTo>
                    <a:lnTo>
                      <a:pt x="3757" y="7"/>
                    </a:lnTo>
                    <a:lnTo>
                      <a:pt x="3761" y="5"/>
                    </a:lnTo>
                    <a:lnTo>
                      <a:pt x="3761" y="4"/>
                    </a:lnTo>
                    <a:lnTo>
                      <a:pt x="3764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76" name="Freeform 1158"/>
              <p:cNvSpPr/>
              <p:nvPr/>
            </p:nvSpPr>
            <p:spPr>
              <a:xfrm>
                <a:off x="4117320" y="3997080"/>
                <a:ext cx="1338120" cy="1079640"/>
              </a:xfrm>
              <a:custGeom>
                <a:avLst/>
                <a:gdLst/>
                <a:ahLst/>
                <a:rect l="l" t="t" r="r" b="b"/>
                <a:pathLst>
                  <a:path w="1684" h="1360">
                    <a:moveTo>
                      <a:pt x="1228" y="139"/>
                    </a:moveTo>
                    <a:lnTo>
                      <a:pt x="1205" y="139"/>
                    </a:lnTo>
                    <a:lnTo>
                      <a:pt x="1180" y="139"/>
                    </a:lnTo>
                    <a:lnTo>
                      <a:pt x="1155" y="133"/>
                    </a:lnTo>
                    <a:lnTo>
                      <a:pt x="1134" y="129"/>
                    </a:lnTo>
                    <a:lnTo>
                      <a:pt x="1111" y="125"/>
                    </a:lnTo>
                    <a:lnTo>
                      <a:pt x="1093" y="116"/>
                    </a:lnTo>
                    <a:lnTo>
                      <a:pt x="1077" y="112"/>
                    </a:lnTo>
                    <a:lnTo>
                      <a:pt x="1065" y="108"/>
                    </a:lnTo>
                    <a:lnTo>
                      <a:pt x="1052" y="102"/>
                    </a:lnTo>
                    <a:lnTo>
                      <a:pt x="1040" y="102"/>
                    </a:lnTo>
                    <a:lnTo>
                      <a:pt x="1024" y="110"/>
                    </a:lnTo>
                    <a:lnTo>
                      <a:pt x="1011" y="114"/>
                    </a:lnTo>
                    <a:lnTo>
                      <a:pt x="992" y="119"/>
                    </a:lnTo>
                    <a:lnTo>
                      <a:pt x="976" y="129"/>
                    </a:lnTo>
                    <a:lnTo>
                      <a:pt x="958" y="133"/>
                    </a:lnTo>
                    <a:lnTo>
                      <a:pt x="942" y="139"/>
                    </a:lnTo>
                    <a:lnTo>
                      <a:pt x="922" y="139"/>
                    </a:lnTo>
                    <a:lnTo>
                      <a:pt x="897" y="135"/>
                    </a:lnTo>
                    <a:lnTo>
                      <a:pt x="872" y="133"/>
                    </a:lnTo>
                    <a:lnTo>
                      <a:pt x="847" y="127"/>
                    </a:lnTo>
                    <a:lnTo>
                      <a:pt x="823" y="116"/>
                    </a:lnTo>
                    <a:lnTo>
                      <a:pt x="796" y="108"/>
                    </a:lnTo>
                    <a:lnTo>
                      <a:pt x="774" y="94"/>
                    </a:lnTo>
                    <a:lnTo>
                      <a:pt x="758" y="78"/>
                    </a:lnTo>
                    <a:lnTo>
                      <a:pt x="741" y="63"/>
                    </a:lnTo>
                    <a:lnTo>
                      <a:pt x="714" y="45"/>
                    </a:lnTo>
                    <a:lnTo>
                      <a:pt x="684" y="31"/>
                    </a:lnTo>
                    <a:lnTo>
                      <a:pt x="655" y="18"/>
                    </a:lnTo>
                    <a:lnTo>
                      <a:pt x="620" y="8"/>
                    </a:lnTo>
                    <a:lnTo>
                      <a:pt x="591" y="0"/>
                    </a:lnTo>
                    <a:lnTo>
                      <a:pt x="566" y="0"/>
                    </a:lnTo>
                    <a:lnTo>
                      <a:pt x="548" y="4"/>
                    </a:lnTo>
                    <a:lnTo>
                      <a:pt x="532" y="14"/>
                    </a:lnTo>
                    <a:lnTo>
                      <a:pt x="509" y="20"/>
                    </a:lnTo>
                    <a:lnTo>
                      <a:pt x="479" y="24"/>
                    </a:lnTo>
                    <a:lnTo>
                      <a:pt x="450" y="26"/>
                    </a:lnTo>
                    <a:lnTo>
                      <a:pt x="422" y="29"/>
                    </a:lnTo>
                    <a:lnTo>
                      <a:pt x="393" y="31"/>
                    </a:lnTo>
                    <a:lnTo>
                      <a:pt x="368" y="37"/>
                    </a:lnTo>
                    <a:lnTo>
                      <a:pt x="347" y="45"/>
                    </a:lnTo>
                    <a:lnTo>
                      <a:pt x="328" y="57"/>
                    </a:lnTo>
                    <a:lnTo>
                      <a:pt x="306" y="71"/>
                    </a:lnTo>
                    <a:lnTo>
                      <a:pt x="279" y="88"/>
                    </a:lnTo>
                    <a:lnTo>
                      <a:pt x="258" y="108"/>
                    </a:lnTo>
                    <a:lnTo>
                      <a:pt x="237" y="125"/>
                    </a:lnTo>
                    <a:lnTo>
                      <a:pt x="214" y="143"/>
                    </a:lnTo>
                    <a:lnTo>
                      <a:pt x="198" y="159"/>
                    </a:lnTo>
                    <a:lnTo>
                      <a:pt x="185" y="170"/>
                    </a:lnTo>
                    <a:lnTo>
                      <a:pt x="169" y="184"/>
                    </a:lnTo>
                    <a:lnTo>
                      <a:pt x="151" y="194"/>
                    </a:lnTo>
                    <a:lnTo>
                      <a:pt x="128" y="207"/>
                    </a:lnTo>
                    <a:lnTo>
                      <a:pt x="103" y="219"/>
                    </a:lnTo>
                    <a:lnTo>
                      <a:pt x="82" y="231"/>
                    </a:lnTo>
                    <a:lnTo>
                      <a:pt x="60" y="245"/>
                    </a:lnTo>
                    <a:lnTo>
                      <a:pt x="44" y="258"/>
                    </a:lnTo>
                    <a:lnTo>
                      <a:pt x="41" y="272"/>
                    </a:lnTo>
                    <a:lnTo>
                      <a:pt x="34" y="301"/>
                    </a:lnTo>
                    <a:lnTo>
                      <a:pt x="21" y="333"/>
                    </a:lnTo>
                    <a:lnTo>
                      <a:pt x="9" y="352"/>
                    </a:lnTo>
                    <a:lnTo>
                      <a:pt x="0" y="362"/>
                    </a:lnTo>
                    <a:lnTo>
                      <a:pt x="3" y="378"/>
                    </a:lnTo>
                    <a:lnTo>
                      <a:pt x="12" y="415"/>
                    </a:lnTo>
                    <a:lnTo>
                      <a:pt x="21" y="456"/>
                    </a:lnTo>
                    <a:lnTo>
                      <a:pt x="41" y="483"/>
                    </a:lnTo>
                    <a:lnTo>
                      <a:pt x="57" y="507"/>
                    </a:lnTo>
                    <a:lnTo>
                      <a:pt x="66" y="540"/>
                    </a:lnTo>
                    <a:lnTo>
                      <a:pt x="89" y="567"/>
                    </a:lnTo>
                    <a:lnTo>
                      <a:pt x="128" y="589"/>
                    </a:lnTo>
                    <a:lnTo>
                      <a:pt x="160" y="593"/>
                    </a:lnTo>
                    <a:lnTo>
                      <a:pt x="205" y="599"/>
                    </a:lnTo>
                    <a:lnTo>
                      <a:pt x="251" y="605"/>
                    </a:lnTo>
                    <a:lnTo>
                      <a:pt x="303" y="607"/>
                    </a:lnTo>
                    <a:lnTo>
                      <a:pt x="352" y="608"/>
                    </a:lnTo>
                    <a:lnTo>
                      <a:pt x="401" y="610"/>
                    </a:lnTo>
                    <a:lnTo>
                      <a:pt x="441" y="610"/>
                    </a:lnTo>
                    <a:lnTo>
                      <a:pt x="472" y="608"/>
                    </a:lnTo>
                    <a:lnTo>
                      <a:pt x="497" y="607"/>
                    </a:lnTo>
                    <a:lnTo>
                      <a:pt x="520" y="607"/>
                    </a:lnTo>
                    <a:lnTo>
                      <a:pt x="541" y="607"/>
                    </a:lnTo>
                    <a:lnTo>
                      <a:pt x="564" y="608"/>
                    </a:lnTo>
                    <a:lnTo>
                      <a:pt x="582" y="610"/>
                    </a:lnTo>
                    <a:lnTo>
                      <a:pt x="598" y="616"/>
                    </a:lnTo>
                    <a:lnTo>
                      <a:pt x="618" y="622"/>
                    </a:lnTo>
                    <a:lnTo>
                      <a:pt x="632" y="628"/>
                    </a:lnTo>
                    <a:lnTo>
                      <a:pt x="660" y="644"/>
                    </a:lnTo>
                    <a:lnTo>
                      <a:pt x="680" y="663"/>
                    </a:lnTo>
                    <a:lnTo>
                      <a:pt x="685" y="683"/>
                    </a:lnTo>
                    <a:lnTo>
                      <a:pt x="684" y="706"/>
                    </a:lnTo>
                    <a:lnTo>
                      <a:pt x="671" y="730"/>
                    </a:lnTo>
                    <a:lnTo>
                      <a:pt x="671" y="743"/>
                    </a:lnTo>
                    <a:lnTo>
                      <a:pt x="689" y="757"/>
                    </a:lnTo>
                    <a:lnTo>
                      <a:pt x="730" y="767"/>
                    </a:lnTo>
                    <a:lnTo>
                      <a:pt x="762" y="779"/>
                    </a:lnTo>
                    <a:lnTo>
                      <a:pt x="771" y="798"/>
                    </a:lnTo>
                    <a:lnTo>
                      <a:pt x="766" y="824"/>
                    </a:lnTo>
                    <a:lnTo>
                      <a:pt x="762" y="847"/>
                    </a:lnTo>
                    <a:lnTo>
                      <a:pt x="762" y="874"/>
                    </a:lnTo>
                    <a:lnTo>
                      <a:pt x="758" y="904"/>
                    </a:lnTo>
                    <a:lnTo>
                      <a:pt x="753" y="937"/>
                    </a:lnTo>
                    <a:lnTo>
                      <a:pt x="750" y="974"/>
                    </a:lnTo>
                    <a:lnTo>
                      <a:pt x="741" y="990"/>
                    </a:lnTo>
                    <a:lnTo>
                      <a:pt x="730" y="1006"/>
                    </a:lnTo>
                    <a:lnTo>
                      <a:pt x="726" y="1021"/>
                    </a:lnTo>
                    <a:lnTo>
                      <a:pt x="737" y="1045"/>
                    </a:lnTo>
                    <a:lnTo>
                      <a:pt x="750" y="1060"/>
                    </a:lnTo>
                    <a:lnTo>
                      <a:pt x="762" y="1088"/>
                    </a:lnTo>
                    <a:lnTo>
                      <a:pt x="778" y="1111"/>
                    </a:lnTo>
                    <a:lnTo>
                      <a:pt x="790" y="1129"/>
                    </a:lnTo>
                    <a:lnTo>
                      <a:pt x="806" y="1146"/>
                    </a:lnTo>
                    <a:lnTo>
                      <a:pt x="828" y="1174"/>
                    </a:lnTo>
                    <a:lnTo>
                      <a:pt x="849" y="1205"/>
                    </a:lnTo>
                    <a:lnTo>
                      <a:pt x="865" y="1227"/>
                    </a:lnTo>
                    <a:lnTo>
                      <a:pt x="876" y="1254"/>
                    </a:lnTo>
                    <a:lnTo>
                      <a:pt x="890" y="1295"/>
                    </a:lnTo>
                    <a:lnTo>
                      <a:pt x="910" y="1328"/>
                    </a:lnTo>
                    <a:lnTo>
                      <a:pt x="931" y="1352"/>
                    </a:lnTo>
                    <a:lnTo>
                      <a:pt x="947" y="1356"/>
                    </a:lnTo>
                    <a:lnTo>
                      <a:pt x="972" y="1358"/>
                    </a:lnTo>
                    <a:lnTo>
                      <a:pt x="999" y="1360"/>
                    </a:lnTo>
                    <a:lnTo>
                      <a:pt x="1033" y="1360"/>
                    </a:lnTo>
                    <a:lnTo>
                      <a:pt x="1061" y="1358"/>
                    </a:lnTo>
                    <a:lnTo>
                      <a:pt x="1090" y="1354"/>
                    </a:lnTo>
                    <a:lnTo>
                      <a:pt x="1111" y="1342"/>
                    </a:lnTo>
                    <a:lnTo>
                      <a:pt x="1131" y="1328"/>
                    </a:lnTo>
                    <a:lnTo>
                      <a:pt x="1143" y="1315"/>
                    </a:lnTo>
                    <a:lnTo>
                      <a:pt x="1164" y="1303"/>
                    </a:lnTo>
                    <a:lnTo>
                      <a:pt x="1188" y="1289"/>
                    </a:lnTo>
                    <a:lnTo>
                      <a:pt x="1209" y="1277"/>
                    </a:lnTo>
                    <a:lnTo>
                      <a:pt x="1230" y="1268"/>
                    </a:lnTo>
                    <a:lnTo>
                      <a:pt x="1250" y="1258"/>
                    </a:lnTo>
                    <a:lnTo>
                      <a:pt x="1262" y="1246"/>
                    </a:lnTo>
                    <a:lnTo>
                      <a:pt x="1275" y="1238"/>
                    </a:lnTo>
                    <a:lnTo>
                      <a:pt x="1282" y="1217"/>
                    </a:lnTo>
                    <a:lnTo>
                      <a:pt x="1275" y="1191"/>
                    </a:lnTo>
                    <a:lnTo>
                      <a:pt x="1266" y="1170"/>
                    </a:lnTo>
                    <a:lnTo>
                      <a:pt x="1262" y="1152"/>
                    </a:lnTo>
                    <a:lnTo>
                      <a:pt x="1275" y="1144"/>
                    </a:lnTo>
                    <a:lnTo>
                      <a:pt x="1300" y="1144"/>
                    </a:lnTo>
                    <a:lnTo>
                      <a:pt x="1328" y="1146"/>
                    </a:lnTo>
                    <a:lnTo>
                      <a:pt x="1351" y="1144"/>
                    </a:lnTo>
                    <a:lnTo>
                      <a:pt x="1353" y="1135"/>
                    </a:lnTo>
                    <a:lnTo>
                      <a:pt x="1351" y="1115"/>
                    </a:lnTo>
                    <a:lnTo>
                      <a:pt x="1348" y="1094"/>
                    </a:lnTo>
                    <a:lnTo>
                      <a:pt x="1351" y="1072"/>
                    </a:lnTo>
                    <a:lnTo>
                      <a:pt x="1369" y="1056"/>
                    </a:lnTo>
                    <a:lnTo>
                      <a:pt x="1398" y="1041"/>
                    </a:lnTo>
                    <a:lnTo>
                      <a:pt x="1426" y="1027"/>
                    </a:lnTo>
                    <a:lnTo>
                      <a:pt x="1446" y="1013"/>
                    </a:lnTo>
                    <a:lnTo>
                      <a:pt x="1455" y="982"/>
                    </a:lnTo>
                    <a:lnTo>
                      <a:pt x="1458" y="945"/>
                    </a:lnTo>
                    <a:lnTo>
                      <a:pt x="1455" y="906"/>
                    </a:lnTo>
                    <a:lnTo>
                      <a:pt x="1455" y="873"/>
                    </a:lnTo>
                    <a:lnTo>
                      <a:pt x="1446" y="853"/>
                    </a:lnTo>
                    <a:lnTo>
                      <a:pt x="1423" y="839"/>
                    </a:lnTo>
                    <a:lnTo>
                      <a:pt x="1405" y="828"/>
                    </a:lnTo>
                    <a:lnTo>
                      <a:pt x="1398" y="808"/>
                    </a:lnTo>
                    <a:lnTo>
                      <a:pt x="1410" y="783"/>
                    </a:lnTo>
                    <a:lnTo>
                      <a:pt x="1442" y="761"/>
                    </a:lnTo>
                    <a:lnTo>
                      <a:pt x="1474" y="738"/>
                    </a:lnTo>
                    <a:lnTo>
                      <a:pt x="1501" y="706"/>
                    </a:lnTo>
                    <a:lnTo>
                      <a:pt x="1520" y="687"/>
                    </a:lnTo>
                    <a:lnTo>
                      <a:pt x="1545" y="659"/>
                    </a:lnTo>
                    <a:lnTo>
                      <a:pt x="1577" y="628"/>
                    </a:lnTo>
                    <a:lnTo>
                      <a:pt x="1610" y="599"/>
                    </a:lnTo>
                    <a:lnTo>
                      <a:pt x="1636" y="567"/>
                    </a:lnTo>
                    <a:lnTo>
                      <a:pt x="1663" y="546"/>
                    </a:lnTo>
                    <a:lnTo>
                      <a:pt x="1677" y="528"/>
                    </a:lnTo>
                    <a:lnTo>
                      <a:pt x="1684" y="524"/>
                    </a:lnTo>
                    <a:lnTo>
                      <a:pt x="1665" y="517"/>
                    </a:lnTo>
                    <a:lnTo>
                      <a:pt x="1640" y="517"/>
                    </a:lnTo>
                    <a:lnTo>
                      <a:pt x="1615" y="524"/>
                    </a:lnTo>
                    <a:lnTo>
                      <a:pt x="1590" y="524"/>
                    </a:lnTo>
                    <a:lnTo>
                      <a:pt x="1574" y="517"/>
                    </a:lnTo>
                    <a:lnTo>
                      <a:pt x="1558" y="509"/>
                    </a:lnTo>
                    <a:lnTo>
                      <a:pt x="1533" y="495"/>
                    </a:lnTo>
                    <a:lnTo>
                      <a:pt x="1504" y="483"/>
                    </a:lnTo>
                    <a:lnTo>
                      <a:pt x="1480" y="468"/>
                    </a:lnTo>
                    <a:lnTo>
                      <a:pt x="1455" y="450"/>
                    </a:lnTo>
                    <a:lnTo>
                      <a:pt x="1433" y="434"/>
                    </a:lnTo>
                    <a:lnTo>
                      <a:pt x="1417" y="423"/>
                    </a:lnTo>
                    <a:lnTo>
                      <a:pt x="1385" y="395"/>
                    </a:lnTo>
                    <a:lnTo>
                      <a:pt x="1366" y="362"/>
                    </a:lnTo>
                    <a:lnTo>
                      <a:pt x="1344" y="329"/>
                    </a:lnTo>
                    <a:lnTo>
                      <a:pt x="1332" y="297"/>
                    </a:lnTo>
                    <a:lnTo>
                      <a:pt x="1325" y="262"/>
                    </a:lnTo>
                    <a:lnTo>
                      <a:pt x="1323" y="223"/>
                    </a:lnTo>
                    <a:lnTo>
                      <a:pt x="1323" y="192"/>
                    </a:lnTo>
                    <a:lnTo>
                      <a:pt x="1323" y="178"/>
                    </a:lnTo>
                    <a:lnTo>
                      <a:pt x="1307" y="164"/>
                    </a:lnTo>
                    <a:lnTo>
                      <a:pt x="1282" y="151"/>
                    </a:lnTo>
                    <a:lnTo>
                      <a:pt x="1253" y="143"/>
                    </a:lnTo>
                    <a:lnTo>
                      <a:pt x="1228" y="139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77" name="Freeform 1159"/>
              <p:cNvSpPr/>
              <p:nvPr/>
            </p:nvSpPr>
            <p:spPr>
              <a:xfrm>
                <a:off x="5728680" y="3136680"/>
                <a:ext cx="271080" cy="119160"/>
              </a:xfrm>
              <a:custGeom>
                <a:avLst/>
                <a:gdLst/>
                <a:ahLst/>
                <a:rect l="l" t="t" r="r" b="b"/>
                <a:pathLst>
                  <a:path w="342" h="149">
                    <a:moveTo>
                      <a:pt x="58" y="77"/>
                    </a:moveTo>
                    <a:lnTo>
                      <a:pt x="85" y="73"/>
                    </a:lnTo>
                    <a:lnTo>
                      <a:pt x="107" y="67"/>
                    </a:lnTo>
                    <a:lnTo>
                      <a:pt x="128" y="55"/>
                    </a:lnTo>
                    <a:lnTo>
                      <a:pt x="144" y="44"/>
                    </a:lnTo>
                    <a:lnTo>
                      <a:pt x="160" y="36"/>
                    </a:lnTo>
                    <a:lnTo>
                      <a:pt x="178" y="24"/>
                    </a:lnTo>
                    <a:lnTo>
                      <a:pt x="190" y="20"/>
                    </a:lnTo>
                    <a:lnTo>
                      <a:pt x="210" y="18"/>
                    </a:lnTo>
                    <a:lnTo>
                      <a:pt x="229" y="16"/>
                    </a:lnTo>
                    <a:lnTo>
                      <a:pt x="247" y="12"/>
                    </a:lnTo>
                    <a:lnTo>
                      <a:pt x="263" y="6"/>
                    </a:lnTo>
                    <a:lnTo>
                      <a:pt x="283" y="2"/>
                    </a:lnTo>
                    <a:lnTo>
                      <a:pt x="297" y="0"/>
                    </a:lnTo>
                    <a:lnTo>
                      <a:pt x="310" y="0"/>
                    </a:lnTo>
                    <a:lnTo>
                      <a:pt x="326" y="4"/>
                    </a:lnTo>
                    <a:lnTo>
                      <a:pt x="333" y="18"/>
                    </a:lnTo>
                    <a:lnTo>
                      <a:pt x="342" y="44"/>
                    </a:lnTo>
                    <a:lnTo>
                      <a:pt x="329" y="67"/>
                    </a:lnTo>
                    <a:lnTo>
                      <a:pt x="297" y="81"/>
                    </a:lnTo>
                    <a:lnTo>
                      <a:pt x="251" y="87"/>
                    </a:lnTo>
                    <a:lnTo>
                      <a:pt x="226" y="87"/>
                    </a:lnTo>
                    <a:lnTo>
                      <a:pt x="201" y="87"/>
                    </a:lnTo>
                    <a:lnTo>
                      <a:pt x="178" y="89"/>
                    </a:lnTo>
                    <a:lnTo>
                      <a:pt x="164" y="90"/>
                    </a:lnTo>
                    <a:lnTo>
                      <a:pt x="151" y="92"/>
                    </a:lnTo>
                    <a:lnTo>
                      <a:pt x="139" y="98"/>
                    </a:lnTo>
                    <a:lnTo>
                      <a:pt x="131" y="104"/>
                    </a:lnTo>
                    <a:lnTo>
                      <a:pt x="124" y="110"/>
                    </a:lnTo>
                    <a:lnTo>
                      <a:pt x="110" y="128"/>
                    </a:lnTo>
                    <a:lnTo>
                      <a:pt x="85" y="141"/>
                    </a:lnTo>
                    <a:lnTo>
                      <a:pt x="50" y="149"/>
                    </a:lnTo>
                    <a:lnTo>
                      <a:pt x="19" y="143"/>
                    </a:lnTo>
                    <a:lnTo>
                      <a:pt x="0" y="126"/>
                    </a:lnTo>
                    <a:lnTo>
                      <a:pt x="0" y="106"/>
                    </a:lnTo>
                    <a:lnTo>
                      <a:pt x="19" y="89"/>
                    </a:lnTo>
                    <a:lnTo>
                      <a:pt x="58" y="7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78" name="Freeform 1160"/>
              <p:cNvSpPr/>
              <p:nvPr/>
            </p:nvSpPr>
            <p:spPr>
              <a:xfrm>
                <a:off x="5604840" y="3274920"/>
                <a:ext cx="83880" cy="73080"/>
              </a:xfrm>
              <a:custGeom>
                <a:avLst/>
                <a:gdLst/>
                <a:ahLst/>
                <a:rect l="l" t="t" r="r" b="b"/>
                <a:pathLst>
                  <a:path w="107" h="92">
                    <a:moveTo>
                      <a:pt x="91" y="0"/>
                    </a:moveTo>
                    <a:lnTo>
                      <a:pt x="86" y="2"/>
                    </a:lnTo>
                    <a:lnTo>
                      <a:pt x="73" y="3"/>
                    </a:lnTo>
                    <a:lnTo>
                      <a:pt x="53" y="9"/>
                    </a:lnTo>
                    <a:lnTo>
                      <a:pt x="34" y="17"/>
                    </a:lnTo>
                    <a:lnTo>
                      <a:pt x="20" y="25"/>
                    </a:lnTo>
                    <a:lnTo>
                      <a:pt x="4" y="31"/>
                    </a:lnTo>
                    <a:lnTo>
                      <a:pt x="0" y="37"/>
                    </a:lnTo>
                    <a:lnTo>
                      <a:pt x="4" y="43"/>
                    </a:lnTo>
                    <a:lnTo>
                      <a:pt x="32" y="60"/>
                    </a:lnTo>
                    <a:lnTo>
                      <a:pt x="69" y="80"/>
                    </a:lnTo>
                    <a:lnTo>
                      <a:pt x="98" y="92"/>
                    </a:lnTo>
                    <a:lnTo>
                      <a:pt x="107" y="82"/>
                    </a:lnTo>
                    <a:lnTo>
                      <a:pt x="103" y="56"/>
                    </a:lnTo>
                    <a:lnTo>
                      <a:pt x="100" y="29"/>
                    </a:lnTo>
                    <a:lnTo>
                      <a:pt x="94" y="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79" name="Freeform 1161"/>
              <p:cNvSpPr/>
              <p:nvPr/>
            </p:nvSpPr>
            <p:spPr>
              <a:xfrm>
                <a:off x="4298400" y="3565440"/>
                <a:ext cx="234720" cy="193680"/>
              </a:xfrm>
              <a:custGeom>
                <a:avLst/>
                <a:gdLst/>
                <a:ahLst/>
                <a:rect l="l" t="t" r="r" b="b"/>
                <a:pathLst>
                  <a:path w="297" h="245">
                    <a:moveTo>
                      <a:pt x="4" y="128"/>
                    </a:moveTo>
                    <a:lnTo>
                      <a:pt x="0" y="116"/>
                    </a:lnTo>
                    <a:lnTo>
                      <a:pt x="7" y="106"/>
                    </a:lnTo>
                    <a:lnTo>
                      <a:pt x="16" y="100"/>
                    </a:lnTo>
                    <a:lnTo>
                      <a:pt x="29" y="96"/>
                    </a:lnTo>
                    <a:lnTo>
                      <a:pt x="48" y="90"/>
                    </a:lnTo>
                    <a:lnTo>
                      <a:pt x="66" y="83"/>
                    </a:lnTo>
                    <a:lnTo>
                      <a:pt x="82" y="77"/>
                    </a:lnTo>
                    <a:lnTo>
                      <a:pt x="98" y="63"/>
                    </a:lnTo>
                    <a:lnTo>
                      <a:pt x="114" y="47"/>
                    </a:lnTo>
                    <a:lnTo>
                      <a:pt x="126" y="34"/>
                    </a:lnTo>
                    <a:lnTo>
                      <a:pt x="142" y="20"/>
                    </a:lnTo>
                    <a:lnTo>
                      <a:pt x="162" y="12"/>
                    </a:lnTo>
                    <a:lnTo>
                      <a:pt x="176" y="2"/>
                    </a:lnTo>
                    <a:lnTo>
                      <a:pt x="196" y="0"/>
                    </a:lnTo>
                    <a:lnTo>
                      <a:pt x="219" y="2"/>
                    </a:lnTo>
                    <a:lnTo>
                      <a:pt x="244" y="12"/>
                    </a:lnTo>
                    <a:lnTo>
                      <a:pt x="276" y="36"/>
                    </a:lnTo>
                    <a:lnTo>
                      <a:pt x="290" y="61"/>
                    </a:lnTo>
                    <a:lnTo>
                      <a:pt x="290" y="86"/>
                    </a:lnTo>
                    <a:lnTo>
                      <a:pt x="294" y="116"/>
                    </a:lnTo>
                    <a:lnTo>
                      <a:pt x="297" y="135"/>
                    </a:lnTo>
                    <a:lnTo>
                      <a:pt x="290" y="157"/>
                    </a:lnTo>
                    <a:lnTo>
                      <a:pt x="281" y="172"/>
                    </a:lnTo>
                    <a:lnTo>
                      <a:pt x="269" y="190"/>
                    </a:lnTo>
                    <a:lnTo>
                      <a:pt x="262" y="202"/>
                    </a:lnTo>
                    <a:lnTo>
                      <a:pt x="249" y="216"/>
                    </a:lnTo>
                    <a:lnTo>
                      <a:pt x="237" y="225"/>
                    </a:lnTo>
                    <a:lnTo>
                      <a:pt x="219" y="233"/>
                    </a:lnTo>
                    <a:lnTo>
                      <a:pt x="196" y="243"/>
                    </a:lnTo>
                    <a:lnTo>
                      <a:pt x="183" y="245"/>
                    </a:lnTo>
                    <a:lnTo>
                      <a:pt x="167" y="241"/>
                    </a:lnTo>
                    <a:lnTo>
                      <a:pt x="155" y="227"/>
                    </a:lnTo>
                    <a:lnTo>
                      <a:pt x="142" y="200"/>
                    </a:lnTo>
                    <a:lnTo>
                      <a:pt x="135" y="180"/>
                    </a:lnTo>
                    <a:lnTo>
                      <a:pt x="139" y="165"/>
                    </a:lnTo>
                    <a:lnTo>
                      <a:pt x="167" y="157"/>
                    </a:lnTo>
                    <a:lnTo>
                      <a:pt x="199" y="141"/>
                    </a:lnTo>
                    <a:lnTo>
                      <a:pt x="221" y="118"/>
                    </a:lnTo>
                    <a:lnTo>
                      <a:pt x="221" y="96"/>
                    </a:lnTo>
                    <a:lnTo>
                      <a:pt x="203" y="83"/>
                    </a:lnTo>
                    <a:lnTo>
                      <a:pt x="191" y="81"/>
                    </a:lnTo>
                    <a:lnTo>
                      <a:pt x="171" y="79"/>
                    </a:lnTo>
                    <a:lnTo>
                      <a:pt x="151" y="79"/>
                    </a:lnTo>
                    <a:lnTo>
                      <a:pt x="135" y="81"/>
                    </a:lnTo>
                    <a:lnTo>
                      <a:pt x="121" y="84"/>
                    </a:lnTo>
                    <a:lnTo>
                      <a:pt x="105" y="90"/>
                    </a:lnTo>
                    <a:lnTo>
                      <a:pt x="94" y="98"/>
                    </a:lnTo>
                    <a:lnTo>
                      <a:pt x="89" y="110"/>
                    </a:lnTo>
                    <a:lnTo>
                      <a:pt x="73" y="131"/>
                    </a:lnTo>
                    <a:lnTo>
                      <a:pt x="50" y="147"/>
                    </a:lnTo>
                    <a:lnTo>
                      <a:pt x="21" y="149"/>
                    </a:lnTo>
                    <a:lnTo>
                      <a:pt x="4" y="128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80" name="Freeform 1162"/>
              <p:cNvSpPr/>
              <p:nvPr/>
            </p:nvSpPr>
            <p:spPr>
              <a:xfrm>
                <a:off x="6871680" y="4713120"/>
                <a:ext cx="811080" cy="434880"/>
              </a:xfrm>
              <a:custGeom>
                <a:avLst/>
                <a:gdLst/>
                <a:ahLst/>
                <a:rect l="l" t="t" r="r" b="b"/>
                <a:pathLst>
                  <a:path w="1022" h="548">
                    <a:moveTo>
                      <a:pt x="720" y="107"/>
                    </a:moveTo>
                    <a:lnTo>
                      <a:pt x="700" y="106"/>
                    </a:lnTo>
                    <a:lnTo>
                      <a:pt x="682" y="104"/>
                    </a:lnTo>
                    <a:lnTo>
                      <a:pt x="666" y="104"/>
                    </a:lnTo>
                    <a:lnTo>
                      <a:pt x="647" y="102"/>
                    </a:lnTo>
                    <a:lnTo>
                      <a:pt x="625" y="100"/>
                    </a:lnTo>
                    <a:lnTo>
                      <a:pt x="609" y="96"/>
                    </a:lnTo>
                    <a:lnTo>
                      <a:pt x="597" y="96"/>
                    </a:lnTo>
                    <a:lnTo>
                      <a:pt x="584" y="94"/>
                    </a:lnTo>
                    <a:lnTo>
                      <a:pt x="574" y="88"/>
                    </a:lnTo>
                    <a:lnTo>
                      <a:pt x="574" y="78"/>
                    </a:lnTo>
                    <a:lnTo>
                      <a:pt x="584" y="68"/>
                    </a:lnTo>
                    <a:lnTo>
                      <a:pt x="602" y="59"/>
                    </a:lnTo>
                    <a:lnTo>
                      <a:pt x="606" y="49"/>
                    </a:lnTo>
                    <a:lnTo>
                      <a:pt x="588" y="37"/>
                    </a:lnTo>
                    <a:lnTo>
                      <a:pt x="561" y="25"/>
                    </a:lnTo>
                    <a:lnTo>
                      <a:pt x="545" y="17"/>
                    </a:lnTo>
                    <a:lnTo>
                      <a:pt x="533" y="8"/>
                    </a:lnTo>
                    <a:lnTo>
                      <a:pt x="524" y="2"/>
                    </a:lnTo>
                    <a:lnTo>
                      <a:pt x="511" y="0"/>
                    </a:lnTo>
                    <a:lnTo>
                      <a:pt x="508" y="6"/>
                    </a:lnTo>
                    <a:lnTo>
                      <a:pt x="492" y="17"/>
                    </a:lnTo>
                    <a:lnTo>
                      <a:pt x="463" y="27"/>
                    </a:lnTo>
                    <a:lnTo>
                      <a:pt x="433" y="39"/>
                    </a:lnTo>
                    <a:lnTo>
                      <a:pt x="405" y="49"/>
                    </a:lnTo>
                    <a:lnTo>
                      <a:pt x="385" y="57"/>
                    </a:lnTo>
                    <a:lnTo>
                      <a:pt x="373" y="64"/>
                    </a:lnTo>
                    <a:lnTo>
                      <a:pt x="357" y="66"/>
                    </a:lnTo>
                    <a:lnTo>
                      <a:pt x="335" y="68"/>
                    </a:lnTo>
                    <a:lnTo>
                      <a:pt x="319" y="72"/>
                    </a:lnTo>
                    <a:lnTo>
                      <a:pt x="300" y="74"/>
                    </a:lnTo>
                    <a:lnTo>
                      <a:pt x="278" y="82"/>
                    </a:lnTo>
                    <a:lnTo>
                      <a:pt x="262" y="88"/>
                    </a:lnTo>
                    <a:lnTo>
                      <a:pt x="241" y="100"/>
                    </a:lnTo>
                    <a:lnTo>
                      <a:pt x="221" y="107"/>
                    </a:lnTo>
                    <a:lnTo>
                      <a:pt x="205" y="121"/>
                    </a:lnTo>
                    <a:lnTo>
                      <a:pt x="193" y="135"/>
                    </a:lnTo>
                    <a:lnTo>
                      <a:pt x="180" y="147"/>
                    </a:lnTo>
                    <a:lnTo>
                      <a:pt x="171" y="154"/>
                    </a:lnTo>
                    <a:lnTo>
                      <a:pt x="155" y="164"/>
                    </a:lnTo>
                    <a:lnTo>
                      <a:pt x="143" y="170"/>
                    </a:lnTo>
                    <a:lnTo>
                      <a:pt x="127" y="178"/>
                    </a:lnTo>
                    <a:lnTo>
                      <a:pt x="107" y="188"/>
                    </a:lnTo>
                    <a:lnTo>
                      <a:pt x="86" y="197"/>
                    </a:lnTo>
                    <a:lnTo>
                      <a:pt x="66" y="205"/>
                    </a:lnTo>
                    <a:lnTo>
                      <a:pt x="38" y="209"/>
                    </a:lnTo>
                    <a:lnTo>
                      <a:pt x="20" y="209"/>
                    </a:lnTo>
                    <a:lnTo>
                      <a:pt x="4" y="225"/>
                    </a:lnTo>
                    <a:lnTo>
                      <a:pt x="0" y="282"/>
                    </a:lnTo>
                    <a:lnTo>
                      <a:pt x="0" y="303"/>
                    </a:lnTo>
                    <a:lnTo>
                      <a:pt x="4" y="317"/>
                    </a:lnTo>
                    <a:lnTo>
                      <a:pt x="8" y="325"/>
                    </a:lnTo>
                    <a:lnTo>
                      <a:pt x="20" y="338"/>
                    </a:lnTo>
                    <a:lnTo>
                      <a:pt x="34" y="348"/>
                    </a:lnTo>
                    <a:lnTo>
                      <a:pt x="54" y="356"/>
                    </a:lnTo>
                    <a:lnTo>
                      <a:pt x="61" y="366"/>
                    </a:lnTo>
                    <a:lnTo>
                      <a:pt x="57" y="381"/>
                    </a:lnTo>
                    <a:lnTo>
                      <a:pt x="48" y="397"/>
                    </a:lnTo>
                    <a:lnTo>
                      <a:pt x="34" y="407"/>
                    </a:lnTo>
                    <a:lnTo>
                      <a:pt x="29" y="422"/>
                    </a:lnTo>
                    <a:lnTo>
                      <a:pt x="29" y="444"/>
                    </a:lnTo>
                    <a:lnTo>
                      <a:pt x="34" y="452"/>
                    </a:lnTo>
                    <a:lnTo>
                      <a:pt x="48" y="462"/>
                    </a:lnTo>
                    <a:lnTo>
                      <a:pt x="70" y="467"/>
                    </a:lnTo>
                    <a:lnTo>
                      <a:pt x="91" y="469"/>
                    </a:lnTo>
                    <a:lnTo>
                      <a:pt x="111" y="469"/>
                    </a:lnTo>
                    <a:lnTo>
                      <a:pt x="139" y="469"/>
                    </a:lnTo>
                    <a:lnTo>
                      <a:pt x="159" y="467"/>
                    </a:lnTo>
                    <a:lnTo>
                      <a:pt x="177" y="463"/>
                    </a:lnTo>
                    <a:lnTo>
                      <a:pt x="193" y="458"/>
                    </a:lnTo>
                    <a:lnTo>
                      <a:pt x="212" y="452"/>
                    </a:lnTo>
                    <a:lnTo>
                      <a:pt x="228" y="448"/>
                    </a:lnTo>
                    <a:lnTo>
                      <a:pt x="246" y="444"/>
                    </a:lnTo>
                    <a:lnTo>
                      <a:pt x="269" y="438"/>
                    </a:lnTo>
                    <a:lnTo>
                      <a:pt x="291" y="432"/>
                    </a:lnTo>
                    <a:lnTo>
                      <a:pt x="312" y="428"/>
                    </a:lnTo>
                    <a:lnTo>
                      <a:pt x="335" y="422"/>
                    </a:lnTo>
                    <a:lnTo>
                      <a:pt x="360" y="418"/>
                    </a:lnTo>
                    <a:lnTo>
                      <a:pt x="389" y="415"/>
                    </a:lnTo>
                    <a:lnTo>
                      <a:pt x="421" y="413"/>
                    </a:lnTo>
                    <a:lnTo>
                      <a:pt x="454" y="411"/>
                    </a:lnTo>
                    <a:lnTo>
                      <a:pt x="487" y="413"/>
                    </a:lnTo>
                    <a:lnTo>
                      <a:pt x="520" y="415"/>
                    </a:lnTo>
                    <a:lnTo>
                      <a:pt x="549" y="422"/>
                    </a:lnTo>
                    <a:lnTo>
                      <a:pt x="574" y="430"/>
                    </a:lnTo>
                    <a:lnTo>
                      <a:pt x="597" y="440"/>
                    </a:lnTo>
                    <a:lnTo>
                      <a:pt x="618" y="452"/>
                    </a:lnTo>
                    <a:lnTo>
                      <a:pt x="634" y="465"/>
                    </a:lnTo>
                    <a:lnTo>
                      <a:pt x="654" y="481"/>
                    </a:lnTo>
                    <a:lnTo>
                      <a:pt x="670" y="495"/>
                    </a:lnTo>
                    <a:lnTo>
                      <a:pt x="688" y="506"/>
                    </a:lnTo>
                    <a:lnTo>
                      <a:pt x="698" y="520"/>
                    </a:lnTo>
                    <a:lnTo>
                      <a:pt x="707" y="532"/>
                    </a:lnTo>
                    <a:lnTo>
                      <a:pt x="723" y="540"/>
                    </a:lnTo>
                    <a:lnTo>
                      <a:pt x="745" y="546"/>
                    </a:lnTo>
                    <a:lnTo>
                      <a:pt x="770" y="548"/>
                    </a:lnTo>
                    <a:lnTo>
                      <a:pt x="798" y="546"/>
                    </a:lnTo>
                    <a:lnTo>
                      <a:pt x="827" y="544"/>
                    </a:lnTo>
                    <a:lnTo>
                      <a:pt x="850" y="540"/>
                    </a:lnTo>
                    <a:lnTo>
                      <a:pt x="868" y="534"/>
                    </a:lnTo>
                    <a:lnTo>
                      <a:pt x="875" y="528"/>
                    </a:lnTo>
                    <a:lnTo>
                      <a:pt x="884" y="510"/>
                    </a:lnTo>
                    <a:lnTo>
                      <a:pt x="896" y="487"/>
                    </a:lnTo>
                    <a:lnTo>
                      <a:pt x="912" y="467"/>
                    </a:lnTo>
                    <a:lnTo>
                      <a:pt x="919" y="450"/>
                    </a:lnTo>
                    <a:lnTo>
                      <a:pt x="932" y="434"/>
                    </a:lnTo>
                    <a:lnTo>
                      <a:pt x="953" y="418"/>
                    </a:lnTo>
                    <a:lnTo>
                      <a:pt x="974" y="401"/>
                    </a:lnTo>
                    <a:lnTo>
                      <a:pt x="985" y="383"/>
                    </a:lnTo>
                    <a:lnTo>
                      <a:pt x="989" y="366"/>
                    </a:lnTo>
                    <a:lnTo>
                      <a:pt x="1001" y="346"/>
                    </a:lnTo>
                    <a:lnTo>
                      <a:pt x="1014" y="325"/>
                    </a:lnTo>
                    <a:lnTo>
                      <a:pt x="1022" y="305"/>
                    </a:lnTo>
                    <a:lnTo>
                      <a:pt x="1015" y="297"/>
                    </a:lnTo>
                    <a:lnTo>
                      <a:pt x="1010" y="284"/>
                    </a:lnTo>
                    <a:lnTo>
                      <a:pt x="994" y="272"/>
                    </a:lnTo>
                    <a:lnTo>
                      <a:pt x="982" y="264"/>
                    </a:lnTo>
                    <a:lnTo>
                      <a:pt x="962" y="250"/>
                    </a:lnTo>
                    <a:lnTo>
                      <a:pt x="944" y="240"/>
                    </a:lnTo>
                    <a:lnTo>
                      <a:pt x="928" y="235"/>
                    </a:lnTo>
                    <a:lnTo>
                      <a:pt x="916" y="223"/>
                    </a:lnTo>
                    <a:lnTo>
                      <a:pt x="884" y="199"/>
                    </a:lnTo>
                    <a:lnTo>
                      <a:pt x="859" y="178"/>
                    </a:lnTo>
                    <a:lnTo>
                      <a:pt x="836" y="160"/>
                    </a:lnTo>
                    <a:lnTo>
                      <a:pt x="823" y="141"/>
                    </a:lnTo>
                    <a:lnTo>
                      <a:pt x="818" y="117"/>
                    </a:lnTo>
                    <a:lnTo>
                      <a:pt x="814" y="90"/>
                    </a:lnTo>
                    <a:lnTo>
                      <a:pt x="811" y="68"/>
                    </a:lnTo>
                    <a:lnTo>
                      <a:pt x="798" y="49"/>
                    </a:lnTo>
                    <a:lnTo>
                      <a:pt x="786" y="33"/>
                    </a:lnTo>
                    <a:lnTo>
                      <a:pt x="766" y="19"/>
                    </a:lnTo>
                    <a:lnTo>
                      <a:pt x="748" y="6"/>
                    </a:lnTo>
                    <a:lnTo>
                      <a:pt x="736" y="0"/>
                    </a:lnTo>
                    <a:lnTo>
                      <a:pt x="741" y="23"/>
                    </a:lnTo>
                    <a:lnTo>
                      <a:pt x="748" y="49"/>
                    </a:lnTo>
                    <a:lnTo>
                      <a:pt x="748" y="72"/>
                    </a:lnTo>
                    <a:lnTo>
                      <a:pt x="748" y="88"/>
                    </a:lnTo>
                    <a:lnTo>
                      <a:pt x="748" y="100"/>
                    </a:lnTo>
                    <a:lnTo>
                      <a:pt x="741" y="106"/>
                    </a:lnTo>
                    <a:lnTo>
                      <a:pt x="736" y="107"/>
                    </a:lnTo>
                    <a:lnTo>
                      <a:pt x="720" y="10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81" name="Freeform 1163"/>
              <p:cNvSpPr/>
              <p:nvPr/>
            </p:nvSpPr>
            <p:spPr>
              <a:xfrm>
                <a:off x="6800400" y="4451400"/>
                <a:ext cx="161280" cy="153720"/>
              </a:xfrm>
              <a:custGeom>
                <a:avLst/>
                <a:gdLst/>
                <a:ahLst/>
                <a:rect l="l" t="t" r="r" b="b"/>
                <a:pathLst>
                  <a:path w="203" h="196">
                    <a:moveTo>
                      <a:pt x="59" y="71"/>
                    </a:moveTo>
                    <a:lnTo>
                      <a:pt x="84" y="63"/>
                    </a:lnTo>
                    <a:lnTo>
                      <a:pt x="104" y="51"/>
                    </a:lnTo>
                    <a:lnTo>
                      <a:pt x="120" y="37"/>
                    </a:lnTo>
                    <a:lnTo>
                      <a:pt x="139" y="22"/>
                    </a:lnTo>
                    <a:lnTo>
                      <a:pt x="155" y="8"/>
                    </a:lnTo>
                    <a:lnTo>
                      <a:pt x="178" y="0"/>
                    </a:lnTo>
                    <a:lnTo>
                      <a:pt x="196" y="4"/>
                    </a:lnTo>
                    <a:lnTo>
                      <a:pt x="203" y="24"/>
                    </a:lnTo>
                    <a:lnTo>
                      <a:pt x="203" y="51"/>
                    </a:lnTo>
                    <a:lnTo>
                      <a:pt x="200" y="71"/>
                    </a:lnTo>
                    <a:lnTo>
                      <a:pt x="194" y="86"/>
                    </a:lnTo>
                    <a:lnTo>
                      <a:pt x="196" y="104"/>
                    </a:lnTo>
                    <a:lnTo>
                      <a:pt x="196" y="122"/>
                    </a:lnTo>
                    <a:lnTo>
                      <a:pt x="191" y="139"/>
                    </a:lnTo>
                    <a:lnTo>
                      <a:pt x="175" y="155"/>
                    </a:lnTo>
                    <a:lnTo>
                      <a:pt x="152" y="163"/>
                    </a:lnTo>
                    <a:lnTo>
                      <a:pt x="129" y="169"/>
                    </a:lnTo>
                    <a:lnTo>
                      <a:pt x="107" y="174"/>
                    </a:lnTo>
                    <a:lnTo>
                      <a:pt x="91" y="182"/>
                    </a:lnTo>
                    <a:lnTo>
                      <a:pt x="77" y="190"/>
                    </a:lnTo>
                    <a:lnTo>
                      <a:pt x="68" y="196"/>
                    </a:lnTo>
                    <a:lnTo>
                      <a:pt x="48" y="192"/>
                    </a:lnTo>
                    <a:lnTo>
                      <a:pt x="29" y="184"/>
                    </a:lnTo>
                    <a:lnTo>
                      <a:pt x="16" y="172"/>
                    </a:lnTo>
                    <a:lnTo>
                      <a:pt x="0" y="151"/>
                    </a:lnTo>
                    <a:lnTo>
                      <a:pt x="0" y="120"/>
                    </a:lnTo>
                    <a:lnTo>
                      <a:pt x="20" y="90"/>
                    </a:lnTo>
                    <a:lnTo>
                      <a:pt x="59" y="7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82" name="Freeform 1164"/>
              <p:cNvSpPr/>
              <p:nvPr/>
            </p:nvSpPr>
            <p:spPr>
              <a:xfrm>
                <a:off x="6486120" y="4530600"/>
                <a:ext cx="234360" cy="157320"/>
              </a:xfrm>
              <a:custGeom>
                <a:avLst/>
                <a:gdLst/>
                <a:ahLst/>
                <a:rect l="l" t="t" r="r" b="b"/>
                <a:pathLst>
                  <a:path w="298" h="200">
                    <a:moveTo>
                      <a:pt x="0" y="4"/>
                    </a:moveTo>
                    <a:lnTo>
                      <a:pt x="4" y="18"/>
                    </a:lnTo>
                    <a:lnTo>
                      <a:pt x="34" y="25"/>
                    </a:lnTo>
                    <a:lnTo>
                      <a:pt x="66" y="39"/>
                    </a:lnTo>
                    <a:lnTo>
                      <a:pt x="88" y="57"/>
                    </a:lnTo>
                    <a:lnTo>
                      <a:pt x="100" y="72"/>
                    </a:lnTo>
                    <a:lnTo>
                      <a:pt x="113" y="86"/>
                    </a:lnTo>
                    <a:lnTo>
                      <a:pt x="121" y="98"/>
                    </a:lnTo>
                    <a:lnTo>
                      <a:pt x="134" y="114"/>
                    </a:lnTo>
                    <a:lnTo>
                      <a:pt x="146" y="131"/>
                    </a:lnTo>
                    <a:lnTo>
                      <a:pt x="168" y="151"/>
                    </a:lnTo>
                    <a:lnTo>
                      <a:pt x="189" y="170"/>
                    </a:lnTo>
                    <a:lnTo>
                      <a:pt x="214" y="194"/>
                    </a:lnTo>
                    <a:lnTo>
                      <a:pt x="232" y="200"/>
                    </a:lnTo>
                    <a:lnTo>
                      <a:pt x="255" y="200"/>
                    </a:lnTo>
                    <a:lnTo>
                      <a:pt x="276" y="198"/>
                    </a:lnTo>
                    <a:lnTo>
                      <a:pt x="294" y="188"/>
                    </a:lnTo>
                    <a:lnTo>
                      <a:pt x="298" y="176"/>
                    </a:lnTo>
                    <a:lnTo>
                      <a:pt x="292" y="160"/>
                    </a:lnTo>
                    <a:lnTo>
                      <a:pt x="276" y="143"/>
                    </a:lnTo>
                    <a:lnTo>
                      <a:pt x="255" y="131"/>
                    </a:lnTo>
                    <a:lnTo>
                      <a:pt x="235" y="121"/>
                    </a:lnTo>
                    <a:lnTo>
                      <a:pt x="221" y="110"/>
                    </a:lnTo>
                    <a:lnTo>
                      <a:pt x="198" y="102"/>
                    </a:lnTo>
                    <a:lnTo>
                      <a:pt x="180" y="90"/>
                    </a:lnTo>
                    <a:lnTo>
                      <a:pt x="164" y="80"/>
                    </a:lnTo>
                    <a:lnTo>
                      <a:pt x="152" y="70"/>
                    </a:lnTo>
                    <a:lnTo>
                      <a:pt x="139" y="59"/>
                    </a:lnTo>
                    <a:lnTo>
                      <a:pt x="130" y="51"/>
                    </a:lnTo>
                    <a:lnTo>
                      <a:pt x="118" y="37"/>
                    </a:lnTo>
                    <a:lnTo>
                      <a:pt x="105" y="25"/>
                    </a:lnTo>
                    <a:lnTo>
                      <a:pt x="89" y="20"/>
                    </a:lnTo>
                    <a:lnTo>
                      <a:pt x="72" y="18"/>
                    </a:lnTo>
                    <a:lnTo>
                      <a:pt x="56" y="14"/>
                    </a:lnTo>
                    <a:lnTo>
                      <a:pt x="34" y="4"/>
                    </a:lnTo>
                    <a:lnTo>
                      <a:pt x="1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83" name="Freeform 1165"/>
              <p:cNvSpPr/>
              <p:nvPr/>
            </p:nvSpPr>
            <p:spPr>
              <a:xfrm>
                <a:off x="7251120" y="3887640"/>
                <a:ext cx="259920" cy="174600"/>
              </a:xfrm>
              <a:custGeom>
                <a:avLst/>
                <a:gdLst/>
                <a:ahLst/>
                <a:rect l="l" t="t" r="r" b="b"/>
                <a:pathLst>
                  <a:path w="328" h="221">
                    <a:moveTo>
                      <a:pt x="203" y="200"/>
                    </a:moveTo>
                    <a:lnTo>
                      <a:pt x="237" y="172"/>
                    </a:lnTo>
                    <a:lnTo>
                      <a:pt x="267" y="143"/>
                    </a:lnTo>
                    <a:lnTo>
                      <a:pt x="287" y="110"/>
                    </a:lnTo>
                    <a:lnTo>
                      <a:pt x="292" y="86"/>
                    </a:lnTo>
                    <a:lnTo>
                      <a:pt x="303" y="67"/>
                    </a:lnTo>
                    <a:lnTo>
                      <a:pt x="319" y="43"/>
                    </a:lnTo>
                    <a:lnTo>
                      <a:pt x="328" y="24"/>
                    </a:lnTo>
                    <a:lnTo>
                      <a:pt x="312" y="6"/>
                    </a:lnTo>
                    <a:lnTo>
                      <a:pt x="280" y="0"/>
                    </a:lnTo>
                    <a:lnTo>
                      <a:pt x="267" y="2"/>
                    </a:lnTo>
                    <a:lnTo>
                      <a:pt x="260" y="16"/>
                    </a:lnTo>
                    <a:lnTo>
                      <a:pt x="251" y="34"/>
                    </a:lnTo>
                    <a:lnTo>
                      <a:pt x="241" y="57"/>
                    </a:lnTo>
                    <a:lnTo>
                      <a:pt x="219" y="86"/>
                    </a:lnTo>
                    <a:lnTo>
                      <a:pt x="196" y="110"/>
                    </a:lnTo>
                    <a:lnTo>
                      <a:pt x="173" y="133"/>
                    </a:lnTo>
                    <a:lnTo>
                      <a:pt x="157" y="143"/>
                    </a:lnTo>
                    <a:lnTo>
                      <a:pt x="132" y="153"/>
                    </a:lnTo>
                    <a:lnTo>
                      <a:pt x="107" y="165"/>
                    </a:lnTo>
                    <a:lnTo>
                      <a:pt x="77" y="172"/>
                    </a:lnTo>
                    <a:lnTo>
                      <a:pt x="48" y="182"/>
                    </a:lnTo>
                    <a:lnTo>
                      <a:pt x="24" y="188"/>
                    </a:lnTo>
                    <a:lnTo>
                      <a:pt x="8" y="190"/>
                    </a:lnTo>
                    <a:lnTo>
                      <a:pt x="0" y="192"/>
                    </a:lnTo>
                    <a:lnTo>
                      <a:pt x="20" y="206"/>
                    </a:lnTo>
                    <a:lnTo>
                      <a:pt x="45" y="215"/>
                    </a:lnTo>
                    <a:lnTo>
                      <a:pt x="72" y="221"/>
                    </a:lnTo>
                    <a:lnTo>
                      <a:pt x="97" y="221"/>
                    </a:lnTo>
                    <a:lnTo>
                      <a:pt x="125" y="221"/>
                    </a:lnTo>
                    <a:lnTo>
                      <a:pt x="152" y="217"/>
                    </a:lnTo>
                    <a:lnTo>
                      <a:pt x="180" y="208"/>
                    </a:lnTo>
                    <a:lnTo>
                      <a:pt x="203" y="20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84" name="Freeform 1166"/>
              <p:cNvSpPr/>
              <p:nvPr/>
            </p:nvSpPr>
            <p:spPr>
              <a:xfrm>
                <a:off x="7266960" y="4581360"/>
                <a:ext cx="334800" cy="120600"/>
              </a:xfrm>
              <a:custGeom>
                <a:avLst/>
                <a:gdLst/>
                <a:ahLst/>
                <a:rect l="l" t="t" r="r" b="b"/>
                <a:pathLst>
                  <a:path w="422" h="152">
                    <a:moveTo>
                      <a:pt x="75" y="5"/>
                    </a:moveTo>
                    <a:lnTo>
                      <a:pt x="91" y="4"/>
                    </a:lnTo>
                    <a:lnTo>
                      <a:pt x="107" y="2"/>
                    </a:lnTo>
                    <a:lnTo>
                      <a:pt x="125" y="2"/>
                    </a:lnTo>
                    <a:lnTo>
                      <a:pt x="137" y="0"/>
                    </a:lnTo>
                    <a:lnTo>
                      <a:pt x="153" y="0"/>
                    </a:lnTo>
                    <a:lnTo>
                      <a:pt x="173" y="2"/>
                    </a:lnTo>
                    <a:lnTo>
                      <a:pt x="185" y="5"/>
                    </a:lnTo>
                    <a:lnTo>
                      <a:pt x="203" y="15"/>
                    </a:lnTo>
                    <a:lnTo>
                      <a:pt x="223" y="23"/>
                    </a:lnTo>
                    <a:lnTo>
                      <a:pt x="240" y="35"/>
                    </a:lnTo>
                    <a:lnTo>
                      <a:pt x="253" y="49"/>
                    </a:lnTo>
                    <a:lnTo>
                      <a:pt x="272" y="56"/>
                    </a:lnTo>
                    <a:lnTo>
                      <a:pt x="285" y="70"/>
                    </a:lnTo>
                    <a:lnTo>
                      <a:pt x="303" y="80"/>
                    </a:lnTo>
                    <a:lnTo>
                      <a:pt x="319" y="88"/>
                    </a:lnTo>
                    <a:lnTo>
                      <a:pt x="338" y="94"/>
                    </a:lnTo>
                    <a:lnTo>
                      <a:pt x="369" y="109"/>
                    </a:lnTo>
                    <a:lnTo>
                      <a:pt x="397" y="127"/>
                    </a:lnTo>
                    <a:lnTo>
                      <a:pt x="415" y="146"/>
                    </a:lnTo>
                    <a:lnTo>
                      <a:pt x="422" y="152"/>
                    </a:lnTo>
                    <a:lnTo>
                      <a:pt x="301" y="133"/>
                    </a:lnTo>
                    <a:lnTo>
                      <a:pt x="224" y="138"/>
                    </a:lnTo>
                    <a:lnTo>
                      <a:pt x="219" y="138"/>
                    </a:lnTo>
                    <a:lnTo>
                      <a:pt x="203" y="138"/>
                    </a:lnTo>
                    <a:lnTo>
                      <a:pt x="182" y="137"/>
                    </a:lnTo>
                    <a:lnTo>
                      <a:pt x="157" y="133"/>
                    </a:lnTo>
                    <a:lnTo>
                      <a:pt x="128" y="125"/>
                    </a:lnTo>
                    <a:lnTo>
                      <a:pt x="100" y="115"/>
                    </a:lnTo>
                    <a:lnTo>
                      <a:pt x="78" y="99"/>
                    </a:lnTo>
                    <a:lnTo>
                      <a:pt x="62" y="80"/>
                    </a:lnTo>
                    <a:lnTo>
                      <a:pt x="53" y="68"/>
                    </a:lnTo>
                    <a:lnTo>
                      <a:pt x="34" y="54"/>
                    </a:lnTo>
                    <a:lnTo>
                      <a:pt x="20" y="49"/>
                    </a:lnTo>
                    <a:lnTo>
                      <a:pt x="7" y="37"/>
                    </a:lnTo>
                    <a:lnTo>
                      <a:pt x="0" y="25"/>
                    </a:lnTo>
                    <a:lnTo>
                      <a:pt x="9" y="19"/>
                    </a:lnTo>
                    <a:lnTo>
                      <a:pt x="34" y="11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85" name="Freeform 1167"/>
              <p:cNvSpPr/>
              <p:nvPr/>
            </p:nvSpPr>
            <p:spPr>
              <a:xfrm>
                <a:off x="7903440" y="5155920"/>
                <a:ext cx="153720" cy="130320"/>
              </a:xfrm>
              <a:custGeom>
                <a:avLst/>
                <a:gdLst/>
                <a:ahLst/>
                <a:rect l="l" t="t" r="r" b="b"/>
                <a:pathLst>
                  <a:path w="194" h="165">
                    <a:moveTo>
                      <a:pt x="54" y="88"/>
                    </a:moveTo>
                    <a:lnTo>
                      <a:pt x="70" y="83"/>
                    </a:lnTo>
                    <a:lnTo>
                      <a:pt x="87" y="77"/>
                    </a:lnTo>
                    <a:lnTo>
                      <a:pt x="111" y="63"/>
                    </a:lnTo>
                    <a:lnTo>
                      <a:pt x="125" y="47"/>
                    </a:lnTo>
                    <a:lnTo>
                      <a:pt x="148" y="36"/>
                    </a:lnTo>
                    <a:lnTo>
                      <a:pt x="166" y="22"/>
                    </a:lnTo>
                    <a:lnTo>
                      <a:pt x="182" y="12"/>
                    </a:lnTo>
                    <a:lnTo>
                      <a:pt x="187" y="4"/>
                    </a:lnTo>
                    <a:lnTo>
                      <a:pt x="194" y="0"/>
                    </a:lnTo>
                    <a:lnTo>
                      <a:pt x="194" y="6"/>
                    </a:lnTo>
                    <a:lnTo>
                      <a:pt x="194" y="22"/>
                    </a:lnTo>
                    <a:lnTo>
                      <a:pt x="191" y="43"/>
                    </a:lnTo>
                    <a:lnTo>
                      <a:pt x="185" y="65"/>
                    </a:lnTo>
                    <a:lnTo>
                      <a:pt x="166" y="83"/>
                    </a:lnTo>
                    <a:lnTo>
                      <a:pt x="144" y="96"/>
                    </a:lnTo>
                    <a:lnTo>
                      <a:pt x="123" y="104"/>
                    </a:lnTo>
                    <a:lnTo>
                      <a:pt x="112" y="110"/>
                    </a:lnTo>
                    <a:lnTo>
                      <a:pt x="107" y="126"/>
                    </a:lnTo>
                    <a:lnTo>
                      <a:pt x="107" y="143"/>
                    </a:lnTo>
                    <a:lnTo>
                      <a:pt x="107" y="157"/>
                    </a:lnTo>
                    <a:lnTo>
                      <a:pt x="91" y="163"/>
                    </a:lnTo>
                    <a:lnTo>
                      <a:pt x="63" y="165"/>
                    </a:lnTo>
                    <a:lnTo>
                      <a:pt x="25" y="161"/>
                    </a:lnTo>
                    <a:lnTo>
                      <a:pt x="4" y="147"/>
                    </a:lnTo>
                    <a:lnTo>
                      <a:pt x="0" y="129"/>
                    </a:lnTo>
                    <a:lnTo>
                      <a:pt x="7" y="110"/>
                    </a:lnTo>
                    <a:lnTo>
                      <a:pt x="25" y="96"/>
                    </a:lnTo>
                    <a:lnTo>
                      <a:pt x="54" y="88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86" name="Freeform 1168"/>
              <p:cNvSpPr/>
              <p:nvPr/>
            </p:nvSpPr>
            <p:spPr>
              <a:xfrm>
                <a:off x="8068680" y="5062320"/>
                <a:ext cx="123480" cy="106560"/>
              </a:xfrm>
              <a:custGeom>
                <a:avLst/>
                <a:gdLst/>
                <a:ahLst/>
                <a:rect l="l" t="t" r="r" b="b"/>
                <a:pathLst>
                  <a:path w="156" h="135">
                    <a:moveTo>
                      <a:pt x="7" y="0"/>
                    </a:moveTo>
                    <a:lnTo>
                      <a:pt x="28" y="12"/>
                    </a:lnTo>
                    <a:lnTo>
                      <a:pt x="51" y="31"/>
                    </a:lnTo>
                    <a:lnTo>
                      <a:pt x="71" y="51"/>
                    </a:lnTo>
                    <a:lnTo>
                      <a:pt x="83" y="61"/>
                    </a:lnTo>
                    <a:lnTo>
                      <a:pt x="101" y="61"/>
                    </a:lnTo>
                    <a:lnTo>
                      <a:pt x="124" y="61"/>
                    </a:lnTo>
                    <a:lnTo>
                      <a:pt x="147" y="63"/>
                    </a:lnTo>
                    <a:lnTo>
                      <a:pt x="156" y="70"/>
                    </a:lnTo>
                    <a:lnTo>
                      <a:pt x="156" y="82"/>
                    </a:lnTo>
                    <a:lnTo>
                      <a:pt x="149" y="96"/>
                    </a:lnTo>
                    <a:lnTo>
                      <a:pt x="133" y="111"/>
                    </a:lnTo>
                    <a:lnTo>
                      <a:pt x="121" y="123"/>
                    </a:lnTo>
                    <a:lnTo>
                      <a:pt x="105" y="131"/>
                    </a:lnTo>
                    <a:lnTo>
                      <a:pt x="92" y="135"/>
                    </a:lnTo>
                    <a:lnTo>
                      <a:pt x="73" y="133"/>
                    </a:lnTo>
                    <a:lnTo>
                      <a:pt x="57" y="123"/>
                    </a:lnTo>
                    <a:lnTo>
                      <a:pt x="48" y="110"/>
                    </a:lnTo>
                    <a:lnTo>
                      <a:pt x="39" y="94"/>
                    </a:lnTo>
                    <a:lnTo>
                      <a:pt x="35" y="78"/>
                    </a:lnTo>
                    <a:lnTo>
                      <a:pt x="35" y="66"/>
                    </a:lnTo>
                    <a:lnTo>
                      <a:pt x="32" y="55"/>
                    </a:lnTo>
                    <a:lnTo>
                      <a:pt x="23" y="41"/>
                    </a:lnTo>
                    <a:lnTo>
                      <a:pt x="7" y="31"/>
                    </a:lnTo>
                    <a:lnTo>
                      <a:pt x="0" y="2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87" name="Freeform 1169"/>
              <p:cNvSpPr/>
              <p:nvPr/>
            </p:nvSpPr>
            <p:spPr>
              <a:xfrm>
                <a:off x="2780640" y="4287600"/>
                <a:ext cx="220320" cy="73080"/>
              </a:xfrm>
              <a:custGeom>
                <a:avLst/>
                <a:gdLst/>
                <a:ahLst/>
                <a:rect l="l" t="t" r="r" b="b"/>
                <a:pathLst>
                  <a:path w="277" h="92">
                    <a:moveTo>
                      <a:pt x="0" y="10"/>
                    </a:moveTo>
                    <a:lnTo>
                      <a:pt x="8" y="0"/>
                    </a:lnTo>
                    <a:lnTo>
                      <a:pt x="28" y="0"/>
                    </a:lnTo>
                    <a:lnTo>
                      <a:pt x="56" y="4"/>
                    </a:lnTo>
                    <a:lnTo>
                      <a:pt x="89" y="14"/>
                    </a:lnTo>
                    <a:lnTo>
                      <a:pt x="121" y="25"/>
                    </a:lnTo>
                    <a:lnTo>
                      <a:pt x="153" y="35"/>
                    </a:lnTo>
                    <a:lnTo>
                      <a:pt x="181" y="49"/>
                    </a:lnTo>
                    <a:lnTo>
                      <a:pt x="204" y="57"/>
                    </a:lnTo>
                    <a:lnTo>
                      <a:pt x="242" y="64"/>
                    </a:lnTo>
                    <a:lnTo>
                      <a:pt x="270" y="78"/>
                    </a:lnTo>
                    <a:lnTo>
                      <a:pt x="277" y="88"/>
                    </a:lnTo>
                    <a:lnTo>
                      <a:pt x="261" y="92"/>
                    </a:lnTo>
                    <a:lnTo>
                      <a:pt x="242" y="92"/>
                    </a:lnTo>
                    <a:lnTo>
                      <a:pt x="220" y="90"/>
                    </a:lnTo>
                    <a:lnTo>
                      <a:pt x="201" y="88"/>
                    </a:lnTo>
                    <a:lnTo>
                      <a:pt x="178" y="84"/>
                    </a:lnTo>
                    <a:lnTo>
                      <a:pt x="162" y="84"/>
                    </a:lnTo>
                    <a:lnTo>
                      <a:pt x="146" y="82"/>
                    </a:lnTo>
                    <a:lnTo>
                      <a:pt x="140" y="80"/>
                    </a:lnTo>
                    <a:lnTo>
                      <a:pt x="133" y="80"/>
                    </a:lnTo>
                    <a:lnTo>
                      <a:pt x="128" y="78"/>
                    </a:lnTo>
                    <a:lnTo>
                      <a:pt x="115" y="72"/>
                    </a:lnTo>
                    <a:lnTo>
                      <a:pt x="92" y="64"/>
                    </a:lnTo>
                    <a:lnTo>
                      <a:pt x="67" y="57"/>
                    </a:lnTo>
                    <a:lnTo>
                      <a:pt x="40" y="43"/>
                    </a:lnTo>
                    <a:lnTo>
                      <a:pt x="19" y="31"/>
                    </a:lnTo>
                    <a:lnTo>
                      <a:pt x="3" y="1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88" name="Freeform 1170"/>
              <p:cNvSpPr/>
              <p:nvPr/>
            </p:nvSpPr>
            <p:spPr>
              <a:xfrm>
                <a:off x="5339880" y="4730760"/>
                <a:ext cx="155160" cy="222120"/>
              </a:xfrm>
              <a:custGeom>
                <a:avLst/>
                <a:gdLst/>
                <a:ahLst/>
                <a:rect l="l" t="t" r="r" b="b"/>
                <a:pathLst>
                  <a:path w="196" h="280">
                    <a:moveTo>
                      <a:pt x="130" y="4"/>
                    </a:moveTo>
                    <a:lnTo>
                      <a:pt x="168" y="0"/>
                    </a:lnTo>
                    <a:lnTo>
                      <a:pt x="187" y="4"/>
                    </a:lnTo>
                    <a:lnTo>
                      <a:pt x="196" y="20"/>
                    </a:lnTo>
                    <a:lnTo>
                      <a:pt x="196" y="40"/>
                    </a:lnTo>
                    <a:lnTo>
                      <a:pt x="193" y="63"/>
                    </a:lnTo>
                    <a:lnTo>
                      <a:pt x="187" y="88"/>
                    </a:lnTo>
                    <a:lnTo>
                      <a:pt x="177" y="112"/>
                    </a:lnTo>
                    <a:lnTo>
                      <a:pt x="175" y="131"/>
                    </a:lnTo>
                    <a:lnTo>
                      <a:pt x="175" y="169"/>
                    </a:lnTo>
                    <a:lnTo>
                      <a:pt x="171" y="206"/>
                    </a:lnTo>
                    <a:lnTo>
                      <a:pt x="164" y="239"/>
                    </a:lnTo>
                    <a:lnTo>
                      <a:pt x="155" y="261"/>
                    </a:lnTo>
                    <a:lnTo>
                      <a:pt x="148" y="264"/>
                    </a:lnTo>
                    <a:lnTo>
                      <a:pt x="139" y="268"/>
                    </a:lnTo>
                    <a:lnTo>
                      <a:pt x="120" y="274"/>
                    </a:lnTo>
                    <a:lnTo>
                      <a:pt x="102" y="280"/>
                    </a:lnTo>
                    <a:lnTo>
                      <a:pt x="79" y="280"/>
                    </a:lnTo>
                    <a:lnTo>
                      <a:pt x="61" y="278"/>
                    </a:lnTo>
                    <a:lnTo>
                      <a:pt x="48" y="266"/>
                    </a:lnTo>
                    <a:lnTo>
                      <a:pt x="32" y="255"/>
                    </a:lnTo>
                    <a:lnTo>
                      <a:pt x="13" y="219"/>
                    </a:lnTo>
                    <a:lnTo>
                      <a:pt x="4" y="188"/>
                    </a:lnTo>
                    <a:lnTo>
                      <a:pt x="0" y="165"/>
                    </a:lnTo>
                    <a:lnTo>
                      <a:pt x="4" y="147"/>
                    </a:lnTo>
                    <a:lnTo>
                      <a:pt x="13" y="129"/>
                    </a:lnTo>
                    <a:lnTo>
                      <a:pt x="32" y="108"/>
                    </a:lnTo>
                    <a:lnTo>
                      <a:pt x="57" y="94"/>
                    </a:lnTo>
                    <a:lnTo>
                      <a:pt x="79" y="88"/>
                    </a:lnTo>
                    <a:lnTo>
                      <a:pt x="95" y="75"/>
                    </a:lnTo>
                    <a:lnTo>
                      <a:pt x="105" y="49"/>
                    </a:lnTo>
                    <a:lnTo>
                      <a:pt x="118" y="20"/>
                    </a:lnTo>
                    <a:lnTo>
                      <a:pt x="130" y="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1194"/>
            <p:cNvGrpSpPr/>
            <p:nvPr/>
          </p:nvGrpSpPr>
          <p:grpSpPr>
            <a:xfrm>
              <a:off x="990720" y="2895480"/>
              <a:ext cx="7303320" cy="2554200"/>
              <a:chOff x="990720" y="2895480"/>
              <a:chExt cx="7303320" cy="2554200"/>
            </a:xfrm>
          </p:grpSpPr>
          <p:sp>
            <p:nvSpPr>
              <p:cNvPr id="390" name="Freeform 1172"/>
              <p:cNvSpPr/>
              <p:nvPr/>
            </p:nvSpPr>
            <p:spPr>
              <a:xfrm>
                <a:off x="2738160" y="4394160"/>
                <a:ext cx="901440" cy="1055520"/>
              </a:xfrm>
              <a:custGeom>
                <a:avLst/>
                <a:gdLst/>
                <a:ahLst/>
                <a:rect l="l" t="t" r="r" b="b"/>
                <a:pathLst>
                  <a:path w="1136" h="1328">
                    <a:moveTo>
                      <a:pt x="38" y="84"/>
                    </a:moveTo>
                    <a:lnTo>
                      <a:pt x="16" y="141"/>
                    </a:lnTo>
                    <a:lnTo>
                      <a:pt x="0" y="221"/>
                    </a:lnTo>
                    <a:lnTo>
                      <a:pt x="4" y="303"/>
                    </a:lnTo>
                    <a:lnTo>
                      <a:pt x="29" y="372"/>
                    </a:lnTo>
                    <a:lnTo>
                      <a:pt x="54" y="395"/>
                    </a:lnTo>
                    <a:lnTo>
                      <a:pt x="86" y="420"/>
                    </a:lnTo>
                    <a:lnTo>
                      <a:pt x="118" y="442"/>
                    </a:lnTo>
                    <a:lnTo>
                      <a:pt x="148" y="467"/>
                    </a:lnTo>
                    <a:lnTo>
                      <a:pt x="177" y="489"/>
                    </a:lnTo>
                    <a:lnTo>
                      <a:pt x="209" y="510"/>
                    </a:lnTo>
                    <a:lnTo>
                      <a:pt x="225" y="534"/>
                    </a:lnTo>
                    <a:lnTo>
                      <a:pt x="241" y="557"/>
                    </a:lnTo>
                    <a:lnTo>
                      <a:pt x="257" y="608"/>
                    </a:lnTo>
                    <a:lnTo>
                      <a:pt x="258" y="667"/>
                    </a:lnTo>
                    <a:lnTo>
                      <a:pt x="253" y="726"/>
                    </a:lnTo>
                    <a:lnTo>
                      <a:pt x="234" y="790"/>
                    </a:lnTo>
                    <a:lnTo>
                      <a:pt x="218" y="831"/>
                    </a:lnTo>
                    <a:lnTo>
                      <a:pt x="212" y="870"/>
                    </a:lnTo>
                    <a:lnTo>
                      <a:pt x="209" y="913"/>
                    </a:lnTo>
                    <a:lnTo>
                      <a:pt x="205" y="952"/>
                    </a:lnTo>
                    <a:lnTo>
                      <a:pt x="200" y="990"/>
                    </a:lnTo>
                    <a:lnTo>
                      <a:pt x="196" y="1027"/>
                    </a:lnTo>
                    <a:lnTo>
                      <a:pt x="189" y="1058"/>
                    </a:lnTo>
                    <a:lnTo>
                      <a:pt x="184" y="1084"/>
                    </a:lnTo>
                    <a:lnTo>
                      <a:pt x="168" y="1111"/>
                    </a:lnTo>
                    <a:lnTo>
                      <a:pt x="159" y="1138"/>
                    </a:lnTo>
                    <a:lnTo>
                      <a:pt x="148" y="1166"/>
                    </a:lnTo>
                    <a:lnTo>
                      <a:pt x="161" y="1195"/>
                    </a:lnTo>
                    <a:lnTo>
                      <a:pt x="177" y="1222"/>
                    </a:lnTo>
                    <a:lnTo>
                      <a:pt x="205" y="1260"/>
                    </a:lnTo>
                    <a:lnTo>
                      <a:pt x="230" y="1293"/>
                    </a:lnTo>
                    <a:lnTo>
                      <a:pt x="258" y="1312"/>
                    </a:lnTo>
                    <a:lnTo>
                      <a:pt x="278" y="1316"/>
                    </a:lnTo>
                    <a:lnTo>
                      <a:pt x="294" y="1320"/>
                    </a:lnTo>
                    <a:lnTo>
                      <a:pt x="312" y="1326"/>
                    </a:lnTo>
                    <a:lnTo>
                      <a:pt x="331" y="1326"/>
                    </a:lnTo>
                    <a:lnTo>
                      <a:pt x="353" y="1328"/>
                    </a:lnTo>
                    <a:lnTo>
                      <a:pt x="367" y="1328"/>
                    </a:lnTo>
                    <a:lnTo>
                      <a:pt x="381" y="1326"/>
                    </a:lnTo>
                    <a:lnTo>
                      <a:pt x="392" y="1322"/>
                    </a:lnTo>
                    <a:lnTo>
                      <a:pt x="392" y="1312"/>
                    </a:lnTo>
                    <a:lnTo>
                      <a:pt x="381" y="1307"/>
                    </a:lnTo>
                    <a:lnTo>
                      <a:pt x="372" y="1301"/>
                    </a:lnTo>
                    <a:lnTo>
                      <a:pt x="356" y="1287"/>
                    </a:lnTo>
                    <a:lnTo>
                      <a:pt x="340" y="1271"/>
                    </a:lnTo>
                    <a:lnTo>
                      <a:pt x="331" y="1252"/>
                    </a:lnTo>
                    <a:lnTo>
                      <a:pt x="326" y="1222"/>
                    </a:lnTo>
                    <a:lnTo>
                      <a:pt x="328" y="1187"/>
                    </a:lnTo>
                    <a:lnTo>
                      <a:pt x="340" y="1152"/>
                    </a:lnTo>
                    <a:lnTo>
                      <a:pt x="360" y="1130"/>
                    </a:lnTo>
                    <a:lnTo>
                      <a:pt x="385" y="1113"/>
                    </a:lnTo>
                    <a:lnTo>
                      <a:pt x="413" y="1095"/>
                    </a:lnTo>
                    <a:lnTo>
                      <a:pt x="445" y="1074"/>
                    </a:lnTo>
                    <a:lnTo>
                      <a:pt x="461" y="1048"/>
                    </a:lnTo>
                    <a:lnTo>
                      <a:pt x="477" y="1021"/>
                    </a:lnTo>
                    <a:lnTo>
                      <a:pt x="492" y="997"/>
                    </a:lnTo>
                    <a:lnTo>
                      <a:pt x="508" y="974"/>
                    </a:lnTo>
                    <a:lnTo>
                      <a:pt x="531" y="966"/>
                    </a:lnTo>
                    <a:lnTo>
                      <a:pt x="556" y="956"/>
                    </a:lnTo>
                    <a:lnTo>
                      <a:pt x="581" y="949"/>
                    </a:lnTo>
                    <a:lnTo>
                      <a:pt x="602" y="935"/>
                    </a:lnTo>
                    <a:lnTo>
                      <a:pt x="625" y="915"/>
                    </a:lnTo>
                    <a:lnTo>
                      <a:pt x="645" y="898"/>
                    </a:lnTo>
                    <a:lnTo>
                      <a:pt x="663" y="884"/>
                    </a:lnTo>
                    <a:lnTo>
                      <a:pt x="679" y="868"/>
                    </a:lnTo>
                    <a:lnTo>
                      <a:pt x="698" y="853"/>
                    </a:lnTo>
                    <a:lnTo>
                      <a:pt x="714" y="837"/>
                    </a:lnTo>
                    <a:lnTo>
                      <a:pt x="732" y="819"/>
                    </a:lnTo>
                    <a:lnTo>
                      <a:pt x="745" y="804"/>
                    </a:lnTo>
                    <a:lnTo>
                      <a:pt x="755" y="792"/>
                    </a:lnTo>
                    <a:lnTo>
                      <a:pt x="764" y="780"/>
                    </a:lnTo>
                    <a:lnTo>
                      <a:pt x="780" y="767"/>
                    </a:lnTo>
                    <a:lnTo>
                      <a:pt x="786" y="751"/>
                    </a:lnTo>
                    <a:lnTo>
                      <a:pt x="784" y="731"/>
                    </a:lnTo>
                    <a:lnTo>
                      <a:pt x="780" y="714"/>
                    </a:lnTo>
                    <a:lnTo>
                      <a:pt x="786" y="700"/>
                    </a:lnTo>
                    <a:lnTo>
                      <a:pt x="805" y="696"/>
                    </a:lnTo>
                    <a:lnTo>
                      <a:pt x="826" y="690"/>
                    </a:lnTo>
                    <a:lnTo>
                      <a:pt x="843" y="690"/>
                    </a:lnTo>
                    <a:lnTo>
                      <a:pt x="866" y="686"/>
                    </a:lnTo>
                    <a:lnTo>
                      <a:pt x="887" y="683"/>
                    </a:lnTo>
                    <a:lnTo>
                      <a:pt x="912" y="675"/>
                    </a:lnTo>
                    <a:lnTo>
                      <a:pt x="937" y="667"/>
                    </a:lnTo>
                    <a:lnTo>
                      <a:pt x="964" y="665"/>
                    </a:lnTo>
                    <a:lnTo>
                      <a:pt x="985" y="663"/>
                    </a:lnTo>
                    <a:lnTo>
                      <a:pt x="1005" y="651"/>
                    </a:lnTo>
                    <a:lnTo>
                      <a:pt x="1019" y="640"/>
                    </a:lnTo>
                    <a:lnTo>
                      <a:pt x="1033" y="626"/>
                    </a:lnTo>
                    <a:lnTo>
                      <a:pt x="1047" y="604"/>
                    </a:lnTo>
                    <a:lnTo>
                      <a:pt x="1067" y="569"/>
                    </a:lnTo>
                    <a:lnTo>
                      <a:pt x="1083" y="532"/>
                    </a:lnTo>
                    <a:lnTo>
                      <a:pt x="1099" y="501"/>
                    </a:lnTo>
                    <a:lnTo>
                      <a:pt x="1104" y="475"/>
                    </a:lnTo>
                    <a:lnTo>
                      <a:pt x="1117" y="450"/>
                    </a:lnTo>
                    <a:lnTo>
                      <a:pt x="1124" y="422"/>
                    </a:lnTo>
                    <a:lnTo>
                      <a:pt x="1129" y="403"/>
                    </a:lnTo>
                    <a:lnTo>
                      <a:pt x="1136" y="383"/>
                    </a:lnTo>
                    <a:lnTo>
                      <a:pt x="1129" y="358"/>
                    </a:lnTo>
                    <a:lnTo>
                      <a:pt x="1120" y="334"/>
                    </a:lnTo>
                    <a:lnTo>
                      <a:pt x="1108" y="321"/>
                    </a:lnTo>
                    <a:lnTo>
                      <a:pt x="1099" y="319"/>
                    </a:lnTo>
                    <a:lnTo>
                      <a:pt x="1083" y="311"/>
                    </a:lnTo>
                    <a:lnTo>
                      <a:pt x="1067" y="309"/>
                    </a:lnTo>
                    <a:lnTo>
                      <a:pt x="1047" y="305"/>
                    </a:lnTo>
                    <a:lnTo>
                      <a:pt x="1033" y="301"/>
                    </a:lnTo>
                    <a:lnTo>
                      <a:pt x="1013" y="291"/>
                    </a:lnTo>
                    <a:lnTo>
                      <a:pt x="1005" y="285"/>
                    </a:lnTo>
                    <a:lnTo>
                      <a:pt x="997" y="278"/>
                    </a:lnTo>
                    <a:lnTo>
                      <a:pt x="985" y="262"/>
                    </a:lnTo>
                    <a:lnTo>
                      <a:pt x="972" y="250"/>
                    </a:lnTo>
                    <a:lnTo>
                      <a:pt x="953" y="242"/>
                    </a:lnTo>
                    <a:lnTo>
                      <a:pt x="935" y="240"/>
                    </a:lnTo>
                    <a:lnTo>
                      <a:pt x="924" y="240"/>
                    </a:lnTo>
                    <a:lnTo>
                      <a:pt x="908" y="240"/>
                    </a:lnTo>
                    <a:lnTo>
                      <a:pt x="894" y="240"/>
                    </a:lnTo>
                    <a:lnTo>
                      <a:pt x="878" y="240"/>
                    </a:lnTo>
                    <a:lnTo>
                      <a:pt x="859" y="239"/>
                    </a:lnTo>
                    <a:lnTo>
                      <a:pt x="843" y="233"/>
                    </a:lnTo>
                    <a:lnTo>
                      <a:pt x="834" y="227"/>
                    </a:lnTo>
                    <a:lnTo>
                      <a:pt x="821" y="221"/>
                    </a:lnTo>
                    <a:lnTo>
                      <a:pt x="805" y="201"/>
                    </a:lnTo>
                    <a:lnTo>
                      <a:pt x="780" y="172"/>
                    </a:lnTo>
                    <a:lnTo>
                      <a:pt x="757" y="151"/>
                    </a:lnTo>
                    <a:lnTo>
                      <a:pt x="736" y="135"/>
                    </a:lnTo>
                    <a:lnTo>
                      <a:pt x="720" y="127"/>
                    </a:lnTo>
                    <a:lnTo>
                      <a:pt x="695" y="115"/>
                    </a:lnTo>
                    <a:lnTo>
                      <a:pt x="663" y="100"/>
                    </a:lnTo>
                    <a:lnTo>
                      <a:pt x="622" y="82"/>
                    </a:lnTo>
                    <a:lnTo>
                      <a:pt x="577" y="68"/>
                    </a:lnTo>
                    <a:lnTo>
                      <a:pt x="534" y="53"/>
                    </a:lnTo>
                    <a:lnTo>
                      <a:pt x="492" y="41"/>
                    </a:lnTo>
                    <a:lnTo>
                      <a:pt x="451" y="37"/>
                    </a:lnTo>
                    <a:lnTo>
                      <a:pt x="413" y="35"/>
                    </a:lnTo>
                    <a:lnTo>
                      <a:pt x="385" y="33"/>
                    </a:lnTo>
                    <a:lnTo>
                      <a:pt x="356" y="27"/>
                    </a:lnTo>
                    <a:lnTo>
                      <a:pt x="335" y="25"/>
                    </a:lnTo>
                    <a:lnTo>
                      <a:pt x="312" y="25"/>
                    </a:lnTo>
                    <a:lnTo>
                      <a:pt x="294" y="23"/>
                    </a:lnTo>
                    <a:lnTo>
                      <a:pt x="283" y="23"/>
                    </a:lnTo>
                    <a:lnTo>
                      <a:pt x="271" y="25"/>
                    </a:lnTo>
                    <a:lnTo>
                      <a:pt x="258" y="25"/>
                    </a:lnTo>
                    <a:lnTo>
                      <a:pt x="242" y="21"/>
                    </a:lnTo>
                    <a:lnTo>
                      <a:pt x="230" y="14"/>
                    </a:lnTo>
                    <a:lnTo>
                      <a:pt x="218" y="6"/>
                    </a:lnTo>
                    <a:lnTo>
                      <a:pt x="205" y="2"/>
                    </a:lnTo>
                    <a:lnTo>
                      <a:pt x="189" y="0"/>
                    </a:lnTo>
                    <a:lnTo>
                      <a:pt x="171" y="4"/>
                    </a:lnTo>
                    <a:lnTo>
                      <a:pt x="159" y="8"/>
                    </a:lnTo>
                    <a:lnTo>
                      <a:pt x="143" y="19"/>
                    </a:lnTo>
                    <a:lnTo>
                      <a:pt x="123" y="35"/>
                    </a:lnTo>
                    <a:lnTo>
                      <a:pt x="111" y="45"/>
                    </a:lnTo>
                    <a:lnTo>
                      <a:pt x="91" y="57"/>
                    </a:lnTo>
                    <a:lnTo>
                      <a:pt x="86" y="59"/>
                    </a:lnTo>
                    <a:lnTo>
                      <a:pt x="70" y="62"/>
                    </a:lnTo>
                    <a:lnTo>
                      <a:pt x="50" y="74"/>
                    </a:lnTo>
                    <a:lnTo>
                      <a:pt x="38" y="84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91" name="Freeform 1173"/>
              <p:cNvSpPr/>
              <p:nvPr/>
            </p:nvSpPr>
            <p:spPr>
              <a:xfrm>
                <a:off x="990720" y="3286080"/>
                <a:ext cx="2277720" cy="1177920"/>
              </a:xfrm>
              <a:custGeom>
                <a:avLst/>
                <a:gdLst/>
                <a:ahLst/>
                <a:rect l="l" t="t" r="r" b="b"/>
                <a:pathLst>
                  <a:path w="2870" h="1485">
                    <a:moveTo>
                      <a:pt x="2097" y="1078"/>
                    </a:moveTo>
                    <a:lnTo>
                      <a:pt x="2072" y="1080"/>
                    </a:lnTo>
                    <a:lnTo>
                      <a:pt x="2049" y="1074"/>
                    </a:lnTo>
                    <a:lnTo>
                      <a:pt x="2028" y="1068"/>
                    </a:lnTo>
                    <a:lnTo>
                      <a:pt x="2003" y="1076"/>
                    </a:lnTo>
                    <a:lnTo>
                      <a:pt x="1978" y="1092"/>
                    </a:lnTo>
                    <a:lnTo>
                      <a:pt x="1962" y="1098"/>
                    </a:lnTo>
                    <a:lnTo>
                      <a:pt x="1942" y="1103"/>
                    </a:lnTo>
                    <a:lnTo>
                      <a:pt x="1921" y="1105"/>
                    </a:lnTo>
                    <a:lnTo>
                      <a:pt x="1908" y="1105"/>
                    </a:lnTo>
                    <a:lnTo>
                      <a:pt x="1889" y="1105"/>
                    </a:lnTo>
                    <a:lnTo>
                      <a:pt x="1869" y="1105"/>
                    </a:lnTo>
                    <a:lnTo>
                      <a:pt x="1851" y="1105"/>
                    </a:lnTo>
                    <a:lnTo>
                      <a:pt x="1839" y="1113"/>
                    </a:lnTo>
                    <a:lnTo>
                      <a:pt x="1823" y="1123"/>
                    </a:lnTo>
                    <a:lnTo>
                      <a:pt x="1810" y="1141"/>
                    </a:lnTo>
                    <a:lnTo>
                      <a:pt x="1800" y="1164"/>
                    </a:lnTo>
                    <a:lnTo>
                      <a:pt x="1798" y="1193"/>
                    </a:lnTo>
                    <a:lnTo>
                      <a:pt x="1800" y="1215"/>
                    </a:lnTo>
                    <a:lnTo>
                      <a:pt x="1816" y="1235"/>
                    </a:lnTo>
                    <a:lnTo>
                      <a:pt x="1832" y="1248"/>
                    </a:lnTo>
                    <a:lnTo>
                      <a:pt x="1848" y="1260"/>
                    </a:lnTo>
                    <a:lnTo>
                      <a:pt x="1867" y="1272"/>
                    </a:lnTo>
                    <a:lnTo>
                      <a:pt x="1885" y="1276"/>
                    </a:lnTo>
                    <a:lnTo>
                      <a:pt x="1898" y="1280"/>
                    </a:lnTo>
                    <a:lnTo>
                      <a:pt x="1914" y="1280"/>
                    </a:lnTo>
                    <a:lnTo>
                      <a:pt x="1930" y="1278"/>
                    </a:lnTo>
                    <a:lnTo>
                      <a:pt x="1942" y="1274"/>
                    </a:lnTo>
                    <a:lnTo>
                      <a:pt x="1962" y="1268"/>
                    </a:lnTo>
                    <a:lnTo>
                      <a:pt x="1978" y="1258"/>
                    </a:lnTo>
                    <a:lnTo>
                      <a:pt x="1990" y="1248"/>
                    </a:lnTo>
                    <a:lnTo>
                      <a:pt x="2006" y="1240"/>
                    </a:lnTo>
                    <a:lnTo>
                      <a:pt x="2019" y="1231"/>
                    </a:lnTo>
                    <a:lnTo>
                      <a:pt x="2040" y="1229"/>
                    </a:lnTo>
                    <a:lnTo>
                      <a:pt x="2053" y="1246"/>
                    </a:lnTo>
                    <a:lnTo>
                      <a:pt x="2053" y="1272"/>
                    </a:lnTo>
                    <a:lnTo>
                      <a:pt x="2040" y="1293"/>
                    </a:lnTo>
                    <a:lnTo>
                      <a:pt x="2031" y="1309"/>
                    </a:lnTo>
                    <a:lnTo>
                      <a:pt x="2036" y="1317"/>
                    </a:lnTo>
                    <a:lnTo>
                      <a:pt x="2053" y="1325"/>
                    </a:lnTo>
                    <a:lnTo>
                      <a:pt x="2076" y="1326"/>
                    </a:lnTo>
                    <a:lnTo>
                      <a:pt x="2097" y="1330"/>
                    </a:lnTo>
                    <a:lnTo>
                      <a:pt x="2118" y="1342"/>
                    </a:lnTo>
                    <a:lnTo>
                      <a:pt x="2138" y="1358"/>
                    </a:lnTo>
                    <a:lnTo>
                      <a:pt x="2150" y="1385"/>
                    </a:lnTo>
                    <a:lnTo>
                      <a:pt x="2154" y="1407"/>
                    </a:lnTo>
                    <a:lnTo>
                      <a:pt x="2158" y="1422"/>
                    </a:lnTo>
                    <a:lnTo>
                      <a:pt x="2159" y="1438"/>
                    </a:lnTo>
                    <a:lnTo>
                      <a:pt x="2174" y="1446"/>
                    </a:lnTo>
                    <a:lnTo>
                      <a:pt x="2186" y="1452"/>
                    </a:lnTo>
                    <a:lnTo>
                      <a:pt x="2207" y="1458"/>
                    </a:lnTo>
                    <a:lnTo>
                      <a:pt x="2229" y="1459"/>
                    </a:lnTo>
                    <a:lnTo>
                      <a:pt x="2248" y="1461"/>
                    </a:lnTo>
                    <a:lnTo>
                      <a:pt x="2264" y="1461"/>
                    </a:lnTo>
                    <a:lnTo>
                      <a:pt x="2270" y="1459"/>
                    </a:lnTo>
                    <a:lnTo>
                      <a:pt x="2273" y="1459"/>
                    </a:lnTo>
                    <a:lnTo>
                      <a:pt x="2273" y="1461"/>
                    </a:lnTo>
                    <a:lnTo>
                      <a:pt x="2270" y="1467"/>
                    </a:lnTo>
                    <a:lnTo>
                      <a:pt x="2264" y="1473"/>
                    </a:lnTo>
                    <a:lnTo>
                      <a:pt x="2252" y="1483"/>
                    </a:lnTo>
                    <a:lnTo>
                      <a:pt x="2239" y="1485"/>
                    </a:lnTo>
                    <a:lnTo>
                      <a:pt x="2227" y="1485"/>
                    </a:lnTo>
                    <a:lnTo>
                      <a:pt x="2207" y="1483"/>
                    </a:lnTo>
                    <a:lnTo>
                      <a:pt x="2195" y="1483"/>
                    </a:lnTo>
                    <a:lnTo>
                      <a:pt x="2175" y="1477"/>
                    </a:lnTo>
                    <a:lnTo>
                      <a:pt x="2158" y="1473"/>
                    </a:lnTo>
                    <a:lnTo>
                      <a:pt x="2138" y="1471"/>
                    </a:lnTo>
                    <a:lnTo>
                      <a:pt x="2129" y="1467"/>
                    </a:lnTo>
                    <a:lnTo>
                      <a:pt x="2122" y="1463"/>
                    </a:lnTo>
                    <a:lnTo>
                      <a:pt x="2110" y="1459"/>
                    </a:lnTo>
                    <a:lnTo>
                      <a:pt x="2090" y="1452"/>
                    </a:lnTo>
                    <a:lnTo>
                      <a:pt x="2072" y="1442"/>
                    </a:lnTo>
                    <a:lnTo>
                      <a:pt x="2044" y="1428"/>
                    </a:lnTo>
                    <a:lnTo>
                      <a:pt x="2024" y="1416"/>
                    </a:lnTo>
                    <a:lnTo>
                      <a:pt x="2008" y="1407"/>
                    </a:lnTo>
                    <a:lnTo>
                      <a:pt x="1999" y="1395"/>
                    </a:lnTo>
                    <a:lnTo>
                      <a:pt x="1987" y="1389"/>
                    </a:lnTo>
                    <a:lnTo>
                      <a:pt x="1978" y="1381"/>
                    </a:lnTo>
                    <a:lnTo>
                      <a:pt x="1962" y="1373"/>
                    </a:lnTo>
                    <a:lnTo>
                      <a:pt x="1939" y="1368"/>
                    </a:lnTo>
                    <a:lnTo>
                      <a:pt x="1910" y="1358"/>
                    </a:lnTo>
                    <a:lnTo>
                      <a:pt x="1889" y="1354"/>
                    </a:lnTo>
                    <a:lnTo>
                      <a:pt x="1864" y="1346"/>
                    </a:lnTo>
                    <a:lnTo>
                      <a:pt x="1842" y="1342"/>
                    </a:lnTo>
                    <a:lnTo>
                      <a:pt x="1819" y="1334"/>
                    </a:lnTo>
                    <a:lnTo>
                      <a:pt x="1798" y="1328"/>
                    </a:lnTo>
                    <a:lnTo>
                      <a:pt x="1778" y="1325"/>
                    </a:lnTo>
                    <a:lnTo>
                      <a:pt x="1762" y="1319"/>
                    </a:lnTo>
                    <a:lnTo>
                      <a:pt x="1744" y="1313"/>
                    </a:lnTo>
                    <a:lnTo>
                      <a:pt x="1725" y="1309"/>
                    </a:lnTo>
                    <a:lnTo>
                      <a:pt x="1705" y="1297"/>
                    </a:lnTo>
                    <a:lnTo>
                      <a:pt x="1689" y="1287"/>
                    </a:lnTo>
                    <a:lnTo>
                      <a:pt x="1671" y="1274"/>
                    </a:lnTo>
                    <a:lnTo>
                      <a:pt x="1655" y="1260"/>
                    </a:lnTo>
                    <a:lnTo>
                      <a:pt x="1643" y="1248"/>
                    </a:lnTo>
                    <a:lnTo>
                      <a:pt x="1627" y="1238"/>
                    </a:lnTo>
                    <a:lnTo>
                      <a:pt x="1622" y="1235"/>
                    </a:lnTo>
                    <a:lnTo>
                      <a:pt x="1606" y="1223"/>
                    </a:lnTo>
                    <a:lnTo>
                      <a:pt x="1586" y="1209"/>
                    </a:lnTo>
                    <a:lnTo>
                      <a:pt x="1570" y="1195"/>
                    </a:lnTo>
                    <a:lnTo>
                      <a:pt x="1542" y="1190"/>
                    </a:lnTo>
                    <a:lnTo>
                      <a:pt x="1525" y="1188"/>
                    </a:lnTo>
                    <a:lnTo>
                      <a:pt x="1508" y="1184"/>
                    </a:lnTo>
                    <a:lnTo>
                      <a:pt x="1485" y="1178"/>
                    </a:lnTo>
                    <a:lnTo>
                      <a:pt x="1463" y="1174"/>
                    </a:lnTo>
                    <a:lnTo>
                      <a:pt x="1442" y="1164"/>
                    </a:lnTo>
                    <a:lnTo>
                      <a:pt x="1419" y="1156"/>
                    </a:lnTo>
                    <a:lnTo>
                      <a:pt x="1403" y="1147"/>
                    </a:lnTo>
                    <a:lnTo>
                      <a:pt x="1385" y="1137"/>
                    </a:lnTo>
                    <a:lnTo>
                      <a:pt x="1349" y="1113"/>
                    </a:lnTo>
                    <a:lnTo>
                      <a:pt x="1321" y="1092"/>
                    </a:lnTo>
                    <a:lnTo>
                      <a:pt x="1299" y="1068"/>
                    </a:lnTo>
                    <a:lnTo>
                      <a:pt x="1290" y="1047"/>
                    </a:lnTo>
                    <a:lnTo>
                      <a:pt x="1276" y="1027"/>
                    </a:lnTo>
                    <a:lnTo>
                      <a:pt x="1271" y="1008"/>
                    </a:lnTo>
                    <a:lnTo>
                      <a:pt x="1262" y="988"/>
                    </a:lnTo>
                    <a:lnTo>
                      <a:pt x="1248" y="970"/>
                    </a:lnTo>
                    <a:lnTo>
                      <a:pt x="1242" y="963"/>
                    </a:lnTo>
                    <a:lnTo>
                      <a:pt x="1230" y="953"/>
                    </a:lnTo>
                    <a:lnTo>
                      <a:pt x="1214" y="943"/>
                    </a:lnTo>
                    <a:lnTo>
                      <a:pt x="1194" y="929"/>
                    </a:lnTo>
                    <a:lnTo>
                      <a:pt x="1176" y="922"/>
                    </a:lnTo>
                    <a:lnTo>
                      <a:pt x="1153" y="906"/>
                    </a:lnTo>
                    <a:lnTo>
                      <a:pt x="1141" y="892"/>
                    </a:lnTo>
                    <a:lnTo>
                      <a:pt x="1125" y="877"/>
                    </a:lnTo>
                    <a:lnTo>
                      <a:pt x="1116" y="845"/>
                    </a:lnTo>
                    <a:lnTo>
                      <a:pt x="1116" y="810"/>
                    </a:lnTo>
                    <a:lnTo>
                      <a:pt x="1125" y="779"/>
                    </a:lnTo>
                    <a:lnTo>
                      <a:pt x="1136" y="759"/>
                    </a:lnTo>
                    <a:lnTo>
                      <a:pt x="1141" y="738"/>
                    </a:lnTo>
                    <a:lnTo>
                      <a:pt x="1141" y="708"/>
                    </a:lnTo>
                    <a:lnTo>
                      <a:pt x="1136" y="673"/>
                    </a:lnTo>
                    <a:lnTo>
                      <a:pt x="1125" y="640"/>
                    </a:lnTo>
                    <a:lnTo>
                      <a:pt x="1111" y="616"/>
                    </a:lnTo>
                    <a:lnTo>
                      <a:pt x="1100" y="601"/>
                    </a:lnTo>
                    <a:lnTo>
                      <a:pt x="1082" y="593"/>
                    </a:lnTo>
                    <a:lnTo>
                      <a:pt x="1055" y="579"/>
                    </a:lnTo>
                    <a:lnTo>
                      <a:pt x="1034" y="564"/>
                    </a:lnTo>
                    <a:lnTo>
                      <a:pt x="1022" y="548"/>
                    </a:lnTo>
                    <a:lnTo>
                      <a:pt x="1009" y="534"/>
                    </a:lnTo>
                    <a:lnTo>
                      <a:pt x="1002" y="515"/>
                    </a:lnTo>
                    <a:lnTo>
                      <a:pt x="986" y="497"/>
                    </a:lnTo>
                    <a:lnTo>
                      <a:pt x="965" y="481"/>
                    </a:lnTo>
                    <a:lnTo>
                      <a:pt x="940" y="476"/>
                    </a:lnTo>
                    <a:lnTo>
                      <a:pt x="915" y="476"/>
                    </a:lnTo>
                    <a:lnTo>
                      <a:pt x="904" y="478"/>
                    </a:lnTo>
                    <a:lnTo>
                      <a:pt x="886" y="476"/>
                    </a:lnTo>
                    <a:lnTo>
                      <a:pt x="870" y="470"/>
                    </a:lnTo>
                    <a:lnTo>
                      <a:pt x="854" y="464"/>
                    </a:lnTo>
                    <a:lnTo>
                      <a:pt x="833" y="460"/>
                    </a:lnTo>
                    <a:lnTo>
                      <a:pt x="813" y="452"/>
                    </a:lnTo>
                    <a:lnTo>
                      <a:pt x="794" y="446"/>
                    </a:lnTo>
                    <a:lnTo>
                      <a:pt x="781" y="442"/>
                    </a:lnTo>
                    <a:lnTo>
                      <a:pt x="753" y="433"/>
                    </a:lnTo>
                    <a:lnTo>
                      <a:pt x="738" y="427"/>
                    </a:lnTo>
                    <a:lnTo>
                      <a:pt x="719" y="419"/>
                    </a:lnTo>
                    <a:lnTo>
                      <a:pt x="694" y="413"/>
                    </a:lnTo>
                    <a:lnTo>
                      <a:pt x="678" y="413"/>
                    </a:lnTo>
                    <a:lnTo>
                      <a:pt x="665" y="411"/>
                    </a:lnTo>
                    <a:lnTo>
                      <a:pt x="649" y="413"/>
                    </a:lnTo>
                    <a:lnTo>
                      <a:pt x="630" y="413"/>
                    </a:lnTo>
                    <a:lnTo>
                      <a:pt x="614" y="413"/>
                    </a:lnTo>
                    <a:lnTo>
                      <a:pt x="596" y="411"/>
                    </a:lnTo>
                    <a:lnTo>
                      <a:pt x="576" y="407"/>
                    </a:lnTo>
                    <a:lnTo>
                      <a:pt x="559" y="401"/>
                    </a:lnTo>
                    <a:lnTo>
                      <a:pt x="539" y="393"/>
                    </a:lnTo>
                    <a:lnTo>
                      <a:pt x="527" y="388"/>
                    </a:lnTo>
                    <a:lnTo>
                      <a:pt x="507" y="386"/>
                    </a:lnTo>
                    <a:lnTo>
                      <a:pt x="489" y="384"/>
                    </a:lnTo>
                    <a:lnTo>
                      <a:pt x="473" y="384"/>
                    </a:lnTo>
                    <a:lnTo>
                      <a:pt x="450" y="384"/>
                    </a:lnTo>
                    <a:lnTo>
                      <a:pt x="425" y="386"/>
                    </a:lnTo>
                    <a:lnTo>
                      <a:pt x="400" y="388"/>
                    </a:lnTo>
                    <a:lnTo>
                      <a:pt x="372" y="393"/>
                    </a:lnTo>
                    <a:lnTo>
                      <a:pt x="347" y="407"/>
                    </a:lnTo>
                    <a:lnTo>
                      <a:pt x="331" y="421"/>
                    </a:lnTo>
                    <a:lnTo>
                      <a:pt x="309" y="436"/>
                    </a:lnTo>
                    <a:lnTo>
                      <a:pt x="290" y="450"/>
                    </a:lnTo>
                    <a:lnTo>
                      <a:pt x="268" y="464"/>
                    </a:lnTo>
                    <a:lnTo>
                      <a:pt x="245" y="476"/>
                    </a:lnTo>
                    <a:lnTo>
                      <a:pt x="220" y="476"/>
                    </a:lnTo>
                    <a:lnTo>
                      <a:pt x="195" y="466"/>
                    </a:lnTo>
                    <a:lnTo>
                      <a:pt x="179" y="458"/>
                    </a:lnTo>
                    <a:lnTo>
                      <a:pt x="170" y="446"/>
                    </a:lnTo>
                    <a:lnTo>
                      <a:pt x="147" y="433"/>
                    </a:lnTo>
                    <a:lnTo>
                      <a:pt x="126" y="419"/>
                    </a:lnTo>
                    <a:lnTo>
                      <a:pt x="117" y="393"/>
                    </a:lnTo>
                    <a:lnTo>
                      <a:pt x="117" y="362"/>
                    </a:lnTo>
                    <a:lnTo>
                      <a:pt x="130" y="325"/>
                    </a:lnTo>
                    <a:lnTo>
                      <a:pt x="138" y="303"/>
                    </a:lnTo>
                    <a:lnTo>
                      <a:pt x="131" y="288"/>
                    </a:lnTo>
                    <a:lnTo>
                      <a:pt x="122" y="282"/>
                    </a:lnTo>
                    <a:lnTo>
                      <a:pt x="103" y="276"/>
                    </a:lnTo>
                    <a:lnTo>
                      <a:pt x="85" y="274"/>
                    </a:lnTo>
                    <a:lnTo>
                      <a:pt x="60" y="268"/>
                    </a:lnTo>
                    <a:lnTo>
                      <a:pt x="33" y="264"/>
                    </a:lnTo>
                    <a:lnTo>
                      <a:pt x="12" y="255"/>
                    </a:lnTo>
                    <a:lnTo>
                      <a:pt x="0" y="245"/>
                    </a:lnTo>
                    <a:lnTo>
                      <a:pt x="0" y="227"/>
                    </a:lnTo>
                    <a:lnTo>
                      <a:pt x="8" y="206"/>
                    </a:lnTo>
                    <a:lnTo>
                      <a:pt x="28" y="182"/>
                    </a:lnTo>
                    <a:lnTo>
                      <a:pt x="53" y="163"/>
                    </a:lnTo>
                    <a:lnTo>
                      <a:pt x="78" y="139"/>
                    </a:lnTo>
                    <a:lnTo>
                      <a:pt x="103" y="122"/>
                    </a:lnTo>
                    <a:lnTo>
                      <a:pt x="130" y="112"/>
                    </a:lnTo>
                    <a:lnTo>
                      <a:pt x="151" y="100"/>
                    </a:lnTo>
                    <a:lnTo>
                      <a:pt x="170" y="88"/>
                    </a:lnTo>
                    <a:lnTo>
                      <a:pt x="192" y="77"/>
                    </a:lnTo>
                    <a:lnTo>
                      <a:pt x="217" y="65"/>
                    </a:lnTo>
                    <a:lnTo>
                      <a:pt x="252" y="57"/>
                    </a:lnTo>
                    <a:lnTo>
                      <a:pt x="299" y="53"/>
                    </a:lnTo>
                    <a:lnTo>
                      <a:pt x="359" y="53"/>
                    </a:lnTo>
                    <a:lnTo>
                      <a:pt x="434" y="57"/>
                    </a:lnTo>
                    <a:lnTo>
                      <a:pt x="473" y="73"/>
                    </a:lnTo>
                    <a:lnTo>
                      <a:pt x="502" y="82"/>
                    </a:lnTo>
                    <a:lnTo>
                      <a:pt x="527" y="90"/>
                    </a:lnTo>
                    <a:lnTo>
                      <a:pt x="548" y="96"/>
                    </a:lnTo>
                    <a:lnTo>
                      <a:pt x="568" y="98"/>
                    </a:lnTo>
                    <a:lnTo>
                      <a:pt x="584" y="102"/>
                    </a:lnTo>
                    <a:lnTo>
                      <a:pt x="601" y="104"/>
                    </a:lnTo>
                    <a:lnTo>
                      <a:pt x="617" y="110"/>
                    </a:lnTo>
                    <a:lnTo>
                      <a:pt x="641" y="114"/>
                    </a:lnTo>
                    <a:lnTo>
                      <a:pt x="669" y="116"/>
                    </a:lnTo>
                    <a:lnTo>
                      <a:pt x="703" y="118"/>
                    </a:lnTo>
                    <a:lnTo>
                      <a:pt x="744" y="122"/>
                    </a:lnTo>
                    <a:lnTo>
                      <a:pt x="781" y="127"/>
                    </a:lnTo>
                    <a:lnTo>
                      <a:pt x="817" y="127"/>
                    </a:lnTo>
                    <a:lnTo>
                      <a:pt x="849" y="127"/>
                    </a:lnTo>
                    <a:lnTo>
                      <a:pt x="870" y="127"/>
                    </a:lnTo>
                    <a:lnTo>
                      <a:pt x="892" y="122"/>
                    </a:lnTo>
                    <a:lnTo>
                      <a:pt x="920" y="122"/>
                    </a:lnTo>
                    <a:lnTo>
                      <a:pt x="956" y="122"/>
                    </a:lnTo>
                    <a:lnTo>
                      <a:pt x="990" y="122"/>
                    </a:lnTo>
                    <a:lnTo>
                      <a:pt x="1027" y="122"/>
                    </a:lnTo>
                    <a:lnTo>
                      <a:pt x="1059" y="127"/>
                    </a:lnTo>
                    <a:lnTo>
                      <a:pt x="1087" y="127"/>
                    </a:lnTo>
                    <a:lnTo>
                      <a:pt x="1107" y="127"/>
                    </a:lnTo>
                    <a:lnTo>
                      <a:pt x="1123" y="127"/>
                    </a:lnTo>
                    <a:lnTo>
                      <a:pt x="1141" y="129"/>
                    </a:lnTo>
                    <a:lnTo>
                      <a:pt x="1164" y="131"/>
                    </a:lnTo>
                    <a:lnTo>
                      <a:pt x="1182" y="133"/>
                    </a:lnTo>
                    <a:lnTo>
                      <a:pt x="1205" y="135"/>
                    </a:lnTo>
                    <a:lnTo>
                      <a:pt x="1226" y="139"/>
                    </a:lnTo>
                    <a:lnTo>
                      <a:pt x="1248" y="143"/>
                    </a:lnTo>
                    <a:lnTo>
                      <a:pt x="1267" y="149"/>
                    </a:lnTo>
                    <a:lnTo>
                      <a:pt x="1292" y="153"/>
                    </a:lnTo>
                    <a:lnTo>
                      <a:pt x="1321" y="159"/>
                    </a:lnTo>
                    <a:lnTo>
                      <a:pt x="1362" y="163"/>
                    </a:lnTo>
                    <a:lnTo>
                      <a:pt x="1403" y="167"/>
                    </a:lnTo>
                    <a:lnTo>
                      <a:pt x="1442" y="170"/>
                    </a:lnTo>
                    <a:lnTo>
                      <a:pt x="1479" y="176"/>
                    </a:lnTo>
                    <a:lnTo>
                      <a:pt x="1511" y="178"/>
                    </a:lnTo>
                    <a:lnTo>
                      <a:pt x="1533" y="178"/>
                    </a:lnTo>
                    <a:lnTo>
                      <a:pt x="1554" y="178"/>
                    </a:lnTo>
                    <a:lnTo>
                      <a:pt x="1586" y="178"/>
                    </a:lnTo>
                    <a:lnTo>
                      <a:pt x="1623" y="176"/>
                    </a:lnTo>
                    <a:lnTo>
                      <a:pt x="1668" y="172"/>
                    </a:lnTo>
                    <a:lnTo>
                      <a:pt x="1705" y="170"/>
                    </a:lnTo>
                    <a:lnTo>
                      <a:pt x="1746" y="167"/>
                    </a:lnTo>
                    <a:lnTo>
                      <a:pt x="1778" y="161"/>
                    </a:lnTo>
                    <a:lnTo>
                      <a:pt x="1810" y="153"/>
                    </a:lnTo>
                    <a:lnTo>
                      <a:pt x="1844" y="139"/>
                    </a:lnTo>
                    <a:lnTo>
                      <a:pt x="1867" y="131"/>
                    </a:lnTo>
                    <a:lnTo>
                      <a:pt x="1873" y="120"/>
                    </a:lnTo>
                    <a:lnTo>
                      <a:pt x="1876" y="112"/>
                    </a:lnTo>
                    <a:lnTo>
                      <a:pt x="1869" y="100"/>
                    </a:lnTo>
                    <a:lnTo>
                      <a:pt x="1851" y="84"/>
                    </a:lnTo>
                    <a:lnTo>
                      <a:pt x="1835" y="73"/>
                    </a:lnTo>
                    <a:lnTo>
                      <a:pt x="1819" y="63"/>
                    </a:lnTo>
                    <a:lnTo>
                      <a:pt x="1816" y="51"/>
                    </a:lnTo>
                    <a:lnTo>
                      <a:pt x="1823" y="35"/>
                    </a:lnTo>
                    <a:lnTo>
                      <a:pt x="1839" y="20"/>
                    </a:lnTo>
                    <a:lnTo>
                      <a:pt x="1851" y="4"/>
                    </a:lnTo>
                    <a:lnTo>
                      <a:pt x="1873" y="0"/>
                    </a:lnTo>
                    <a:lnTo>
                      <a:pt x="1896" y="2"/>
                    </a:lnTo>
                    <a:lnTo>
                      <a:pt x="1924" y="12"/>
                    </a:lnTo>
                    <a:lnTo>
                      <a:pt x="1953" y="18"/>
                    </a:lnTo>
                    <a:lnTo>
                      <a:pt x="1965" y="28"/>
                    </a:lnTo>
                    <a:lnTo>
                      <a:pt x="1967" y="43"/>
                    </a:lnTo>
                    <a:lnTo>
                      <a:pt x="1967" y="57"/>
                    </a:lnTo>
                    <a:lnTo>
                      <a:pt x="1967" y="71"/>
                    </a:lnTo>
                    <a:lnTo>
                      <a:pt x="1978" y="82"/>
                    </a:lnTo>
                    <a:lnTo>
                      <a:pt x="1994" y="100"/>
                    </a:lnTo>
                    <a:lnTo>
                      <a:pt x="2019" y="112"/>
                    </a:lnTo>
                    <a:lnTo>
                      <a:pt x="2053" y="116"/>
                    </a:lnTo>
                    <a:lnTo>
                      <a:pt x="2072" y="116"/>
                    </a:lnTo>
                    <a:lnTo>
                      <a:pt x="2088" y="116"/>
                    </a:lnTo>
                    <a:lnTo>
                      <a:pt x="2106" y="118"/>
                    </a:lnTo>
                    <a:lnTo>
                      <a:pt x="2126" y="120"/>
                    </a:lnTo>
                    <a:lnTo>
                      <a:pt x="2145" y="127"/>
                    </a:lnTo>
                    <a:lnTo>
                      <a:pt x="2159" y="129"/>
                    </a:lnTo>
                    <a:lnTo>
                      <a:pt x="2179" y="131"/>
                    </a:lnTo>
                    <a:lnTo>
                      <a:pt x="2199" y="133"/>
                    </a:lnTo>
                    <a:lnTo>
                      <a:pt x="2227" y="135"/>
                    </a:lnTo>
                    <a:lnTo>
                      <a:pt x="2241" y="139"/>
                    </a:lnTo>
                    <a:lnTo>
                      <a:pt x="2241" y="151"/>
                    </a:lnTo>
                    <a:lnTo>
                      <a:pt x="2239" y="163"/>
                    </a:lnTo>
                    <a:lnTo>
                      <a:pt x="2229" y="170"/>
                    </a:lnTo>
                    <a:lnTo>
                      <a:pt x="2223" y="178"/>
                    </a:lnTo>
                    <a:lnTo>
                      <a:pt x="2207" y="182"/>
                    </a:lnTo>
                    <a:lnTo>
                      <a:pt x="2195" y="186"/>
                    </a:lnTo>
                    <a:lnTo>
                      <a:pt x="2175" y="188"/>
                    </a:lnTo>
                    <a:lnTo>
                      <a:pt x="2158" y="192"/>
                    </a:lnTo>
                    <a:lnTo>
                      <a:pt x="2138" y="192"/>
                    </a:lnTo>
                    <a:lnTo>
                      <a:pt x="2122" y="194"/>
                    </a:lnTo>
                    <a:lnTo>
                      <a:pt x="2088" y="200"/>
                    </a:lnTo>
                    <a:lnTo>
                      <a:pt x="2063" y="210"/>
                    </a:lnTo>
                    <a:lnTo>
                      <a:pt x="2036" y="219"/>
                    </a:lnTo>
                    <a:lnTo>
                      <a:pt x="2015" y="233"/>
                    </a:lnTo>
                    <a:lnTo>
                      <a:pt x="1994" y="249"/>
                    </a:lnTo>
                    <a:lnTo>
                      <a:pt x="1967" y="266"/>
                    </a:lnTo>
                    <a:lnTo>
                      <a:pt x="1939" y="286"/>
                    </a:lnTo>
                    <a:lnTo>
                      <a:pt x="1914" y="313"/>
                    </a:lnTo>
                    <a:lnTo>
                      <a:pt x="1898" y="348"/>
                    </a:lnTo>
                    <a:lnTo>
                      <a:pt x="1898" y="393"/>
                    </a:lnTo>
                    <a:lnTo>
                      <a:pt x="1908" y="433"/>
                    </a:lnTo>
                    <a:lnTo>
                      <a:pt x="1914" y="462"/>
                    </a:lnTo>
                    <a:lnTo>
                      <a:pt x="1924" y="476"/>
                    </a:lnTo>
                    <a:lnTo>
                      <a:pt x="1939" y="478"/>
                    </a:lnTo>
                    <a:lnTo>
                      <a:pt x="1958" y="476"/>
                    </a:lnTo>
                    <a:lnTo>
                      <a:pt x="1978" y="476"/>
                    </a:lnTo>
                    <a:lnTo>
                      <a:pt x="1999" y="478"/>
                    </a:lnTo>
                    <a:lnTo>
                      <a:pt x="2024" y="480"/>
                    </a:lnTo>
                    <a:lnTo>
                      <a:pt x="2044" y="485"/>
                    </a:lnTo>
                    <a:lnTo>
                      <a:pt x="2065" y="495"/>
                    </a:lnTo>
                    <a:lnTo>
                      <a:pt x="2088" y="499"/>
                    </a:lnTo>
                    <a:lnTo>
                      <a:pt x="2106" y="503"/>
                    </a:lnTo>
                    <a:lnTo>
                      <a:pt x="2122" y="507"/>
                    </a:lnTo>
                    <a:lnTo>
                      <a:pt x="2138" y="507"/>
                    </a:lnTo>
                    <a:lnTo>
                      <a:pt x="2158" y="507"/>
                    </a:lnTo>
                    <a:lnTo>
                      <a:pt x="2174" y="513"/>
                    </a:lnTo>
                    <a:lnTo>
                      <a:pt x="2183" y="519"/>
                    </a:lnTo>
                    <a:lnTo>
                      <a:pt x="2186" y="532"/>
                    </a:lnTo>
                    <a:lnTo>
                      <a:pt x="2195" y="544"/>
                    </a:lnTo>
                    <a:lnTo>
                      <a:pt x="2204" y="552"/>
                    </a:lnTo>
                    <a:lnTo>
                      <a:pt x="2220" y="558"/>
                    </a:lnTo>
                    <a:lnTo>
                      <a:pt x="2239" y="560"/>
                    </a:lnTo>
                    <a:lnTo>
                      <a:pt x="2248" y="552"/>
                    </a:lnTo>
                    <a:lnTo>
                      <a:pt x="2252" y="532"/>
                    </a:lnTo>
                    <a:lnTo>
                      <a:pt x="2252" y="509"/>
                    </a:lnTo>
                    <a:lnTo>
                      <a:pt x="2245" y="485"/>
                    </a:lnTo>
                    <a:lnTo>
                      <a:pt x="2248" y="476"/>
                    </a:lnTo>
                    <a:lnTo>
                      <a:pt x="2268" y="464"/>
                    </a:lnTo>
                    <a:lnTo>
                      <a:pt x="2296" y="460"/>
                    </a:lnTo>
                    <a:lnTo>
                      <a:pt x="2321" y="450"/>
                    </a:lnTo>
                    <a:lnTo>
                      <a:pt x="2339" y="442"/>
                    </a:lnTo>
                    <a:lnTo>
                      <a:pt x="2337" y="425"/>
                    </a:lnTo>
                    <a:lnTo>
                      <a:pt x="2325" y="409"/>
                    </a:lnTo>
                    <a:lnTo>
                      <a:pt x="2302" y="397"/>
                    </a:lnTo>
                    <a:lnTo>
                      <a:pt x="2289" y="384"/>
                    </a:lnTo>
                    <a:lnTo>
                      <a:pt x="2280" y="368"/>
                    </a:lnTo>
                    <a:lnTo>
                      <a:pt x="2286" y="352"/>
                    </a:lnTo>
                    <a:lnTo>
                      <a:pt x="2293" y="335"/>
                    </a:lnTo>
                    <a:lnTo>
                      <a:pt x="2314" y="325"/>
                    </a:lnTo>
                    <a:lnTo>
                      <a:pt x="2343" y="317"/>
                    </a:lnTo>
                    <a:lnTo>
                      <a:pt x="2375" y="325"/>
                    </a:lnTo>
                    <a:lnTo>
                      <a:pt x="2394" y="333"/>
                    </a:lnTo>
                    <a:lnTo>
                      <a:pt x="2409" y="345"/>
                    </a:lnTo>
                    <a:lnTo>
                      <a:pt x="2432" y="352"/>
                    </a:lnTo>
                    <a:lnTo>
                      <a:pt x="2453" y="360"/>
                    </a:lnTo>
                    <a:lnTo>
                      <a:pt x="2469" y="366"/>
                    </a:lnTo>
                    <a:lnTo>
                      <a:pt x="2485" y="374"/>
                    </a:lnTo>
                    <a:lnTo>
                      <a:pt x="2501" y="384"/>
                    </a:lnTo>
                    <a:lnTo>
                      <a:pt x="2514" y="397"/>
                    </a:lnTo>
                    <a:lnTo>
                      <a:pt x="2530" y="407"/>
                    </a:lnTo>
                    <a:lnTo>
                      <a:pt x="2546" y="409"/>
                    </a:lnTo>
                    <a:lnTo>
                      <a:pt x="2564" y="399"/>
                    </a:lnTo>
                    <a:lnTo>
                      <a:pt x="2587" y="384"/>
                    </a:lnTo>
                    <a:lnTo>
                      <a:pt x="2601" y="368"/>
                    </a:lnTo>
                    <a:lnTo>
                      <a:pt x="2615" y="362"/>
                    </a:lnTo>
                    <a:lnTo>
                      <a:pt x="2640" y="366"/>
                    </a:lnTo>
                    <a:lnTo>
                      <a:pt x="2661" y="380"/>
                    </a:lnTo>
                    <a:lnTo>
                      <a:pt x="2677" y="399"/>
                    </a:lnTo>
                    <a:lnTo>
                      <a:pt x="2686" y="413"/>
                    </a:lnTo>
                    <a:lnTo>
                      <a:pt x="2702" y="429"/>
                    </a:lnTo>
                    <a:lnTo>
                      <a:pt x="2718" y="442"/>
                    </a:lnTo>
                    <a:lnTo>
                      <a:pt x="2740" y="460"/>
                    </a:lnTo>
                    <a:lnTo>
                      <a:pt x="2759" y="478"/>
                    </a:lnTo>
                    <a:lnTo>
                      <a:pt x="2772" y="489"/>
                    </a:lnTo>
                    <a:lnTo>
                      <a:pt x="2779" y="501"/>
                    </a:lnTo>
                    <a:lnTo>
                      <a:pt x="2781" y="515"/>
                    </a:lnTo>
                    <a:lnTo>
                      <a:pt x="2791" y="524"/>
                    </a:lnTo>
                    <a:lnTo>
                      <a:pt x="2807" y="526"/>
                    </a:lnTo>
                    <a:lnTo>
                      <a:pt x="2829" y="524"/>
                    </a:lnTo>
                    <a:lnTo>
                      <a:pt x="2848" y="523"/>
                    </a:lnTo>
                    <a:lnTo>
                      <a:pt x="2863" y="524"/>
                    </a:lnTo>
                    <a:lnTo>
                      <a:pt x="2870" y="534"/>
                    </a:lnTo>
                    <a:lnTo>
                      <a:pt x="2866" y="554"/>
                    </a:lnTo>
                    <a:lnTo>
                      <a:pt x="2854" y="577"/>
                    </a:lnTo>
                    <a:lnTo>
                      <a:pt x="2838" y="595"/>
                    </a:lnTo>
                    <a:lnTo>
                      <a:pt x="2820" y="601"/>
                    </a:lnTo>
                    <a:lnTo>
                      <a:pt x="2797" y="605"/>
                    </a:lnTo>
                    <a:lnTo>
                      <a:pt x="2772" y="607"/>
                    </a:lnTo>
                    <a:lnTo>
                      <a:pt x="2751" y="611"/>
                    </a:lnTo>
                    <a:lnTo>
                      <a:pt x="2731" y="613"/>
                    </a:lnTo>
                    <a:lnTo>
                      <a:pt x="2711" y="614"/>
                    </a:lnTo>
                    <a:lnTo>
                      <a:pt x="2699" y="618"/>
                    </a:lnTo>
                    <a:lnTo>
                      <a:pt x="2694" y="632"/>
                    </a:lnTo>
                    <a:lnTo>
                      <a:pt x="2694" y="650"/>
                    </a:lnTo>
                    <a:lnTo>
                      <a:pt x="2697" y="669"/>
                    </a:lnTo>
                    <a:lnTo>
                      <a:pt x="2699" y="691"/>
                    </a:lnTo>
                    <a:lnTo>
                      <a:pt x="2694" y="708"/>
                    </a:lnTo>
                    <a:lnTo>
                      <a:pt x="2669" y="726"/>
                    </a:lnTo>
                    <a:lnTo>
                      <a:pt x="2633" y="738"/>
                    </a:lnTo>
                    <a:lnTo>
                      <a:pt x="2604" y="746"/>
                    </a:lnTo>
                    <a:lnTo>
                      <a:pt x="2583" y="751"/>
                    </a:lnTo>
                    <a:lnTo>
                      <a:pt x="2560" y="765"/>
                    </a:lnTo>
                    <a:lnTo>
                      <a:pt x="2539" y="779"/>
                    </a:lnTo>
                    <a:lnTo>
                      <a:pt x="2530" y="796"/>
                    </a:lnTo>
                    <a:lnTo>
                      <a:pt x="2517" y="812"/>
                    </a:lnTo>
                    <a:lnTo>
                      <a:pt x="2507" y="826"/>
                    </a:lnTo>
                    <a:lnTo>
                      <a:pt x="2489" y="832"/>
                    </a:lnTo>
                    <a:lnTo>
                      <a:pt x="2469" y="845"/>
                    </a:lnTo>
                    <a:lnTo>
                      <a:pt x="2453" y="855"/>
                    </a:lnTo>
                    <a:lnTo>
                      <a:pt x="2437" y="857"/>
                    </a:lnTo>
                    <a:lnTo>
                      <a:pt x="2419" y="861"/>
                    </a:lnTo>
                    <a:lnTo>
                      <a:pt x="2396" y="867"/>
                    </a:lnTo>
                    <a:lnTo>
                      <a:pt x="2384" y="877"/>
                    </a:lnTo>
                    <a:lnTo>
                      <a:pt x="2384" y="888"/>
                    </a:lnTo>
                    <a:lnTo>
                      <a:pt x="2384" y="898"/>
                    </a:lnTo>
                    <a:lnTo>
                      <a:pt x="2378" y="910"/>
                    </a:lnTo>
                    <a:lnTo>
                      <a:pt x="2371" y="925"/>
                    </a:lnTo>
                    <a:lnTo>
                      <a:pt x="2368" y="941"/>
                    </a:lnTo>
                    <a:lnTo>
                      <a:pt x="2362" y="959"/>
                    </a:lnTo>
                    <a:lnTo>
                      <a:pt x="2350" y="972"/>
                    </a:lnTo>
                    <a:lnTo>
                      <a:pt x="2343" y="986"/>
                    </a:lnTo>
                    <a:lnTo>
                      <a:pt x="2343" y="996"/>
                    </a:lnTo>
                    <a:lnTo>
                      <a:pt x="2339" y="1004"/>
                    </a:lnTo>
                    <a:lnTo>
                      <a:pt x="2321" y="1006"/>
                    </a:lnTo>
                    <a:lnTo>
                      <a:pt x="2298" y="1008"/>
                    </a:lnTo>
                    <a:lnTo>
                      <a:pt x="2286" y="1010"/>
                    </a:lnTo>
                    <a:lnTo>
                      <a:pt x="2273" y="1019"/>
                    </a:lnTo>
                    <a:lnTo>
                      <a:pt x="2264" y="1037"/>
                    </a:lnTo>
                    <a:lnTo>
                      <a:pt x="2268" y="1068"/>
                    </a:lnTo>
                    <a:lnTo>
                      <a:pt x="2277" y="1107"/>
                    </a:lnTo>
                    <a:lnTo>
                      <a:pt x="2280" y="1145"/>
                    </a:lnTo>
                    <a:lnTo>
                      <a:pt x="2264" y="1160"/>
                    </a:lnTo>
                    <a:lnTo>
                      <a:pt x="2241" y="1158"/>
                    </a:lnTo>
                    <a:lnTo>
                      <a:pt x="2223" y="1154"/>
                    </a:lnTo>
                    <a:lnTo>
                      <a:pt x="2211" y="1143"/>
                    </a:lnTo>
                    <a:lnTo>
                      <a:pt x="2200" y="1131"/>
                    </a:lnTo>
                    <a:lnTo>
                      <a:pt x="2191" y="1115"/>
                    </a:lnTo>
                    <a:lnTo>
                      <a:pt x="2183" y="1098"/>
                    </a:lnTo>
                    <a:lnTo>
                      <a:pt x="2175" y="1082"/>
                    </a:lnTo>
                    <a:lnTo>
                      <a:pt x="2174" y="1078"/>
                    </a:lnTo>
                    <a:lnTo>
                      <a:pt x="2166" y="1078"/>
                    </a:lnTo>
                    <a:lnTo>
                      <a:pt x="2145" y="1076"/>
                    </a:lnTo>
                    <a:lnTo>
                      <a:pt x="2118" y="1076"/>
                    </a:lnTo>
                    <a:lnTo>
                      <a:pt x="2097" y="1078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92" name="Freeform 1174"/>
              <p:cNvSpPr/>
              <p:nvPr/>
            </p:nvSpPr>
            <p:spPr>
              <a:xfrm>
                <a:off x="2627280" y="3236760"/>
                <a:ext cx="550440" cy="301680"/>
              </a:xfrm>
              <a:custGeom>
                <a:avLst/>
                <a:gdLst/>
                <a:ahLst/>
                <a:rect l="l" t="t" r="r" b="b"/>
                <a:pathLst>
                  <a:path w="695" h="379">
                    <a:moveTo>
                      <a:pt x="32" y="11"/>
                    </a:moveTo>
                    <a:lnTo>
                      <a:pt x="47" y="6"/>
                    </a:lnTo>
                    <a:lnTo>
                      <a:pt x="66" y="0"/>
                    </a:lnTo>
                    <a:lnTo>
                      <a:pt x="86" y="0"/>
                    </a:lnTo>
                    <a:lnTo>
                      <a:pt x="100" y="0"/>
                    </a:lnTo>
                    <a:lnTo>
                      <a:pt x="120" y="4"/>
                    </a:lnTo>
                    <a:lnTo>
                      <a:pt x="139" y="6"/>
                    </a:lnTo>
                    <a:lnTo>
                      <a:pt x="157" y="7"/>
                    </a:lnTo>
                    <a:lnTo>
                      <a:pt x="180" y="13"/>
                    </a:lnTo>
                    <a:lnTo>
                      <a:pt x="198" y="17"/>
                    </a:lnTo>
                    <a:lnTo>
                      <a:pt x="221" y="23"/>
                    </a:lnTo>
                    <a:lnTo>
                      <a:pt x="246" y="27"/>
                    </a:lnTo>
                    <a:lnTo>
                      <a:pt x="275" y="33"/>
                    </a:lnTo>
                    <a:lnTo>
                      <a:pt x="292" y="41"/>
                    </a:lnTo>
                    <a:lnTo>
                      <a:pt x="314" y="45"/>
                    </a:lnTo>
                    <a:lnTo>
                      <a:pt x="337" y="51"/>
                    </a:lnTo>
                    <a:lnTo>
                      <a:pt x="353" y="54"/>
                    </a:lnTo>
                    <a:lnTo>
                      <a:pt x="371" y="56"/>
                    </a:lnTo>
                    <a:lnTo>
                      <a:pt x="396" y="60"/>
                    </a:lnTo>
                    <a:lnTo>
                      <a:pt x="421" y="64"/>
                    </a:lnTo>
                    <a:lnTo>
                      <a:pt x="449" y="74"/>
                    </a:lnTo>
                    <a:lnTo>
                      <a:pt x="478" y="82"/>
                    </a:lnTo>
                    <a:lnTo>
                      <a:pt x="506" y="92"/>
                    </a:lnTo>
                    <a:lnTo>
                      <a:pt x="527" y="105"/>
                    </a:lnTo>
                    <a:lnTo>
                      <a:pt x="547" y="113"/>
                    </a:lnTo>
                    <a:lnTo>
                      <a:pt x="572" y="141"/>
                    </a:lnTo>
                    <a:lnTo>
                      <a:pt x="595" y="178"/>
                    </a:lnTo>
                    <a:lnTo>
                      <a:pt x="613" y="211"/>
                    </a:lnTo>
                    <a:lnTo>
                      <a:pt x="633" y="229"/>
                    </a:lnTo>
                    <a:lnTo>
                      <a:pt x="649" y="240"/>
                    </a:lnTo>
                    <a:lnTo>
                      <a:pt x="663" y="258"/>
                    </a:lnTo>
                    <a:lnTo>
                      <a:pt x="670" y="277"/>
                    </a:lnTo>
                    <a:lnTo>
                      <a:pt x="673" y="297"/>
                    </a:lnTo>
                    <a:lnTo>
                      <a:pt x="673" y="315"/>
                    </a:lnTo>
                    <a:lnTo>
                      <a:pt x="682" y="328"/>
                    </a:lnTo>
                    <a:lnTo>
                      <a:pt x="688" y="342"/>
                    </a:lnTo>
                    <a:lnTo>
                      <a:pt x="695" y="356"/>
                    </a:lnTo>
                    <a:lnTo>
                      <a:pt x="691" y="362"/>
                    </a:lnTo>
                    <a:lnTo>
                      <a:pt x="679" y="371"/>
                    </a:lnTo>
                    <a:lnTo>
                      <a:pt x="661" y="375"/>
                    </a:lnTo>
                    <a:lnTo>
                      <a:pt x="634" y="377"/>
                    </a:lnTo>
                    <a:lnTo>
                      <a:pt x="609" y="379"/>
                    </a:lnTo>
                    <a:lnTo>
                      <a:pt x="584" y="377"/>
                    </a:lnTo>
                    <a:lnTo>
                      <a:pt x="560" y="371"/>
                    </a:lnTo>
                    <a:lnTo>
                      <a:pt x="542" y="360"/>
                    </a:lnTo>
                    <a:lnTo>
                      <a:pt x="522" y="346"/>
                    </a:lnTo>
                    <a:lnTo>
                      <a:pt x="503" y="336"/>
                    </a:lnTo>
                    <a:lnTo>
                      <a:pt x="481" y="324"/>
                    </a:lnTo>
                    <a:lnTo>
                      <a:pt x="460" y="315"/>
                    </a:lnTo>
                    <a:lnTo>
                      <a:pt x="440" y="307"/>
                    </a:lnTo>
                    <a:lnTo>
                      <a:pt x="419" y="299"/>
                    </a:lnTo>
                    <a:lnTo>
                      <a:pt x="396" y="297"/>
                    </a:lnTo>
                    <a:lnTo>
                      <a:pt x="378" y="295"/>
                    </a:lnTo>
                    <a:lnTo>
                      <a:pt x="341" y="289"/>
                    </a:lnTo>
                    <a:lnTo>
                      <a:pt x="308" y="274"/>
                    </a:lnTo>
                    <a:lnTo>
                      <a:pt x="289" y="260"/>
                    </a:lnTo>
                    <a:lnTo>
                      <a:pt x="289" y="242"/>
                    </a:lnTo>
                    <a:lnTo>
                      <a:pt x="300" y="238"/>
                    </a:lnTo>
                    <a:lnTo>
                      <a:pt x="312" y="230"/>
                    </a:lnTo>
                    <a:lnTo>
                      <a:pt x="328" y="229"/>
                    </a:lnTo>
                    <a:lnTo>
                      <a:pt x="346" y="229"/>
                    </a:lnTo>
                    <a:lnTo>
                      <a:pt x="358" y="227"/>
                    </a:lnTo>
                    <a:lnTo>
                      <a:pt x="378" y="227"/>
                    </a:lnTo>
                    <a:lnTo>
                      <a:pt x="394" y="227"/>
                    </a:lnTo>
                    <a:lnTo>
                      <a:pt x="406" y="225"/>
                    </a:lnTo>
                    <a:lnTo>
                      <a:pt x="412" y="211"/>
                    </a:lnTo>
                    <a:lnTo>
                      <a:pt x="399" y="191"/>
                    </a:lnTo>
                    <a:lnTo>
                      <a:pt x="374" y="172"/>
                    </a:lnTo>
                    <a:lnTo>
                      <a:pt x="349" y="156"/>
                    </a:lnTo>
                    <a:lnTo>
                      <a:pt x="333" y="150"/>
                    </a:lnTo>
                    <a:lnTo>
                      <a:pt x="308" y="148"/>
                    </a:lnTo>
                    <a:lnTo>
                      <a:pt x="280" y="141"/>
                    </a:lnTo>
                    <a:lnTo>
                      <a:pt x="246" y="137"/>
                    </a:lnTo>
                    <a:lnTo>
                      <a:pt x="211" y="131"/>
                    </a:lnTo>
                    <a:lnTo>
                      <a:pt x="180" y="127"/>
                    </a:lnTo>
                    <a:lnTo>
                      <a:pt x="148" y="121"/>
                    </a:lnTo>
                    <a:lnTo>
                      <a:pt x="123" y="115"/>
                    </a:lnTo>
                    <a:lnTo>
                      <a:pt x="100" y="109"/>
                    </a:lnTo>
                    <a:lnTo>
                      <a:pt x="75" y="99"/>
                    </a:lnTo>
                    <a:lnTo>
                      <a:pt x="47" y="90"/>
                    </a:lnTo>
                    <a:lnTo>
                      <a:pt x="25" y="74"/>
                    </a:lnTo>
                    <a:lnTo>
                      <a:pt x="8" y="58"/>
                    </a:lnTo>
                    <a:lnTo>
                      <a:pt x="0" y="43"/>
                    </a:lnTo>
                    <a:lnTo>
                      <a:pt x="8" y="25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93" name="Freeform 1175"/>
              <p:cNvSpPr/>
              <p:nvPr/>
            </p:nvSpPr>
            <p:spPr>
              <a:xfrm>
                <a:off x="2973240" y="2895480"/>
                <a:ext cx="1131480" cy="642960"/>
              </a:xfrm>
              <a:custGeom>
                <a:avLst/>
                <a:gdLst/>
                <a:ahLst/>
                <a:rect l="l" t="t" r="r" b="b"/>
                <a:pathLst>
                  <a:path w="1424" h="810">
                    <a:moveTo>
                      <a:pt x="326" y="114"/>
                    </a:moveTo>
                    <a:lnTo>
                      <a:pt x="306" y="116"/>
                    </a:lnTo>
                    <a:lnTo>
                      <a:pt x="293" y="118"/>
                    </a:lnTo>
                    <a:lnTo>
                      <a:pt x="277" y="116"/>
                    </a:lnTo>
                    <a:lnTo>
                      <a:pt x="265" y="116"/>
                    </a:lnTo>
                    <a:lnTo>
                      <a:pt x="249" y="116"/>
                    </a:lnTo>
                    <a:lnTo>
                      <a:pt x="235" y="118"/>
                    </a:lnTo>
                    <a:lnTo>
                      <a:pt x="219" y="127"/>
                    </a:lnTo>
                    <a:lnTo>
                      <a:pt x="199" y="135"/>
                    </a:lnTo>
                    <a:lnTo>
                      <a:pt x="171" y="163"/>
                    </a:lnTo>
                    <a:lnTo>
                      <a:pt x="151" y="186"/>
                    </a:lnTo>
                    <a:lnTo>
                      <a:pt x="133" y="208"/>
                    </a:lnTo>
                    <a:lnTo>
                      <a:pt x="106" y="219"/>
                    </a:lnTo>
                    <a:lnTo>
                      <a:pt x="89" y="229"/>
                    </a:lnTo>
                    <a:lnTo>
                      <a:pt x="73" y="233"/>
                    </a:lnTo>
                    <a:lnTo>
                      <a:pt x="50" y="243"/>
                    </a:lnTo>
                    <a:lnTo>
                      <a:pt x="32" y="249"/>
                    </a:lnTo>
                    <a:lnTo>
                      <a:pt x="12" y="257"/>
                    </a:lnTo>
                    <a:lnTo>
                      <a:pt x="3" y="264"/>
                    </a:lnTo>
                    <a:lnTo>
                      <a:pt x="0" y="272"/>
                    </a:lnTo>
                    <a:lnTo>
                      <a:pt x="3" y="278"/>
                    </a:lnTo>
                    <a:lnTo>
                      <a:pt x="19" y="290"/>
                    </a:lnTo>
                    <a:lnTo>
                      <a:pt x="35" y="294"/>
                    </a:lnTo>
                    <a:lnTo>
                      <a:pt x="44" y="302"/>
                    </a:lnTo>
                    <a:lnTo>
                      <a:pt x="57" y="311"/>
                    </a:lnTo>
                    <a:lnTo>
                      <a:pt x="64" y="327"/>
                    </a:lnTo>
                    <a:lnTo>
                      <a:pt x="82" y="343"/>
                    </a:lnTo>
                    <a:lnTo>
                      <a:pt x="105" y="349"/>
                    </a:lnTo>
                    <a:lnTo>
                      <a:pt x="133" y="341"/>
                    </a:lnTo>
                    <a:lnTo>
                      <a:pt x="162" y="325"/>
                    </a:lnTo>
                    <a:lnTo>
                      <a:pt x="183" y="315"/>
                    </a:lnTo>
                    <a:lnTo>
                      <a:pt x="208" y="313"/>
                    </a:lnTo>
                    <a:lnTo>
                      <a:pt x="235" y="311"/>
                    </a:lnTo>
                    <a:lnTo>
                      <a:pt x="253" y="307"/>
                    </a:lnTo>
                    <a:lnTo>
                      <a:pt x="269" y="304"/>
                    </a:lnTo>
                    <a:lnTo>
                      <a:pt x="277" y="304"/>
                    </a:lnTo>
                    <a:lnTo>
                      <a:pt x="292" y="313"/>
                    </a:lnTo>
                    <a:lnTo>
                      <a:pt x="306" y="331"/>
                    </a:lnTo>
                    <a:lnTo>
                      <a:pt x="329" y="349"/>
                    </a:lnTo>
                    <a:lnTo>
                      <a:pt x="349" y="360"/>
                    </a:lnTo>
                    <a:lnTo>
                      <a:pt x="354" y="364"/>
                    </a:lnTo>
                    <a:lnTo>
                      <a:pt x="354" y="368"/>
                    </a:lnTo>
                    <a:lnTo>
                      <a:pt x="354" y="380"/>
                    </a:lnTo>
                    <a:lnTo>
                      <a:pt x="354" y="394"/>
                    </a:lnTo>
                    <a:lnTo>
                      <a:pt x="361" y="407"/>
                    </a:lnTo>
                    <a:lnTo>
                      <a:pt x="366" y="423"/>
                    </a:lnTo>
                    <a:lnTo>
                      <a:pt x="386" y="438"/>
                    </a:lnTo>
                    <a:lnTo>
                      <a:pt x="411" y="450"/>
                    </a:lnTo>
                    <a:lnTo>
                      <a:pt x="434" y="466"/>
                    </a:lnTo>
                    <a:lnTo>
                      <a:pt x="447" y="482"/>
                    </a:lnTo>
                    <a:lnTo>
                      <a:pt x="455" y="495"/>
                    </a:lnTo>
                    <a:lnTo>
                      <a:pt x="459" y="513"/>
                    </a:lnTo>
                    <a:lnTo>
                      <a:pt x="463" y="532"/>
                    </a:lnTo>
                    <a:lnTo>
                      <a:pt x="464" y="558"/>
                    </a:lnTo>
                    <a:lnTo>
                      <a:pt x="468" y="583"/>
                    </a:lnTo>
                    <a:lnTo>
                      <a:pt x="468" y="611"/>
                    </a:lnTo>
                    <a:lnTo>
                      <a:pt x="464" y="624"/>
                    </a:lnTo>
                    <a:lnTo>
                      <a:pt x="455" y="640"/>
                    </a:lnTo>
                    <a:lnTo>
                      <a:pt x="443" y="656"/>
                    </a:lnTo>
                    <a:lnTo>
                      <a:pt x="436" y="671"/>
                    </a:lnTo>
                    <a:lnTo>
                      <a:pt x="434" y="687"/>
                    </a:lnTo>
                    <a:lnTo>
                      <a:pt x="436" y="697"/>
                    </a:lnTo>
                    <a:lnTo>
                      <a:pt x="447" y="706"/>
                    </a:lnTo>
                    <a:lnTo>
                      <a:pt x="459" y="710"/>
                    </a:lnTo>
                    <a:lnTo>
                      <a:pt x="464" y="720"/>
                    </a:lnTo>
                    <a:lnTo>
                      <a:pt x="468" y="736"/>
                    </a:lnTo>
                    <a:lnTo>
                      <a:pt x="472" y="750"/>
                    </a:lnTo>
                    <a:lnTo>
                      <a:pt x="484" y="765"/>
                    </a:lnTo>
                    <a:lnTo>
                      <a:pt x="496" y="777"/>
                    </a:lnTo>
                    <a:lnTo>
                      <a:pt x="512" y="783"/>
                    </a:lnTo>
                    <a:lnTo>
                      <a:pt x="532" y="791"/>
                    </a:lnTo>
                    <a:lnTo>
                      <a:pt x="553" y="796"/>
                    </a:lnTo>
                    <a:lnTo>
                      <a:pt x="578" y="806"/>
                    </a:lnTo>
                    <a:lnTo>
                      <a:pt x="605" y="810"/>
                    </a:lnTo>
                    <a:lnTo>
                      <a:pt x="626" y="810"/>
                    </a:lnTo>
                    <a:lnTo>
                      <a:pt x="642" y="810"/>
                    </a:lnTo>
                    <a:lnTo>
                      <a:pt x="658" y="804"/>
                    </a:lnTo>
                    <a:lnTo>
                      <a:pt x="671" y="793"/>
                    </a:lnTo>
                    <a:lnTo>
                      <a:pt x="683" y="779"/>
                    </a:lnTo>
                    <a:lnTo>
                      <a:pt x="705" y="769"/>
                    </a:lnTo>
                    <a:lnTo>
                      <a:pt x="728" y="755"/>
                    </a:lnTo>
                    <a:lnTo>
                      <a:pt x="749" y="740"/>
                    </a:lnTo>
                    <a:lnTo>
                      <a:pt x="772" y="726"/>
                    </a:lnTo>
                    <a:lnTo>
                      <a:pt x="794" y="712"/>
                    </a:lnTo>
                    <a:lnTo>
                      <a:pt x="810" y="699"/>
                    </a:lnTo>
                    <a:lnTo>
                      <a:pt x="826" y="689"/>
                    </a:lnTo>
                    <a:lnTo>
                      <a:pt x="842" y="675"/>
                    </a:lnTo>
                    <a:lnTo>
                      <a:pt x="854" y="660"/>
                    </a:lnTo>
                    <a:lnTo>
                      <a:pt x="870" y="644"/>
                    </a:lnTo>
                    <a:lnTo>
                      <a:pt x="883" y="630"/>
                    </a:lnTo>
                    <a:lnTo>
                      <a:pt x="899" y="617"/>
                    </a:lnTo>
                    <a:lnTo>
                      <a:pt x="918" y="607"/>
                    </a:lnTo>
                    <a:lnTo>
                      <a:pt x="936" y="603"/>
                    </a:lnTo>
                    <a:lnTo>
                      <a:pt x="952" y="599"/>
                    </a:lnTo>
                    <a:lnTo>
                      <a:pt x="975" y="597"/>
                    </a:lnTo>
                    <a:lnTo>
                      <a:pt x="993" y="595"/>
                    </a:lnTo>
                    <a:lnTo>
                      <a:pt x="1013" y="593"/>
                    </a:lnTo>
                    <a:lnTo>
                      <a:pt x="1025" y="591"/>
                    </a:lnTo>
                    <a:lnTo>
                      <a:pt x="1045" y="583"/>
                    </a:lnTo>
                    <a:lnTo>
                      <a:pt x="1061" y="579"/>
                    </a:lnTo>
                    <a:lnTo>
                      <a:pt x="1070" y="575"/>
                    </a:lnTo>
                    <a:lnTo>
                      <a:pt x="1091" y="564"/>
                    </a:lnTo>
                    <a:lnTo>
                      <a:pt x="1111" y="558"/>
                    </a:lnTo>
                    <a:lnTo>
                      <a:pt x="1127" y="548"/>
                    </a:lnTo>
                    <a:lnTo>
                      <a:pt x="1146" y="542"/>
                    </a:lnTo>
                    <a:lnTo>
                      <a:pt x="1164" y="532"/>
                    </a:lnTo>
                    <a:lnTo>
                      <a:pt x="1180" y="521"/>
                    </a:lnTo>
                    <a:lnTo>
                      <a:pt x="1189" y="509"/>
                    </a:lnTo>
                    <a:lnTo>
                      <a:pt x="1189" y="499"/>
                    </a:lnTo>
                    <a:lnTo>
                      <a:pt x="1184" y="493"/>
                    </a:lnTo>
                    <a:lnTo>
                      <a:pt x="1168" y="483"/>
                    </a:lnTo>
                    <a:lnTo>
                      <a:pt x="1155" y="478"/>
                    </a:lnTo>
                    <a:lnTo>
                      <a:pt x="1143" y="476"/>
                    </a:lnTo>
                    <a:lnTo>
                      <a:pt x="1130" y="472"/>
                    </a:lnTo>
                    <a:lnTo>
                      <a:pt x="1107" y="466"/>
                    </a:lnTo>
                    <a:lnTo>
                      <a:pt x="1091" y="462"/>
                    </a:lnTo>
                    <a:lnTo>
                      <a:pt x="1091" y="448"/>
                    </a:lnTo>
                    <a:lnTo>
                      <a:pt x="1104" y="433"/>
                    </a:lnTo>
                    <a:lnTo>
                      <a:pt x="1114" y="419"/>
                    </a:lnTo>
                    <a:lnTo>
                      <a:pt x="1127" y="411"/>
                    </a:lnTo>
                    <a:lnTo>
                      <a:pt x="1143" y="413"/>
                    </a:lnTo>
                    <a:lnTo>
                      <a:pt x="1164" y="419"/>
                    </a:lnTo>
                    <a:lnTo>
                      <a:pt x="1193" y="423"/>
                    </a:lnTo>
                    <a:lnTo>
                      <a:pt x="1216" y="425"/>
                    </a:lnTo>
                    <a:lnTo>
                      <a:pt x="1228" y="425"/>
                    </a:lnTo>
                    <a:lnTo>
                      <a:pt x="1232" y="423"/>
                    </a:lnTo>
                    <a:lnTo>
                      <a:pt x="1237" y="413"/>
                    </a:lnTo>
                    <a:lnTo>
                      <a:pt x="1241" y="401"/>
                    </a:lnTo>
                    <a:lnTo>
                      <a:pt x="1250" y="382"/>
                    </a:lnTo>
                    <a:lnTo>
                      <a:pt x="1257" y="362"/>
                    </a:lnTo>
                    <a:lnTo>
                      <a:pt x="1260" y="345"/>
                    </a:lnTo>
                    <a:lnTo>
                      <a:pt x="1257" y="329"/>
                    </a:lnTo>
                    <a:lnTo>
                      <a:pt x="1253" y="311"/>
                    </a:lnTo>
                    <a:lnTo>
                      <a:pt x="1246" y="292"/>
                    </a:lnTo>
                    <a:lnTo>
                      <a:pt x="1246" y="266"/>
                    </a:lnTo>
                    <a:lnTo>
                      <a:pt x="1253" y="239"/>
                    </a:lnTo>
                    <a:lnTo>
                      <a:pt x="1266" y="216"/>
                    </a:lnTo>
                    <a:lnTo>
                      <a:pt x="1278" y="198"/>
                    </a:lnTo>
                    <a:lnTo>
                      <a:pt x="1294" y="186"/>
                    </a:lnTo>
                    <a:lnTo>
                      <a:pt x="1310" y="174"/>
                    </a:lnTo>
                    <a:lnTo>
                      <a:pt x="1323" y="167"/>
                    </a:lnTo>
                    <a:lnTo>
                      <a:pt x="1335" y="159"/>
                    </a:lnTo>
                    <a:lnTo>
                      <a:pt x="1351" y="151"/>
                    </a:lnTo>
                    <a:lnTo>
                      <a:pt x="1371" y="143"/>
                    </a:lnTo>
                    <a:lnTo>
                      <a:pt x="1383" y="135"/>
                    </a:lnTo>
                    <a:lnTo>
                      <a:pt x="1399" y="129"/>
                    </a:lnTo>
                    <a:lnTo>
                      <a:pt x="1415" y="118"/>
                    </a:lnTo>
                    <a:lnTo>
                      <a:pt x="1421" y="112"/>
                    </a:lnTo>
                    <a:lnTo>
                      <a:pt x="1424" y="96"/>
                    </a:lnTo>
                    <a:lnTo>
                      <a:pt x="1415" y="88"/>
                    </a:lnTo>
                    <a:lnTo>
                      <a:pt x="1396" y="88"/>
                    </a:lnTo>
                    <a:lnTo>
                      <a:pt x="1374" y="92"/>
                    </a:lnTo>
                    <a:lnTo>
                      <a:pt x="1351" y="92"/>
                    </a:lnTo>
                    <a:lnTo>
                      <a:pt x="1326" y="88"/>
                    </a:lnTo>
                    <a:lnTo>
                      <a:pt x="1301" y="84"/>
                    </a:lnTo>
                    <a:lnTo>
                      <a:pt x="1282" y="82"/>
                    </a:lnTo>
                    <a:lnTo>
                      <a:pt x="1262" y="82"/>
                    </a:lnTo>
                    <a:lnTo>
                      <a:pt x="1250" y="82"/>
                    </a:lnTo>
                    <a:lnTo>
                      <a:pt x="1237" y="92"/>
                    </a:lnTo>
                    <a:lnTo>
                      <a:pt x="1228" y="100"/>
                    </a:lnTo>
                    <a:lnTo>
                      <a:pt x="1218" y="108"/>
                    </a:lnTo>
                    <a:lnTo>
                      <a:pt x="1209" y="110"/>
                    </a:lnTo>
                    <a:lnTo>
                      <a:pt x="1193" y="112"/>
                    </a:lnTo>
                    <a:lnTo>
                      <a:pt x="1180" y="114"/>
                    </a:lnTo>
                    <a:lnTo>
                      <a:pt x="1161" y="114"/>
                    </a:lnTo>
                    <a:lnTo>
                      <a:pt x="1146" y="114"/>
                    </a:lnTo>
                    <a:lnTo>
                      <a:pt x="1130" y="114"/>
                    </a:lnTo>
                    <a:lnTo>
                      <a:pt x="1114" y="114"/>
                    </a:lnTo>
                    <a:lnTo>
                      <a:pt x="1086" y="112"/>
                    </a:lnTo>
                    <a:lnTo>
                      <a:pt x="1057" y="110"/>
                    </a:lnTo>
                    <a:lnTo>
                      <a:pt x="1032" y="108"/>
                    </a:lnTo>
                    <a:lnTo>
                      <a:pt x="1009" y="108"/>
                    </a:lnTo>
                    <a:lnTo>
                      <a:pt x="997" y="108"/>
                    </a:lnTo>
                    <a:lnTo>
                      <a:pt x="1006" y="102"/>
                    </a:lnTo>
                    <a:lnTo>
                      <a:pt x="1022" y="98"/>
                    </a:lnTo>
                    <a:lnTo>
                      <a:pt x="1045" y="84"/>
                    </a:lnTo>
                    <a:lnTo>
                      <a:pt x="1066" y="75"/>
                    </a:lnTo>
                    <a:lnTo>
                      <a:pt x="1089" y="65"/>
                    </a:lnTo>
                    <a:lnTo>
                      <a:pt x="1111" y="63"/>
                    </a:lnTo>
                    <a:lnTo>
                      <a:pt x="1132" y="61"/>
                    </a:lnTo>
                    <a:lnTo>
                      <a:pt x="1159" y="61"/>
                    </a:lnTo>
                    <a:lnTo>
                      <a:pt x="1189" y="63"/>
                    </a:lnTo>
                    <a:lnTo>
                      <a:pt x="1216" y="67"/>
                    </a:lnTo>
                    <a:lnTo>
                      <a:pt x="1228" y="67"/>
                    </a:lnTo>
                    <a:lnTo>
                      <a:pt x="1209" y="47"/>
                    </a:lnTo>
                    <a:lnTo>
                      <a:pt x="1184" y="28"/>
                    </a:lnTo>
                    <a:lnTo>
                      <a:pt x="1159" y="16"/>
                    </a:lnTo>
                    <a:lnTo>
                      <a:pt x="1136" y="8"/>
                    </a:lnTo>
                    <a:lnTo>
                      <a:pt x="1127" y="4"/>
                    </a:lnTo>
                    <a:lnTo>
                      <a:pt x="1107" y="4"/>
                    </a:lnTo>
                    <a:lnTo>
                      <a:pt x="1089" y="2"/>
                    </a:lnTo>
                    <a:lnTo>
                      <a:pt x="1066" y="0"/>
                    </a:lnTo>
                    <a:lnTo>
                      <a:pt x="1045" y="0"/>
                    </a:lnTo>
                    <a:lnTo>
                      <a:pt x="1018" y="0"/>
                    </a:lnTo>
                    <a:lnTo>
                      <a:pt x="993" y="0"/>
                    </a:lnTo>
                    <a:lnTo>
                      <a:pt x="968" y="2"/>
                    </a:lnTo>
                    <a:lnTo>
                      <a:pt x="943" y="4"/>
                    </a:lnTo>
                    <a:lnTo>
                      <a:pt x="918" y="8"/>
                    </a:lnTo>
                    <a:lnTo>
                      <a:pt x="890" y="8"/>
                    </a:lnTo>
                    <a:lnTo>
                      <a:pt x="863" y="8"/>
                    </a:lnTo>
                    <a:lnTo>
                      <a:pt x="838" y="12"/>
                    </a:lnTo>
                    <a:lnTo>
                      <a:pt x="817" y="12"/>
                    </a:lnTo>
                    <a:lnTo>
                      <a:pt x="797" y="12"/>
                    </a:lnTo>
                    <a:lnTo>
                      <a:pt x="781" y="14"/>
                    </a:lnTo>
                    <a:lnTo>
                      <a:pt x="756" y="20"/>
                    </a:lnTo>
                    <a:lnTo>
                      <a:pt x="733" y="28"/>
                    </a:lnTo>
                    <a:lnTo>
                      <a:pt x="712" y="36"/>
                    </a:lnTo>
                    <a:lnTo>
                      <a:pt x="691" y="38"/>
                    </a:lnTo>
                    <a:lnTo>
                      <a:pt x="674" y="38"/>
                    </a:lnTo>
                    <a:lnTo>
                      <a:pt x="662" y="41"/>
                    </a:lnTo>
                    <a:lnTo>
                      <a:pt x="651" y="45"/>
                    </a:lnTo>
                    <a:lnTo>
                      <a:pt x="634" y="51"/>
                    </a:lnTo>
                    <a:lnTo>
                      <a:pt x="623" y="59"/>
                    </a:lnTo>
                    <a:lnTo>
                      <a:pt x="626" y="65"/>
                    </a:lnTo>
                    <a:lnTo>
                      <a:pt x="635" y="79"/>
                    </a:lnTo>
                    <a:lnTo>
                      <a:pt x="642" y="92"/>
                    </a:lnTo>
                    <a:lnTo>
                      <a:pt x="639" y="98"/>
                    </a:lnTo>
                    <a:lnTo>
                      <a:pt x="626" y="98"/>
                    </a:lnTo>
                    <a:lnTo>
                      <a:pt x="605" y="98"/>
                    </a:lnTo>
                    <a:lnTo>
                      <a:pt x="578" y="100"/>
                    </a:lnTo>
                    <a:lnTo>
                      <a:pt x="553" y="108"/>
                    </a:lnTo>
                    <a:lnTo>
                      <a:pt x="534" y="108"/>
                    </a:lnTo>
                    <a:lnTo>
                      <a:pt x="516" y="108"/>
                    </a:lnTo>
                    <a:lnTo>
                      <a:pt x="504" y="102"/>
                    </a:lnTo>
                    <a:lnTo>
                      <a:pt x="484" y="102"/>
                    </a:lnTo>
                    <a:lnTo>
                      <a:pt x="459" y="108"/>
                    </a:lnTo>
                    <a:lnTo>
                      <a:pt x="436" y="110"/>
                    </a:lnTo>
                    <a:lnTo>
                      <a:pt x="423" y="112"/>
                    </a:lnTo>
                    <a:lnTo>
                      <a:pt x="415" y="112"/>
                    </a:lnTo>
                    <a:lnTo>
                      <a:pt x="390" y="110"/>
                    </a:lnTo>
                    <a:lnTo>
                      <a:pt x="354" y="110"/>
                    </a:lnTo>
                    <a:lnTo>
                      <a:pt x="326" y="114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94" name="Freeform 1176"/>
              <p:cNvSpPr/>
              <p:nvPr/>
            </p:nvSpPr>
            <p:spPr>
              <a:xfrm>
                <a:off x="2577960" y="2936880"/>
                <a:ext cx="610920" cy="214200"/>
              </a:xfrm>
              <a:custGeom>
                <a:avLst/>
                <a:gdLst/>
                <a:ahLst/>
                <a:rect l="l" t="t" r="r" b="b"/>
                <a:pathLst>
                  <a:path w="769" h="270">
                    <a:moveTo>
                      <a:pt x="769" y="28"/>
                    </a:moveTo>
                    <a:lnTo>
                      <a:pt x="766" y="26"/>
                    </a:lnTo>
                    <a:lnTo>
                      <a:pt x="744" y="26"/>
                    </a:lnTo>
                    <a:lnTo>
                      <a:pt x="705" y="26"/>
                    </a:lnTo>
                    <a:lnTo>
                      <a:pt x="668" y="26"/>
                    </a:lnTo>
                    <a:lnTo>
                      <a:pt x="623" y="24"/>
                    </a:lnTo>
                    <a:lnTo>
                      <a:pt x="582" y="24"/>
                    </a:lnTo>
                    <a:lnTo>
                      <a:pt x="545" y="22"/>
                    </a:lnTo>
                    <a:lnTo>
                      <a:pt x="525" y="18"/>
                    </a:lnTo>
                    <a:lnTo>
                      <a:pt x="504" y="14"/>
                    </a:lnTo>
                    <a:lnTo>
                      <a:pt x="468" y="10"/>
                    </a:lnTo>
                    <a:lnTo>
                      <a:pt x="431" y="6"/>
                    </a:lnTo>
                    <a:lnTo>
                      <a:pt x="386" y="2"/>
                    </a:lnTo>
                    <a:lnTo>
                      <a:pt x="342" y="0"/>
                    </a:lnTo>
                    <a:lnTo>
                      <a:pt x="305" y="2"/>
                    </a:lnTo>
                    <a:lnTo>
                      <a:pt x="273" y="6"/>
                    </a:lnTo>
                    <a:lnTo>
                      <a:pt x="249" y="10"/>
                    </a:lnTo>
                    <a:lnTo>
                      <a:pt x="232" y="18"/>
                    </a:lnTo>
                    <a:lnTo>
                      <a:pt x="208" y="24"/>
                    </a:lnTo>
                    <a:lnTo>
                      <a:pt x="191" y="26"/>
                    </a:lnTo>
                    <a:lnTo>
                      <a:pt x="167" y="28"/>
                    </a:lnTo>
                    <a:lnTo>
                      <a:pt x="146" y="31"/>
                    </a:lnTo>
                    <a:lnTo>
                      <a:pt x="123" y="35"/>
                    </a:lnTo>
                    <a:lnTo>
                      <a:pt x="105" y="39"/>
                    </a:lnTo>
                    <a:lnTo>
                      <a:pt x="89" y="41"/>
                    </a:lnTo>
                    <a:lnTo>
                      <a:pt x="64" y="45"/>
                    </a:lnTo>
                    <a:lnTo>
                      <a:pt x="36" y="45"/>
                    </a:lnTo>
                    <a:lnTo>
                      <a:pt x="13" y="45"/>
                    </a:lnTo>
                    <a:lnTo>
                      <a:pt x="0" y="53"/>
                    </a:lnTo>
                    <a:lnTo>
                      <a:pt x="4" y="65"/>
                    </a:lnTo>
                    <a:lnTo>
                      <a:pt x="16" y="74"/>
                    </a:lnTo>
                    <a:lnTo>
                      <a:pt x="37" y="82"/>
                    </a:lnTo>
                    <a:lnTo>
                      <a:pt x="57" y="90"/>
                    </a:lnTo>
                    <a:lnTo>
                      <a:pt x="77" y="94"/>
                    </a:lnTo>
                    <a:lnTo>
                      <a:pt x="98" y="96"/>
                    </a:lnTo>
                    <a:lnTo>
                      <a:pt x="123" y="104"/>
                    </a:lnTo>
                    <a:lnTo>
                      <a:pt x="146" y="110"/>
                    </a:lnTo>
                    <a:lnTo>
                      <a:pt x="167" y="121"/>
                    </a:lnTo>
                    <a:lnTo>
                      <a:pt x="184" y="137"/>
                    </a:lnTo>
                    <a:lnTo>
                      <a:pt x="191" y="153"/>
                    </a:lnTo>
                    <a:lnTo>
                      <a:pt x="167" y="163"/>
                    </a:lnTo>
                    <a:lnTo>
                      <a:pt x="134" y="176"/>
                    </a:lnTo>
                    <a:lnTo>
                      <a:pt x="118" y="194"/>
                    </a:lnTo>
                    <a:lnTo>
                      <a:pt x="105" y="207"/>
                    </a:lnTo>
                    <a:lnTo>
                      <a:pt x="102" y="217"/>
                    </a:lnTo>
                    <a:lnTo>
                      <a:pt x="94" y="256"/>
                    </a:lnTo>
                    <a:lnTo>
                      <a:pt x="192" y="256"/>
                    </a:lnTo>
                    <a:lnTo>
                      <a:pt x="200" y="260"/>
                    </a:lnTo>
                    <a:lnTo>
                      <a:pt x="216" y="266"/>
                    </a:lnTo>
                    <a:lnTo>
                      <a:pt x="232" y="270"/>
                    </a:lnTo>
                    <a:lnTo>
                      <a:pt x="249" y="268"/>
                    </a:lnTo>
                    <a:lnTo>
                      <a:pt x="264" y="262"/>
                    </a:lnTo>
                    <a:lnTo>
                      <a:pt x="276" y="256"/>
                    </a:lnTo>
                    <a:lnTo>
                      <a:pt x="294" y="251"/>
                    </a:lnTo>
                    <a:lnTo>
                      <a:pt x="313" y="241"/>
                    </a:lnTo>
                    <a:lnTo>
                      <a:pt x="335" y="233"/>
                    </a:lnTo>
                    <a:lnTo>
                      <a:pt x="349" y="225"/>
                    </a:lnTo>
                    <a:lnTo>
                      <a:pt x="362" y="219"/>
                    </a:lnTo>
                    <a:lnTo>
                      <a:pt x="363" y="211"/>
                    </a:lnTo>
                    <a:lnTo>
                      <a:pt x="363" y="204"/>
                    </a:lnTo>
                    <a:lnTo>
                      <a:pt x="362" y="190"/>
                    </a:lnTo>
                    <a:lnTo>
                      <a:pt x="363" y="176"/>
                    </a:lnTo>
                    <a:lnTo>
                      <a:pt x="367" y="161"/>
                    </a:lnTo>
                    <a:lnTo>
                      <a:pt x="378" y="143"/>
                    </a:lnTo>
                    <a:lnTo>
                      <a:pt x="392" y="127"/>
                    </a:lnTo>
                    <a:lnTo>
                      <a:pt x="408" y="116"/>
                    </a:lnTo>
                    <a:lnTo>
                      <a:pt x="424" y="114"/>
                    </a:lnTo>
                    <a:lnTo>
                      <a:pt x="447" y="121"/>
                    </a:lnTo>
                    <a:lnTo>
                      <a:pt x="465" y="135"/>
                    </a:lnTo>
                    <a:lnTo>
                      <a:pt x="481" y="145"/>
                    </a:lnTo>
                    <a:lnTo>
                      <a:pt x="488" y="161"/>
                    </a:lnTo>
                    <a:lnTo>
                      <a:pt x="492" y="172"/>
                    </a:lnTo>
                    <a:lnTo>
                      <a:pt x="500" y="176"/>
                    </a:lnTo>
                    <a:lnTo>
                      <a:pt x="513" y="178"/>
                    </a:lnTo>
                    <a:lnTo>
                      <a:pt x="538" y="172"/>
                    </a:lnTo>
                    <a:lnTo>
                      <a:pt x="561" y="161"/>
                    </a:lnTo>
                    <a:lnTo>
                      <a:pt x="579" y="145"/>
                    </a:lnTo>
                    <a:lnTo>
                      <a:pt x="602" y="127"/>
                    </a:lnTo>
                    <a:lnTo>
                      <a:pt x="627" y="108"/>
                    </a:lnTo>
                    <a:lnTo>
                      <a:pt x="652" y="84"/>
                    </a:lnTo>
                    <a:lnTo>
                      <a:pt x="684" y="63"/>
                    </a:lnTo>
                    <a:lnTo>
                      <a:pt x="725" y="43"/>
                    </a:lnTo>
                    <a:lnTo>
                      <a:pt x="769" y="28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95" name="Freeform 1177"/>
              <p:cNvSpPr/>
              <p:nvPr/>
            </p:nvSpPr>
            <p:spPr>
              <a:xfrm>
                <a:off x="2043000" y="3271680"/>
                <a:ext cx="304200" cy="111240"/>
              </a:xfrm>
              <a:custGeom>
                <a:avLst/>
                <a:gdLst/>
                <a:ahLst/>
                <a:rect l="l" t="t" r="r" b="b"/>
                <a:pathLst>
                  <a:path w="385" h="139">
                    <a:moveTo>
                      <a:pt x="41" y="11"/>
                    </a:moveTo>
                    <a:lnTo>
                      <a:pt x="61" y="4"/>
                    </a:lnTo>
                    <a:lnTo>
                      <a:pt x="82" y="0"/>
                    </a:lnTo>
                    <a:lnTo>
                      <a:pt x="107" y="0"/>
                    </a:lnTo>
                    <a:lnTo>
                      <a:pt x="130" y="0"/>
                    </a:lnTo>
                    <a:lnTo>
                      <a:pt x="155" y="2"/>
                    </a:lnTo>
                    <a:lnTo>
                      <a:pt x="173" y="4"/>
                    </a:lnTo>
                    <a:lnTo>
                      <a:pt x="189" y="11"/>
                    </a:lnTo>
                    <a:lnTo>
                      <a:pt x="205" y="15"/>
                    </a:lnTo>
                    <a:lnTo>
                      <a:pt x="214" y="19"/>
                    </a:lnTo>
                    <a:lnTo>
                      <a:pt x="226" y="29"/>
                    </a:lnTo>
                    <a:lnTo>
                      <a:pt x="237" y="33"/>
                    </a:lnTo>
                    <a:lnTo>
                      <a:pt x="253" y="37"/>
                    </a:lnTo>
                    <a:lnTo>
                      <a:pt x="266" y="45"/>
                    </a:lnTo>
                    <a:lnTo>
                      <a:pt x="283" y="49"/>
                    </a:lnTo>
                    <a:lnTo>
                      <a:pt x="299" y="51"/>
                    </a:lnTo>
                    <a:lnTo>
                      <a:pt x="319" y="51"/>
                    </a:lnTo>
                    <a:lnTo>
                      <a:pt x="347" y="56"/>
                    </a:lnTo>
                    <a:lnTo>
                      <a:pt x="369" y="74"/>
                    </a:lnTo>
                    <a:lnTo>
                      <a:pt x="381" y="97"/>
                    </a:lnTo>
                    <a:lnTo>
                      <a:pt x="385" y="103"/>
                    </a:lnTo>
                    <a:lnTo>
                      <a:pt x="381" y="103"/>
                    </a:lnTo>
                    <a:lnTo>
                      <a:pt x="376" y="105"/>
                    </a:lnTo>
                    <a:lnTo>
                      <a:pt x="360" y="107"/>
                    </a:lnTo>
                    <a:lnTo>
                      <a:pt x="347" y="115"/>
                    </a:lnTo>
                    <a:lnTo>
                      <a:pt x="328" y="117"/>
                    </a:lnTo>
                    <a:lnTo>
                      <a:pt x="307" y="117"/>
                    </a:lnTo>
                    <a:lnTo>
                      <a:pt x="287" y="119"/>
                    </a:lnTo>
                    <a:lnTo>
                      <a:pt x="271" y="117"/>
                    </a:lnTo>
                    <a:lnTo>
                      <a:pt x="253" y="115"/>
                    </a:lnTo>
                    <a:lnTo>
                      <a:pt x="230" y="117"/>
                    </a:lnTo>
                    <a:lnTo>
                      <a:pt x="209" y="119"/>
                    </a:lnTo>
                    <a:lnTo>
                      <a:pt x="185" y="123"/>
                    </a:lnTo>
                    <a:lnTo>
                      <a:pt x="164" y="129"/>
                    </a:lnTo>
                    <a:lnTo>
                      <a:pt x="152" y="133"/>
                    </a:lnTo>
                    <a:lnTo>
                      <a:pt x="139" y="137"/>
                    </a:lnTo>
                    <a:lnTo>
                      <a:pt x="136" y="137"/>
                    </a:lnTo>
                    <a:lnTo>
                      <a:pt x="118" y="139"/>
                    </a:lnTo>
                    <a:lnTo>
                      <a:pt x="86" y="139"/>
                    </a:lnTo>
                    <a:lnTo>
                      <a:pt x="48" y="139"/>
                    </a:lnTo>
                    <a:lnTo>
                      <a:pt x="32" y="129"/>
                    </a:lnTo>
                    <a:lnTo>
                      <a:pt x="38" y="111"/>
                    </a:lnTo>
                    <a:lnTo>
                      <a:pt x="57" y="90"/>
                    </a:lnTo>
                    <a:lnTo>
                      <a:pt x="70" y="74"/>
                    </a:lnTo>
                    <a:lnTo>
                      <a:pt x="79" y="70"/>
                    </a:lnTo>
                    <a:lnTo>
                      <a:pt x="0" y="35"/>
                    </a:lnTo>
                    <a:lnTo>
                      <a:pt x="7" y="31"/>
                    </a:lnTo>
                    <a:lnTo>
                      <a:pt x="16" y="21"/>
                    </a:lnTo>
                    <a:lnTo>
                      <a:pt x="41" y="11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96" name="Freeform 1178"/>
              <p:cNvSpPr/>
              <p:nvPr/>
            </p:nvSpPr>
            <p:spPr>
              <a:xfrm>
                <a:off x="3873240" y="3396960"/>
                <a:ext cx="236160" cy="81000"/>
              </a:xfrm>
              <a:custGeom>
                <a:avLst/>
                <a:gdLst/>
                <a:ahLst/>
                <a:rect l="l" t="t" r="r" b="b"/>
                <a:pathLst>
                  <a:path w="297" h="104">
                    <a:moveTo>
                      <a:pt x="117" y="31"/>
                    </a:moveTo>
                    <a:lnTo>
                      <a:pt x="121" y="43"/>
                    </a:lnTo>
                    <a:lnTo>
                      <a:pt x="135" y="45"/>
                    </a:lnTo>
                    <a:lnTo>
                      <a:pt x="158" y="41"/>
                    </a:lnTo>
                    <a:lnTo>
                      <a:pt x="176" y="31"/>
                    </a:lnTo>
                    <a:lnTo>
                      <a:pt x="205" y="24"/>
                    </a:lnTo>
                    <a:lnTo>
                      <a:pt x="231" y="10"/>
                    </a:lnTo>
                    <a:lnTo>
                      <a:pt x="249" y="6"/>
                    </a:lnTo>
                    <a:lnTo>
                      <a:pt x="269" y="6"/>
                    </a:lnTo>
                    <a:lnTo>
                      <a:pt x="290" y="24"/>
                    </a:lnTo>
                    <a:lnTo>
                      <a:pt x="297" y="45"/>
                    </a:lnTo>
                    <a:lnTo>
                      <a:pt x="297" y="65"/>
                    </a:lnTo>
                    <a:lnTo>
                      <a:pt x="297" y="74"/>
                    </a:lnTo>
                    <a:lnTo>
                      <a:pt x="290" y="78"/>
                    </a:lnTo>
                    <a:lnTo>
                      <a:pt x="272" y="88"/>
                    </a:lnTo>
                    <a:lnTo>
                      <a:pt x="240" y="96"/>
                    </a:lnTo>
                    <a:lnTo>
                      <a:pt x="205" y="102"/>
                    </a:lnTo>
                    <a:lnTo>
                      <a:pt x="183" y="102"/>
                    </a:lnTo>
                    <a:lnTo>
                      <a:pt x="162" y="102"/>
                    </a:lnTo>
                    <a:lnTo>
                      <a:pt x="139" y="104"/>
                    </a:lnTo>
                    <a:lnTo>
                      <a:pt x="117" y="102"/>
                    </a:lnTo>
                    <a:lnTo>
                      <a:pt x="98" y="102"/>
                    </a:lnTo>
                    <a:lnTo>
                      <a:pt x="82" y="100"/>
                    </a:lnTo>
                    <a:lnTo>
                      <a:pt x="76" y="96"/>
                    </a:lnTo>
                    <a:lnTo>
                      <a:pt x="69" y="90"/>
                    </a:lnTo>
                    <a:lnTo>
                      <a:pt x="53" y="76"/>
                    </a:lnTo>
                    <a:lnTo>
                      <a:pt x="28" y="65"/>
                    </a:lnTo>
                    <a:lnTo>
                      <a:pt x="9" y="61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3" y="31"/>
                    </a:lnTo>
                    <a:lnTo>
                      <a:pt x="19" y="12"/>
                    </a:lnTo>
                    <a:lnTo>
                      <a:pt x="41" y="0"/>
                    </a:lnTo>
                    <a:lnTo>
                      <a:pt x="69" y="0"/>
                    </a:lnTo>
                    <a:lnTo>
                      <a:pt x="92" y="6"/>
                    </a:lnTo>
                    <a:lnTo>
                      <a:pt x="110" y="16"/>
                    </a:lnTo>
                    <a:lnTo>
                      <a:pt x="117" y="31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97" name="Freeform 1179"/>
              <p:cNvSpPr/>
              <p:nvPr/>
            </p:nvSpPr>
            <p:spPr>
              <a:xfrm>
                <a:off x="4509720" y="3095640"/>
                <a:ext cx="3784320" cy="695160"/>
              </a:xfrm>
              <a:custGeom>
                <a:avLst/>
                <a:gdLst/>
                <a:ahLst/>
                <a:rect l="l" t="t" r="r" b="b"/>
                <a:pathLst>
                  <a:path w="4768" h="876">
                    <a:moveTo>
                      <a:pt x="3524" y="876"/>
                    </a:moveTo>
                    <a:lnTo>
                      <a:pt x="3547" y="851"/>
                    </a:lnTo>
                    <a:lnTo>
                      <a:pt x="3568" y="815"/>
                    </a:lnTo>
                    <a:lnTo>
                      <a:pt x="3588" y="782"/>
                    </a:lnTo>
                    <a:lnTo>
                      <a:pt x="3600" y="763"/>
                    </a:lnTo>
                    <a:lnTo>
                      <a:pt x="3604" y="741"/>
                    </a:lnTo>
                    <a:lnTo>
                      <a:pt x="3593" y="718"/>
                    </a:lnTo>
                    <a:lnTo>
                      <a:pt x="3568" y="698"/>
                    </a:lnTo>
                    <a:lnTo>
                      <a:pt x="3524" y="688"/>
                    </a:lnTo>
                    <a:lnTo>
                      <a:pt x="3490" y="684"/>
                    </a:lnTo>
                    <a:lnTo>
                      <a:pt x="3483" y="669"/>
                    </a:lnTo>
                    <a:lnTo>
                      <a:pt x="3502" y="649"/>
                    </a:lnTo>
                    <a:lnTo>
                      <a:pt x="3536" y="624"/>
                    </a:lnTo>
                    <a:lnTo>
                      <a:pt x="3556" y="610"/>
                    </a:lnTo>
                    <a:lnTo>
                      <a:pt x="3581" y="598"/>
                    </a:lnTo>
                    <a:lnTo>
                      <a:pt x="3613" y="585"/>
                    </a:lnTo>
                    <a:lnTo>
                      <a:pt x="3641" y="571"/>
                    </a:lnTo>
                    <a:lnTo>
                      <a:pt x="3666" y="561"/>
                    </a:lnTo>
                    <a:lnTo>
                      <a:pt x="3691" y="553"/>
                    </a:lnTo>
                    <a:lnTo>
                      <a:pt x="3711" y="553"/>
                    </a:lnTo>
                    <a:lnTo>
                      <a:pt x="3716" y="557"/>
                    </a:lnTo>
                    <a:lnTo>
                      <a:pt x="3730" y="573"/>
                    </a:lnTo>
                    <a:lnTo>
                      <a:pt x="3745" y="588"/>
                    </a:lnTo>
                    <a:lnTo>
                      <a:pt x="3764" y="598"/>
                    </a:lnTo>
                    <a:lnTo>
                      <a:pt x="3784" y="590"/>
                    </a:lnTo>
                    <a:lnTo>
                      <a:pt x="3809" y="577"/>
                    </a:lnTo>
                    <a:lnTo>
                      <a:pt x="3841" y="567"/>
                    </a:lnTo>
                    <a:lnTo>
                      <a:pt x="3875" y="567"/>
                    </a:lnTo>
                    <a:lnTo>
                      <a:pt x="3887" y="577"/>
                    </a:lnTo>
                    <a:lnTo>
                      <a:pt x="3891" y="592"/>
                    </a:lnTo>
                    <a:lnTo>
                      <a:pt x="3903" y="606"/>
                    </a:lnTo>
                    <a:lnTo>
                      <a:pt x="3923" y="608"/>
                    </a:lnTo>
                    <a:lnTo>
                      <a:pt x="3948" y="598"/>
                    </a:lnTo>
                    <a:lnTo>
                      <a:pt x="3960" y="585"/>
                    </a:lnTo>
                    <a:lnTo>
                      <a:pt x="3980" y="569"/>
                    </a:lnTo>
                    <a:lnTo>
                      <a:pt x="3997" y="553"/>
                    </a:lnTo>
                    <a:lnTo>
                      <a:pt x="4021" y="540"/>
                    </a:lnTo>
                    <a:lnTo>
                      <a:pt x="4038" y="526"/>
                    </a:lnTo>
                    <a:lnTo>
                      <a:pt x="4054" y="520"/>
                    </a:lnTo>
                    <a:lnTo>
                      <a:pt x="4074" y="518"/>
                    </a:lnTo>
                    <a:lnTo>
                      <a:pt x="4090" y="524"/>
                    </a:lnTo>
                    <a:lnTo>
                      <a:pt x="4106" y="543"/>
                    </a:lnTo>
                    <a:lnTo>
                      <a:pt x="4106" y="557"/>
                    </a:lnTo>
                    <a:lnTo>
                      <a:pt x="4092" y="567"/>
                    </a:lnTo>
                    <a:lnTo>
                      <a:pt x="4070" y="585"/>
                    </a:lnTo>
                    <a:lnTo>
                      <a:pt x="4054" y="592"/>
                    </a:lnTo>
                    <a:lnTo>
                      <a:pt x="4038" y="604"/>
                    </a:lnTo>
                    <a:lnTo>
                      <a:pt x="4021" y="610"/>
                    </a:lnTo>
                    <a:lnTo>
                      <a:pt x="4001" y="620"/>
                    </a:lnTo>
                    <a:lnTo>
                      <a:pt x="3981" y="628"/>
                    </a:lnTo>
                    <a:lnTo>
                      <a:pt x="3969" y="637"/>
                    </a:lnTo>
                    <a:lnTo>
                      <a:pt x="3960" y="647"/>
                    </a:lnTo>
                    <a:lnTo>
                      <a:pt x="3964" y="657"/>
                    </a:lnTo>
                    <a:lnTo>
                      <a:pt x="3976" y="686"/>
                    </a:lnTo>
                    <a:lnTo>
                      <a:pt x="3981" y="723"/>
                    </a:lnTo>
                    <a:lnTo>
                      <a:pt x="3992" y="757"/>
                    </a:lnTo>
                    <a:lnTo>
                      <a:pt x="4010" y="774"/>
                    </a:lnTo>
                    <a:lnTo>
                      <a:pt x="4026" y="774"/>
                    </a:lnTo>
                    <a:lnTo>
                      <a:pt x="4046" y="770"/>
                    </a:lnTo>
                    <a:lnTo>
                      <a:pt x="4065" y="759"/>
                    </a:lnTo>
                    <a:lnTo>
                      <a:pt x="4083" y="751"/>
                    </a:lnTo>
                    <a:lnTo>
                      <a:pt x="4103" y="735"/>
                    </a:lnTo>
                    <a:lnTo>
                      <a:pt x="4119" y="721"/>
                    </a:lnTo>
                    <a:lnTo>
                      <a:pt x="4136" y="712"/>
                    </a:lnTo>
                    <a:lnTo>
                      <a:pt x="4147" y="702"/>
                    </a:lnTo>
                    <a:lnTo>
                      <a:pt x="4165" y="684"/>
                    </a:lnTo>
                    <a:lnTo>
                      <a:pt x="4184" y="659"/>
                    </a:lnTo>
                    <a:lnTo>
                      <a:pt x="4190" y="637"/>
                    </a:lnTo>
                    <a:lnTo>
                      <a:pt x="4193" y="618"/>
                    </a:lnTo>
                    <a:lnTo>
                      <a:pt x="4200" y="602"/>
                    </a:lnTo>
                    <a:lnTo>
                      <a:pt x="4216" y="586"/>
                    </a:lnTo>
                    <a:lnTo>
                      <a:pt x="4247" y="573"/>
                    </a:lnTo>
                    <a:lnTo>
                      <a:pt x="4291" y="565"/>
                    </a:lnTo>
                    <a:lnTo>
                      <a:pt x="4320" y="559"/>
                    </a:lnTo>
                    <a:lnTo>
                      <a:pt x="4355" y="553"/>
                    </a:lnTo>
                    <a:lnTo>
                      <a:pt x="4389" y="545"/>
                    </a:lnTo>
                    <a:lnTo>
                      <a:pt x="4425" y="540"/>
                    </a:lnTo>
                    <a:lnTo>
                      <a:pt x="4459" y="532"/>
                    </a:lnTo>
                    <a:lnTo>
                      <a:pt x="4487" y="524"/>
                    </a:lnTo>
                    <a:lnTo>
                      <a:pt x="4510" y="514"/>
                    </a:lnTo>
                    <a:lnTo>
                      <a:pt x="4523" y="504"/>
                    </a:lnTo>
                    <a:lnTo>
                      <a:pt x="4541" y="485"/>
                    </a:lnTo>
                    <a:lnTo>
                      <a:pt x="4565" y="461"/>
                    </a:lnTo>
                    <a:lnTo>
                      <a:pt x="4585" y="446"/>
                    </a:lnTo>
                    <a:lnTo>
                      <a:pt x="4598" y="440"/>
                    </a:lnTo>
                    <a:lnTo>
                      <a:pt x="4715" y="500"/>
                    </a:lnTo>
                    <a:lnTo>
                      <a:pt x="4727" y="469"/>
                    </a:lnTo>
                    <a:lnTo>
                      <a:pt x="4749" y="432"/>
                    </a:lnTo>
                    <a:lnTo>
                      <a:pt x="4768" y="393"/>
                    </a:lnTo>
                    <a:lnTo>
                      <a:pt x="4761" y="373"/>
                    </a:lnTo>
                    <a:lnTo>
                      <a:pt x="4747" y="369"/>
                    </a:lnTo>
                    <a:lnTo>
                      <a:pt x="4733" y="369"/>
                    </a:lnTo>
                    <a:lnTo>
                      <a:pt x="4711" y="369"/>
                    </a:lnTo>
                    <a:lnTo>
                      <a:pt x="4692" y="371"/>
                    </a:lnTo>
                    <a:lnTo>
                      <a:pt x="4674" y="373"/>
                    </a:lnTo>
                    <a:lnTo>
                      <a:pt x="4662" y="375"/>
                    </a:lnTo>
                    <a:lnTo>
                      <a:pt x="4649" y="377"/>
                    </a:lnTo>
                    <a:lnTo>
                      <a:pt x="4646" y="377"/>
                    </a:lnTo>
                    <a:lnTo>
                      <a:pt x="4633" y="377"/>
                    </a:lnTo>
                    <a:lnTo>
                      <a:pt x="4608" y="373"/>
                    </a:lnTo>
                    <a:lnTo>
                      <a:pt x="4576" y="364"/>
                    </a:lnTo>
                    <a:lnTo>
                      <a:pt x="4551" y="346"/>
                    </a:lnTo>
                    <a:lnTo>
                      <a:pt x="4535" y="336"/>
                    </a:lnTo>
                    <a:lnTo>
                      <a:pt x="4512" y="326"/>
                    </a:lnTo>
                    <a:lnTo>
                      <a:pt x="4487" y="317"/>
                    </a:lnTo>
                    <a:lnTo>
                      <a:pt x="4459" y="307"/>
                    </a:lnTo>
                    <a:lnTo>
                      <a:pt x="4434" y="303"/>
                    </a:lnTo>
                    <a:lnTo>
                      <a:pt x="4409" y="297"/>
                    </a:lnTo>
                    <a:lnTo>
                      <a:pt x="4386" y="297"/>
                    </a:lnTo>
                    <a:lnTo>
                      <a:pt x="4377" y="307"/>
                    </a:lnTo>
                    <a:lnTo>
                      <a:pt x="4364" y="317"/>
                    </a:lnTo>
                    <a:lnTo>
                      <a:pt x="4343" y="322"/>
                    </a:lnTo>
                    <a:lnTo>
                      <a:pt x="4314" y="326"/>
                    </a:lnTo>
                    <a:lnTo>
                      <a:pt x="4282" y="326"/>
                    </a:lnTo>
                    <a:lnTo>
                      <a:pt x="4241" y="326"/>
                    </a:lnTo>
                    <a:lnTo>
                      <a:pt x="4200" y="322"/>
                    </a:lnTo>
                    <a:lnTo>
                      <a:pt x="4159" y="317"/>
                    </a:lnTo>
                    <a:lnTo>
                      <a:pt x="4119" y="307"/>
                    </a:lnTo>
                    <a:lnTo>
                      <a:pt x="4074" y="293"/>
                    </a:lnTo>
                    <a:lnTo>
                      <a:pt x="4026" y="277"/>
                    </a:lnTo>
                    <a:lnTo>
                      <a:pt x="3976" y="260"/>
                    </a:lnTo>
                    <a:lnTo>
                      <a:pt x="3928" y="246"/>
                    </a:lnTo>
                    <a:lnTo>
                      <a:pt x="3878" y="229"/>
                    </a:lnTo>
                    <a:lnTo>
                      <a:pt x="3837" y="215"/>
                    </a:lnTo>
                    <a:lnTo>
                      <a:pt x="3796" y="209"/>
                    </a:lnTo>
                    <a:lnTo>
                      <a:pt x="3771" y="209"/>
                    </a:lnTo>
                    <a:lnTo>
                      <a:pt x="3755" y="209"/>
                    </a:lnTo>
                    <a:lnTo>
                      <a:pt x="3743" y="201"/>
                    </a:lnTo>
                    <a:lnTo>
                      <a:pt x="3732" y="193"/>
                    </a:lnTo>
                    <a:lnTo>
                      <a:pt x="3720" y="184"/>
                    </a:lnTo>
                    <a:lnTo>
                      <a:pt x="3711" y="176"/>
                    </a:lnTo>
                    <a:lnTo>
                      <a:pt x="3695" y="172"/>
                    </a:lnTo>
                    <a:lnTo>
                      <a:pt x="3675" y="170"/>
                    </a:lnTo>
                    <a:lnTo>
                      <a:pt x="3647" y="176"/>
                    </a:lnTo>
                    <a:lnTo>
                      <a:pt x="3616" y="187"/>
                    </a:lnTo>
                    <a:lnTo>
                      <a:pt x="3577" y="197"/>
                    </a:lnTo>
                    <a:lnTo>
                      <a:pt x="3543" y="211"/>
                    </a:lnTo>
                    <a:lnTo>
                      <a:pt x="3502" y="221"/>
                    </a:lnTo>
                    <a:lnTo>
                      <a:pt x="3462" y="229"/>
                    </a:lnTo>
                    <a:lnTo>
                      <a:pt x="3421" y="230"/>
                    </a:lnTo>
                    <a:lnTo>
                      <a:pt x="3372" y="229"/>
                    </a:lnTo>
                    <a:lnTo>
                      <a:pt x="3326" y="221"/>
                    </a:lnTo>
                    <a:lnTo>
                      <a:pt x="3275" y="209"/>
                    </a:lnTo>
                    <a:lnTo>
                      <a:pt x="3221" y="195"/>
                    </a:lnTo>
                    <a:lnTo>
                      <a:pt x="3168" y="187"/>
                    </a:lnTo>
                    <a:lnTo>
                      <a:pt x="3120" y="176"/>
                    </a:lnTo>
                    <a:lnTo>
                      <a:pt x="3070" y="170"/>
                    </a:lnTo>
                    <a:lnTo>
                      <a:pt x="3025" y="162"/>
                    </a:lnTo>
                    <a:lnTo>
                      <a:pt x="2991" y="162"/>
                    </a:lnTo>
                    <a:lnTo>
                      <a:pt x="2956" y="170"/>
                    </a:lnTo>
                    <a:lnTo>
                      <a:pt x="2927" y="176"/>
                    </a:lnTo>
                    <a:lnTo>
                      <a:pt x="2894" y="180"/>
                    </a:lnTo>
                    <a:lnTo>
                      <a:pt x="2858" y="187"/>
                    </a:lnTo>
                    <a:lnTo>
                      <a:pt x="2824" y="189"/>
                    </a:lnTo>
                    <a:lnTo>
                      <a:pt x="2788" y="193"/>
                    </a:lnTo>
                    <a:lnTo>
                      <a:pt x="2764" y="193"/>
                    </a:lnTo>
                    <a:lnTo>
                      <a:pt x="2751" y="195"/>
                    </a:lnTo>
                    <a:lnTo>
                      <a:pt x="2740" y="195"/>
                    </a:lnTo>
                    <a:lnTo>
                      <a:pt x="2772" y="174"/>
                    </a:lnTo>
                    <a:lnTo>
                      <a:pt x="2780" y="148"/>
                    </a:lnTo>
                    <a:lnTo>
                      <a:pt x="2776" y="131"/>
                    </a:lnTo>
                    <a:lnTo>
                      <a:pt x="2772" y="123"/>
                    </a:lnTo>
                    <a:lnTo>
                      <a:pt x="2854" y="103"/>
                    </a:lnTo>
                    <a:lnTo>
                      <a:pt x="2821" y="86"/>
                    </a:lnTo>
                    <a:lnTo>
                      <a:pt x="2785" y="70"/>
                    </a:lnTo>
                    <a:lnTo>
                      <a:pt x="2755" y="47"/>
                    </a:lnTo>
                    <a:lnTo>
                      <a:pt x="2726" y="31"/>
                    </a:lnTo>
                    <a:lnTo>
                      <a:pt x="2694" y="15"/>
                    </a:lnTo>
                    <a:lnTo>
                      <a:pt x="2669" y="6"/>
                    </a:lnTo>
                    <a:lnTo>
                      <a:pt x="2642" y="0"/>
                    </a:lnTo>
                    <a:lnTo>
                      <a:pt x="2625" y="4"/>
                    </a:lnTo>
                    <a:lnTo>
                      <a:pt x="2609" y="11"/>
                    </a:lnTo>
                    <a:lnTo>
                      <a:pt x="2589" y="21"/>
                    </a:lnTo>
                    <a:lnTo>
                      <a:pt x="2571" y="31"/>
                    </a:lnTo>
                    <a:lnTo>
                      <a:pt x="2559" y="43"/>
                    </a:lnTo>
                    <a:lnTo>
                      <a:pt x="2539" y="54"/>
                    </a:lnTo>
                    <a:lnTo>
                      <a:pt x="2523" y="60"/>
                    </a:lnTo>
                    <a:lnTo>
                      <a:pt x="2504" y="72"/>
                    </a:lnTo>
                    <a:lnTo>
                      <a:pt x="2491" y="76"/>
                    </a:lnTo>
                    <a:lnTo>
                      <a:pt x="2470" y="74"/>
                    </a:lnTo>
                    <a:lnTo>
                      <a:pt x="2447" y="60"/>
                    </a:lnTo>
                    <a:lnTo>
                      <a:pt x="2422" y="51"/>
                    </a:lnTo>
                    <a:lnTo>
                      <a:pt x="2384" y="56"/>
                    </a:lnTo>
                    <a:lnTo>
                      <a:pt x="2365" y="64"/>
                    </a:lnTo>
                    <a:lnTo>
                      <a:pt x="2336" y="78"/>
                    </a:lnTo>
                    <a:lnTo>
                      <a:pt x="2311" y="90"/>
                    </a:lnTo>
                    <a:lnTo>
                      <a:pt x="2286" y="101"/>
                    </a:lnTo>
                    <a:lnTo>
                      <a:pt x="2258" y="111"/>
                    </a:lnTo>
                    <a:lnTo>
                      <a:pt x="2233" y="119"/>
                    </a:lnTo>
                    <a:lnTo>
                      <a:pt x="2204" y="125"/>
                    </a:lnTo>
                    <a:lnTo>
                      <a:pt x="2176" y="129"/>
                    </a:lnTo>
                    <a:lnTo>
                      <a:pt x="2151" y="133"/>
                    </a:lnTo>
                    <a:lnTo>
                      <a:pt x="2128" y="144"/>
                    </a:lnTo>
                    <a:lnTo>
                      <a:pt x="2110" y="160"/>
                    </a:lnTo>
                    <a:lnTo>
                      <a:pt x="2090" y="176"/>
                    </a:lnTo>
                    <a:lnTo>
                      <a:pt x="2074" y="195"/>
                    </a:lnTo>
                    <a:lnTo>
                      <a:pt x="2058" y="213"/>
                    </a:lnTo>
                    <a:lnTo>
                      <a:pt x="2042" y="229"/>
                    </a:lnTo>
                    <a:lnTo>
                      <a:pt x="2021" y="240"/>
                    </a:lnTo>
                    <a:lnTo>
                      <a:pt x="2012" y="244"/>
                    </a:lnTo>
                    <a:lnTo>
                      <a:pt x="1993" y="246"/>
                    </a:lnTo>
                    <a:lnTo>
                      <a:pt x="1973" y="244"/>
                    </a:lnTo>
                    <a:lnTo>
                      <a:pt x="1955" y="240"/>
                    </a:lnTo>
                    <a:lnTo>
                      <a:pt x="1936" y="238"/>
                    </a:lnTo>
                    <a:lnTo>
                      <a:pt x="1914" y="234"/>
                    </a:lnTo>
                    <a:lnTo>
                      <a:pt x="1891" y="230"/>
                    </a:lnTo>
                    <a:lnTo>
                      <a:pt x="1870" y="229"/>
                    </a:lnTo>
                    <a:lnTo>
                      <a:pt x="1845" y="227"/>
                    </a:lnTo>
                    <a:lnTo>
                      <a:pt x="1816" y="229"/>
                    </a:lnTo>
                    <a:lnTo>
                      <a:pt x="1781" y="230"/>
                    </a:lnTo>
                    <a:lnTo>
                      <a:pt x="1750" y="236"/>
                    </a:lnTo>
                    <a:lnTo>
                      <a:pt x="1722" y="246"/>
                    </a:lnTo>
                    <a:lnTo>
                      <a:pt x="1695" y="256"/>
                    </a:lnTo>
                    <a:lnTo>
                      <a:pt x="1677" y="268"/>
                    </a:lnTo>
                    <a:lnTo>
                      <a:pt x="1667" y="279"/>
                    </a:lnTo>
                    <a:lnTo>
                      <a:pt x="1661" y="293"/>
                    </a:lnTo>
                    <a:lnTo>
                      <a:pt x="1642" y="307"/>
                    </a:lnTo>
                    <a:lnTo>
                      <a:pt x="1617" y="317"/>
                    </a:lnTo>
                    <a:lnTo>
                      <a:pt x="1592" y="322"/>
                    </a:lnTo>
                    <a:lnTo>
                      <a:pt x="1563" y="328"/>
                    </a:lnTo>
                    <a:lnTo>
                      <a:pt x="1535" y="330"/>
                    </a:lnTo>
                    <a:lnTo>
                      <a:pt x="1510" y="334"/>
                    </a:lnTo>
                    <a:lnTo>
                      <a:pt x="1487" y="334"/>
                    </a:lnTo>
                    <a:lnTo>
                      <a:pt x="1462" y="334"/>
                    </a:lnTo>
                    <a:lnTo>
                      <a:pt x="1433" y="330"/>
                    </a:lnTo>
                    <a:lnTo>
                      <a:pt x="1396" y="328"/>
                    </a:lnTo>
                    <a:lnTo>
                      <a:pt x="1360" y="326"/>
                    </a:lnTo>
                    <a:lnTo>
                      <a:pt x="1323" y="326"/>
                    </a:lnTo>
                    <a:lnTo>
                      <a:pt x="1295" y="328"/>
                    </a:lnTo>
                    <a:lnTo>
                      <a:pt x="1270" y="334"/>
                    </a:lnTo>
                    <a:lnTo>
                      <a:pt x="1254" y="342"/>
                    </a:lnTo>
                    <a:lnTo>
                      <a:pt x="1232" y="364"/>
                    </a:lnTo>
                    <a:lnTo>
                      <a:pt x="1206" y="387"/>
                    </a:lnTo>
                    <a:lnTo>
                      <a:pt x="1181" y="407"/>
                    </a:lnTo>
                    <a:lnTo>
                      <a:pt x="1172" y="412"/>
                    </a:lnTo>
                    <a:lnTo>
                      <a:pt x="1065" y="407"/>
                    </a:lnTo>
                    <a:lnTo>
                      <a:pt x="1058" y="408"/>
                    </a:lnTo>
                    <a:lnTo>
                      <a:pt x="1042" y="410"/>
                    </a:lnTo>
                    <a:lnTo>
                      <a:pt x="1026" y="416"/>
                    </a:lnTo>
                    <a:lnTo>
                      <a:pt x="1004" y="420"/>
                    </a:lnTo>
                    <a:lnTo>
                      <a:pt x="985" y="422"/>
                    </a:lnTo>
                    <a:lnTo>
                      <a:pt x="969" y="424"/>
                    </a:lnTo>
                    <a:lnTo>
                      <a:pt x="967" y="422"/>
                    </a:lnTo>
                    <a:lnTo>
                      <a:pt x="979" y="412"/>
                    </a:lnTo>
                    <a:lnTo>
                      <a:pt x="995" y="389"/>
                    </a:lnTo>
                    <a:lnTo>
                      <a:pt x="992" y="358"/>
                    </a:lnTo>
                    <a:lnTo>
                      <a:pt x="967" y="334"/>
                    </a:lnTo>
                    <a:lnTo>
                      <a:pt x="938" y="326"/>
                    </a:lnTo>
                    <a:lnTo>
                      <a:pt x="919" y="328"/>
                    </a:lnTo>
                    <a:lnTo>
                      <a:pt x="894" y="330"/>
                    </a:lnTo>
                    <a:lnTo>
                      <a:pt x="869" y="334"/>
                    </a:lnTo>
                    <a:lnTo>
                      <a:pt x="841" y="334"/>
                    </a:lnTo>
                    <a:lnTo>
                      <a:pt x="812" y="330"/>
                    </a:lnTo>
                    <a:lnTo>
                      <a:pt x="789" y="328"/>
                    </a:lnTo>
                    <a:lnTo>
                      <a:pt x="775" y="322"/>
                    </a:lnTo>
                    <a:lnTo>
                      <a:pt x="768" y="313"/>
                    </a:lnTo>
                    <a:lnTo>
                      <a:pt x="759" y="287"/>
                    </a:lnTo>
                    <a:lnTo>
                      <a:pt x="743" y="248"/>
                    </a:lnTo>
                    <a:lnTo>
                      <a:pt x="711" y="215"/>
                    </a:lnTo>
                    <a:lnTo>
                      <a:pt x="679" y="195"/>
                    </a:lnTo>
                    <a:lnTo>
                      <a:pt x="657" y="193"/>
                    </a:lnTo>
                    <a:lnTo>
                      <a:pt x="632" y="197"/>
                    </a:lnTo>
                    <a:lnTo>
                      <a:pt x="604" y="209"/>
                    </a:lnTo>
                    <a:lnTo>
                      <a:pt x="568" y="221"/>
                    </a:lnTo>
                    <a:lnTo>
                      <a:pt x="536" y="236"/>
                    </a:lnTo>
                    <a:lnTo>
                      <a:pt x="502" y="254"/>
                    </a:lnTo>
                    <a:lnTo>
                      <a:pt x="467" y="272"/>
                    </a:lnTo>
                    <a:lnTo>
                      <a:pt x="440" y="287"/>
                    </a:lnTo>
                    <a:lnTo>
                      <a:pt x="408" y="305"/>
                    </a:lnTo>
                    <a:lnTo>
                      <a:pt x="372" y="324"/>
                    </a:lnTo>
                    <a:lnTo>
                      <a:pt x="338" y="346"/>
                    </a:lnTo>
                    <a:lnTo>
                      <a:pt x="299" y="369"/>
                    </a:lnTo>
                    <a:lnTo>
                      <a:pt x="265" y="391"/>
                    </a:lnTo>
                    <a:lnTo>
                      <a:pt x="230" y="408"/>
                    </a:lnTo>
                    <a:lnTo>
                      <a:pt x="203" y="426"/>
                    </a:lnTo>
                    <a:lnTo>
                      <a:pt x="180" y="440"/>
                    </a:lnTo>
                    <a:lnTo>
                      <a:pt x="151" y="461"/>
                    </a:lnTo>
                    <a:lnTo>
                      <a:pt x="132" y="485"/>
                    </a:lnTo>
                    <a:lnTo>
                      <a:pt x="130" y="510"/>
                    </a:lnTo>
                    <a:lnTo>
                      <a:pt x="146" y="540"/>
                    </a:lnTo>
                    <a:lnTo>
                      <a:pt x="167" y="571"/>
                    </a:lnTo>
                    <a:lnTo>
                      <a:pt x="189" y="606"/>
                    </a:lnTo>
                    <a:lnTo>
                      <a:pt x="208" y="635"/>
                    </a:lnTo>
                    <a:lnTo>
                      <a:pt x="240" y="643"/>
                    </a:lnTo>
                    <a:lnTo>
                      <a:pt x="257" y="643"/>
                    </a:lnTo>
                    <a:lnTo>
                      <a:pt x="278" y="641"/>
                    </a:lnTo>
                    <a:lnTo>
                      <a:pt x="299" y="639"/>
                    </a:lnTo>
                    <a:lnTo>
                      <a:pt x="322" y="635"/>
                    </a:lnTo>
                    <a:lnTo>
                      <a:pt x="344" y="626"/>
                    </a:lnTo>
                    <a:lnTo>
                      <a:pt x="367" y="622"/>
                    </a:lnTo>
                    <a:lnTo>
                      <a:pt x="383" y="616"/>
                    </a:lnTo>
                    <a:lnTo>
                      <a:pt x="392" y="604"/>
                    </a:lnTo>
                    <a:lnTo>
                      <a:pt x="411" y="585"/>
                    </a:lnTo>
                    <a:lnTo>
                      <a:pt x="436" y="565"/>
                    </a:lnTo>
                    <a:lnTo>
                      <a:pt x="449" y="543"/>
                    </a:lnTo>
                    <a:lnTo>
                      <a:pt x="449" y="520"/>
                    </a:lnTo>
                    <a:lnTo>
                      <a:pt x="436" y="491"/>
                    </a:lnTo>
                    <a:lnTo>
                      <a:pt x="429" y="467"/>
                    </a:lnTo>
                    <a:lnTo>
                      <a:pt x="433" y="446"/>
                    </a:lnTo>
                    <a:lnTo>
                      <a:pt x="449" y="426"/>
                    </a:lnTo>
                    <a:lnTo>
                      <a:pt x="467" y="416"/>
                    </a:lnTo>
                    <a:lnTo>
                      <a:pt x="486" y="407"/>
                    </a:lnTo>
                    <a:lnTo>
                      <a:pt x="509" y="395"/>
                    </a:lnTo>
                    <a:lnTo>
                      <a:pt x="527" y="387"/>
                    </a:lnTo>
                    <a:lnTo>
                      <a:pt x="543" y="377"/>
                    </a:lnTo>
                    <a:lnTo>
                      <a:pt x="559" y="371"/>
                    </a:lnTo>
                    <a:lnTo>
                      <a:pt x="568" y="369"/>
                    </a:lnTo>
                    <a:lnTo>
                      <a:pt x="575" y="367"/>
                    </a:lnTo>
                    <a:lnTo>
                      <a:pt x="579" y="367"/>
                    </a:lnTo>
                    <a:lnTo>
                      <a:pt x="588" y="369"/>
                    </a:lnTo>
                    <a:lnTo>
                      <a:pt x="600" y="377"/>
                    </a:lnTo>
                    <a:lnTo>
                      <a:pt x="604" y="393"/>
                    </a:lnTo>
                    <a:lnTo>
                      <a:pt x="600" y="407"/>
                    </a:lnTo>
                    <a:lnTo>
                      <a:pt x="584" y="410"/>
                    </a:lnTo>
                    <a:lnTo>
                      <a:pt x="563" y="420"/>
                    </a:lnTo>
                    <a:lnTo>
                      <a:pt x="536" y="432"/>
                    </a:lnTo>
                    <a:lnTo>
                      <a:pt x="515" y="455"/>
                    </a:lnTo>
                    <a:lnTo>
                      <a:pt x="515" y="487"/>
                    </a:lnTo>
                    <a:lnTo>
                      <a:pt x="534" y="510"/>
                    </a:lnTo>
                    <a:lnTo>
                      <a:pt x="575" y="520"/>
                    </a:lnTo>
                    <a:lnTo>
                      <a:pt x="604" y="514"/>
                    </a:lnTo>
                    <a:lnTo>
                      <a:pt x="632" y="506"/>
                    </a:lnTo>
                    <a:lnTo>
                      <a:pt x="661" y="500"/>
                    </a:lnTo>
                    <a:lnTo>
                      <a:pt x="691" y="491"/>
                    </a:lnTo>
                    <a:lnTo>
                      <a:pt x="719" y="483"/>
                    </a:lnTo>
                    <a:lnTo>
                      <a:pt x="746" y="475"/>
                    </a:lnTo>
                    <a:lnTo>
                      <a:pt x="764" y="471"/>
                    </a:lnTo>
                    <a:lnTo>
                      <a:pt x="776" y="471"/>
                    </a:lnTo>
                    <a:lnTo>
                      <a:pt x="800" y="485"/>
                    </a:lnTo>
                    <a:lnTo>
                      <a:pt x="821" y="506"/>
                    </a:lnTo>
                    <a:lnTo>
                      <a:pt x="841" y="528"/>
                    </a:lnTo>
                    <a:lnTo>
                      <a:pt x="853" y="543"/>
                    </a:lnTo>
                    <a:lnTo>
                      <a:pt x="830" y="545"/>
                    </a:lnTo>
                    <a:lnTo>
                      <a:pt x="812" y="549"/>
                    </a:lnTo>
                    <a:lnTo>
                      <a:pt x="792" y="557"/>
                    </a:lnTo>
                    <a:lnTo>
                      <a:pt x="775" y="565"/>
                    </a:lnTo>
                    <a:lnTo>
                      <a:pt x="759" y="571"/>
                    </a:lnTo>
                    <a:lnTo>
                      <a:pt x="748" y="577"/>
                    </a:lnTo>
                    <a:lnTo>
                      <a:pt x="743" y="583"/>
                    </a:lnTo>
                    <a:lnTo>
                      <a:pt x="735" y="585"/>
                    </a:lnTo>
                    <a:lnTo>
                      <a:pt x="730" y="585"/>
                    </a:lnTo>
                    <a:lnTo>
                      <a:pt x="711" y="583"/>
                    </a:lnTo>
                    <a:lnTo>
                      <a:pt x="682" y="579"/>
                    </a:lnTo>
                    <a:lnTo>
                      <a:pt x="654" y="577"/>
                    </a:lnTo>
                    <a:lnTo>
                      <a:pt x="622" y="577"/>
                    </a:lnTo>
                    <a:lnTo>
                      <a:pt x="591" y="579"/>
                    </a:lnTo>
                    <a:lnTo>
                      <a:pt x="575" y="585"/>
                    </a:lnTo>
                    <a:lnTo>
                      <a:pt x="565" y="590"/>
                    </a:lnTo>
                    <a:lnTo>
                      <a:pt x="559" y="620"/>
                    </a:lnTo>
                    <a:lnTo>
                      <a:pt x="543" y="651"/>
                    </a:lnTo>
                    <a:lnTo>
                      <a:pt x="511" y="680"/>
                    </a:lnTo>
                    <a:lnTo>
                      <a:pt x="467" y="684"/>
                    </a:lnTo>
                    <a:lnTo>
                      <a:pt x="440" y="680"/>
                    </a:lnTo>
                    <a:lnTo>
                      <a:pt x="397" y="676"/>
                    </a:lnTo>
                    <a:lnTo>
                      <a:pt x="356" y="680"/>
                    </a:lnTo>
                    <a:lnTo>
                      <a:pt x="310" y="682"/>
                    </a:lnTo>
                    <a:lnTo>
                      <a:pt x="265" y="686"/>
                    </a:lnTo>
                    <a:lnTo>
                      <a:pt x="221" y="698"/>
                    </a:lnTo>
                    <a:lnTo>
                      <a:pt x="189" y="712"/>
                    </a:lnTo>
                    <a:lnTo>
                      <a:pt x="160" y="731"/>
                    </a:lnTo>
                    <a:lnTo>
                      <a:pt x="146" y="747"/>
                    </a:lnTo>
                    <a:lnTo>
                      <a:pt x="127" y="763"/>
                    </a:lnTo>
                    <a:lnTo>
                      <a:pt x="111" y="774"/>
                    </a:lnTo>
                    <a:lnTo>
                      <a:pt x="94" y="786"/>
                    </a:lnTo>
                    <a:lnTo>
                      <a:pt x="78" y="798"/>
                    </a:lnTo>
                    <a:lnTo>
                      <a:pt x="62" y="806"/>
                    </a:lnTo>
                    <a:lnTo>
                      <a:pt x="50" y="817"/>
                    </a:lnTo>
                    <a:lnTo>
                      <a:pt x="38" y="831"/>
                    </a:lnTo>
                    <a:lnTo>
                      <a:pt x="29" y="841"/>
                    </a:lnTo>
                    <a:lnTo>
                      <a:pt x="16" y="853"/>
                    </a:lnTo>
                    <a:lnTo>
                      <a:pt x="7" y="864"/>
                    </a:lnTo>
                    <a:lnTo>
                      <a:pt x="0" y="876"/>
                    </a:lnTo>
                    <a:lnTo>
                      <a:pt x="3524" y="876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98" name="Freeform 1180"/>
              <p:cNvSpPr/>
              <p:nvPr/>
            </p:nvSpPr>
            <p:spPr>
              <a:xfrm>
                <a:off x="4321080" y="3790800"/>
                <a:ext cx="2987280" cy="693720"/>
              </a:xfrm>
              <a:custGeom>
                <a:avLst/>
                <a:gdLst/>
                <a:ahLst/>
                <a:rect l="l" t="t" r="r" b="b"/>
                <a:pathLst>
                  <a:path w="3764" h="874">
                    <a:moveTo>
                      <a:pt x="240" y="0"/>
                    </a:moveTo>
                    <a:lnTo>
                      <a:pt x="227" y="16"/>
                    </a:lnTo>
                    <a:lnTo>
                      <a:pt x="217" y="27"/>
                    </a:lnTo>
                    <a:lnTo>
                      <a:pt x="208" y="39"/>
                    </a:lnTo>
                    <a:lnTo>
                      <a:pt x="203" y="43"/>
                    </a:lnTo>
                    <a:lnTo>
                      <a:pt x="183" y="53"/>
                    </a:lnTo>
                    <a:lnTo>
                      <a:pt x="160" y="53"/>
                    </a:lnTo>
                    <a:lnTo>
                      <a:pt x="135" y="53"/>
                    </a:lnTo>
                    <a:lnTo>
                      <a:pt x="110" y="45"/>
                    </a:lnTo>
                    <a:lnTo>
                      <a:pt x="85" y="41"/>
                    </a:lnTo>
                    <a:lnTo>
                      <a:pt x="62" y="37"/>
                    </a:lnTo>
                    <a:lnTo>
                      <a:pt x="49" y="33"/>
                    </a:lnTo>
                    <a:lnTo>
                      <a:pt x="48" y="31"/>
                    </a:lnTo>
                    <a:lnTo>
                      <a:pt x="37" y="37"/>
                    </a:lnTo>
                    <a:lnTo>
                      <a:pt x="24" y="53"/>
                    </a:lnTo>
                    <a:lnTo>
                      <a:pt x="7" y="72"/>
                    </a:lnTo>
                    <a:lnTo>
                      <a:pt x="0" y="92"/>
                    </a:lnTo>
                    <a:lnTo>
                      <a:pt x="7" y="115"/>
                    </a:lnTo>
                    <a:lnTo>
                      <a:pt x="19" y="149"/>
                    </a:lnTo>
                    <a:lnTo>
                      <a:pt x="37" y="178"/>
                    </a:lnTo>
                    <a:lnTo>
                      <a:pt x="57" y="196"/>
                    </a:lnTo>
                    <a:lnTo>
                      <a:pt x="65" y="201"/>
                    </a:lnTo>
                    <a:lnTo>
                      <a:pt x="78" y="207"/>
                    </a:lnTo>
                    <a:lnTo>
                      <a:pt x="97" y="209"/>
                    </a:lnTo>
                    <a:lnTo>
                      <a:pt x="113" y="211"/>
                    </a:lnTo>
                    <a:lnTo>
                      <a:pt x="135" y="209"/>
                    </a:lnTo>
                    <a:lnTo>
                      <a:pt x="154" y="207"/>
                    </a:lnTo>
                    <a:lnTo>
                      <a:pt x="174" y="198"/>
                    </a:lnTo>
                    <a:lnTo>
                      <a:pt x="192" y="190"/>
                    </a:lnTo>
                    <a:lnTo>
                      <a:pt x="204" y="174"/>
                    </a:lnTo>
                    <a:lnTo>
                      <a:pt x="227" y="156"/>
                    </a:lnTo>
                    <a:lnTo>
                      <a:pt x="249" y="135"/>
                    </a:lnTo>
                    <a:lnTo>
                      <a:pt x="274" y="111"/>
                    </a:lnTo>
                    <a:lnTo>
                      <a:pt x="299" y="92"/>
                    </a:lnTo>
                    <a:lnTo>
                      <a:pt x="325" y="74"/>
                    </a:lnTo>
                    <a:lnTo>
                      <a:pt x="350" y="59"/>
                    </a:lnTo>
                    <a:lnTo>
                      <a:pt x="372" y="53"/>
                    </a:lnTo>
                    <a:lnTo>
                      <a:pt x="395" y="45"/>
                    </a:lnTo>
                    <a:lnTo>
                      <a:pt x="416" y="45"/>
                    </a:lnTo>
                    <a:lnTo>
                      <a:pt x="439" y="43"/>
                    </a:lnTo>
                    <a:lnTo>
                      <a:pt x="461" y="45"/>
                    </a:lnTo>
                    <a:lnTo>
                      <a:pt x="482" y="47"/>
                    </a:lnTo>
                    <a:lnTo>
                      <a:pt x="505" y="55"/>
                    </a:lnTo>
                    <a:lnTo>
                      <a:pt x="521" y="61"/>
                    </a:lnTo>
                    <a:lnTo>
                      <a:pt x="535" y="72"/>
                    </a:lnTo>
                    <a:lnTo>
                      <a:pt x="551" y="82"/>
                    </a:lnTo>
                    <a:lnTo>
                      <a:pt x="568" y="98"/>
                    </a:lnTo>
                    <a:lnTo>
                      <a:pt x="587" y="115"/>
                    </a:lnTo>
                    <a:lnTo>
                      <a:pt x="607" y="135"/>
                    </a:lnTo>
                    <a:lnTo>
                      <a:pt x="625" y="149"/>
                    </a:lnTo>
                    <a:lnTo>
                      <a:pt x="637" y="162"/>
                    </a:lnTo>
                    <a:lnTo>
                      <a:pt x="648" y="174"/>
                    </a:lnTo>
                    <a:lnTo>
                      <a:pt x="649" y="176"/>
                    </a:lnTo>
                    <a:lnTo>
                      <a:pt x="673" y="131"/>
                    </a:lnTo>
                    <a:lnTo>
                      <a:pt x="747" y="115"/>
                    </a:lnTo>
                    <a:lnTo>
                      <a:pt x="776" y="196"/>
                    </a:lnTo>
                    <a:lnTo>
                      <a:pt x="779" y="192"/>
                    </a:lnTo>
                    <a:lnTo>
                      <a:pt x="795" y="178"/>
                    </a:lnTo>
                    <a:lnTo>
                      <a:pt x="817" y="158"/>
                    </a:lnTo>
                    <a:lnTo>
                      <a:pt x="844" y="137"/>
                    </a:lnTo>
                    <a:lnTo>
                      <a:pt x="874" y="106"/>
                    </a:lnTo>
                    <a:lnTo>
                      <a:pt x="902" y="72"/>
                    </a:lnTo>
                    <a:lnTo>
                      <a:pt x="925" y="43"/>
                    </a:lnTo>
                    <a:lnTo>
                      <a:pt x="938" y="31"/>
                    </a:lnTo>
                    <a:lnTo>
                      <a:pt x="943" y="33"/>
                    </a:lnTo>
                    <a:lnTo>
                      <a:pt x="963" y="37"/>
                    </a:lnTo>
                    <a:lnTo>
                      <a:pt x="984" y="43"/>
                    </a:lnTo>
                    <a:lnTo>
                      <a:pt x="1007" y="53"/>
                    </a:lnTo>
                    <a:lnTo>
                      <a:pt x="1020" y="57"/>
                    </a:lnTo>
                    <a:lnTo>
                      <a:pt x="1036" y="59"/>
                    </a:lnTo>
                    <a:lnTo>
                      <a:pt x="1057" y="63"/>
                    </a:lnTo>
                    <a:lnTo>
                      <a:pt x="1077" y="65"/>
                    </a:lnTo>
                    <a:lnTo>
                      <a:pt x="1093" y="70"/>
                    </a:lnTo>
                    <a:lnTo>
                      <a:pt x="1107" y="70"/>
                    </a:lnTo>
                    <a:lnTo>
                      <a:pt x="1118" y="72"/>
                    </a:lnTo>
                    <a:lnTo>
                      <a:pt x="1123" y="72"/>
                    </a:lnTo>
                    <a:lnTo>
                      <a:pt x="1136" y="74"/>
                    </a:lnTo>
                    <a:lnTo>
                      <a:pt x="1164" y="78"/>
                    </a:lnTo>
                    <a:lnTo>
                      <a:pt x="1203" y="86"/>
                    </a:lnTo>
                    <a:lnTo>
                      <a:pt x="1228" y="96"/>
                    </a:lnTo>
                    <a:lnTo>
                      <a:pt x="1248" y="111"/>
                    </a:lnTo>
                    <a:lnTo>
                      <a:pt x="1273" y="131"/>
                    </a:lnTo>
                    <a:lnTo>
                      <a:pt x="1294" y="149"/>
                    </a:lnTo>
                    <a:lnTo>
                      <a:pt x="1303" y="156"/>
                    </a:lnTo>
                    <a:lnTo>
                      <a:pt x="1274" y="158"/>
                    </a:lnTo>
                    <a:lnTo>
                      <a:pt x="1249" y="160"/>
                    </a:lnTo>
                    <a:lnTo>
                      <a:pt x="1225" y="162"/>
                    </a:lnTo>
                    <a:lnTo>
                      <a:pt x="1203" y="162"/>
                    </a:lnTo>
                    <a:lnTo>
                      <a:pt x="1180" y="162"/>
                    </a:lnTo>
                    <a:lnTo>
                      <a:pt x="1159" y="162"/>
                    </a:lnTo>
                    <a:lnTo>
                      <a:pt x="1139" y="160"/>
                    </a:lnTo>
                    <a:lnTo>
                      <a:pt x="1123" y="156"/>
                    </a:lnTo>
                    <a:lnTo>
                      <a:pt x="1102" y="153"/>
                    </a:lnTo>
                    <a:lnTo>
                      <a:pt x="1080" y="153"/>
                    </a:lnTo>
                    <a:lnTo>
                      <a:pt x="1057" y="153"/>
                    </a:lnTo>
                    <a:lnTo>
                      <a:pt x="1036" y="153"/>
                    </a:lnTo>
                    <a:lnTo>
                      <a:pt x="1011" y="155"/>
                    </a:lnTo>
                    <a:lnTo>
                      <a:pt x="988" y="158"/>
                    </a:lnTo>
                    <a:lnTo>
                      <a:pt x="966" y="162"/>
                    </a:lnTo>
                    <a:lnTo>
                      <a:pt x="947" y="170"/>
                    </a:lnTo>
                    <a:lnTo>
                      <a:pt x="918" y="190"/>
                    </a:lnTo>
                    <a:lnTo>
                      <a:pt x="897" y="211"/>
                    </a:lnTo>
                    <a:lnTo>
                      <a:pt x="886" y="235"/>
                    </a:lnTo>
                    <a:lnTo>
                      <a:pt x="884" y="241"/>
                    </a:lnTo>
                    <a:lnTo>
                      <a:pt x="893" y="244"/>
                    </a:lnTo>
                    <a:lnTo>
                      <a:pt x="918" y="248"/>
                    </a:lnTo>
                    <a:lnTo>
                      <a:pt x="956" y="256"/>
                    </a:lnTo>
                    <a:lnTo>
                      <a:pt x="988" y="260"/>
                    </a:lnTo>
                    <a:lnTo>
                      <a:pt x="1011" y="270"/>
                    </a:lnTo>
                    <a:lnTo>
                      <a:pt x="1023" y="276"/>
                    </a:lnTo>
                    <a:lnTo>
                      <a:pt x="1032" y="291"/>
                    </a:lnTo>
                    <a:lnTo>
                      <a:pt x="1036" y="309"/>
                    </a:lnTo>
                    <a:lnTo>
                      <a:pt x="1029" y="329"/>
                    </a:lnTo>
                    <a:lnTo>
                      <a:pt x="1016" y="352"/>
                    </a:lnTo>
                    <a:lnTo>
                      <a:pt x="1004" y="368"/>
                    </a:lnTo>
                    <a:lnTo>
                      <a:pt x="995" y="374"/>
                    </a:lnTo>
                    <a:lnTo>
                      <a:pt x="1016" y="387"/>
                    </a:lnTo>
                    <a:lnTo>
                      <a:pt x="1045" y="405"/>
                    </a:lnTo>
                    <a:lnTo>
                      <a:pt x="1070" y="426"/>
                    </a:lnTo>
                    <a:lnTo>
                      <a:pt x="1082" y="442"/>
                    </a:lnTo>
                    <a:lnTo>
                      <a:pt x="1111" y="452"/>
                    </a:lnTo>
                    <a:lnTo>
                      <a:pt x="1134" y="471"/>
                    </a:lnTo>
                    <a:lnTo>
                      <a:pt x="1152" y="493"/>
                    </a:lnTo>
                    <a:lnTo>
                      <a:pt x="1159" y="516"/>
                    </a:lnTo>
                    <a:lnTo>
                      <a:pt x="1164" y="526"/>
                    </a:lnTo>
                    <a:lnTo>
                      <a:pt x="1178" y="548"/>
                    </a:lnTo>
                    <a:lnTo>
                      <a:pt x="1196" y="569"/>
                    </a:lnTo>
                    <a:lnTo>
                      <a:pt x="1212" y="599"/>
                    </a:lnTo>
                    <a:lnTo>
                      <a:pt x="1233" y="624"/>
                    </a:lnTo>
                    <a:lnTo>
                      <a:pt x="1253" y="647"/>
                    </a:lnTo>
                    <a:lnTo>
                      <a:pt x="1273" y="665"/>
                    </a:lnTo>
                    <a:lnTo>
                      <a:pt x="1282" y="673"/>
                    </a:lnTo>
                    <a:lnTo>
                      <a:pt x="1306" y="681"/>
                    </a:lnTo>
                    <a:lnTo>
                      <a:pt x="1339" y="694"/>
                    </a:lnTo>
                    <a:lnTo>
                      <a:pt x="1367" y="708"/>
                    </a:lnTo>
                    <a:lnTo>
                      <a:pt x="1387" y="718"/>
                    </a:lnTo>
                    <a:lnTo>
                      <a:pt x="1395" y="718"/>
                    </a:lnTo>
                    <a:lnTo>
                      <a:pt x="1404" y="718"/>
                    </a:lnTo>
                    <a:lnTo>
                      <a:pt x="1424" y="714"/>
                    </a:lnTo>
                    <a:lnTo>
                      <a:pt x="1440" y="706"/>
                    </a:lnTo>
                    <a:lnTo>
                      <a:pt x="1458" y="702"/>
                    </a:lnTo>
                    <a:lnTo>
                      <a:pt x="1470" y="694"/>
                    </a:lnTo>
                    <a:lnTo>
                      <a:pt x="1486" y="685"/>
                    </a:lnTo>
                    <a:lnTo>
                      <a:pt x="1493" y="675"/>
                    </a:lnTo>
                    <a:lnTo>
                      <a:pt x="1499" y="665"/>
                    </a:lnTo>
                    <a:lnTo>
                      <a:pt x="1513" y="649"/>
                    </a:lnTo>
                    <a:lnTo>
                      <a:pt x="1531" y="636"/>
                    </a:lnTo>
                    <a:lnTo>
                      <a:pt x="1543" y="618"/>
                    </a:lnTo>
                    <a:lnTo>
                      <a:pt x="1563" y="602"/>
                    </a:lnTo>
                    <a:lnTo>
                      <a:pt x="1582" y="587"/>
                    </a:lnTo>
                    <a:lnTo>
                      <a:pt x="1600" y="577"/>
                    </a:lnTo>
                    <a:lnTo>
                      <a:pt x="1613" y="569"/>
                    </a:lnTo>
                    <a:lnTo>
                      <a:pt x="1641" y="559"/>
                    </a:lnTo>
                    <a:lnTo>
                      <a:pt x="1673" y="548"/>
                    </a:lnTo>
                    <a:lnTo>
                      <a:pt x="1689" y="538"/>
                    </a:lnTo>
                    <a:lnTo>
                      <a:pt x="1698" y="532"/>
                    </a:lnTo>
                    <a:lnTo>
                      <a:pt x="1657" y="524"/>
                    </a:lnTo>
                    <a:lnTo>
                      <a:pt x="1616" y="518"/>
                    </a:lnTo>
                    <a:lnTo>
                      <a:pt x="1579" y="509"/>
                    </a:lnTo>
                    <a:lnTo>
                      <a:pt x="1538" y="503"/>
                    </a:lnTo>
                    <a:lnTo>
                      <a:pt x="1499" y="491"/>
                    </a:lnTo>
                    <a:lnTo>
                      <a:pt x="1468" y="483"/>
                    </a:lnTo>
                    <a:lnTo>
                      <a:pt x="1442" y="471"/>
                    </a:lnTo>
                    <a:lnTo>
                      <a:pt x="1424" y="460"/>
                    </a:lnTo>
                    <a:lnTo>
                      <a:pt x="1404" y="434"/>
                    </a:lnTo>
                    <a:lnTo>
                      <a:pt x="1401" y="411"/>
                    </a:lnTo>
                    <a:lnTo>
                      <a:pt x="1417" y="391"/>
                    </a:lnTo>
                    <a:lnTo>
                      <a:pt x="1442" y="376"/>
                    </a:lnTo>
                    <a:lnTo>
                      <a:pt x="1470" y="374"/>
                    </a:lnTo>
                    <a:lnTo>
                      <a:pt x="1497" y="383"/>
                    </a:lnTo>
                    <a:lnTo>
                      <a:pt x="1518" y="395"/>
                    </a:lnTo>
                    <a:lnTo>
                      <a:pt x="1534" y="411"/>
                    </a:lnTo>
                    <a:lnTo>
                      <a:pt x="1540" y="421"/>
                    </a:lnTo>
                    <a:lnTo>
                      <a:pt x="1547" y="426"/>
                    </a:lnTo>
                    <a:lnTo>
                      <a:pt x="1563" y="436"/>
                    </a:lnTo>
                    <a:lnTo>
                      <a:pt x="1579" y="446"/>
                    </a:lnTo>
                    <a:lnTo>
                      <a:pt x="1591" y="458"/>
                    </a:lnTo>
                    <a:lnTo>
                      <a:pt x="1609" y="466"/>
                    </a:lnTo>
                    <a:lnTo>
                      <a:pt x="1629" y="467"/>
                    </a:lnTo>
                    <a:lnTo>
                      <a:pt x="1652" y="467"/>
                    </a:lnTo>
                    <a:lnTo>
                      <a:pt x="1677" y="467"/>
                    </a:lnTo>
                    <a:lnTo>
                      <a:pt x="1707" y="467"/>
                    </a:lnTo>
                    <a:lnTo>
                      <a:pt x="1746" y="471"/>
                    </a:lnTo>
                    <a:lnTo>
                      <a:pt x="1784" y="479"/>
                    </a:lnTo>
                    <a:lnTo>
                      <a:pt x="1821" y="489"/>
                    </a:lnTo>
                    <a:lnTo>
                      <a:pt x="1857" y="501"/>
                    </a:lnTo>
                    <a:lnTo>
                      <a:pt x="1890" y="509"/>
                    </a:lnTo>
                    <a:lnTo>
                      <a:pt x="1914" y="522"/>
                    </a:lnTo>
                    <a:lnTo>
                      <a:pt x="1930" y="536"/>
                    </a:lnTo>
                    <a:lnTo>
                      <a:pt x="1951" y="544"/>
                    </a:lnTo>
                    <a:lnTo>
                      <a:pt x="1972" y="556"/>
                    </a:lnTo>
                    <a:lnTo>
                      <a:pt x="1996" y="561"/>
                    </a:lnTo>
                    <a:lnTo>
                      <a:pt x="2017" y="569"/>
                    </a:lnTo>
                    <a:lnTo>
                      <a:pt x="2033" y="579"/>
                    </a:lnTo>
                    <a:lnTo>
                      <a:pt x="2042" y="589"/>
                    </a:lnTo>
                    <a:lnTo>
                      <a:pt x="2049" y="602"/>
                    </a:lnTo>
                    <a:lnTo>
                      <a:pt x="2058" y="634"/>
                    </a:lnTo>
                    <a:lnTo>
                      <a:pt x="2065" y="659"/>
                    </a:lnTo>
                    <a:lnTo>
                      <a:pt x="2074" y="689"/>
                    </a:lnTo>
                    <a:lnTo>
                      <a:pt x="2093" y="714"/>
                    </a:lnTo>
                    <a:lnTo>
                      <a:pt x="2115" y="735"/>
                    </a:lnTo>
                    <a:lnTo>
                      <a:pt x="2138" y="763"/>
                    </a:lnTo>
                    <a:lnTo>
                      <a:pt x="2163" y="790"/>
                    </a:lnTo>
                    <a:lnTo>
                      <a:pt x="2188" y="810"/>
                    </a:lnTo>
                    <a:lnTo>
                      <a:pt x="2213" y="820"/>
                    </a:lnTo>
                    <a:lnTo>
                      <a:pt x="2232" y="822"/>
                    </a:lnTo>
                    <a:lnTo>
                      <a:pt x="2241" y="810"/>
                    </a:lnTo>
                    <a:lnTo>
                      <a:pt x="2248" y="775"/>
                    </a:lnTo>
                    <a:lnTo>
                      <a:pt x="2250" y="732"/>
                    </a:lnTo>
                    <a:lnTo>
                      <a:pt x="2264" y="685"/>
                    </a:lnTo>
                    <a:lnTo>
                      <a:pt x="2289" y="649"/>
                    </a:lnTo>
                    <a:lnTo>
                      <a:pt x="2334" y="620"/>
                    </a:lnTo>
                    <a:lnTo>
                      <a:pt x="2359" y="606"/>
                    </a:lnTo>
                    <a:lnTo>
                      <a:pt x="2380" y="599"/>
                    </a:lnTo>
                    <a:lnTo>
                      <a:pt x="2403" y="587"/>
                    </a:lnTo>
                    <a:lnTo>
                      <a:pt x="2425" y="579"/>
                    </a:lnTo>
                    <a:lnTo>
                      <a:pt x="2444" y="571"/>
                    </a:lnTo>
                    <a:lnTo>
                      <a:pt x="2462" y="567"/>
                    </a:lnTo>
                    <a:lnTo>
                      <a:pt x="2474" y="561"/>
                    </a:lnTo>
                    <a:lnTo>
                      <a:pt x="2489" y="557"/>
                    </a:lnTo>
                    <a:lnTo>
                      <a:pt x="2515" y="542"/>
                    </a:lnTo>
                    <a:lnTo>
                      <a:pt x="2547" y="522"/>
                    </a:lnTo>
                    <a:lnTo>
                      <a:pt x="2572" y="516"/>
                    </a:lnTo>
                    <a:lnTo>
                      <a:pt x="2583" y="540"/>
                    </a:lnTo>
                    <a:lnTo>
                      <a:pt x="2576" y="579"/>
                    </a:lnTo>
                    <a:lnTo>
                      <a:pt x="2576" y="608"/>
                    </a:lnTo>
                    <a:lnTo>
                      <a:pt x="2588" y="638"/>
                    </a:lnTo>
                    <a:lnTo>
                      <a:pt x="2617" y="665"/>
                    </a:lnTo>
                    <a:lnTo>
                      <a:pt x="2645" y="694"/>
                    </a:lnTo>
                    <a:lnTo>
                      <a:pt x="2669" y="724"/>
                    </a:lnTo>
                    <a:lnTo>
                      <a:pt x="2683" y="755"/>
                    </a:lnTo>
                    <a:lnTo>
                      <a:pt x="2694" y="777"/>
                    </a:lnTo>
                    <a:lnTo>
                      <a:pt x="2702" y="802"/>
                    </a:lnTo>
                    <a:lnTo>
                      <a:pt x="2706" y="831"/>
                    </a:lnTo>
                    <a:lnTo>
                      <a:pt x="2711" y="853"/>
                    </a:lnTo>
                    <a:lnTo>
                      <a:pt x="2711" y="863"/>
                    </a:lnTo>
                    <a:lnTo>
                      <a:pt x="2779" y="831"/>
                    </a:lnTo>
                    <a:lnTo>
                      <a:pt x="2784" y="839"/>
                    </a:lnTo>
                    <a:lnTo>
                      <a:pt x="2804" y="857"/>
                    </a:lnTo>
                    <a:lnTo>
                      <a:pt x="2825" y="874"/>
                    </a:lnTo>
                    <a:lnTo>
                      <a:pt x="2848" y="874"/>
                    </a:lnTo>
                    <a:lnTo>
                      <a:pt x="2850" y="857"/>
                    </a:lnTo>
                    <a:lnTo>
                      <a:pt x="2836" y="831"/>
                    </a:lnTo>
                    <a:lnTo>
                      <a:pt x="2816" y="802"/>
                    </a:lnTo>
                    <a:lnTo>
                      <a:pt x="2816" y="777"/>
                    </a:lnTo>
                    <a:lnTo>
                      <a:pt x="2832" y="763"/>
                    </a:lnTo>
                    <a:lnTo>
                      <a:pt x="2850" y="757"/>
                    </a:lnTo>
                    <a:lnTo>
                      <a:pt x="2873" y="757"/>
                    </a:lnTo>
                    <a:lnTo>
                      <a:pt x="2895" y="757"/>
                    </a:lnTo>
                    <a:lnTo>
                      <a:pt x="2920" y="753"/>
                    </a:lnTo>
                    <a:lnTo>
                      <a:pt x="2948" y="741"/>
                    </a:lnTo>
                    <a:lnTo>
                      <a:pt x="2975" y="726"/>
                    </a:lnTo>
                    <a:lnTo>
                      <a:pt x="3000" y="714"/>
                    </a:lnTo>
                    <a:lnTo>
                      <a:pt x="3005" y="698"/>
                    </a:lnTo>
                    <a:lnTo>
                      <a:pt x="2996" y="683"/>
                    </a:lnTo>
                    <a:lnTo>
                      <a:pt x="2977" y="667"/>
                    </a:lnTo>
                    <a:lnTo>
                      <a:pt x="2971" y="653"/>
                    </a:lnTo>
                    <a:lnTo>
                      <a:pt x="2959" y="638"/>
                    </a:lnTo>
                    <a:lnTo>
                      <a:pt x="2943" y="624"/>
                    </a:lnTo>
                    <a:lnTo>
                      <a:pt x="2923" y="616"/>
                    </a:lnTo>
                    <a:lnTo>
                      <a:pt x="2923" y="600"/>
                    </a:lnTo>
                    <a:lnTo>
                      <a:pt x="2934" y="591"/>
                    </a:lnTo>
                    <a:lnTo>
                      <a:pt x="2952" y="583"/>
                    </a:lnTo>
                    <a:lnTo>
                      <a:pt x="2977" y="575"/>
                    </a:lnTo>
                    <a:lnTo>
                      <a:pt x="3003" y="565"/>
                    </a:lnTo>
                    <a:lnTo>
                      <a:pt x="3037" y="556"/>
                    </a:lnTo>
                    <a:lnTo>
                      <a:pt x="3066" y="548"/>
                    </a:lnTo>
                    <a:lnTo>
                      <a:pt x="3091" y="540"/>
                    </a:lnTo>
                    <a:lnTo>
                      <a:pt x="3115" y="532"/>
                    </a:lnTo>
                    <a:lnTo>
                      <a:pt x="3135" y="526"/>
                    </a:lnTo>
                    <a:lnTo>
                      <a:pt x="3156" y="518"/>
                    </a:lnTo>
                    <a:lnTo>
                      <a:pt x="3172" y="509"/>
                    </a:lnTo>
                    <a:lnTo>
                      <a:pt x="3196" y="497"/>
                    </a:lnTo>
                    <a:lnTo>
                      <a:pt x="3213" y="487"/>
                    </a:lnTo>
                    <a:lnTo>
                      <a:pt x="3237" y="473"/>
                    </a:lnTo>
                    <a:lnTo>
                      <a:pt x="3254" y="466"/>
                    </a:lnTo>
                    <a:lnTo>
                      <a:pt x="3274" y="454"/>
                    </a:lnTo>
                    <a:lnTo>
                      <a:pt x="3302" y="428"/>
                    </a:lnTo>
                    <a:lnTo>
                      <a:pt x="3315" y="401"/>
                    </a:lnTo>
                    <a:lnTo>
                      <a:pt x="3311" y="370"/>
                    </a:lnTo>
                    <a:lnTo>
                      <a:pt x="3302" y="342"/>
                    </a:lnTo>
                    <a:lnTo>
                      <a:pt x="3290" y="319"/>
                    </a:lnTo>
                    <a:lnTo>
                      <a:pt x="3290" y="293"/>
                    </a:lnTo>
                    <a:lnTo>
                      <a:pt x="3302" y="272"/>
                    </a:lnTo>
                    <a:lnTo>
                      <a:pt x="3324" y="248"/>
                    </a:lnTo>
                    <a:lnTo>
                      <a:pt x="3338" y="237"/>
                    </a:lnTo>
                    <a:lnTo>
                      <a:pt x="3352" y="221"/>
                    </a:lnTo>
                    <a:lnTo>
                      <a:pt x="3372" y="209"/>
                    </a:lnTo>
                    <a:lnTo>
                      <a:pt x="3384" y="196"/>
                    </a:lnTo>
                    <a:lnTo>
                      <a:pt x="3404" y="190"/>
                    </a:lnTo>
                    <a:lnTo>
                      <a:pt x="3413" y="188"/>
                    </a:lnTo>
                    <a:lnTo>
                      <a:pt x="3429" y="192"/>
                    </a:lnTo>
                    <a:lnTo>
                      <a:pt x="3436" y="205"/>
                    </a:lnTo>
                    <a:lnTo>
                      <a:pt x="3448" y="241"/>
                    </a:lnTo>
                    <a:lnTo>
                      <a:pt x="3454" y="278"/>
                    </a:lnTo>
                    <a:lnTo>
                      <a:pt x="3457" y="309"/>
                    </a:lnTo>
                    <a:lnTo>
                      <a:pt x="3457" y="323"/>
                    </a:lnTo>
                    <a:lnTo>
                      <a:pt x="3498" y="295"/>
                    </a:lnTo>
                    <a:lnTo>
                      <a:pt x="3523" y="260"/>
                    </a:lnTo>
                    <a:lnTo>
                      <a:pt x="3539" y="227"/>
                    </a:lnTo>
                    <a:lnTo>
                      <a:pt x="3552" y="205"/>
                    </a:lnTo>
                    <a:lnTo>
                      <a:pt x="3575" y="180"/>
                    </a:lnTo>
                    <a:lnTo>
                      <a:pt x="3600" y="149"/>
                    </a:lnTo>
                    <a:lnTo>
                      <a:pt x="3634" y="115"/>
                    </a:lnTo>
                    <a:lnTo>
                      <a:pt x="3659" y="96"/>
                    </a:lnTo>
                    <a:lnTo>
                      <a:pt x="3682" y="80"/>
                    </a:lnTo>
                    <a:lnTo>
                      <a:pt x="3707" y="57"/>
                    </a:lnTo>
                    <a:lnTo>
                      <a:pt x="3732" y="31"/>
                    </a:lnTo>
                    <a:lnTo>
                      <a:pt x="3755" y="12"/>
                    </a:lnTo>
                    <a:lnTo>
                      <a:pt x="3756" y="8"/>
                    </a:lnTo>
                    <a:lnTo>
                      <a:pt x="3760" y="6"/>
                    </a:lnTo>
                    <a:lnTo>
                      <a:pt x="3760" y="4"/>
                    </a:lnTo>
                    <a:lnTo>
                      <a:pt x="3764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399" name="Freeform 1181"/>
              <p:cNvSpPr/>
              <p:nvPr/>
            </p:nvSpPr>
            <p:spPr>
              <a:xfrm>
                <a:off x="4109760" y="3983040"/>
                <a:ext cx="1336320" cy="1079280"/>
              </a:xfrm>
              <a:custGeom>
                <a:avLst/>
                <a:gdLst/>
                <a:ahLst/>
                <a:rect l="l" t="t" r="r" b="b"/>
                <a:pathLst>
                  <a:path w="1685" h="1359">
                    <a:moveTo>
                      <a:pt x="1229" y="138"/>
                    </a:moveTo>
                    <a:lnTo>
                      <a:pt x="1206" y="138"/>
                    </a:lnTo>
                    <a:lnTo>
                      <a:pt x="1181" y="138"/>
                    </a:lnTo>
                    <a:lnTo>
                      <a:pt x="1156" y="133"/>
                    </a:lnTo>
                    <a:lnTo>
                      <a:pt x="1134" y="129"/>
                    </a:lnTo>
                    <a:lnTo>
                      <a:pt x="1111" y="125"/>
                    </a:lnTo>
                    <a:lnTo>
                      <a:pt x="1093" y="115"/>
                    </a:lnTo>
                    <a:lnTo>
                      <a:pt x="1077" y="111"/>
                    </a:lnTo>
                    <a:lnTo>
                      <a:pt x="1065" y="107"/>
                    </a:lnTo>
                    <a:lnTo>
                      <a:pt x="1053" y="101"/>
                    </a:lnTo>
                    <a:lnTo>
                      <a:pt x="1040" y="101"/>
                    </a:lnTo>
                    <a:lnTo>
                      <a:pt x="1024" y="109"/>
                    </a:lnTo>
                    <a:lnTo>
                      <a:pt x="1012" y="113"/>
                    </a:lnTo>
                    <a:lnTo>
                      <a:pt x="992" y="119"/>
                    </a:lnTo>
                    <a:lnTo>
                      <a:pt x="976" y="129"/>
                    </a:lnTo>
                    <a:lnTo>
                      <a:pt x="958" y="133"/>
                    </a:lnTo>
                    <a:lnTo>
                      <a:pt x="942" y="138"/>
                    </a:lnTo>
                    <a:lnTo>
                      <a:pt x="923" y="138"/>
                    </a:lnTo>
                    <a:lnTo>
                      <a:pt x="898" y="135"/>
                    </a:lnTo>
                    <a:lnTo>
                      <a:pt x="873" y="133"/>
                    </a:lnTo>
                    <a:lnTo>
                      <a:pt x="848" y="127"/>
                    </a:lnTo>
                    <a:lnTo>
                      <a:pt x="823" y="115"/>
                    </a:lnTo>
                    <a:lnTo>
                      <a:pt x="796" y="107"/>
                    </a:lnTo>
                    <a:lnTo>
                      <a:pt x="775" y="93"/>
                    </a:lnTo>
                    <a:lnTo>
                      <a:pt x="759" y="78"/>
                    </a:lnTo>
                    <a:lnTo>
                      <a:pt x="741" y="62"/>
                    </a:lnTo>
                    <a:lnTo>
                      <a:pt x="714" y="45"/>
                    </a:lnTo>
                    <a:lnTo>
                      <a:pt x="684" y="31"/>
                    </a:lnTo>
                    <a:lnTo>
                      <a:pt x="655" y="17"/>
                    </a:lnTo>
                    <a:lnTo>
                      <a:pt x="620" y="7"/>
                    </a:lnTo>
                    <a:lnTo>
                      <a:pt x="591" y="0"/>
                    </a:lnTo>
                    <a:lnTo>
                      <a:pt x="566" y="0"/>
                    </a:lnTo>
                    <a:lnTo>
                      <a:pt x="549" y="3"/>
                    </a:lnTo>
                    <a:lnTo>
                      <a:pt x="533" y="13"/>
                    </a:lnTo>
                    <a:lnTo>
                      <a:pt x="509" y="19"/>
                    </a:lnTo>
                    <a:lnTo>
                      <a:pt x="479" y="23"/>
                    </a:lnTo>
                    <a:lnTo>
                      <a:pt x="451" y="25"/>
                    </a:lnTo>
                    <a:lnTo>
                      <a:pt x="422" y="29"/>
                    </a:lnTo>
                    <a:lnTo>
                      <a:pt x="394" y="31"/>
                    </a:lnTo>
                    <a:lnTo>
                      <a:pt x="369" y="37"/>
                    </a:lnTo>
                    <a:lnTo>
                      <a:pt x="347" y="45"/>
                    </a:lnTo>
                    <a:lnTo>
                      <a:pt x="328" y="56"/>
                    </a:lnTo>
                    <a:lnTo>
                      <a:pt x="306" y="70"/>
                    </a:lnTo>
                    <a:lnTo>
                      <a:pt x="280" y="88"/>
                    </a:lnTo>
                    <a:lnTo>
                      <a:pt x="258" y="107"/>
                    </a:lnTo>
                    <a:lnTo>
                      <a:pt x="237" y="125"/>
                    </a:lnTo>
                    <a:lnTo>
                      <a:pt x="214" y="142"/>
                    </a:lnTo>
                    <a:lnTo>
                      <a:pt x="198" y="158"/>
                    </a:lnTo>
                    <a:lnTo>
                      <a:pt x="185" y="170"/>
                    </a:lnTo>
                    <a:lnTo>
                      <a:pt x="169" y="183"/>
                    </a:lnTo>
                    <a:lnTo>
                      <a:pt x="152" y="193"/>
                    </a:lnTo>
                    <a:lnTo>
                      <a:pt x="128" y="207"/>
                    </a:lnTo>
                    <a:lnTo>
                      <a:pt x="103" y="219"/>
                    </a:lnTo>
                    <a:lnTo>
                      <a:pt x="82" y="230"/>
                    </a:lnTo>
                    <a:lnTo>
                      <a:pt x="61" y="244"/>
                    </a:lnTo>
                    <a:lnTo>
                      <a:pt x="45" y="258"/>
                    </a:lnTo>
                    <a:lnTo>
                      <a:pt x="41" y="271"/>
                    </a:lnTo>
                    <a:lnTo>
                      <a:pt x="34" y="301"/>
                    </a:lnTo>
                    <a:lnTo>
                      <a:pt x="22" y="332"/>
                    </a:lnTo>
                    <a:lnTo>
                      <a:pt x="9" y="352"/>
                    </a:lnTo>
                    <a:lnTo>
                      <a:pt x="0" y="361"/>
                    </a:lnTo>
                    <a:lnTo>
                      <a:pt x="4" y="377"/>
                    </a:lnTo>
                    <a:lnTo>
                      <a:pt x="13" y="414"/>
                    </a:lnTo>
                    <a:lnTo>
                      <a:pt x="22" y="455"/>
                    </a:lnTo>
                    <a:lnTo>
                      <a:pt x="41" y="483"/>
                    </a:lnTo>
                    <a:lnTo>
                      <a:pt x="57" y="506"/>
                    </a:lnTo>
                    <a:lnTo>
                      <a:pt x="66" y="539"/>
                    </a:lnTo>
                    <a:lnTo>
                      <a:pt x="89" y="567"/>
                    </a:lnTo>
                    <a:lnTo>
                      <a:pt x="128" y="588"/>
                    </a:lnTo>
                    <a:lnTo>
                      <a:pt x="160" y="592"/>
                    </a:lnTo>
                    <a:lnTo>
                      <a:pt x="205" y="598"/>
                    </a:lnTo>
                    <a:lnTo>
                      <a:pt x="251" y="604"/>
                    </a:lnTo>
                    <a:lnTo>
                      <a:pt x="303" y="606"/>
                    </a:lnTo>
                    <a:lnTo>
                      <a:pt x="353" y="608"/>
                    </a:lnTo>
                    <a:lnTo>
                      <a:pt x="401" y="610"/>
                    </a:lnTo>
                    <a:lnTo>
                      <a:pt x="442" y="610"/>
                    </a:lnTo>
                    <a:lnTo>
                      <a:pt x="472" y="608"/>
                    </a:lnTo>
                    <a:lnTo>
                      <a:pt x="497" y="606"/>
                    </a:lnTo>
                    <a:lnTo>
                      <a:pt x="520" y="606"/>
                    </a:lnTo>
                    <a:lnTo>
                      <a:pt x="542" y="606"/>
                    </a:lnTo>
                    <a:lnTo>
                      <a:pt x="565" y="608"/>
                    </a:lnTo>
                    <a:lnTo>
                      <a:pt x="582" y="610"/>
                    </a:lnTo>
                    <a:lnTo>
                      <a:pt x="598" y="616"/>
                    </a:lnTo>
                    <a:lnTo>
                      <a:pt x="618" y="622"/>
                    </a:lnTo>
                    <a:lnTo>
                      <a:pt x="632" y="627"/>
                    </a:lnTo>
                    <a:lnTo>
                      <a:pt x="661" y="643"/>
                    </a:lnTo>
                    <a:lnTo>
                      <a:pt x="680" y="663"/>
                    </a:lnTo>
                    <a:lnTo>
                      <a:pt x="686" y="682"/>
                    </a:lnTo>
                    <a:lnTo>
                      <a:pt x="684" y="706"/>
                    </a:lnTo>
                    <a:lnTo>
                      <a:pt x="671" y="729"/>
                    </a:lnTo>
                    <a:lnTo>
                      <a:pt x="671" y="743"/>
                    </a:lnTo>
                    <a:lnTo>
                      <a:pt x="689" y="757"/>
                    </a:lnTo>
                    <a:lnTo>
                      <a:pt x="730" y="766"/>
                    </a:lnTo>
                    <a:lnTo>
                      <a:pt x="762" y="778"/>
                    </a:lnTo>
                    <a:lnTo>
                      <a:pt x="771" y="798"/>
                    </a:lnTo>
                    <a:lnTo>
                      <a:pt x="766" y="823"/>
                    </a:lnTo>
                    <a:lnTo>
                      <a:pt x="762" y="847"/>
                    </a:lnTo>
                    <a:lnTo>
                      <a:pt x="762" y="874"/>
                    </a:lnTo>
                    <a:lnTo>
                      <a:pt x="759" y="903"/>
                    </a:lnTo>
                    <a:lnTo>
                      <a:pt x="753" y="936"/>
                    </a:lnTo>
                    <a:lnTo>
                      <a:pt x="750" y="974"/>
                    </a:lnTo>
                    <a:lnTo>
                      <a:pt x="741" y="989"/>
                    </a:lnTo>
                    <a:lnTo>
                      <a:pt x="730" y="1005"/>
                    </a:lnTo>
                    <a:lnTo>
                      <a:pt x="727" y="1021"/>
                    </a:lnTo>
                    <a:lnTo>
                      <a:pt x="737" y="1044"/>
                    </a:lnTo>
                    <a:lnTo>
                      <a:pt x="750" y="1060"/>
                    </a:lnTo>
                    <a:lnTo>
                      <a:pt x="762" y="1087"/>
                    </a:lnTo>
                    <a:lnTo>
                      <a:pt x="778" y="1111"/>
                    </a:lnTo>
                    <a:lnTo>
                      <a:pt x="791" y="1128"/>
                    </a:lnTo>
                    <a:lnTo>
                      <a:pt x="807" y="1146"/>
                    </a:lnTo>
                    <a:lnTo>
                      <a:pt x="828" y="1173"/>
                    </a:lnTo>
                    <a:lnTo>
                      <a:pt x="850" y="1204"/>
                    </a:lnTo>
                    <a:lnTo>
                      <a:pt x="866" y="1226"/>
                    </a:lnTo>
                    <a:lnTo>
                      <a:pt x="876" y="1253"/>
                    </a:lnTo>
                    <a:lnTo>
                      <a:pt x="891" y="1294"/>
                    </a:lnTo>
                    <a:lnTo>
                      <a:pt x="910" y="1328"/>
                    </a:lnTo>
                    <a:lnTo>
                      <a:pt x="931" y="1351"/>
                    </a:lnTo>
                    <a:lnTo>
                      <a:pt x="947" y="1355"/>
                    </a:lnTo>
                    <a:lnTo>
                      <a:pt x="972" y="1357"/>
                    </a:lnTo>
                    <a:lnTo>
                      <a:pt x="999" y="1359"/>
                    </a:lnTo>
                    <a:lnTo>
                      <a:pt x="1033" y="1359"/>
                    </a:lnTo>
                    <a:lnTo>
                      <a:pt x="1061" y="1357"/>
                    </a:lnTo>
                    <a:lnTo>
                      <a:pt x="1090" y="1353"/>
                    </a:lnTo>
                    <a:lnTo>
                      <a:pt x="1111" y="1341"/>
                    </a:lnTo>
                    <a:lnTo>
                      <a:pt x="1131" y="1328"/>
                    </a:lnTo>
                    <a:lnTo>
                      <a:pt x="1143" y="1314"/>
                    </a:lnTo>
                    <a:lnTo>
                      <a:pt x="1165" y="1302"/>
                    </a:lnTo>
                    <a:lnTo>
                      <a:pt x="1188" y="1289"/>
                    </a:lnTo>
                    <a:lnTo>
                      <a:pt x="1209" y="1277"/>
                    </a:lnTo>
                    <a:lnTo>
                      <a:pt x="1231" y="1267"/>
                    </a:lnTo>
                    <a:lnTo>
                      <a:pt x="1250" y="1257"/>
                    </a:lnTo>
                    <a:lnTo>
                      <a:pt x="1263" y="1246"/>
                    </a:lnTo>
                    <a:lnTo>
                      <a:pt x="1275" y="1238"/>
                    </a:lnTo>
                    <a:lnTo>
                      <a:pt x="1282" y="1216"/>
                    </a:lnTo>
                    <a:lnTo>
                      <a:pt x="1275" y="1191"/>
                    </a:lnTo>
                    <a:lnTo>
                      <a:pt x="1266" y="1169"/>
                    </a:lnTo>
                    <a:lnTo>
                      <a:pt x="1263" y="1152"/>
                    </a:lnTo>
                    <a:lnTo>
                      <a:pt x="1275" y="1144"/>
                    </a:lnTo>
                    <a:lnTo>
                      <a:pt x="1300" y="1144"/>
                    </a:lnTo>
                    <a:lnTo>
                      <a:pt x="1329" y="1146"/>
                    </a:lnTo>
                    <a:lnTo>
                      <a:pt x="1352" y="1144"/>
                    </a:lnTo>
                    <a:lnTo>
                      <a:pt x="1353" y="1134"/>
                    </a:lnTo>
                    <a:lnTo>
                      <a:pt x="1352" y="1114"/>
                    </a:lnTo>
                    <a:lnTo>
                      <a:pt x="1348" y="1093"/>
                    </a:lnTo>
                    <a:lnTo>
                      <a:pt x="1352" y="1071"/>
                    </a:lnTo>
                    <a:lnTo>
                      <a:pt x="1369" y="1056"/>
                    </a:lnTo>
                    <a:lnTo>
                      <a:pt x="1398" y="1040"/>
                    </a:lnTo>
                    <a:lnTo>
                      <a:pt x="1426" y="1026"/>
                    </a:lnTo>
                    <a:lnTo>
                      <a:pt x="1446" y="1013"/>
                    </a:lnTo>
                    <a:lnTo>
                      <a:pt x="1455" y="981"/>
                    </a:lnTo>
                    <a:lnTo>
                      <a:pt x="1458" y="944"/>
                    </a:lnTo>
                    <a:lnTo>
                      <a:pt x="1455" y="905"/>
                    </a:lnTo>
                    <a:lnTo>
                      <a:pt x="1455" y="872"/>
                    </a:lnTo>
                    <a:lnTo>
                      <a:pt x="1446" y="852"/>
                    </a:lnTo>
                    <a:lnTo>
                      <a:pt x="1423" y="839"/>
                    </a:lnTo>
                    <a:lnTo>
                      <a:pt x="1405" y="827"/>
                    </a:lnTo>
                    <a:lnTo>
                      <a:pt x="1398" y="807"/>
                    </a:lnTo>
                    <a:lnTo>
                      <a:pt x="1410" y="782"/>
                    </a:lnTo>
                    <a:lnTo>
                      <a:pt x="1442" y="760"/>
                    </a:lnTo>
                    <a:lnTo>
                      <a:pt x="1475" y="737"/>
                    </a:lnTo>
                    <a:lnTo>
                      <a:pt x="1501" y="706"/>
                    </a:lnTo>
                    <a:lnTo>
                      <a:pt x="1521" y="686"/>
                    </a:lnTo>
                    <a:lnTo>
                      <a:pt x="1546" y="659"/>
                    </a:lnTo>
                    <a:lnTo>
                      <a:pt x="1578" y="627"/>
                    </a:lnTo>
                    <a:lnTo>
                      <a:pt x="1610" y="598"/>
                    </a:lnTo>
                    <a:lnTo>
                      <a:pt x="1637" y="567"/>
                    </a:lnTo>
                    <a:lnTo>
                      <a:pt x="1663" y="545"/>
                    </a:lnTo>
                    <a:lnTo>
                      <a:pt x="1678" y="528"/>
                    </a:lnTo>
                    <a:lnTo>
                      <a:pt x="1685" y="524"/>
                    </a:lnTo>
                    <a:lnTo>
                      <a:pt x="1665" y="516"/>
                    </a:lnTo>
                    <a:lnTo>
                      <a:pt x="1640" y="516"/>
                    </a:lnTo>
                    <a:lnTo>
                      <a:pt x="1615" y="524"/>
                    </a:lnTo>
                    <a:lnTo>
                      <a:pt x="1590" y="524"/>
                    </a:lnTo>
                    <a:lnTo>
                      <a:pt x="1574" y="516"/>
                    </a:lnTo>
                    <a:lnTo>
                      <a:pt x="1558" y="508"/>
                    </a:lnTo>
                    <a:lnTo>
                      <a:pt x="1533" y="494"/>
                    </a:lnTo>
                    <a:lnTo>
                      <a:pt x="1505" y="483"/>
                    </a:lnTo>
                    <a:lnTo>
                      <a:pt x="1480" y="467"/>
                    </a:lnTo>
                    <a:lnTo>
                      <a:pt x="1455" y="449"/>
                    </a:lnTo>
                    <a:lnTo>
                      <a:pt x="1434" y="434"/>
                    </a:lnTo>
                    <a:lnTo>
                      <a:pt x="1418" y="422"/>
                    </a:lnTo>
                    <a:lnTo>
                      <a:pt x="1385" y="395"/>
                    </a:lnTo>
                    <a:lnTo>
                      <a:pt x="1366" y="361"/>
                    </a:lnTo>
                    <a:lnTo>
                      <a:pt x="1345" y="328"/>
                    </a:lnTo>
                    <a:lnTo>
                      <a:pt x="1332" y="297"/>
                    </a:lnTo>
                    <a:lnTo>
                      <a:pt x="1325" y="262"/>
                    </a:lnTo>
                    <a:lnTo>
                      <a:pt x="1323" y="223"/>
                    </a:lnTo>
                    <a:lnTo>
                      <a:pt x="1323" y="191"/>
                    </a:lnTo>
                    <a:lnTo>
                      <a:pt x="1323" y="178"/>
                    </a:lnTo>
                    <a:lnTo>
                      <a:pt x="1307" y="164"/>
                    </a:lnTo>
                    <a:lnTo>
                      <a:pt x="1282" y="150"/>
                    </a:lnTo>
                    <a:lnTo>
                      <a:pt x="1254" y="142"/>
                    </a:lnTo>
                    <a:lnTo>
                      <a:pt x="1229" y="138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00" name="Freeform 1182"/>
              <p:cNvSpPr/>
              <p:nvPr/>
            </p:nvSpPr>
            <p:spPr>
              <a:xfrm>
                <a:off x="5721120" y="3122640"/>
                <a:ext cx="271080" cy="118800"/>
              </a:xfrm>
              <a:custGeom>
                <a:avLst/>
                <a:gdLst/>
                <a:ahLst/>
                <a:rect l="l" t="t" r="r" b="b"/>
                <a:pathLst>
                  <a:path w="342" h="149">
                    <a:moveTo>
                      <a:pt x="59" y="76"/>
                    </a:moveTo>
                    <a:lnTo>
                      <a:pt x="86" y="72"/>
                    </a:lnTo>
                    <a:lnTo>
                      <a:pt x="107" y="66"/>
                    </a:lnTo>
                    <a:lnTo>
                      <a:pt x="128" y="55"/>
                    </a:lnTo>
                    <a:lnTo>
                      <a:pt x="144" y="43"/>
                    </a:lnTo>
                    <a:lnTo>
                      <a:pt x="160" y="35"/>
                    </a:lnTo>
                    <a:lnTo>
                      <a:pt x="178" y="23"/>
                    </a:lnTo>
                    <a:lnTo>
                      <a:pt x="191" y="19"/>
                    </a:lnTo>
                    <a:lnTo>
                      <a:pt x="210" y="17"/>
                    </a:lnTo>
                    <a:lnTo>
                      <a:pt x="230" y="16"/>
                    </a:lnTo>
                    <a:lnTo>
                      <a:pt x="248" y="12"/>
                    </a:lnTo>
                    <a:lnTo>
                      <a:pt x="264" y="6"/>
                    </a:lnTo>
                    <a:lnTo>
                      <a:pt x="283" y="2"/>
                    </a:lnTo>
                    <a:lnTo>
                      <a:pt x="297" y="0"/>
                    </a:lnTo>
                    <a:lnTo>
                      <a:pt x="310" y="0"/>
                    </a:lnTo>
                    <a:lnTo>
                      <a:pt x="326" y="4"/>
                    </a:lnTo>
                    <a:lnTo>
                      <a:pt x="333" y="17"/>
                    </a:lnTo>
                    <a:lnTo>
                      <a:pt x="342" y="43"/>
                    </a:lnTo>
                    <a:lnTo>
                      <a:pt x="329" y="66"/>
                    </a:lnTo>
                    <a:lnTo>
                      <a:pt x="297" y="80"/>
                    </a:lnTo>
                    <a:lnTo>
                      <a:pt x="251" y="86"/>
                    </a:lnTo>
                    <a:lnTo>
                      <a:pt x="226" y="86"/>
                    </a:lnTo>
                    <a:lnTo>
                      <a:pt x="201" y="86"/>
                    </a:lnTo>
                    <a:lnTo>
                      <a:pt x="178" y="88"/>
                    </a:lnTo>
                    <a:lnTo>
                      <a:pt x="164" y="90"/>
                    </a:lnTo>
                    <a:lnTo>
                      <a:pt x="151" y="92"/>
                    </a:lnTo>
                    <a:lnTo>
                      <a:pt x="139" y="98"/>
                    </a:lnTo>
                    <a:lnTo>
                      <a:pt x="132" y="104"/>
                    </a:lnTo>
                    <a:lnTo>
                      <a:pt x="125" y="109"/>
                    </a:lnTo>
                    <a:lnTo>
                      <a:pt x="110" y="127"/>
                    </a:lnTo>
                    <a:lnTo>
                      <a:pt x="86" y="141"/>
                    </a:lnTo>
                    <a:lnTo>
                      <a:pt x="50" y="149"/>
                    </a:lnTo>
                    <a:lnTo>
                      <a:pt x="20" y="143"/>
                    </a:lnTo>
                    <a:lnTo>
                      <a:pt x="0" y="125"/>
                    </a:lnTo>
                    <a:lnTo>
                      <a:pt x="0" y="106"/>
                    </a:lnTo>
                    <a:lnTo>
                      <a:pt x="20" y="88"/>
                    </a:lnTo>
                    <a:lnTo>
                      <a:pt x="59" y="76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01" name="Freeform 1183"/>
              <p:cNvSpPr/>
              <p:nvPr/>
            </p:nvSpPr>
            <p:spPr>
              <a:xfrm>
                <a:off x="5597280" y="3260520"/>
                <a:ext cx="83880" cy="73080"/>
              </a:xfrm>
              <a:custGeom>
                <a:avLst/>
                <a:gdLst/>
                <a:ahLst/>
                <a:rect l="l" t="t" r="r" b="b"/>
                <a:pathLst>
                  <a:path w="107" h="92">
                    <a:moveTo>
                      <a:pt x="91" y="0"/>
                    </a:moveTo>
                    <a:lnTo>
                      <a:pt x="86" y="2"/>
                    </a:lnTo>
                    <a:lnTo>
                      <a:pt x="73" y="4"/>
                    </a:lnTo>
                    <a:lnTo>
                      <a:pt x="54" y="10"/>
                    </a:lnTo>
                    <a:lnTo>
                      <a:pt x="34" y="18"/>
                    </a:lnTo>
                    <a:lnTo>
                      <a:pt x="20" y="25"/>
                    </a:lnTo>
                    <a:lnTo>
                      <a:pt x="4" y="31"/>
                    </a:lnTo>
                    <a:lnTo>
                      <a:pt x="0" y="37"/>
                    </a:lnTo>
                    <a:lnTo>
                      <a:pt x="4" y="43"/>
                    </a:lnTo>
                    <a:lnTo>
                      <a:pt x="32" y="61"/>
                    </a:lnTo>
                    <a:lnTo>
                      <a:pt x="70" y="80"/>
                    </a:lnTo>
                    <a:lnTo>
                      <a:pt x="98" y="92"/>
                    </a:lnTo>
                    <a:lnTo>
                      <a:pt x="107" y="82"/>
                    </a:lnTo>
                    <a:lnTo>
                      <a:pt x="104" y="57"/>
                    </a:lnTo>
                    <a:lnTo>
                      <a:pt x="100" y="29"/>
                    </a:lnTo>
                    <a:lnTo>
                      <a:pt x="95" y="6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02" name="Freeform 1184"/>
              <p:cNvSpPr/>
              <p:nvPr/>
            </p:nvSpPr>
            <p:spPr>
              <a:xfrm>
                <a:off x="4289400" y="3551040"/>
                <a:ext cx="236160" cy="195480"/>
              </a:xfrm>
              <a:custGeom>
                <a:avLst/>
                <a:gdLst/>
                <a:ahLst/>
                <a:rect l="l" t="t" r="r" b="b"/>
                <a:pathLst>
                  <a:path w="298" h="244">
                    <a:moveTo>
                      <a:pt x="4" y="127"/>
                    </a:moveTo>
                    <a:lnTo>
                      <a:pt x="0" y="115"/>
                    </a:lnTo>
                    <a:lnTo>
                      <a:pt x="7" y="105"/>
                    </a:lnTo>
                    <a:lnTo>
                      <a:pt x="16" y="100"/>
                    </a:lnTo>
                    <a:lnTo>
                      <a:pt x="29" y="96"/>
                    </a:lnTo>
                    <a:lnTo>
                      <a:pt x="48" y="90"/>
                    </a:lnTo>
                    <a:lnTo>
                      <a:pt x="66" y="82"/>
                    </a:lnTo>
                    <a:lnTo>
                      <a:pt x="82" y="76"/>
                    </a:lnTo>
                    <a:lnTo>
                      <a:pt x="98" y="62"/>
                    </a:lnTo>
                    <a:lnTo>
                      <a:pt x="114" y="47"/>
                    </a:lnTo>
                    <a:lnTo>
                      <a:pt x="127" y="33"/>
                    </a:lnTo>
                    <a:lnTo>
                      <a:pt x="143" y="19"/>
                    </a:lnTo>
                    <a:lnTo>
                      <a:pt x="162" y="11"/>
                    </a:lnTo>
                    <a:lnTo>
                      <a:pt x="177" y="2"/>
                    </a:lnTo>
                    <a:lnTo>
                      <a:pt x="196" y="0"/>
                    </a:lnTo>
                    <a:lnTo>
                      <a:pt x="219" y="2"/>
                    </a:lnTo>
                    <a:lnTo>
                      <a:pt x="244" y="11"/>
                    </a:lnTo>
                    <a:lnTo>
                      <a:pt x="276" y="35"/>
                    </a:lnTo>
                    <a:lnTo>
                      <a:pt x="291" y="60"/>
                    </a:lnTo>
                    <a:lnTo>
                      <a:pt x="291" y="86"/>
                    </a:lnTo>
                    <a:lnTo>
                      <a:pt x="294" y="115"/>
                    </a:lnTo>
                    <a:lnTo>
                      <a:pt x="298" y="135"/>
                    </a:lnTo>
                    <a:lnTo>
                      <a:pt x="291" y="156"/>
                    </a:lnTo>
                    <a:lnTo>
                      <a:pt x="282" y="172"/>
                    </a:lnTo>
                    <a:lnTo>
                      <a:pt x="269" y="189"/>
                    </a:lnTo>
                    <a:lnTo>
                      <a:pt x="262" y="201"/>
                    </a:lnTo>
                    <a:lnTo>
                      <a:pt x="250" y="215"/>
                    </a:lnTo>
                    <a:lnTo>
                      <a:pt x="237" y="225"/>
                    </a:lnTo>
                    <a:lnTo>
                      <a:pt x="219" y="233"/>
                    </a:lnTo>
                    <a:lnTo>
                      <a:pt x="196" y="242"/>
                    </a:lnTo>
                    <a:lnTo>
                      <a:pt x="184" y="244"/>
                    </a:lnTo>
                    <a:lnTo>
                      <a:pt x="168" y="240"/>
                    </a:lnTo>
                    <a:lnTo>
                      <a:pt x="155" y="227"/>
                    </a:lnTo>
                    <a:lnTo>
                      <a:pt x="143" y="199"/>
                    </a:lnTo>
                    <a:lnTo>
                      <a:pt x="136" y="180"/>
                    </a:lnTo>
                    <a:lnTo>
                      <a:pt x="139" y="164"/>
                    </a:lnTo>
                    <a:lnTo>
                      <a:pt x="168" y="156"/>
                    </a:lnTo>
                    <a:lnTo>
                      <a:pt x="200" y="141"/>
                    </a:lnTo>
                    <a:lnTo>
                      <a:pt x="221" y="117"/>
                    </a:lnTo>
                    <a:lnTo>
                      <a:pt x="221" y="96"/>
                    </a:lnTo>
                    <a:lnTo>
                      <a:pt x="203" y="82"/>
                    </a:lnTo>
                    <a:lnTo>
                      <a:pt x="191" y="80"/>
                    </a:lnTo>
                    <a:lnTo>
                      <a:pt x="171" y="78"/>
                    </a:lnTo>
                    <a:lnTo>
                      <a:pt x="152" y="78"/>
                    </a:lnTo>
                    <a:lnTo>
                      <a:pt x="136" y="80"/>
                    </a:lnTo>
                    <a:lnTo>
                      <a:pt x="121" y="84"/>
                    </a:lnTo>
                    <a:lnTo>
                      <a:pt x="105" y="90"/>
                    </a:lnTo>
                    <a:lnTo>
                      <a:pt x="95" y="98"/>
                    </a:lnTo>
                    <a:lnTo>
                      <a:pt x="89" y="109"/>
                    </a:lnTo>
                    <a:lnTo>
                      <a:pt x="73" y="131"/>
                    </a:lnTo>
                    <a:lnTo>
                      <a:pt x="50" y="146"/>
                    </a:lnTo>
                    <a:lnTo>
                      <a:pt x="22" y="148"/>
                    </a:lnTo>
                    <a:lnTo>
                      <a:pt x="4" y="127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03" name="Freeform 1185"/>
              <p:cNvSpPr/>
              <p:nvPr/>
            </p:nvSpPr>
            <p:spPr>
              <a:xfrm>
                <a:off x="6862680" y="4698720"/>
                <a:ext cx="810720" cy="435240"/>
              </a:xfrm>
              <a:custGeom>
                <a:avLst/>
                <a:gdLst/>
                <a:ahLst/>
                <a:rect l="l" t="t" r="r" b="b"/>
                <a:pathLst>
                  <a:path w="1022" h="548">
                    <a:moveTo>
                      <a:pt x="719" y="108"/>
                    </a:moveTo>
                    <a:lnTo>
                      <a:pt x="699" y="106"/>
                    </a:lnTo>
                    <a:lnTo>
                      <a:pt x="682" y="104"/>
                    </a:lnTo>
                    <a:lnTo>
                      <a:pt x="666" y="104"/>
                    </a:lnTo>
                    <a:lnTo>
                      <a:pt x="646" y="102"/>
                    </a:lnTo>
                    <a:lnTo>
                      <a:pt x="625" y="100"/>
                    </a:lnTo>
                    <a:lnTo>
                      <a:pt x="609" y="96"/>
                    </a:lnTo>
                    <a:lnTo>
                      <a:pt x="596" y="96"/>
                    </a:lnTo>
                    <a:lnTo>
                      <a:pt x="584" y="94"/>
                    </a:lnTo>
                    <a:lnTo>
                      <a:pt x="573" y="88"/>
                    </a:lnTo>
                    <a:lnTo>
                      <a:pt x="573" y="79"/>
                    </a:lnTo>
                    <a:lnTo>
                      <a:pt x="584" y="69"/>
                    </a:lnTo>
                    <a:lnTo>
                      <a:pt x="602" y="59"/>
                    </a:lnTo>
                    <a:lnTo>
                      <a:pt x="605" y="49"/>
                    </a:lnTo>
                    <a:lnTo>
                      <a:pt x="587" y="37"/>
                    </a:lnTo>
                    <a:lnTo>
                      <a:pt x="561" y="26"/>
                    </a:lnTo>
                    <a:lnTo>
                      <a:pt x="545" y="18"/>
                    </a:lnTo>
                    <a:lnTo>
                      <a:pt x="532" y="8"/>
                    </a:lnTo>
                    <a:lnTo>
                      <a:pt x="523" y="2"/>
                    </a:lnTo>
                    <a:lnTo>
                      <a:pt x="511" y="0"/>
                    </a:lnTo>
                    <a:lnTo>
                      <a:pt x="507" y="6"/>
                    </a:lnTo>
                    <a:lnTo>
                      <a:pt x="491" y="18"/>
                    </a:lnTo>
                    <a:lnTo>
                      <a:pt x="463" y="28"/>
                    </a:lnTo>
                    <a:lnTo>
                      <a:pt x="432" y="39"/>
                    </a:lnTo>
                    <a:lnTo>
                      <a:pt x="404" y="49"/>
                    </a:lnTo>
                    <a:lnTo>
                      <a:pt x="384" y="57"/>
                    </a:lnTo>
                    <a:lnTo>
                      <a:pt x="372" y="65"/>
                    </a:lnTo>
                    <a:lnTo>
                      <a:pt x="356" y="67"/>
                    </a:lnTo>
                    <a:lnTo>
                      <a:pt x="334" y="69"/>
                    </a:lnTo>
                    <a:lnTo>
                      <a:pt x="318" y="73"/>
                    </a:lnTo>
                    <a:lnTo>
                      <a:pt x="299" y="75"/>
                    </a:lnTo>
                    <a:lnTo>
                      <a:pt x="278" y="82"/>
                    </a:lnTo>
                    <a:lnTo>
                      <a:pt x="261" y="88"/>
                    </a:lnTo>
                    <a:lnTo>
                      <a:pt x="240" y="100"/>
                    </a:lnTo>
                    <a:lnTo>
                      <a:pt x="221" y="108"/>
                    </a:lnTo>
                    <a:lnTo>
                      <a:pt x="205" y="122"/>
                    </a:lnTo>
                    <a:lnTo>
                      <a:pt x="192" y="135"/>
                    </a:lnTo>
                    <a:lnTo>
                      <a:pt x="180" y="147"/>
                    </a:lnTo>
                    <a:lnTo>
                      <a:pt x="171" y="155"/>
                    </a:lnTo>
                    <a:lnTo>
                      <a:pt x="155" y="165"/>
                    </a:lnTo>
                    <a:lnTo>
                      <a:pt x="142" y="170"/>
                    </a:lnTo>
                    <a:lnTo>
                      <a:pt x="126" y="178"/>
                    </a:lnTo>
                    <a:lnTo>
                      <a:pt x="107" y="188"/>
                    </a:lnTo>
                    <a:lnTo>
                      <a:pt x="85" y="198"/>
                    </a:lnTo>
                    <a:lnTo>
                      <a:pt x="66" y="206"/>
                    </a:lnTo>
                    <a:lnTo>
                      <a:pt x="37" y="210"/>
                    </a:lnTo>
                    <a:lnTo>
                      <a:pt x="19" y="210"/>
                    </a:lnTo>
                    <a:lnTo>
                      <a:pt x="3" y="225"/>
                    </a:lnTo>
                    <a:lnTo>
                      <a:pt x="0" y="282"/>
                    </a:lnTo>
                    <a:lnTo>
                      <a:pt x="0" y="303"/>
                    </a:lnTo>
                    <a:lnTo>
                      <a:pt x="3" y="317"/>
                    </a:lnTo>
                    <a:lnTo>
                      <a:pt x="7" y="325"/>
                    </a:lnTo>
                    <a:lnTo>
                      <a:pt x="19" y="339"/>
                    </a:lnTo>
                    <a:lnTo>
                      <a:pt x="34" y="348"/>
                    </a:lnTo>
                    <a:lnTo>
                      <a:pt x="53" y="356"/>
                    </a:lnTo>
                    <a:lnTo>
                      <a:pt x="60" y="366"/>
                    </a:lnTo>
                    <a:lnTo>
                      <a:pt x="57" y="382"/>
                    </a:lnTo>
                    <a:lnTo>
                      <a:pt x="48" y="397"/>
                    </a:lnTo>
                    <a:lnTo>
                      <a:pt x="34" y="407"/>
                    </a:lnTo>
                    <a:lnTo>
                      <a:pt x="28" y="423"/>
                    </a:lnTo>
                    <a:lnTo>
                      <a:pt x="28" y="444"/>
                    </a:lnTo>
                    <a:lnTo>
                      <a:pt x="34" y="452"/>
                    </a:lnTo>
                    <a:lnTo>
                      <a:pt x="48" y="462"/>
                    </a:lnTo>
                    <a:lnTo>
                      <a:pt x="69" y="468"/>
                    </a:lnTo>
                    <a:lnTo>
                      <a:pt x="91" y="470"/>
                    </a:lnTo>
                    <a:lnTo>
                      <a:pt x="110" y="470"/>
                    </a:lnTo>
                    <a:lnTo>
                      <a:pt x="139" y="470"/>
                    </a:lnTo>
                    <a:lnTo>
                      <a:pt x="158" y="468"/>
                    </a:lnTo>
                    <a:lnTo>
                      <a:pt x="176" y="464"/>
                    </a:lnTo>
                    <a:lnTo>
                      <a:pt x="192" y="458"/>
                    </a:lnTo>
                    <a:lnTo>
                      <a:pt x="212" y="452"/>
                    </a:lnTo>
                    <a:lnTo>
                      <a:pt x="228" y="448"/>
                    </a:lnTo>
                    <a:lnTo>
                      <a:pt x="245" y="444"/>
                    </a:lnTo>
                    <a:lnTo>
                      <a:pt x="269" y="438"/>
                    </a:lnTo>
                    <a:lnTo>
                      <a:pt x="290" y="433"/>
                    </a:lnTo>
                    <a:lnTo>
                      <a:pt x="311" y="429"/>
                    </a:lnTo>
                    <a:lnTo>
                      <a:pt x="334" y="423"/>
                    </a:lnTo>
                    <a:lnTo>
                      <a:pt x="359" y="419"/>
                    </a:lnTo>
                    <a:lnTo>
                      <a:pt x="388" y="415"/>
                    </a:lnTo>
                    <a:lnTo>
                      <a:pt x="420" y="413"/>
                    </a:lnTo>
                    <a:lnTo>
                      <a:pt x="454" y="411"/>
                    </a:lnTo>
                    <a:lnTo>
                      <a:pt x="486" y="413"/>
                    </a:lnTo>
                    <a:lnTo>
                      <a:pt x="520" y="415"/>
                    </a:lnTo>
                    <a:lnTo>
                      <a:pt x="548" y="423"/>
                    </a:lnTo>
                    <a:lnTo>
                      <a:pt x="573" y="431"/>
                    </a:lnTo>
                    <a:lnTo>
                      <a:pt x="596" y="440"/>
                    </a:lnTo>
                    <a:lnTo>
                      <a:pt x="618" y="452"/>
                    </a:lnTo>
                    <a:lnTo>
                      <a:pt x="634" y="466"/>
                    </a:lnTo>
                    <a:lnTo>
                      <a:pt x="653" y="481"/>
                    </a:lnTo>
                    <a:lnTo>
                      <a:pt x="669" y="495"/>
                    </a:lnTo>
                    <a:lnTo>
                      <a:pt x="687" y="507"/>
                    </a:lnTo>
                    <a:lnTo>
                      <a:pt x="698" y="521"/>
                    </a:lnTo>
                    <a:lnTo>
                      <a:pt x="707" y="532"/>
                    </a:lnTo>
                    <a:lnTo>
                      <a:pt x="723" y="540"/>
                    </a:lnTo>
                    <a:lnTo>
                      <a:pt x="744" y="546"/>
                    </a:lnTo>
                    <a:lnTo>
                      <a:pt x="769" y="548"/>
                    </a:lnTo>
                    <a:lnTo>
                      <a:pt x="797" y="546"/>
                    </a:lnTo>
                    <a:lnTo>
                      <a:pt x="826" y="544"/>
                    </a:lnTo>
                    <a:lnTo>
                      <a:pt x="849" y="540"/>
                    </a:lnTo>
                    <a:lnTo>
                      <a:pt x="867" y="534"/>
                    </a:lnTo>
                    <a:lnTo>
                      <a:pt x="874" y="528"/>
                    </a:lnTo>
                    <a:lnTo>
                      <a:pt x="883" y="511"/>
                    </a:lnTo>
                    <a:lnTo>
                      <a:pt x="895" y="487"/>
                    </a:lnTo>
                    <a:lnTo>
                      <a:pt x="911" y="468"/>
                    </a:lnTo>
                    <a:lnTo>
                      <a:pt x="919" y="450"/>
                    </a:lnTo>
                    <a:lnTo>
                      <a:pt x="931" y="435"/>
                    </a:lnTo>
                    <a:lnTo>
                      <a:pt x="952" y="419"/>
                    </a:lnTo>
                    <a:lnTo>
                      <a:pt x="974" y="401"/>
                    </a:lnTo>
                    <a:lnTo>
                      <a:pt x="984" y="384"/>
                    </a:lnTo>
                    <a:lnTo>
                      <a:pt x="988" y="366"/>
                    </a:lnTo>
                    <a:lnTo>
                      <a:pt x="1000" y="346"/>
                    </a:lnTo>
                    <a:lnTo>
                      <a:pt x="1013" y="325"/>
                    </a:lnTo>
                    <a:lnTo>
                      <a:pt x="1022" y="305"/>
                    </a:lnTo>
                    <a:lnTo>
                      <a:pt x="1015" y="298"/>
                    </a:lnTo>
                    <a:lnTo>
                      <a:pt x="1009" y="284"/>
                    </a:lnTo>
                    <a:lnTo>
                      <a:pt x="993" y="272"/>
                    </a:lnTo>
                    <a:lnTo>
                      <a:pt x="981" y="264"/>
                    </a:lnTo>
                    <a:lnTo>
                      <a:pt x="961" y="251"/>
                    </a:lnTo>
                    <a:lnTo>
                      <a:pt x="943" y="241"/>
                    </a:lnTo>
                    <a:lnTo>
                      <a:pt x="927" y="235"/>
                    </a:lnTo>
                    <a:lnTo>
                      <a:pt x="915" y="223"/>
                    </a:lnTo>
                    <a:lnTo>
                      <a:pt x="883" y="200"/>
                    </a:lnTo>
                    <a:lnTo>
                      <a:pt x="858" y="178"/>
                    </a:lnTo>
                    <a:lnTo>
                      <a:pt x="835" y="161"/>
                    </a:lnTo>
                    <a:lnTo>
                      <a:pt x="822" y="141"/>
                    </a:lnTo>
                    <a:lnTo>
                      <a:pt x="817" y="118"/>
                    </a:lnTo>
                    <a:lnTo>
                      <a:pt x="813" y="90"/>
                    </a:lnTo>
                    <a:lnTo>
                      <a:pt x="810" y="69"/>
                    </a:lnTo>
                    <a:lnTo>
                      <a:pt x="797" y="49"/>
                    </a:lnTo>
                    <a:lnTo>
                      <a:pt x="785" y="34"/>
                    </a:lnTo>
                    <a:lnTo>
                      <a:pt x="765" y="20"/>
                    </a:lnTo>
                    <a:lnTo>
                      <a:pt x="748" y="6"/>
                    </a:lnTo>
                    <a:lnTo>
                      <a:pt x="735" y="0"/>
                    </a:lnTo>
                    <a:lnTo>
                      <a:pt x="740" y="24"/>
                    </a:lnTo>
                    <a:lnTo>
                      <a:pt x="748" y="49"/>
                    </a:lnTo>
                    <a:lnTo>
                      <a:pt x="748" y="73"/>
                    </a:lnTo>
                    <a:lnTo>
                      <a:pt x="748" y="88"/>
                    </a:lnTo>
                    <a:lnTo>
                      <a:pt x="748" y="100"/>
                    </a:lnTo>
                    <a:lnTo>
                      <a:pt x="740" y="106"/>
                    </a:lnTo>
                    <a:lnTo>
                      <a:pt x="735" y="108"/>
                    </a:lnTo>
                    <a:lnTo>
                      <a:pt x="719" y="108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04" name="Freeform 1186"/>
              <p:cNvSpPr/>
              <p:nvPr/>
            </p:nvSpPr>
            <p:spPr>
              <a:xfrm>
                <a:off x="6792840" y="4437000"/>
                <a:ext cx="159840" cy="155520"/>
              </a:xfrm>
              <a:custGeom>
                <a:avLst/>
                <a:gdLst/>
                <a:ahLst/>
                <a:rect l="l" t="t" r="r" b="b"/>
                <a:pathLst>
                  <a:path w="203" h="195">
                    <a:moveTo>
                      <a:pt x="58" y="70"/>
                    </a:moveTo>
                    <a:lnTo>
                      <a:pt x="83" y="62"/>
                    </a:lnTo>
                    <a:lnTo>
                      <a:pt x="103" y="51"/>
                    </a:lnTo>
                    <a:lnTo>
                      <a:pt x="119" y="37"/>
                    </a:lnTo>
                    <a:lnTo>
                      <a:pt x="139" y="21"/>
                    </a:lnTo>
                    <a:lnTo>
                      <a:pt x="155" y="8"/>
                    </a:lnTo>
                    <a:lnTo>
                      <a:pt x="178" y="0"/>
                    </a:lnTo>
                    <a:lnTo>
                      <a:pt x="196" y="4"/>
                    </a:lnTo>
                    <a:lnTo>
                      <a:pt x="203" y="23"/>
                    </a:lnTo>
                    <a:lnTo>
                      <a:pt x="203" y="51"/>
                    </a:lnTo>
                    <a:lnTo>
                      <a:pt x="199" y="70"/>
                    </a:lnTo>
                    <a:lnTo>
                      <a:pt x="194" y="86"/>
                    </a:lnTo>
                    <a:lnTo>
                      <a:pt x="196" y="103"/>
                    </a:lnTo>
                    <a:lnTo>
                      <a:pt x="196" y="121"/>
                    </a:lnTo>
                    <a:lnTo>
                      <a:pt x="190" y="139"/>
                    </a:lnTo>
                    <a:lnTo>
                      <a:pt x="174" y="154"/>
                    </a:lnTo>
                    <a:lnTo>
                      <a:pt x="151" y="162"/>
                    </a:lnTo>
                    <a:lnTo>
                      <a:pt x="128" y="168"/>
                    </a:lnTo>
                    <a:lnTo>
                      <a:pt x="107" y="174"/>
                    </a:lnTo>
                    <a:lnTo>
                      <a:pt x="91" y="182"/>
                    </a:lnTo>
                    <a:lnTo>
                      <a:pt x="76" y="189"/>
                    </a:lnTo>
                    <a:lnTo>
                      <a:pt x="67" y="195"/>
                    </a:lnTo>
                    <a:lnTo>
                      <a:pt x="48" y="191"/>
                    </a:lnTo>
                    <a:lnTo>
                      <a:pt x="28" y="184"/>
                    </a:lnTo>
                    <a:lnTo>
                      <a:pt x="16" y="172"/>
                    </a:lnTo>
                    <a:lnTo>
                      <a:pt x="0" y="150"/>
                    </a:lnTo>
                    <a:lnTo>
                      <a:pt x="0" y="119"/>
                    </a:lnTo>
                    <a:lnTo>
                      <a:pt x="19" y="90"/>
                    </a:lnTo>
                    <a:lnTo>
                      <a:pt x="58" y="70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05" name="Freeform 1187"/>
              <p:cNvSpPr/>
              <p:nvPr/>
            </p:nvSpPr>
            <p:spPr>
              <a:xfrm>
                <a:off x="6476760" y="4516200"/>
                <a:ext cx="236160" cy="157320"/>
              </a:xfrm>
              <a:custGeom>
                <a:avLst/>
                <a:gdLst/>
                <a:ahLst/>
                <a:rect l="l" t="t" r="r" b="b"/>
                <a:pathLst>
                  <a:path w="297" h="200">
                    <a:moveTo>
                      <a:pt x="0" y="4"/>
                    </a:moveTo>
                    <a:lnTo>
                      <a:pt x="3" y="18"/>
                    </a:lnTo>
                    <a:lnTo>
                      <a:pt x="33" y="26"/>
                    </a:lnTo>
                    <a:lnTo>
                      <a:pt x="66" y="40"/>
                    </a:lnTo>
                    <a:lnTo>
                      <a:pt x="87" y="57"/>
                    </a:lnTo>
                    <a:lnTo>
                      <a:pt x="99" y="73"/>
                    </a:lnTo>
                    <a:lnTo>
                      <a:pt x="112" y="87"/>
                    </a:lnTo>
                    <a:lnTo>
                      <a:pt x="121" y="98"/>
                    </a:lnTo>
                    <a:lnTo>
                      <a:pt x="133" y="114"/>
                    </a:lnTo>
                    <a:lnTo>
                      <a:pt x="146" y="132"/>
                    </a:lnTo>
                    <a:lnTo>
                      <a:pt x="167" y="151"/>
                    </a:lnTo>
                    <a:lnTo>
                      <a:pt x="188" y="171"/>
                    </a:lnTo>
                    <a:lnTo>
                      <a:pt x="213" y="194"/>
                    </a:lnTo>
                    <a:lnTo>
                      <a:pt x="231" y="200"/>
                    </a:lnTo>
                    <a:lnTo>
                      <a:pt x="254" y="200"/>
                    </a:lnTo>
                    <a:lnTo>
                      <a:pt x="276" y="198"/>
                    </a:lnTo>
                    <a:lnTo>
                      <a:pt x="293" y="188"/>
                    </a:lnTo>
                    <a:lnTo>
                      <a:pt x="297" y="177"/>
                    </a:lnTo>
                    <a:lnTo>
                      <a:pt x="292" y="161"/>
                    </a:lnTo>
                    <a:lnTo>
                      <a:pt x="276" y="143"/>
                    </a:lnTo>
                    <a:lnTo>
                      <a:pt x="254" y="132"/>
                    </a:lnTo>
                    <a:lnTo>
                      <a:pt x="235" y="122"/>
                    </a:lnTo>
                    <a:lnTo>
                      <a:pt x="220" y="110"/>
                    </a:lnTo>
                    <a:lnTo>
                      <a:pt x="197" y="102"/>
                    </a:lnTo>
                    <a:lnTo>
                      <a:pt x="179" y="90"/>
                    </a:lnTo>
                    <a:lnTo>
                      <a:pt x="163" y="81"/>
                    </a:lnTo>
                    <a:lnTo>
                      <a:pt x="151" y="71"/>
                    </a:lnTo>
                    <a:lnTo>
                      <a:pt x="139" y="59"/>
                    </a:lnTo>
                    <a:lnTo>
                      <a:pt x="130" y="51"/>
                    </a:lnTo>
                    <a:lnTo>
                      <a:pt x="117" y="38"/>
                    </a:lnTo>
                    <a:lnTo>
                      <a:pt x="105" y="26"/>
                    </a:lnTo>
                    <a:lnTo>
                      <a:pt x="89" y="20"/>
                    </a:lnTo>
                    <a:lnTo>
                      <a:pt x="71" y="18"/>
                    </a:lnTo>
                    <a:lnTo>
                      <a:pt x="55" y="14"/>
                    </a:lnTo>
                    <a:lnTo>
                      <a:pt x="33" y="4"/>
                    </a:lnTo>
                    <a:lnTo>
                      <a:pt x="1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06" name="Freeform 1188"/>
              <p:cNvSpPr/>
              <p:nvPr/>
            </p:nvSpPr>
            <p:spPr>
              <a:xfrm>
                <a:off x="7243560" y="3873240"/>
                <a:ext cx="259920" cy="174600"/>
              </a:xfrm>
              <a:custGeom>
                <a:avLst/>
                <a:gdLst/>
                <a:ahLst/>
                <a:rect l="l" t="t" r="r" b="b"/>
                <a:pathLst>
                  <a:path w="327" h="221">
                    <a:moveTo>
                      <a:pt x="203" y="199"/>
                    </a:moveTo>
                    <a:lnTo>
                      <a:pt x="237" y="172"/>
                    </a:lnTo>
                    <a:lnTo>
                      <a:pt x="267" y="142"/>
                    </a:lnTo>
                    <a:lnTo>
                      <a:pt x="286" y="109"/>
                    </a:lnTo>
                    <a:lnTo>
                      <a:pt x="292" y="86"/>
                    </a:lnTo>
                    <a:lnTo>
                      <a:pt x="302" y="66"/>
                    </a:lnTo>
                    <a:lnTo>
                      <a:pt x="318" y="43"/>
                    </a:lnTo>
                    <a:lnTo>
                      <a:pt x="327" y="23"/>
                    </a:lnTo>
                    <a:lnTo>
                      <a:pt x="311" y="6"/>
                    </a:lnTo>
                    <a:lnTo>
                      <a:pt x="279" y="0"/>
                    </a:lnTo>
                    <a:lnTo>
                      <a:pt x="267" y="2"/>
                    </a:lnTo>
                    <a:lnTo>
                      <a:pt x="260" y="15"/>
                    </a:lnTo>
                    <a:lnTo>
                      <a:pt x="251" y="33"/>
                    </a:lnTo>
                    <a:lnTo>
                      <a:pt x="240" y="56"/>
                    </a:lnTo>
                    <a:lnTo>
                      <a:pt x="219" y="86"/>
                    </a:lnTo>
                    <a:lnTo>
                      <a:pt x="196" y="109"/>
                    </a:lnTo>
                    <a:lnTo>
                      <a:pt x="172" y="133"/>
                    </a:lnTo>
                    <a:lnTo>
                      <a:pt x="156" y="142"/>
                    </a:lnTo>
                    <a:lnTo>
                      <a:pt x="131" y="152"/>
                    </a:lnTo>
                    <a:lnTo>
                      <a:pt x="107" y="164"/>
                    </a:lnTo>
                    <a:lnTo>
                      <a:pt x="76" y="172"/>
                    </a:lnTo>
                    <a:lnTo>
                      <a:pt x="48" y="182"/>
                    </a:lnTo>
                    <a:lnTo>
                      <a:pt x="23" y="187"/>
                    </a:lnTo>
                    <a:lnTo>
                      <a:pt x="7" y="189"/>
                    </a:lnTo>
                    <a:lnTo>
                      <a:pt x="0" y="191"/>
                    </a:lnTo>
                    <a:lnTo>
                      <a:pt x="19" y="205"/>
                    </a:lnTo>
                    <a:lnTo>
                      <a:pt x="44" y="215"/>
                    </a:lnTo>
                    <a:lnTo>
                      <a:pt x="71" y="221"/>
                    </a:lnTo>
                    <a:lnTo>
                      <a:pt x="96" y="221"/>
                    </a:lnTo>
                    <a:lnTo>
                      <a:pt x="124" y="221"/>
                    </a:lnTo>
                    <a:lnTo>
                      <a:pt x="151" y="217"/>
                    </a:lnTo>
                    <a:lnTo>
                      <a:pt x="180" y="207"/>
                    </a:lnTo>
                    <a:lnTo>
                      <a:pt x="203" y="199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07" name="Freeform 1189"/>
              <p:cNvSpPr/>
              <p:nvPr/>
            </p:nvSpPr>
            <p:spPr>
              <a:xfrm>
                <a:off x="7259400" y="4566960"/>
                <a:ext cx="334800" cy="120960"/>
              </a:xfrm>
              <a:custGeom>
                <a:avLst/>
                <a:gdLst/>
                <a:ahLst/>
                <a:rect l="l" t="t" r="r" b="b"/>
                <a:pathLst>
                  <a:path w="422" h="153">
                    <a:moveTo>
                      <a:pt x="75" y="6"/>
                    </a:moveTo>
                    <a:lnTo>
                      <a:pt x="91" y="4"/>
                    </a:lnTo>
                    <a:lnTo>
                      <a:pt x="107" y="2"/>
                    </a:lnTo>
                    <a:lnTo>
                      <a:pt x="125" y="2"/>
                    </a:lnTo>
                    <a:lnTo>
                      <a:pt x="137" y="0"/>
                    </a:lnTo>
                    <a:lnTo>
                      <a:pt x="153" y="0"/>
                    </a:lnTo>
                    <a:lnTo>
                      <a:pt x="173" y="2"/>
                    </a:lnTo>
                    <a:lnTo>
                      <a:pt x="185" y="6"/>
                    </a:lnTo>
                    <a:lnTo>
                      <a:pt x="203" y="16"/>
                    </a:lnTo>
                    <a:lnTo>
                      <a:pt x="223" y="23"/>
                    </a:lnTo>
                    <a:lnTo>
                      <a:pt x="241" y="35"/>
                    </a:lnTo>
                    <a:lnTo>
                      <a:pt x="253" y="49"/>
                    </a:lnTo>
                    <a:lnTo>
                      <a:pt x="273" y="57"/>
                    </a:lnTo>
                    <a:lnTo>
                      <a:pt x="285" y="70"/>
                    </a:lnTo>
                    <a:lnTo>
                      <a:pt x="303" y="80"/>
                    </a:lnTo>
                    <a:lnTo>
                      <a:pt x="319" y="88"/>
                    </a:lnTo>
                    <a:lnTo>
                      <a:pt x="339" y="94"/>
                    </a:lnTo>
                    <a:lnTo>
                      <a:pt x="369" y="110"/>
                    </a:lnTo>
                    <a:lnTo>
                      <a:pt x="397" y="127"/>
                    </a:lnTo>
                    <a:lnTo>
                      <a:pt x="415" y="147"/>
                    </a:lnTo>
                    <a:lnTo>
                      <a:pt x="422" y="153"/>
                    </a:lnTo>
                    <a:lnTo>
                      <a:pt x="301" y="133"/>
                    </a:lnTo>
                    <a:lnTo>
                      <a:pt x="225" y="139"/>
                    </a:lnTo>
                    <a:lnTo>
                      <a:pt x="219" y="139"/>
                    </a:lnTo>
                    <a:lnTo>
                      <a:pt x="203" y="139"/>
                    </a:lnTo>
                    <a:lnTo>
                      <a:pt x="182" y="137"/>
                    </a:lnTo>
                    <a:lnTo>
                      <a:pt x="157" y="133"/>
                    </a:lnTo>
                    <a:lnTo>
                      <a:pt x="128" y="125"/>
                    </a:lnTo>
                    <a:lnTo>
                      <a:pt x="100" y="115"/>
                    </a:lnTo>
                    <a:lnTo>
                      <a:pt x="79" y="100"/>
                    </a:lnTo>
                    <a:lnTo>
                      <a:pt x="63" y="80"/>
                    </a:lnTo>
                    <a:lnTo>
                      <a:pt x="54" y="68"/>
                    </a:lnTo>
                    <a:lnTo>
                      <a:pt x="34" y="55"/>
                    </a:lnTo>
                    <a:lnTo>
                      <a:pt x="20" y="49"/>
                    </a:lnTo>
                    <a:lnTo>
                      <a:pt x="7" y="37"/>
                    </a:lnTo>
                    <a:lnTo>
                      <a:pt x="0" y="25"/>
                    </a:lnTo>
                    <a:lnTo>
                      <a:pt x="9" y="20"/>
                    </a:lnTo>
                    <a:lnTo>
                      <a:pt x="34" y="12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08" name="Freeform 1190"/>
              <p:cNvSpPr/>
              <p:nvPr/>
            </p:nvSpPr>
            <p:spPr>
              <a:xfrm>
                <a:off x="7894440" y="5141880"/>
                <a:ext cx="153720" cy="129960"/>
              </a:xfrm>
              <a:custGeom>
                <a:avLst/>
                <a:gdLst/>
                <a:ahLst/>
                <a:rect l="l" t="t" r="r" b="b"/>
                <a:pathLst>
                  <a:path w="194" h="164">
                    <a:moveTo>
                      <a:pt x="53" y="88"/>
                    </a:moveTo>
                    <a:lnTo>
                      <a:pt x="69" y="82"/>
                    </a:lnTo>
                    <a:lnTo>
                      <a:pt x="87" y="76"/>
                    </a:lnTo>
                    <a:lnTo>
                      <a:pt x="110" y="62"/>
                    </a:lnTo>
                    <a:lnTo>
                      <a:pt x="124" y="47"/>
                    </a:lnTo>
                    <a:lnTo>
                      <a:pt x="147" y="35"/>
                    </a:lnTo>
                    <a:lnTo>
                      <a:pt x="165" y="21"/>
                    </a:lnTo>
                    <a:lnTo>
                      <a:pt x="181" y="11"/>
                    </a:lnTo>
                    <a:lnTo>
                      <a:pt x="186" y="4"/>
                    </a:lnTo>
                    <a:lnTo>
                      <a:pt x="194" y="0"/>
                    </a:lnTo>
                    <a:lnTo>
                      <a:pt x="194" y="6"/>
                    </a:lnTo>
                    <a:lnTo>
                      <a:pt x="194" y="21"/>
                    </a:lnTo>
                    <a:lnTo>
                      <a:pt x="190" y="43"/>
                    </a:lnTo>
                    <a:lnTo>
                      <a:pt x="185" y="64"/>
                    </a:lnTo>
                    <a:lnTo>
                      <a:pt x="165" y="82"/>
                    </a:lnTo>
                    <a:lnTo>
                      <a:pt x="144" y="96"/>
                    </a:lnTo>
                    <a:lnTo>
                      <a:pt x="122" y="103"/>
                    </a:lnTo>
                    <a:lnTo>
                      <a:pt x="112" y="109"/>
                    </a:lnTo>
                    <a:lnTo>
                      <a:pt x="106" y="125"/>
                    </a:lnTo>
                    <a:lnTo>
                      <a:pt x="106" y="143"/>
                    </a:lnTo>
                    <a:lnTo>
                      <a:pt x="106" y="156"/>
                    </a:lnTo>
                    <a:lnTo>
                      <a:pt x="90" y="162"/>
                    </a:lnTo>
                    <a:lnTo>
                      <a:pt x="62" y="164"/>
                    </a:lnTo>
                    <a:lnTo>
                      <a:pt x="24" y="160"/>
                    </a:lnTo>
                    <a:lnTo>
                      <a:pt x="3" y="146"/>
                    </a:lnTo>
                    <a:lnTo>
                      <a:pt x="0" y="129"/>
                    </a:lnTo>
                    <a:lnTo>
                      <a:pt x="7" y="109"/>
                    </a:lnTo>
                    <a:lnTo>
                      <a:pt x="24" y="96"/>
                    </a:lnTo>
                    <a:lnTo>
                      <a:pt x="53" y="88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09" name="Freeform 1191"/>
              <p:cNvSpPr/>
              <p:nvPr/>
            </p:nvSpPr>
            <p:spPr>
              <a:xfrm>
                <a:off x="8059680" y="5048280"/>
                <a:ext cx="124920" cy="107640"/>
              </a:xfrm>
              <a:custGeom>
                <a:avLst/>
                <a:gdLst/>
                <a:ahLst/>
                <a:rect l="l" t="t" r="r" b="b"/>
                <a:pathLst>
                  <a:path w="157" h="135">
                    <a:moveTo>
                      <a:pt x="7" y="0"/>
                    </a:moveTo>
                    <a:lnTo>
                      <a:pt x="28" y="12"/>
                    </a:lnTo>
                    <a:lnTo>
                      <a:pt x="52" y="32"/>
                    </a:lnTo>
                    <a:lnTo>
                      <a:pt x="71" y="51"/>
                    </a:lnTo>
                    <a:lnTo>
                      <a:pt x="84" y="61"/>
                    </a:lnTo>
                    <a:lnTo>
                      <a:pt x="101" y="61"/>
                    </a:lnTo>
                    <a:lnTo>
                      <a:pt x="125" y="61"/>
                    </a:lnTo>
                    <a:lnTo>
                      <a:pt x="148" y="63"/>
                    </a:lnTo>
                    <a:lnTo>
                      <a:pt x="157" y="71"/>
                    </a:lnTo>
                    <a:lnTo>
                      <a:pt x="157" y="83"/>
                    </a:lnTo>
                    <a:lnTo>
                      <a:pt x="149" y="96"/>
                    </a:lnTo>
                    <a:lnTo>
                      <a:pt x="133" y="112"/>
                    </a:lnTo>
                    <a:lnTo>
                      <a:pt x="121" y="124"/>
                    </a:lnTo>
                    <a:lnTo>
                      <a:pt x="105" y="131"/>
                    </a:lnTo>
                    <a:lnTo>
                      <a:pt x="92" y="135"/>
                    </a:lnTo>
                    <a:lnTo>
                      <a:pt x="73" y="133"/>
                    </a:lnTo>
                    <a:lnTo>
                      <a:pt x="57" y="124"/>
                    </a:lnTo>
                    <a:lnTo>
                      <a:pt x="48" y="110"/>
                    </a:lnTo>
                    <a:lnTo>
                      <a:pt x="39" y="94"/>
                    </a:lnTo>
                    <a:lnTo>
                      <a:pt x="35" y="79"/>
                    </a:lnTo>
                    <a:lnTo>
                      <a:pt x="35" y="67"/>
                    </a:lnTo>
                    <a:lnTo>
                      <a:pt x="32" y="55"/>
                    </a:lnTo>
                    <a:lnTo>
                      <a:pt x="23" y="41"/>
                    </a:lnTo>
                    <a:lnTo>
                      <a:pt x="7" y="32"/>
                    </a:lnTo>
                    <a:lnTo>
                      <a:pt x="0" y="2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10" name="Freeform 1192"/>
              <p:cNvSpPr/>
              <p:nvPr/>
            </p:nvSpPr>
            <p:spPr>
              <a:xfrm>
                <a:off x="2773080" y="4273560"/>
                <a:ext cx="220320" cy="72720"/>
              </a:xfrm>
              <a:custGeom>
                <a:avLst/>
                <a:gdLst/>
                <a:ahLst/>
                <a:rect l="l" t="t" r="r" b="b"/>
                <a:pathLst>
                  <a:path w="278" h="92">
                    <a:moveTo>
                      <a:pt x="0" y="10"/>
                    </a:moveTo>
                    <a:lnTo>
                      <a:pt x="9" y="0"/>
                    </a:lnTo>
                    <a:lnTo>
                      <a:pt x="28" y="0"/>
                    </a:lnTo>
                    <a:lnTo>
                      <a:pt x="57" y="4"/>
                    </a:lnTo>
                    <a:lnTo>
                      <a:pt x="89" y="14"/>
                    </a:lnTo>
                    <a:lnTo>
                      <a:pt x="121" y="26"/>
                    </a:lnTo>
                    <a:lnTo>
                      <a:pt x="153" y="36"/>
                    </a:lnTo>
                    <a:lnTo>
                      <a:pt x="181" y="49"/>
                    </a:lnTo>
                    <a:lnTo>
                      <a:pt x="205" y="57"/>
                    </a:lnTo>
                    <a:lnTo>
                      <a:pt x="242" y="65"/>
                    </a:lnTo>
                    <a:lnTo>
                      <a:pt x="270" y="79"/>
                    </a:lnTo>
                    <a:lnTo>
                      <a:pt x="278" y="88"/>
                    </a:lnTo>
                    <a:lnTo>
                      <a:pt x="262" y="92"/>
                    </a:lnTo>
                    <a:lnTo>
                      <a:pt x="242" y="92"/>
                    </a:lnTo>
                    <a:lnTo>
                      <a:pt x="221" y="90"/>
                    </a:lnTo>
                    <a:lnTo>
                      <a:pt x="201" y="88"/>
                    </a:lnTo>
                    <a:lnTo>
                      <a:pt x="178" y="84"/>
                    </a:lnTo>
                    <a:lnTo>
                      <a:pt x="162" y="84"/>
                    </a:lnTo>
                    <a:lnTo>
                      <a:pt x="146" y="82"/>
                    </a:lnTo>
                    <a:lnTo>
                      <a:pt x="140" y="81"/>
                    </a:lnTo>
                    <a:lnTo>
                      <a:pt x="133" y="81"/>
                    </a:lnTo>
                    <a:lnTo>
                      <a:pt x="128" y="79"/>
                    </a:lnTo>
                    <a:lnTo>
                      <a:pt x="116" y="73"/>
                    </a:lnTo>
                    <a:lnTo>
                      <a:pt x="92" y="65"/>
                    </a:lnTo>
                    <a:lnTo>
                      <a:pt x="67" y="57"/>
                    </a:lnTo>
                    <a:lnTo>
                      <a:pt x="41" y="43"/>
                    </a:lnTo>
                    <a:lnTo>
                      <a:pt x="19" y="32"/>
                    </a:lnTo>
                    <a:lnTo>
                      <a:pt x="3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11" name="Freeform 1193"/>
              <p:cNvSpPr/>
              <p:nvPr/>
            </p:nvSpPr>
            <p:spPr>
              <a:xfrm>
                <a:off x="5330520" y="4716360"/>
                <a:ext cx="155160" cy="222120"/>
              </a:xfrm>
              <a:custGeom>
                <a:avLst/>
                <a:gdLst/>
                <a:ahLst/>
                <a:rect l="l" t="t" r="r" b="b"/>
                <a:pathLst>
                  <a:path w="195" h="280">
                    <a:moveTo>
                      <a:pt x="130" y="4"/>
                    </a:moveTo>
                    <a:lnTo>
                      <a:pt x="167" y="0"/>
                    </a:lnTo>
                    <a:lnTo>
                      <a:pt x="187" y="4"/>
                    </a:lnTo>
                    <a:lnTo>
                      <a:pt x="195" y="19"/>
                    </a:lnTo>
                    <a:lnTo>
                      <a:pt x="195" y="39"/>
                    </a:lnTo>
                    <a:lnTo>
                      <a:pt x="192" y="62"/>
                    </a:lnTo>
                    <a:lnTo>
                      <a:pt x="187" y="88"/>
                    </a:lnTo>
                    <a:lnTo>
                      <a:pt x="176" y="111"/>
                    </a:lnTo>
                    <a:lnTo>
                      <a:pt x="174" y="131"/>
                    </a:lnTo>
                    <a:lnTo>
                      <a:pt x="174" y="168"/>
                    </a:lnTo>
                    <a:lnTo>
                      <a:pt x="171" y="205"/>
                    </a:lnTo>
                    <a:lnTo>
                      <a:pt x="163" y="238"/>
                    </a:lnTo>
                    <a:lnTo>
                      <a:pt x="155" y="260"/>
                    </a:lnTo>
                    <a:lnTo>
                      <a:pt x="147" y="264"/>
                    </a:lnTo>
                    <a:lnTo>
                      <a:pt x="139" y="268"/>
                    </a:lnTo>
                    <a:lnTo>
                      <a:pt x="119" y="274"/>
                    </a:lnTo>
                    <a:lnTo>
                      <a:pt x="101" y="280"/>
                    </a:lnTo>
                    <a:lnTo>
                      <a:pt x="78" y="280"/>
                    </a:lnTo>
                    <a:lnTo>
                      <a:pt x="60" y="278"/>
                    </a:lnTo>
                    <a:lnTo>
                      <a:pt x="48" y="266"/>
                    </a:lnTo>
                    <a:lnTo>
                      <a:pt x="32" y="254"/>
                    </a:lnTo>
                    <a:lnTo>
                      <a:pt x="12" y="219"/>
                    </a:lnTo>
                    <a:lnTo>
                      <a:pt x="3" y="188"/>
                    </a:lnTo>
                    <a:lnTo>
                      <a:pt x="0" y="164"/>
                    </a:lnTo>
                    <a:lnTo>
                      <a:pt x="3" y="146"/>
                    </a:lnTo>
                    <a:lnTo>
                      <a:pt x="12" y="129"/>
                    </a:lnTo>
                    <a:lnTo>
                      <a:pt x="32" y="107"/>
                    </a:lnTo>
                    <a:lnTo>
                      <a:pt x="57" y="94"/>
                    </a:lnTo>
                    <a:lnTo>
                      <a:pt x="78" y="88"/>
                    </a:lnTo>
                    <a:lnTo>
                      <a:pt x="94" y="74"/>
                    </a:lnTo>
                    <a:lnTo>
                      <a:pt x="105" y="49"/>
                    </a:lnTo>
                    <a:lnTo>
                      <a:pt x="117" y="19"/>
                    </a:lnTo>
                    <a:lnTo>
                      <a:pt x="130" y="4"/>
                    </a:lnTo>
                    <a:close/>
                  </a:path>
                </a:pathLst>
              </a:custGeom>
              <a:solidFill>
                <a:srgbClr val="d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2" name="Group 1217"/>
          <p:cNvGrpSpPr/>
          <p:nvPr/>
        </p:nvGrpSpPr>
        <p:grpSpPr>
          <a:xfrm>
            <a:off x="4775040" y="2333520"/>
            <a:ext cx="4032360" cy="3803760"/>
            <a:chOff x="4775040" y="2333520"/>
            <a:chExt cx="4032360" cy="3803760"/>
          </a:xfrm>
        </p:grpSpPr>
        <p:sp>
          <p:nvSpPr>
            <p:cNvPr id="413" name="Line 1196"/>
            <p:cNvSpPr/>
            <p:nvPr/>
          </p:nvSpPr>
          <p:spPr>
            <a:xfrm>
              <a:off x="4809960" y="2333520"/>
              <a:ext cx="3997440" cy="2878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14" name="Line 1197"/>
            <p:cNvSpPr/>
            <p:nvPr/>
          </p:nvSpPr>
          <p:spPr>
            <a:xfrm>
              <a:off x="4809960" y="2333520"/>
              <a:ext cx="3997440" cy="340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15" name="Line 1198"/>
            <p:cNvSpPr/>
            <p:nvPr/>
          </p:nvSpPr>
          <p:spPr>
            <a:xfrm>
              <a:off x="4809960" y="2333520"/>
              <a:ext cx="378792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16" name="Line 1199"/>
            <p:cNvSpPr/>
            <p:nvPr/>
          </p:nvSpPr>
          <p:spPr>
            <a:xfrm>
              <a:off x="4809960" y="2333520"/>
              <a:ext cx="316080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17" name="Line 1200"/>
            <p:cNvSpPr/>
            <p:nvPr/>
          </p:nvSpPr>
          <p:spPr>
            <a:xfrm>
              <a:off x="4809960" y="2333520"/>
              <a:ext cx="257364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18" name="Line 1201"/>
            <p:cNvSpPr/>
            <p:nvPr/>
          </p:nvSpPr>
          <p:spPr>
            <a:xfrm>
              <a:off x="4809960" y="2333520"/>
              <a:ext cx="198468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19" name="Line 1202"/>
            <p:cNvSpPr/>
            <p:nvPr/>
          </p:nvSpPr>
          <p:spPr>
            <a:xfrm>
              <a:off x="4809960" y="2333520"/>
              <a:ext cx="146232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20" name="Line 1203"/>
            <p:cNvSpPr/>
            <p:nvPr/>
          </p:nvSpPr>
          <p:spPr>
            <a:xfrm>
              <a:off x="4809960" y="2333520"/>
              <a:ext cx="94464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21" name="Line 1204"/>
            <p:cNvSpPr/>
            <p:nvPr/>
          </p:nvSpPr>
          <p:spPr>
            <a:xfrm>
              <a:off x="4809960" y="2333520"/>
              <a:ext cx="42228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22" name="Line 1205"/>
            <p:cNvSpPr/>
            <p:nvPr/>
          </p:nvSpPr>
          <p:spPr>
            <a:xfrm>
              <a:off x="4775040" y="2333520"/>
              <a:ext cx="180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23" name="Line 1206"/>
            <p:cNvSpPr/>
            <p:nvPr/>
          </p:nvSpPr>
          <p:spPr>
            <a:xfrm>
              <a:off x="4809960" y="2333520"/>
              <a:ext cx="3997440" cy="2479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24" name="Line 1207"/>
            <p:cNvSpPr/>
            <p:nvPr/>
          </p:nvSpPr>
          <p:spPr>
            <a:xfrm>
              <a:off x="4809960" y="2333520"/>
              <a:ext cx="3997440" cy="2127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25" name="Line 1208"/>
            <p:cNvSpPr/>
            <p:nvPr/>
          </p:nvSpPr>
          <p:spPr>
            <a:xfrm>
              <a:off x="4809960" y="2333520"/>
              <a:ext cx="3997440" cy="18241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26" name="Line 1209"/>
            <p:cNvSpPr/>
            <p:nvPr/>
          </p:nvSpPr>
          <p:spPr>
            <a:xfrm>
              <a:off x="4809960" y="2333520"/>
              <a:ext cx="3997440" cy="1516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27" name="Line 1210"/>
            <p:cNvSpPr/>
            <p:nvPr/>
          </p:nvSpPr>
          <p:spPr>
            <a:xfrm>
              <a:off x="4844880" y="2333520"/>
              <a:ext cx="3962520" cy="1254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28" name="Line 1211"/>
            <p:cNvSpPr/>
            <p:nvPr/>
          </p:nvSpPr>
          <p:spPr>
            <a:xfrm>
              <a:off x="4809960" y="2333520"/>
              <a:ext cx="3997440" cy="989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29" name="Line 1212"/>
            <p:cNvSpPr/>
            <p:nvPr/>
          </p:nvSpPr>
          <p:spPr>
            <a:xfrm>
              <a:off x="4809960" y="2333520"/>
              <a:ext cx="3997440" cy="765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30" name="Line 1213"/>
            <p:cNvSpPr/>
            <p:nvPr/>
          </p:nvSpPr>
          <p:spPr>
            <a:xfrm>
              <a:off x="4809960" y="2333520"/>
              <a:ext cx="3997440" cy="5461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31" name="Line 1214"/>
            <p:cNvSpPr/>
            <p:nvPr/>
          </p:nvSpPr>
          <p:spPr>
            <a:xfrm>
              <a:off x="4809960" y="2333520"/>
              <a:ext cx="3997440" cy="370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32" name="Line 1215"/>
            <p:cNvSpPr/>
            <p:nvPr/>
          </p:nvSpPr>
          <p:spPr>
            <a:xfrm>
              <a:off x="4809960" y="2333520"/>
              <a:ext cx="3997440" cy="193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33" name="Line 1216"/>
            <p:cNvSpPr/>
            <p:nvPr/>
          </p:nvSpPr>
          <p:spPr>
            <a:xfrm>
              <a:off x="4809960" y="2333520"/>
              <a:ext cx="3997440" cy="60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434" name="Group 1239"/>
          <p:cNvGrpSpPr/>
          <p:nvPr/>
        </p:nvGrpSpPr>
        <p:grpSpPr>
          <a:xfrm>
            <a:off x="694800" y="2297160"/>
            <a:ext cx="4109040" cy="3840120"/>
            <a:chOff x="694800" y="2297160"/>
            <a:chExt cx="4109040" cy="3840120"/>
          </a:xfrm>
        </p:grpSpPr>
        <p:sp>
          <p:nvSpPr>
            <p:cNvPr id="435" name="Line 1218"/>
            <p:cNvSpPr/>
            <p:nvPr/>
          </p:nvSpPr>
          <p:spPr>
            <a:xfrm flipH="1">
              <a:off x="694800" y="2297160"/>
              <a:ext cx="41086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36" name="Line 1219"/>
            <p:cNvSpPr/>
            <p:nvPr/>
          </p:nvSpPr>
          <p:spPr>
            <a:xfrm flipH="1">
              <a:off x="694800" y="2333520"/>
              <a:ext cx="4108680" cy="2878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37" name="Line 1220"/>
            <p:cNvSpPr/>
            <p:nvPr/>
          </p:nvSpPr>
          <p:spPr>
            <a:xfrm flipH="1">
              <a:off x="694800" y="2333520"/>
              <a:ext cx="4108680" cy="340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38" name="Line 1221"/>
            <p:cNvSpPr/>
            <p:nvPr/>
          </p:nvSpPr>
          <p:spPr>
            <a:xfrm flipH="1">
              <a:off x="905040" y="2333520"/>
              <a:ext cx="389880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39" name="Line 1222"/>
            <p:cNvSpPr/>
            <p:nvPr/>
          </p:nvSpPr>
          <p:spPr>
            <a:xfrm flipH="1">
              <a:off x="1530000" y="2333520"/>
              <a:ext cx="327348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40" name="Line 1223"/>
            <p:cNvSpPr/>
            <p:nvPr/>
          </p:nvSpPr>
          <p:spPr>
            <a:xfrm flipH="1">
              <a:off x="2117520" y="2333520"/>
              <a:ext cx="268596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41" name="Line 1224"/>
            <p:cNvSpPr/>
            <p:nvPr/>
          </p:nvSpPr>
          <p:spPr>
            <a:xfrm flipH="1">
              <a:off x="2706480" y="2333520"/>
              <a:ext cx="209700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42" name="Line 1225"/>
            <p:cNvSpPr/>
            <p:nvPr/>
          </p:nvSpPr>
          <p:spPr>
            <a:xfrm flipH="1">
              <a:off x="3228480" y="2333520"/>
              <a:ext cx="157500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43" name="Line 1226"/>
            <p:cNvSpPr/>
            <p:nvPr/>
          </p:nvSpPr>
          <p:spPr>
            <a:xfrm flipH="1">
              <a:off x="3747600" y="2333520"/>
              <a:ext cx="105588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44" name="Line 1227"/>
            <p:cNvSpPr/>
            <p:nvPr/>
          </p:nvSpPr>
          <p:spPr>
            <a:xfrm flipH="1">
              <a:off x="4270320" y="2333520"/>
              <a:ext cx="533520" cy="3803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45" name="Line 1228"/>
            <p:cNvSpPr/>
            <p:nvPr/>
          </p:nvSpPr>
          <p:spPr>
            <a:xfrm flipH="1">
              <a:off x="694800" y="2333520"/>
              <a:ext cx="4108680" cy="2479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46" name="Line 1229"/>
            <p:cNvSpPr/>
            <p:nvPr/>
          </p:nvSpPr>
          <p:spPr>
            <a:xfrm flipH="1">
              <a:off x="694800" y="2333520"/>
              <a:ext cx="4108680" cy="2127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47" name="Line 1230"/>
            <p:cNvSpPr/>
            <p:nvPr/>
          </p:nvSpPr>
          <p:spPr>
            <a:xfrm flipH="1">
              <a:off x="694800" y="2333520"/>
              <a:ext cx="4108680" cy="18241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48" name="Line 1231"/>
            <p:cNvSpPr/>
            <p:nvPr/>
          </p:nvSpPr>
          <p:spPr>
            <a:xfrm flipH="1">
              <a:off x="694800" y="2333520"/>
              <a:ext cx="4108680" cy="1516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49" name="Line 1232"/>
            <p:cNvSpPr/>
            <p:nvPr/>
          </p:nvSpPr>
          <p:spPr>
            <a:xfrm flipH="1">
              <a:off x="695160" y="2333520"/>
              <a:ext cx="4073760" cy="1254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50" name="Line 1233"/>
            <p:cNvSpPr/>
            <p:nvPr/>
          </p:nvSpPr>
          <p:spPr>
            <a:xfrm flipH="1">
              <a:off x="694800" y="2333520"/>
              <a:ext cx="4108680" cy="989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51" name="Line 1234"/>
            <p:cNvSpPr/>
            <p:nvPr/>
          </p:nvSpPr>
          <p:spPr>
            <a:xfrm flipH="1">
              <a:off x="694800" y="2333520"/>
              <a:ext cx="4108680" cy="765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52" name="Line 1235"/>
            <p:cNvSpPr/>
            <p:nvPr/>
          </p:nvSpPr>
          <p:spPr>
            <a:xfrm flipH="1">
              <a:off x="694800" y="2333520"/>
              <a:ext cx="4108680" cy="5461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53" name="Line 1236"/>
            <p:cNvSpPr/>
            <p:nvPr/>
          </p:nvSpPr>
          <p:spPr>
            <a:xfrm flipH="1">
              <a:off x="694800" y="2333520"/>
              <a:ext cx="4108680" cy="370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54" name="Line 1237"/>
            <p:cNvSpPr/>
            <p:nvPr/>
          </p:nvSpPr>
          <p:spPr>
            <a:xfrm flipH="1">
              <a:off x="694800" y="2333520"/>
              <a:ext cx="4108680" cy="193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  <p:sp>
          <p:nvSpPr>
            <p:cNvPr id="455" name="Line 1238"/>
            <p:cNvSpPr/>
            <p:nvPr/>
          </p:nvSpPr>
          <p:spPr>
            <a:xfrm flipH="1">
              <a:off x="694800" y="2333520"/>
              <a:ext cx="4108680" cy="60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grpSp>
        <p:nvGrpSpPr>
          <p:cNvPr id="456" name="Group 1255"/>
          <p:cNvGrpSpPr/>
          <p:nvPr/>
        </p:nvGrpSpPr>
        <p:grpSpPr>
          <a:xfrm>
            <a:off x="695160" y="2336760"/>
            <a:ext cx="8112240" cy="3305160"/>
            <a:chOff x="695160" y="2336760"/>
            <a:chExt cx="8112240" cy="3305160"/>
          </a:xfrm>
        </p:grpSpPr>
        <p:grpSp>
          <p:nvGrpSpPr>
            <p:cNvPr id="457" name="Group 1244"/>
            <p:cNvGrpSpPr/>
            <p:nvPr/>
          </p:nvGrpSpPr>
          <p:grpSpPr>
            <a:xfrm>
              <a:off x="698400" y="4202280"/>
              <a:ext cx="8109000" cy="1439640"/>
              <a:chOff x="698400" y="4202280"/>
              <a:chExt cx="8109000" cy="1439640"/>
            </a:xfrm>
          </p:grpSpPr>
          <p:sp>
            <p:nvSpPr>
              <p:cNvPr id="458" name="Line 1240"/>
              <p:cNvSpPr/>
              <p:nvPr/>
            </p:nvSpPr>
            <p:spPr>
              <a:xfrm>
                <a:off x="698400" y="5640480"/>
                <a:ext cx="8109000" cy="144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59" name="Line 1241"/>
              <p:cNvSpPr/>
              <p:nvPr/>
            </p:nvSpPr>
            <p:spPr>
              <a:xfrm>
                <a:off x="698400" y="5108400"/>
                <a:ext cx="8109000" cy="180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60" name="Line 1242"/>
              <p:cNvSpPr/>
              <p:nvPr/>
            </p:nvSpPr>
            <p:spPr>
              <a:xfrm>
                <a:off x="698400" y="4630680"/>
                <a:ext cx="8105760" cy="180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61" name="Line 1243"/>
              <p:cNvSpPr/>
              <p:nvPr/>
            </p:nvSpPr>
            <p:spPr>
              <a:xfrm>
                <a:off x="698400" y="4202280"/>
                <a:ext cx="8105760" cy="144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254"/>
            <p:cNvGrpSpPr/>
            <p:nvPr/>
          </p:nvGrpSpPr>
          <p:grpSpPr>
            <a:xfrm>
              <a:off x="695160" y="2336760"/>
              <a:ext cx="8112240" cy="1500120"/>
              <a:chOff x="695160" y="2336760"/>
              <a:chExt cx="8112240" cy="1500120"/>
            </a:xfrm>
          </p:grpSpPr>
          <p:sp>
            <p:nvSpPr>
              <p:cNvPr id="463" name="Line 1245"/>
              <p:cNvSpPr/>
              <p:nvPr/>
            </p:nvSpPr>
            <p:spPr>
              <a:xfrm>
                <a:off x="698400" y="3835440"/>
                <a:ext cx="8109000" cy="144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64" name="Line 1246"/>
              <p:cNvSpPr/>
              <p:nvPr/>
            </p:nvSpPr>
            <p:spPr>
              <a:xfrm flipV="1">
                <a:off x="695160" y="3454200"/>
                <a:ext cx="8109000" cy="5868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65" name="Line 1247"/>
              <p:cNvSpPr/>
              <p:nvPr/>
            </p:nvSpPr>
            <p:spPr>
              <a:xfrm>
                <a:off x="698400" y="3168720"/>
                <a:ext cx="8109000" cy="468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66" name="Line 1248"/>
              <p:cNvSpPr/>
              <p:nvPr/>
            </p:nvSpPr>
            <p:spPr>
              <a:xfrm>
                <a:off x="698400" y="2906640"/>
                <a:ext cx="8070840" cy="180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67" name="Line 1249"/>
              <p:cNvSpPr/>
              <p:nvPr/>
            </p:nvSpPr>
            <p:spPr>
              <a:xfrm flipV="1">
                <a:off x="695160" y="2662200"/>
                <a:ext cx="8109000" cy="6840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68" name="Line 1250"/>
              <p:cNvSpPr/>
              <p:nvPr/>
            </p:nvSpPr>
            <p:spPr>
              <a:xfrm>
                <a:off x="698400" y="2552760"/>
                <a:ext cx="8109000" cy="324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69" name="Line 1251"/>
              <p:cNvSpPr/>
              <p:nvPr/>
            </p:nvSpPr>
            <p:spPr>
              <a:xfrm flipV="1">
                <a:off x="695160" y="2441520"/>
                <a:ext cx="8109000" cy="7632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70" name="Line 1252"/>
              <p:cNvSpPr/>
              <p:nvPr/>
            </p:nvSpPr>
            <p:spPr>
              <a:xfrm flipV="1">
                <a:off x="730080" y="2354400"/>
                <a:ext cx="8074080" cy="5688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  <p:sp>
            <p:nvSpPr>
              <p:cNvPr id="471" name="Line 1253"/>
              <p:cNvSpPr/>
              <p:nvPr/>
            </p:nvSpPr>
            <p:spPr>
              <a:xfrm>
                <a:off x="698400" y="2336760"/>
                <a:ext cx="8109000" cy="1800"/>
              </a:xfrm>
              <a:prstGeom prst="line">
                <a:avLst/>
              </a:prstGeom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Text Box 1043"/>
          <p:cNvSpPr/>
          <p:nvPr/>
        </p:nvSpPr>
        <p:spPr>
          <a:xfrm>
            <a:off x="5925960" y="167652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@</a:t>
            </a: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和</a:t>
            </a: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e </a:t>
            </a: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的时代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数字化经济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人类，</a:t>
            </a: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社会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3" name="Text Box 1044"/>
          <p:cNvSpPr/>
          <p:nvPr/>
        </p:nvSpPr>
        <p:spPr>
          <a:xfrm>
            <a:off x="119520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电子商务先锋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4" name="Text Box 1047"/>
          <p:cNvSpPr/>
          <p:nvPr/>
        </p:nvSpPr>
        <p:spPr>
          <a:xfrm>
            <a:off x="1241640" y="26668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电子商务精通者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5" name="Text Box 1048"/>
          <p:cNvSpPr/>
          <p:nvPr/>
        </p:nvSpPr>
        <p:spPr>
          <a:xfrm>
            <a:off x="1140120" y="1905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信息精英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6" name="Text Box 1257"/>
          <p:cNvSpPr/>
          <p:nvPr/>
        </p:nvSpPr>
        <p:spPr>
          <a:xfrm>
            <a:off x="12664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网络营销专家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7" name="Text Box 1258"/>
          <p:cNvSpPr/>
          <p:nvPr/>
        </p:nvSpPr>
        <p:spPr>
          <a:xfrm>
            <a:off x="1271520" y="4191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统计分析专家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8" name="Text Box 1259"/>
          <p:cNvSpPr/>
          <p:nvPr/>
        </p:nvSpPr>
        <p:spPr>
          <a:xfrm>
            <a:off x="1146240" y="495288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技术专家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7"/>
          <p:cNvSpPr/>
          <p:nvPr/>
        </p:nvSpPr>
        <p:spPr>
          <a:xfrm>
            <a:off x="5715000" y="1066680"/>
            <a:ext cx="3048120" cy="35816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力资源工作者观念的改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rcRect l="32548" t="0" r="12185" b="0"/>
          <a:stretch/>
        </p:blipFill>
        <p:spPr>
          <a:xfrm>
            <a:off x="4191120" y="4114800"/>
            <a:ext cx="4724280" cy="213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a8b1df"/>
            </a:outerShdw>
          </a:effectLst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6629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130000"/>
              </a:lnSpc>
              <a:spcAft>
                <a:spcPts val="1001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1600" spc="-1" strike="noStrike">
                <a:solidFill>
                  <a:srgbClr val="6161cb"/>
                </a:solidFill>
                <a:latin typeface="Arial"/>
              </a:rPr>
              <a:t>无国界的工作场所（虚拟工厂，虚拟公司），通过网络运作的组织（虚拟员工与虚拟经理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30000"/>
              </a:lnSpc>
              <a:spcAft>
                <a:spcPts val="1001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1600" spc="-1" strike="noStrike">
                <a:solidFill>
                  <a:srgbClr val="6161cb"/>
                </a:solidFill>
                <a:latin typeface="Arial"/>
              </a:rPr>
              <a:t>团队，工作组，资源利用，互相学习的组织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30000"/>
              </a:lnSpc>
              <a:spcAft>
                <a:spcPts val="1001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1600" spc="-1" strike="noStrike">
                <a:solidFill>
                  <a:srgbClr val="6161cb"/>
                </a:solidFill>
                <a:latin typeface="Arial"/>
              </a:rPr>
              <a:t>知识资产，人员资产管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30000"/>
              </a:lnSpc>
              <a:spcAft>
                <a:spcPts val="1001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1600" spc="-1" strike="noStrike">
                <a:solidFill>
                  <a:srgbClr val="6161cb"/>
                </a:solidFill>
                <a:latin typeface="Arial"/>
              </a:rPr>
              <a:t>共享服务中心，战略性利用外部资源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30000"/>
              </a:lnSpc>
              <a:spcAft>
                <a:spcPts val="1001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1600" spc="-1" strike="noStrike">
                <a:solidFill>
                  <a:srgbClr val="6161cb"/>
                </a:solidFill>
                <a:latin typeface="Arial"/>
              </a:rPr>
              <a:t>数据，信息和知识的区别，知识管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6325200" y="236232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Virtual HR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Oval 1033"/>
          <p:cNvSpPr/>
          <p:nvPr/>
        </p:nvSpPr>
        <p:spPr>
          <a:xfrm>
            <a:off x="0" y="2666880"/>
            <a:ext cx="4267080" cy="3886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网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招聘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29"/>
          <p:cNvSpPr/>
          <p:nvPr/>
        </p:nvSpPr>
        <p:spPr>
          <a:xfrm>
            <a:off x="457200" y="838080"/>
            <a:ext cx="3048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招聘与网络的结合：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华文琥珀"/>
              </a:rPr>
              <a:t>在线招聘管理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7" name="Text Box 1032"/>
          <p:cNvSpPr/>
          <p:nvPr/>
        </p:nvSpPr>
        <p:spPr>
          <a:xfrm>
            <a:off x="4944960" y="45720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99"/>
                </a:solidFill>
                <a:latin typeface="Times New Roman"/>
              </a:rPr>
              <a:t>你的招聘系统是否支持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3399"/>
                </a:solidFill>
                <a:latin typeface="Times New Roman"/>
              </a:rPr>
              <a:t>新的人力资源管理策略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8" name="Oval 1038"/>
          <p:cNvSpPr/>
          <p:nvPr/>
        </p:nvSpPr>
        <p:spPr>
          <a:xfrm>
            <a:off x="533520" y="3352680"/>
            <a:ext cx="2590560" cy="28958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9" name="Oval 1037"/>
          <p:cNvSpPr/>
          <p:nvPr/>
        </p:nvSpPr>
        <p:spPr>
          <a:xfrm>
            <a:off x="914400" y="3733920"/>
            <a:ext cx="2819520" cy="228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0" name="Oval 1036"/>
          <p:cNvSpPr/>
          <p:nvPr/>
        </p:nvSpPr>
        <p:spPr>
          <a:xfrm>
            <a:off x="1523880" y="4038480"/>
            <a:ext cx="2286000" cy="1828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1" name="AutoShape 1034"/>
          <p:cNvSpPr/>
          <p:nvPr/>
        </p:nvSpPr>
        <p:spPr>
          <a:xfrm>
            <a:off x="838080" y="2057400"/>
            <a:ext cx="4267440" cy="3200400"/>
          </a:xfrm>
          <a:prstGeom prst="flowChartMerg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2" name="AutoShape 1035"/>
          <p:cNvSpPr/>
          <p:nvPr/>
        </p:nvSpPr>
        <p:spPr>
          <a:xfrm>
            <a:off x="1701720" y="5181480"/>
            <a:ext cx="2667240" cy="1359000"/>
          </a:xfrm>
          <a:prstGeom prst="flowChartExtra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3" name="Rectangle 1040"/>
          <p:cNvSpPr/>
          <p:nvPr/>
        </p:nvSpPr>
        <p:spPr>
          <a:xfrm>
            <a:off x="2895480" y="3657600"/>
            <a:ext cx="152424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4" name="Rectangle 1026"/>
          <p:cNvSpPr/>
          <p:nvPr/>
        </p:nvSpPr>
        <p:spPr>
          <a:xfrm>
            <a:off x="2908440" y="4038480"/>
            <a:ext cx="1371600" cy="1905120"/>
          </a:xfrm>
          <a:prstGeom prst="rect">
            <a:avLst/>
          </a:prstGeom>
          <a:solidFill>
            <a:srgbClr val="977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495" name="Picture 1030" descr="C:\My Documents\HENRY_HE\training\image\smfeed.gif"/>
          <p:cNvPicPr/>
          <p:nvPr/>
        </p:nvPicPr>
        <p:blipFill>
          <a:blip r:embed="rId1"/>
          <a:stretch/>
        </p:blipFill>
        <p:spPr>
          <a:xfrm>
            <a:off x="2906640" y="3949560"/>
            <a:ext cx="1271520" cy="198144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1042"/>
          <p:cNvSpPr/>
          <p:nvPr/>
        </p:nvSpPr>
        <p:spPr>
          <a:xfrm>
            <a:off x="9907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7" name="AutoShape 1045"/>
          <p:cNvSpPr/>
          <p:nvPr/>
        </p:nvSpPr>
        <p:spPr>
          <a:xfrm rot="19800000">
            <a:off x="1828440" y="54097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8" name="AutoShape 1041"/>
          <p:cNvSpPr/>
          <p:nvPr/>
        </p:nvSpPr>
        <p:spPr>
          <a:xfrm>
            <a:off x="1828800" y="50292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9" name="AutoShape 1046"/>
          <p:cNvSpPr/>
          <p:nvPr/>
        </p:nvSpPr>
        <p:spPr>
          <a:xfrm rot="1500000">
            <a:off x="1371240" y="4495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0" name="AutoShape 1049"/>
          <p:cNvSpPr/>
          <p:nvPr/>
        </p:nvSpPr>
        <p:spPr>
          <a:xfrm rot="1500000">
            <a:off x="685440" y="42667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1" name="AutoShape 1050"/>
          <p:cNvSpPr/>
          <p:nvPr/>
        </p:nvSpPr>
        <p:spPr>
          <a:xfrm rot="1500000">
            <a:off x="151920" y="40381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2" name="AutoShape 1052"/>
          <p:cNvSpPr/>
          <p:nvPr/>
        </p:nvSpPr>
        <p:spPr>
          <a:xfrm rot="19800000">
            <a:off x="1219320" y="55623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3" name="AutoShape 1053"/>
          <p:cNvSpPr/>
          <p:nvPr/>
        </p:nvSpPr>
        <p:spPr>
          <a:xfrm rot="19800000">
            <a:off x="685800" y="57909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4" name="AutoShape 1055"/>
          <p:cNvSpPr/>
          <p:nvPr/>
        </p:nvSpPr>
        <p:spPr>
          <a:xfrm>
            <a:off x="22860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Object 5"/>
          <p:cNvGraphicFramePr/>
          <p:nvPr/>
        </p:nvGraphicFramePr>
        <p:xfrm>
          <a:off x="3200400" y="580248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580248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网络环境的人力资源规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1066680" y="1752480"/>
            <a:ext cx="6629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企业的人才结构，知识结构，年龄结构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marL="399960" indent="-399960">
              <a:lnSpc>
                <a:spcPct val="130000"/>
              </a:lnSpc>
              <a:spcAft>
                <a:spcPts val="1250"/>
              </a:spcAft>
              <a:buClr>
                <a:srgbClr val="0019d1"/>
              </a:buClr>
              <a:buFont typeface="Wingdings" charset="2"/>
              <a:buChar char="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2000" spc="-1" strike="noStrike">
                <a:solidFill>
                  <a:srgbClr val="6161cb"/>
                </a:solidFill>
                <a:latin typeface="Arial"/>
              </a:rPr>
              <a:t>人力资源政策</a:t>
            </a:r>
            <a:endParaRPr b="1" lang="en-US" sz="20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12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1800" spc="-1" strike="noStrike">
                <a:solidFill>
                  <a:srgbClr val="6161cb"/>
                </a:solidFill>
                <a:latin typeface="Arial"/>
                <a:ea typeface="宋体"/>
              </a:rPr>
              <a:t>以顾问为导向的组织结构（新的部门，部门重要性的改变）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12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1800" spc="-1" strike="noStrike">
                <a:solidFill>
                  <a:srgbClr val="6161cb"/>
                </a:solidFill>
                <a:latin typeface="Arial"/>
                <a:ea typeface="宋体"/>
              </a:rPr>
              <a:t>职务革命与信息分配（新的职位，新的工作内容）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125"/>
              </a:spcAft>
              <a:buClr>
                <a:srgbClr val="0019d1"/>
              </a:buClr>
              <a:buFont typeface="Wingdings" charset="2"/>
              <a:buChar char=""/>
              <a:tabLst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zh-CN" sz="1800" spc="-1" strike="noStrike">
                <a:solidFill>
                  <a:srgbClr val="6161cb"/>
                </a:solidFill>
                <a:latin typeface="Arial"/>
                <a:ea typeface="宋体"/>
              </a:rPr>
              <a:t>网络劳动力市场及吸引，留住人才策略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  <a:p>
            <a:pPr lvl="1" marL="785880" indent="-271440">
              <a:lnSpc>
                <a:spcPct val="130000"/>
              </a:lnSpc>
              <a:spcAft>
                <a:spcPts val="1125"/>
              </a:spcAft>
              <a:tabLst>
                <a:tab algn="l" pos="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9"/>
          <p:cNvSpPr/>
          <p:nvPr/>
        </p:nvSpPr>
        <p:spPr>
          <a:xfrm>
            <a:off x="304920" y="5029200"/>
            <a:ext cx="2286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招聘的评估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招聘战略制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914400" y="4191120"/>
            <a:ext cx="2286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怎么招聘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1523880" y="1143000"/>
            <a:ext cx="2743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人力资源计划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13" name="Rectangle 15"/>
          <p:cNvSpPr/>
          <p:nvPr/>
        </p:nvSpPr>
        <p:spPr>
          <a:xfrm>
            <a:off x="457200" y="5486400"/>
            <a:ext cx="2438280" cy="152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1143000" y="4648320"/>
            <a:ext cx="2057400" cy="152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15" name="Rectangle 17"/>
          <p:cNvSpPr/>
          <p:nvPr/>
        </p:nvSpPr>
        <p:spPr>
          <a:xfrm>
            <a:off x="1752480" y="1600200"/>
            <a:ext cx="2362320" cy="22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16" name="Rectangle 24"/>
          <p:cNvSpPr/>
          <p:nvPr/>
        </p:nvSpPr>
        <p:spPr>
          <a:xfrm rot="1500000">
            <a:off x="7238520" y="1828800"/>
            <a:ext cx="6098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9d1"/>
                </a:solidFill>
                <a:latin typeface="Times New Roman"/>
              </a:rPr>
              <a:t>发展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17" name="Rectangle 25"/>
          <p:cNvSpPr/>
          <p:nvPr/>
        </p:nvSpPr>
        <p:spPr>
          <a:xfrm rot="1500000">
            <a:off x="4876560" y="3962520"/>
            <a:ext cx="60948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9d1"/>
                </a:solidFill>
                <a:latin typeface="Times New Roman"/>
              </a:rPr>
              <a:t>储备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518" name="Picture 4" descr="C:\Program Files\Common Files\Microsoft Shared\Clipart\cagcat50\PE01846_.wmf"/>
          <p:cNvPicPr/>
          <p:nvPr/>
        </p:nvPicPr>
        <p:blipFill>
          <a:blip r:embed="rId1"/>
          <a:stretch/>
        </p:blipFill>
        <p:spPr>
          <a:xfrm>
            <a:off x="3657600" y="4495680"/>
            <a:ext cx="4583160" cy="201312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26"/>
          <p:cNvSpPr/>
          <p:nvPr/>
        </p:nvSpPr>
        <p:spPr>
          <a:xfrm>
            <a:off x="1371600" y="3429000"/>
            <a:ext cx="2743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从哪里招聘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2590920" y="2057400"/>
            <a:ext cx="2743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为什么要招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1905120" y="2743200"/>
            <a:ext cx="2743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招聘哪些人</a:t>
            </a:r>
            <a:endParaRPr b="1" lang="en-US" sz="1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3124080" y="2438280"/>
            <a:ext cx="2057400" cy="15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2514600" y="3124080"/>
            <a:ext cx="2057400" cy="15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1905120" y="3886200"/>
            <a:ext cx="2057400" cy="152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25" name="Rectangle 34"/>
          <p:cNvSpPr/>
          <p:nvPr/>
        </p:nvSpPr>
        <p:spPr>
          <a:xfrm rot="1500000">
            <a:off x="6095520" y="2819520"/>
            <a:ext cx="60984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9d1"/>
                </a:solidFill>
                <a:latin typeface="Times New Roman"/>
              </a:rPr>
              <a:t>更新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招聘渠道分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 rot="20598600">
            <a:off x="0" y="1066320"/>
            <a:ext cx="3048120" cy="2362320"/>
          </a:xfrm>
          <a:prstGeom prst="irregularSeal2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哪种渠道最佳？</a:t>
            </a:r>
            <a:endParaRPr b="1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528" name="Object 5"/>
          <p:cNvGraphicFramePr/>
          <p:nvPr/>
        </p:nvGraphicFramePr>
        <p:xfrm>
          <a:off x="2514600" y="1219320"/>
          <a:ext cx="9372600" cy="68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219320"/>
                    <a:ext cx="9372600" cy="68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5T06:50:26Z</dcterms:created>
  <dc:creator>Hhming</dc:creator>
  <dc:description/>
  <dc:language>en-US</dc:language>
  <cp:lastModifiedBy>忠信技术</cp:lastModifiedBy>
  <dcterms:modified xsi:type="dcterms:W3CDTF">2017-08-06T14:28:16Z</dcterms:modified>
  <cp:revision>100</cp:revision>
  <dc:subject/>
  <dc:title>nethratraining</dc:title>
</cp:coreProperties>
</file>