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000-7EE1-4193-A764-77F63E82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066-A6A1-49E3-8C88-69BB53DD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EF927-826A-4271-82EC-15E8AD27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AC806-77EF-4FE6-95A4-D1D70C0B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B79DC-2BFC-4708-AD4A-B103A26A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4BB0A-B47C-4109-8AA5-9218EE3E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789F2-EB08-4442-A71C-2A812EA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B9B2C-F013-4907-838E-58A628C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F3809-CC1B-4049-B56A-DC03FC2F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E22D1-69B2-4385-9893-96E6DA6E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8B2F1-A150-426D-ADE9-1F14D833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A5F8D-039B-415B-8BAF-47A0BC74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CF1-0EF9-496F-B32C-8811DF62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67962-BBEA-45EC-B23C-E97112CE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064F5-AE86-4FCB-97B1-1A4BABF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858D1-AE20-4FD9-B964-0F5636E6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E5460-0358-4C7B-8865-74BCCF07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4CB04-67A8-4A73-AE0D-15D68AFC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5DA41-DFAC-4731-93EA-8034E809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25D65-B5BD-4D5D-BABE-77C8BF3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53BF8-AA1D-4ACC-A450-F529812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39D9C-B55E-4794-B62C-B6C3FDD5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AA68B-C460-4F30-97AA-45E911C6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4FB-3B25-458F-B48C-0910543E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0AF25-9C5C-4C34-8DED-0F3B7101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503FB-92ED-4DFF-A8C5-7EFA8FE0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4F5C4-7396-4705-BE04-53B50C79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592AE-8DEA-4636-BE34-9CC6A879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6C35D-0EE3-4B96-93D7-876D28AD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5B0AE-1D1E-424E-A7F6-66950CFE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52C6E-B407-4141-A474-2AFEC1F8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1F5A4-F102-4CF1-8643-7136B11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51D32-8CBB-457B-94D6-B10ABA9A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07A3-8A34-4574-8BA2-5EB552C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DAA1-BD6D-4B10-ACD9-3081FD8A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7BFBE-58E0-441D-A043-5688BA44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9E70B-772F-407D-98D4-540F22E7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B2FA2-977C-4C54-9669-F8AB110B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CE4C2-5DD6-410B-99C3-2AAD9D51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5EE9E-113E-4608-9A7B-6ACD1F78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A4CEA-651D-45B3-91EC-FE8F1B2F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ACE98-5AC3-4E2B-870B-28ABE2A0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2699D-5BE9-49F0-8618-128A3E64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55027-5AAA-4DF4-867F-0726103E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7A838-2790-4473-BA48-E7D6520B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903D-796A-4942-B1A4-8BE3A6EB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C3C76-9AA6-4C29-849F-AB9F7C73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C2532-EC23-4805-A404-E74F5329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8AED2-CDC5-4D61-B26D-96B3A667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EB2E3-0BAA-4B54-884A-B6B372AA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1DC18-D3F7-49C3-B158-D9231A65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30C7-6F84-4FB7-929B-B53DB48C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5FF0-2881-413D-A8BE-79D15501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CED0-68EA-4D5F-9549-46CE83CF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656F-D105-4AAB-928D-2FAFE462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47CF-2208-4B21-BE07-3699452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5BF-FB77-46CD-A68A-04E00693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1F16-7C76-41D8-A513-0291DC72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4349-3E85-4771-906F-0C019A42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F586-209E-4D47-AB9F-2BC5FA56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9D46-BFF8-4368-8A44-11E95910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9C9F-971E-40C8-B5A8-119DEE78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4192-BB6D-40C2-9560-F3C46F99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4EB0-0C85-4186-8E18-470EA646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B88E-0A5A-4361-A3F4-C656051C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B6E2-C3CB-4D0A-9D0F-9C76D807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F403-E660-4FB5-BC37-68FF727C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DF7-F357-428F-AC27-DEB5BEB6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E342-FCBC-4D8C-8561-9918D26B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56BF-8ADD-4A07-9AAD-0B5FF19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C506-922D-4AF5-8697-F5C55AE5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2B99-6C7A-4B50-AB61-5014E395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7ADC-D728-4C97-A8C6-D7B2749C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38DF-1D7E-4C16-B28D-680718BD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113A-9282-42A0-BEE3-FA963191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10A17-B0D9-4E6A-8420-08C835EB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8C90-8D4E-4333-8775-05ED547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F13C-9940-46BE-8986-CA815EC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2B1-1C6A-4B36-82A6-2D603D8F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CC62-DBE3-4835-ADE4-0820E4AE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04794-C485-43F3-86F2-603DBA48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C211A-1B63-4A81-9C90-33FAC633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7368-8C2C-4740-BE00-65044DD6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BCA1-4F2F-4F83-8B65-CEDE25A1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EBA7-3AE6-4BB7-B231-2E8E92A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3ABA8-1661-48A6-9836-3B7F61D0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4111-4061-46F0-B5C5-D0FC55DC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6A1C-BAC9-4A15-98A4-CB5A0612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038E1-D78E-4212-A56A-2841224C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124-26EE-4DE7-A581-D09464FD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CBA9D-2DFD-4C55-BA30-412D5757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A2310-A330-4203-A391-ED8FBFE0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E014A-1ABC-4115-B3FC-4AEE2547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E070-EEA2-49ED-BE4F-4A13384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952E-BD9F-4B29-AF96-352B57D8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80257-63EA-4513-A2AB-CA09415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5ED9-5BAA-4288-B88B-EF888433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DB95-8607-42C2-B69D-179D1250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9E5A-2419-45AB-A4F5-0B6E9B6D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9B87-8EC3-4C40-B297-29EFCF81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A9E-74B4-44E8-AF1B-B675498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7FE0B-55B8-4ACC-AA2B-550DA799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27D8A-0033-4B4D-B54F-FE93EECF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C598-3774-420F-ACAC-F0011300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5265D-7820-4254-B00C-EC848A64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E079-91C6-454B-881D-9EFE253E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3454C-EC9B-4E62-8C59-EED66A41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2C06C-1FFA-4480-ABEA-A75D76B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64D8-FCBE-4433-8D4D-B63A2540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6E61E-42C8-45A8-A470-149885A1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7E031-9EFF-4C9B-901F-42CD330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7B1-C5CA-4400-A7EE-989D859D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C5C7A-02C5-43F8-9CCF-6F418074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C9D47-76CD-483B-9294-233BCECF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C6BBA-4A75-4597-B93F-6757F64E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2686-D091-4730-8EE7-9C9C5D02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3F352-2F29-4419-B448-1A887B7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07ED2-32BB-4872-903D-093FBE0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9E61-A30D-4580-AAA1-8334131C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4C8F6-B39F-458D-8454-AB2700D2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95394-00CC-49CA-B05E-1B7548E3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9D997-8F4D-4C9E-B3D5-95A9C5F5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7AC-EF0A-42FC-AC30-12A9C17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7D06C-A9FF-45ED-848B-9FC90239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959D-512B-41E0-96E9-68B28E3C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D3B1-F75F-4F48-A998-7E0FC231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89F65-BD3A-450C-9FD4-CBA368FA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9BC8B-0B7F-4E3B-8656-B65831D2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ECD2-B319-42B8-B03D-EABF8F16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522AA-C8BF-49ED-A01D-E758BB2B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D3CC-A890-428E-AE31-02BA6507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3916A-A463-4B13-A4A1-9FF9A227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C2554-9E18-4801-8009-9E8A2AC7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6D2-FE5D-4408-A693-4A64257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84922-81D7-4C8E-AF12-AEF42505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01CD5-DDA2-46D7-A161-F4C0FB4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55036-B42D-4EF3-91C2-D67F8E8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7241-5D7F-4C50-8E6F-7B85C37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936BB-84DE-4A20-BE73-EA49D91E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EEE99-0E3B-4B53-ACF1-B2646E7C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E3C8F-771D-442C-934F-057E89DB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1AC3E-B7EF-41AB-8B12-1BF6E9BC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8FF5C-007A-4FB6-AA15-392C073F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D04EE-887D-4A5E-892C-1C584399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人才测评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C3B-A475-4729-86F9-25DE3A7D7E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D672-9CE9-496D-B478-7EA977084A8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2BB6-26CC-4E7B-82AD-62C473A10B5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3E5C-456E-4002-B5ED-4ACD95C75E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人才测评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0E99-6971-42F5-8404-237DB88A8D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AAE1-6690-4C54-880C-86CF1F8F12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5159-9B64-4A49-BB8C-CB397077A5D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4A83-23CA-480B-92E9-B1F54070C10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4D04-9978-43F6-B496-850C4EE783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4C5-090F-42FC-BE3E-C29368635B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EFA5-65FD-49FF-9281-90F87C78FE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3E4A-B8A7-421A-86EE-5DA52E8B62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三德医疗</a:t>
            </a:r>
            <a:r>
              <a:rPr b="0" lang="en-US" sz="5000" spc="-1" strike="noStrike">
                <a:solidFill>
                  <a:srgbClr val="006633"/>
                </a:solidFill>
                <a:latin typeface="Arial"/>
              </a:rPr>
              <a:t>·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综合测评试题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职位：财务管理部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655C-5635-429A-ABFE-7317917E9E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页脚占位符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人才测评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7720" y="9907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一个公司中由于进入的时间先后形成如下管理格局：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个人能力排序为：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&gt;C&gt;B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分别假设你的身份为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下一步你会采取什么行动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2044440" y="4952880"/>
            <a:ext cx="50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若个人能力排序为：</a:t>
            </a: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&gt;A&gt;B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E63A-68E1-40E8-817D-2496E8C0C0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457200" y="685800"/>
            <a:ext cx="81532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在你负责执行的某个项目中，有一个成员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与你意见不统一。你会采取什么行动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意见项目组大多数人反对但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仍拒绝改正，你怎么办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意见得到大多数人的支持，而你坚信公司是对的，又该怎么办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3C2B-612B-4C9E-8857-583C1DCC68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作为财务经理，你如何选择筹资渠道？小企业如何融资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假设给您分配一项工作，这个工作除了完成期限外，没有历史记录，没有操作规范，您将怎么开展这项工作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0F86-B7C7-4032-BABB-464CC9F920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</a:rPr>
              <a:t>作为一名财务经理，你刚进入到一家企业时发现：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宇宙公司是一家地处哈市群力开发区的高新技术企业，资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元，权益资金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流动比例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其中应收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一年度收入总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元，实现赢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一年度企业所得税适用税率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目前公司产品刚刚进入市场成熟期，销量稳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财务部除经理外，有工业会计二名、商业会计一名，出纳一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前，董事会决定通过一系列的市场政策，扩大市场占有量，使之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.8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达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帐实不符，差错较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市场部提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广告投入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销售单据填写项目混乱，货号常出现错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公司计划引进新的生产线，预计支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会计对你说：到年终了，好多事都没做，工作量太大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5385240" y="60958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33"/>
                </a:solidFill>
                <a:latin typeface="Arial"/>
                <a:ea typeface="SimHei"/>
              </a:rPr>
              <a:t>这时，您的行动计划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4D0F-E716-4FA0-B243-5522DC0719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忠信技术</cp:lastModifiedBy>
  <dcterms:modified xsi:type="dcterms:W3CDTF">2017-08-06T14:28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