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30C-9CC8-4DF1-AB66-A1FCDDAB9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23AC-BA33-4386-9A77-24E6169C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942-8494-43AD-AC54-2F0DEA34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4E61-7657-4941-8946-4DC49B089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1FF-9161-4C3D-BC02-C18AA75A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92F-3260-453A-B51F-F85CCE5F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237E-6F59-483E-B16D-3766A9582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CAAF-0FC0-485C-B39A-1F322D3D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F1D-1770-48E3-8A9E-D17729DE3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7392-4ACA-43A2-A936-A48FFCFC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895-3246-420C-8A46-805FFFDF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F4E-2112-442A-A694-37EF3B1B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9D9-454D-41FE-B6FE-EAF2DF246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CB12-9852-4329-AD28-007517BD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2776-94F1-4E4C-9CCB-2D29DCBD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82B-EBE4-43A4-B6F2-B8BCE8A4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8E6-49D4-4A15-A55A-F7EDAEFC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4992-BACB-44A9-980B-7AE82004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193-D287-4251-8B34-DFA32CD5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56F-5AAD-47D6-A302-A283187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15EE-CA1C-4DCF-96B4-AD3ED54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50EF8-2C59-4AAF-AAED-C41D9878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E6093-0DB8-4E22-946A-A72B3BCA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34893-DA88-4DA1-96AB-EA74CF3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F1C07-AFBE-4EBB-B035-BB1D5CD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CE798-96FF-4612-A9EB-F27B42D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FA40-25B3-499F-918B-F2A0E7C8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B3856-81B8-4032-AB41-7AD7F9D6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8F76-0BF7-48B7-AF53-F91E3714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B4A4A-E2D9-4FF2-B299-57AC30C6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F64-3164-4A00-835F-358BB2B8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76231-9B89-40EE-B1A4-4D872D1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70A87-30B0-4EFF-A76D-936064B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AB091-6FB8-4C7C-958D-D5F63AD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D97C3-89A6-4C05-9D4E-B41BB010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A1AB7-CA3B-446F-9EB3-F35E716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0B95F-2BC9-40B2-9A53-8CA4449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67411-1F2F-4957-AA00-B37A25A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30895-81F0-4155-9809-3779F94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F4B28-B5F4-4AC1-8436-65103C0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3A254-9B3C-48CC-9F55-F93FB286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9FC-1421-4EA3-A558-12998801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01342-E00B-4E32-A710-D673AD24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B73B8-540F-4735-BA85-2E3CB2D8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C8128-AA27-4A03-8879-B817480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C79C9-633A-46F1-B2FC-4DBE703C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27D5F-7D70-46EA-B3AE-B3A536B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69A9-CD47-41B9-8CD4-2675295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D5E97-E92D-477F-85B6-C23138C2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52EE5-55F1-4005-A644-328FAE7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36CEC-8038-4E15-96A3-17C81C6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763E-D05D-41C9-995C-71F0723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0B9-8F4C-4FA6-BABB-9E05C22A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7CA0F-3BAE-4CE1-BBB4-F634127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1F3B-901E-467B-930F-2CD557B6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67AD1-8AF1-4849-A9FE-E68DEB3B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2D80-FB77-45BD-BA9E-595C816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79DD-025E-4599-A148-A40D2279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BB2-87E2-427E-A0FE-34251CD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0121-A640-4F68-9BBB-1624BF2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ED04-EFBD-4391-8B8E-C9633DAB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3A3-C249-4970-B5F6-A4CA5BE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C62-25EB-4EEC-AF72-AEB40F3B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AC18-8ABF-4F9E-B2E9-AE8DB3A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A38-2963-427D-BB6C-CF777BF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723E-6315-4809-B938-9A808F7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D78F-CB59-4039-ABB1-9A76A3AA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2832-A111-4110-948D-B38714A4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7DBD-41EE-47C6-86CA-2A17C98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F7AB-636C-4411-BB1D-45DCC520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6EDF-778B-4C3A-885A-D0E9A66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5671-9A39-41D7-A5C9-F144AD6A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5B1C-5171-4AAF-841B-DD58472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279-C4D3-40BC-BE15-29D746B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67F7-1D2D-4BBF-AEF5-5026CF4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3368-CEB5-4979-BE96-191E580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5099-7EDF-4531-891C-1831934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09D2-D485-4619-8E9E-D093FF7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90C8-F96E-401F-8562-F4944987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759E-FD0D-46C3-92D8-1C76286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B444-7CD4-4E6A-B359-4B98B8CD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166C-0AB9-46E4-86B0-604DADFD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9D92-CD29-4582-A417-46B50611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E48F-E733-43E6-90C6-AF7E450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51F-A607-4298-A94B-028ED47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2563-A5C6-4A5D-8A5C-2D39D53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4708-9925-48A3-9F2D-E756606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DC1C-04EB-4156-A1C8-BA10F4E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9127-5A30-47A2-B727-299260C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B0D3-5FD0-4606-A113-DF20497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8437-A441-47B3-A809-07C4C8A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E2AF-AAFE-4FD8-8979-E671774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4498-98C9-4AC9-961F-F1152C7A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E0E7-4641-4778-BE94-E19C1543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25FC-0711-40A2-8B89-61A42C06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4C2-D478-44D5-922B-FCD30D6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7F7C-0AF4-4BA4-AD24-7A0024CC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F175-3835-481B-8FFE-A04493F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35236-155D-4AB1-B6E2-351D1AEB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474D-9E7F-4337-8B26-9EE0B4FB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4EA7-2655-4768-8129-B858909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36DB-CF34-4921-B245-9633624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C97D-3279-42CC-BEA6-7C85E21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DAC30-C238-4D96-8299-DB08249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E81A-B474-49DF-966D-9F194EC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ECBA-9794-4811-A6D6-0206B1E7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90F-0260-4730-B3BC-5E4AD78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7FF7-2BFB-4E10-897D-B9B3D086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77F9C-A982-4FDF-9D98-03920CBF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8ECA-F577-474B-A101-EFED12F8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CBEC-2191-4453-BCF2-52AD936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5720-F7D2-4B04-AD49-5EC73DA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59C2-7E46-4568-8B28-F4939E3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6EF1-5A9A-4C6F-9B94-C7602FE0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FF88-281D-474A-819C-49A410F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EC3A-607F-440A-B672-09D38FE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6AEC-C739-4D50-8FD0-0532BBC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094-4009-4130-9084-73AEAD5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D8B6-F353-45C7-BB1A-C48824C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5CFB-344B-4904-AC82-8E799AEA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936DA-C79F-4DAD-AAA9-9BB161D9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CA99-1E30-4BAA-BC19-19349F7B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5AFD-A466-497B-A984-C48CB08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B4C2-9772-4F32-A014-ED61948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C144A-3114-414B-8425-D53F1AA8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C1060-7D0F-4EB1-B9A6-D7A8240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D98D8-979F-44E1-A66F-17049ACB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60C28-69E4-4676-93F8-1F1F4C2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AC7-F60D-4458-9031-63D3D35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509F-3526-4E99-B304-D13362C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6403-6F01-45B5-A5DE-98EA057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5075A-01AE-4B58-A99C-0F54B02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1B81-3675-418C-ABAE-72538D4E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8C1A-9596-4DC4-BFF9-CDC53FCD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502B-93CF-41F4-9EBB-C77DC709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4816-AD8E-4DA0-88B8-B97D809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58C7B-088F-4DD8-A1A6-10C8516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B4FE-7347-40F6-BBA0-04C5B732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DF4C-8C82-4C2A-9B34-ADD284AF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EA1-63BC-4CF6-B0F9-B06C6D4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268C-7210-44DD-ABB1-7D18851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985F-C869-4309-9D51-D69E295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17B4-5BA1-4547-B0AB-E62A17A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2DE3-F059-4F38-9B7A-B3BB484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B909-1413-4D76-B64F-943BF41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0698-A816-42F4-A415-7D844C15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B8B9-D544-4834-9C12-41B90559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428CE-9B89-4B1E-AFF7-BF33FF33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D66C6-5059-4EE8-9317-D5CAF17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C251B-9FBA-4E9D-9179-D9FA377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815A-4A67-4DD3-8534-FF7F97E3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64E-6BE5-46ED-A284-9FC83AB6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D253-6EBA-4F3E-AA6C-79CF23627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972-58E3-464F-836E-52F47F80E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389F-86B0-4975-90CE-116FE5F9A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39B-06FB-495C-B044-E18BFF977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2C9-6417-4FE2-808C-8C2BCB5E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303A-E614-4FDA-AEF6-6607EF84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0DF7-22AA-4E77-AA61-DAF7B338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0FA-5E3A-408D-B9E9-FB03916E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F2D-86C8-479C-A86A-0B300C7D3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762120" y="1295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DI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1219320" y="222732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基于行为的结构化面试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geted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AA4D-4A9A-4A41-9CC8-DDCAD237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762120" y="14479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838080" y="2743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0"/>
          <p:cNvSpPr/>
          <p:nvPr/>
        </p:nvSpPr>
        <p:spPr>
          <a:xfrm>
            <a:off x="434340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1"/>
          <p:cNvSpPr/>
          <p:nvPr/>
        </p:nvSpPr>
        <p:spPr>
          <a:xfrm>
            <a:off x="838080" y="3962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2"/>
          <p:cNvSpPr/>
          <p:nvPr/>
        </p:nvSpPr>
        <p:spPr>
          <a:xfrm>
            <a:off x="2895480" y="3657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3"/>
          <p:cNvSpPr/>
          <p:nvPr/>
        </p:nvSpPr>
        <p:spPr>
          <a:xfrm>
            <a:off x="5638680" y="3657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1295280" y="990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素质维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952880" y="990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37160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为类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10666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3429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624852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106668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1"/>
          <p:cNvSpPr/>
          <p:nvPr/>
        </p:nvSpPr>
        <p:spPr>
          <a:xfrm>
            <a:off x="762120" y="28954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告诉我你过去的一个例子：你组织一些人完成了一项预定的任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91B-9ABB-498E-9C66-6A6818BB1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124080" y="137160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情形或任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做了什么？如何做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的效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85800" y="3048120"/>
            <a:ext cx="5943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完整的 “星 ”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lete  ST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部分“星”：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tial ST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假“星”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lse ST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1219320" y="1066680"/>
            <a:ext cx="1904760" cy="1600200"/>
          </a:xfrm>
          <a:custGeom>
            <a:avLst/>
            <a:gdLst/>
            <a:ahLst/>
            <a:rect l="l" t="t" r="r" b="b"/>
            <a:pathLst>
              <a:path w="1905000" h="1600200">
                <a:moveTo>
                  <a:pt x="2" y="611220"/>
                </a:moveTo>
                <a:lnTo>
                  <a:pt x="727649" y="611225"/>
                </a:lnTo>
                <a:lnTo>
                  <a:pt x="952500" y="0"/>
                </a:lnTo>
                <a:lnTo>
                  <a:pt x="1177351" y="611225"/>
                </a:lnTo>
                <a:lnTo>
                  <a:pt x="1904998" y="611220"/>
                </a:lnTo>
                <a:lnTo>
                  <a:pt x="1316316" y="988974"/>
                </a:lnTo>
                <a:lnTo>
                  <a:pt x="1541176" y="1600196"/>
                </a:lnTo>
                <a:lnTo>
                  <a:pt x="952500" y="1222436"/>
                </a:lnTo>
                <a:lnTo>
                  <a:pt x="363824" y="1600196"/>
                </a:lnTo>
                <a:lnTo>
                  <a:pt x="588684" y="988974"/>
                </a:lnTo>
                <a:lnTo>
                  <a:pt x="2" y="61122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Object 10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3430440" cy="2222640"/>
          </a:xfrm>
          <a:prstGeom prst="rect">
            <a:avLst/>
          </a:prstGeom>
          <a:ln w="0">
            <a:noFill/>
          </a:ln>
        </p:spPr>
      </p:pic>
      <p:sp>
        <p:nvSpPr>
          <p:cNvPr id="56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467-DB6E-4B99-A86D-740547529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33520" y="1095480"/>
            <a:ext cx="800100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的“假”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s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 used to… In General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应聘者做了听起来很好的一般性描述，但是实际上并没有提供他实际上到底做了些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s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n my view… I have to say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应聘者的回答只反映了他的个人信仰、判断或是观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s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 would… I plan to… I will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我们从中了解应聘者“将”、“愿意”或“否则”会做的事情，但是实际上呢？他并没有做实际的事情，只是假设而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追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ual example from pas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1848-D0AF-447D-8B26-ADDBFE204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609480" y="1447920"/>
            <a:ext cx="769644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机匹配度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al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F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tisfy with job activ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挑战性的工作 、薪酬和工作环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rg. Fi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atisfy with org. values  and method of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客户导向、长期雇佣、质量控制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ocation Fi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atisfy with the geographic location of a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本地的交通、学校、生活便利程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n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at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y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：问题技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914400" y="49528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CDF8-CDC5-43A9-9D78-2A5F9FA30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609480" y="1468440"/>
            <a:ext cx="586764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试收集资料的评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辨识完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收集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素质维度归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辨识有效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无效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评估对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重要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个维度对最显著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流和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Object 7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657600" cy="1814400"/>
          </a:xfrm>
          <a:prstGeom prst="rect">
            <a:avLst/>
          </a:prstGeom>
          <a:ln w="0">
            <a:noFill/>
          </a:ln>
        </p:spPr>
      </p:pic>
      <p:sp>
        <p:nvSpPr>
          <p:cNvPr id="58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32C9-9ECF-4B4C-9462-2254FD464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838080" y="1447920"/>
            <a:ext cx="754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STARs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didate’s actions are effective and appropriate in a give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igh STA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ity to target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f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cy of behav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Object 7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2971800" cy="2608200"/>
          </a:xfrm>
          <a:prstGeom prst="rect">
            <a:avLst/>
          </a:prstGeom>
          <a:ln w="0">
            <a:noFill/>
          </a:ln>
        </p:spPr>
      </p:pic>
      <p:sp>
        <p:nvSpPr>
          <p:cNvPr id="5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E60-01F3-40E1-A7F1-20B5A975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066680" y="2057400"/>
            <a:ext cx="5410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交流和定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布你的评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论和交换意见、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协商定分：不是平均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招聘决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Object 7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173320"/>
          </a:xfrm>
          <a:prstGeom prst="rect">
            <a:avLst/>
          </a:prstGeom>
          <a:ln w="0">
            <a:noFill/>
          </a:ln>
        </p:spPr>
      </p:pic>
      <p:sp>
        <p:nvSpPr>
          <p:cNvPr id="59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34FB-7C41-44E7-80BB-DF25EEFC2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838080" y="2209680"/>
            <a:ext cx="58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其它需要注意的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-tim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view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Object 7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632040" cy="3221280"/>
          </a:xfrm>
          <a:prstGeom prst="rect">
            <a:avLst/>
          </a:prstGeom>
          <a:ln w="0">
            <a:noFill/>
          </a:ln>
        </p:spPr>
      </p:pic>
      <p:sp>
        <p:nvSpPr>
          <p:cNvPr id="60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C8B-45E3-4228-A672-BDB915F8C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914400" y="2057400"/>
            <a:ext cx="53341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目标面试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面试中常见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标面试法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Object 7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256280" cy="2086200"/>
          </a:xfrm>
          <a:prstGeom prst="rect">
            <a:avLst/>
          </a:prstGeom>
          <a:ln w="0">
            <a:noFill/>
          </a:ln>
        </p:spPr>
      </p:pic>
      <p:sp>
        <p:nvSpPr>
          <p:cNvPr id="46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9A5-8588-4911-8983-5EE761283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90720" y="152388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效的面试应该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准确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报宋繁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报宋繁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双赢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-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Object 7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2655720" cy="2667240"/>
          </a:xfrm>
          <a:prstGeom prst="rect">
            <a:avLst/>
          </a:prstGeom>
          <a:ln w="0">
            <a:noFill/>
          </a:ln>
        </p:spPr>
      </p:pic>
      <p:sp>
        <p:nvSpPr>
          <p:cNvPr id="47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A79-B56D-4E05-A3CB-3DEDC098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762120" y="1219320"/>
            <a:ext cx="708660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试中常见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试官漏掉了重要的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忽略工作和组织匹配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个面试官之间的问题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偏见和“固定模式”影响了判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草草做出决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晕轮效应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业余的心理学家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Object 7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454120" cy="25905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791-5CBF-4AA8-9446-DED5B3482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838080" y="1371600"/>
            <a:ext cx="74678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素质维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素质维度：做好一项工作所必须的知识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技能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和能力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和动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机匹配度：个人与工作、组织价值观的匹配程度。包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F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. F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 F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Object 7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682720" cy="14781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8"/>
          <p:cNvSpPr/>
          <p:nvPr/>
        </p:nvSpPr>
        <p:spPr>
          <a:xfrm>
            <a:off x="1066680" y="501012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BFF-3E54-4120-901B-473F0B9B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"/>
          <p:cNvSpPr/>
          <p:nvPr/>
        </p:nvSpPr>
        <p:spPr>
          <a:xfrm>
            <a:off x="3048120" y="1219320"/>
            <a:ext cx="251460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素质维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1"/>
          <p:cNvSpPr/>
          <p:nvPr/>
        </p:nvSpPr>
        <p:spPr>
          <a:xfrm>
            <a:off x="4267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2"/>
          <p:cNvSpPr/>
          <p:nvPr/>
        </p:nvSpPr>
        <p:spPr>
          <a:xfrm>
            <a:off x="1905120" y="23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1905120" y="2362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6781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5"/>
          <p:cNvSpPr/>
          <p:nvPr/>
        </p:nvSpPr>
        <p:spPr>
          <a:xfrm>
            <a:off x="990720" y="2590920"/>
            <a:ext cx="182880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3352680" y="2590920"/>
            <a:ext cx="182880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7"/>
          <p:cNvSpPr/>
          <p:nvPr/>
        </p:nvSpPr>
        <p:spPr>
          <a:xfrm>
            <a:off x="5791320" y="2590920"/>
            <a:ext cx="182880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838080" y="365760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找出某个职位的素质维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分析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Analys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 of the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Tasks &amp; Du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9"/>
          <p:cNvSpPr/>
          <p:nvPr/>
        </p:nvSpPr>
        <p:spPr>
          <a:xfrm>
            <a:off x="990720" y="41911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Object 20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71800" cy="1473120"/>
          </a:xfrm>
          <a:prstGeom prst="rect">
            <a:avLst/>
          </a:prstGeom>
          <a:ln w="0">
            <a:noFill/>
          </a:ln>
        </p:spPr>
      </p:pic>
      <p:sp>
        <p:nvSpPr>
          <p:cNvPr id="50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73E-81DC-4CD4-860F-712D05AD9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371600" y="914400"/>
            <a:ext cx="655308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职位：地区销售代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匹配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承诺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动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服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策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和组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战略伙伴关系的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用学习的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业知识和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流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Object 10" descr=""/>
          <p:cNvPicPr/>
          <p:nvPr/>
        </p:nvPicPr>
        <p:blipFill>
          <a:blip r:embed="rId1"/>
          <a:stretch/>
        </p:blipFill>
        <p:spPr>
          <a:xfrm>
            <a:off x="5837400" y="1676520"/>
            <a:ext cx="2163600" cy="403848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161C-B5A5-4A05-9A3D-4E5B8A5D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981080" y="1981080"/>
            <a:ext cx="4114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素质维度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关工作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ject 7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430280" cy="343692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04C-F202-42BA-92F7-AA2735A8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624852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king Slides 0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676520" y="12952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762120" y="990720"/>
            <a:ext cx="761976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 Behavior is the safest predictor of futur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集应聘者过去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838080" y="2819520"/>
            <a:ext cx="3581640" cy="2895480"/>
          </a:xfrm>
          <a:custGeom>
            <a:avLst/>
            <a:gdLst/>
            <a:ahLst/>
            <a:rect l="l" t="t" r="r" b="b"/>
            <a:pathLst>
              <a:path w="3581400" h="2895600">
                <a:moveTo>
                  <a:pt x="4" y="1106018"/>
                </a:moveTo>
                <a:lnTo>
                  <a:pt x="1367981" y="1106026"/>
                </a:lnTo>
                <a:lnTo>
                  <a:pt x="1790700" y="0"/>
                </a:lnTo>
                <a:lnTo>
                  <a:pt x="2213419" y="1106026"/>
                </a:lnTo>
                <a:lnTo>
                  <a:pt x="3581396" y="1106018"/>
                </a:lnTo>
                <a:lnTo>
                  <a:pt x="2474674" y="1789572"/>
                </a:lnTo>
                <a:lnTo>
                  <a:pt x="2897411" y="2895593"/>
                </a:lnTo>
                <a:lnTo>
                  <a:pt x="1790700" y="2212026"/>
                </a:lnTo>
                <a:lnTo>
                  <a:pt x="683989" y="2895593"/>
                </a:lnTo>
                <a:lnTo>
                  <a:pt x="1106726" y="1789572"/>
                </a:lnTo>
                <a:lnTo>
                  <a:pt x="4" y="110601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286000" y="3809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1981080" y="47242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2819520" y="47242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724280" y="30481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/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情形和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行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CA9-6D19-46C5-96AD-C6CE08F8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06:36:07Z</dcterms:created>
  <dc:creator>张勉</dc:creator>
  <dc:description/>
  <dc:language>en-US</dc:language>
  <cp:lastModifiedBy>忠信技术</cp:lastModifiedBy>
  <dcterms:modified xsi:type="dcterms:W3CDTF">2017-08-06T14:28:27Z</dcterms:modified>
  <cp:revision>10</cp:revision>
  <dc:subject/>
  <dc:title>没有幻灯片标题</dc:title>
</cp:coreProperties>
</file>