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25C-4254-4446-A214-8AA05FDD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EA3-39A0-495D-BFB6-CB436206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83817-ABB5-4259-BAF2-08CAF27F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065C6-7490-460D-B2BD-4B3157F1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5C2EB-0413-4E85-AD13-FF404452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28761-E883-4594-AE9E-6C4C236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7A73A-BB7E-4BB2-9E13-DA020C2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65828-15B8-469E-8AB3-5AF00193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FCD55-8EA3-4D8F-A1AF-5F6E2245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1CCE4-C414-4419-8250-C534085F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806DC-831A-42CC-A158-6AA38D8C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F4A79-6593-4ACA-81FE-C72BFBB0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C48-0CC6-4536-8D63-345DC836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3CD82-321A-4521-96A7-9442E970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C8C35-E15B-4E19-956D-8CE8D6DA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038DF-6B1F-41D4-93CE-7FE1CE81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C6D6A-FA0F-448C-A685-03F22E9A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C430F-E788-4E33-8FC1-9695C97E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4831C-8626-44D6-8888-5C63DA1E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E9A2B-1423-4CB4-AC56-B498666D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A8B74-5B3B-4070-863B-E197832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3565F-E3B6-4AD4-9B82-07DAE90D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C5CDE-B9D6-40A0-BD28-D805A33F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090-D7B8-4C46-8D7D-2A557367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FFECF-12C3-4751-90FE-191209F7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7A7B3-7980-4704-A31D-77012987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E2CF5-D690-423A-8226-97127782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E4DBE-F241-4338-A692-2751498F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818AB-CDFA-48F8-AC38-DF0EB025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9DA75-4738-47C8-920C-AE6EC970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3E5A6-9ABF-466F-B18C-5511BBA1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4C199-85E5-420B-8B42-B53B5EDE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59230-71DF-4B19-B677-548E385C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FC116-4E05-4007-8684-FF52492D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6695-DB3D-4EF8-B5A4-831ACD14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1B964-CA21-4F58-B18A-AA682652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636B4-2209-4DD8-B42C-617F9DEB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866D8-11F1-4A79-AAB6-CFD28A63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4336E-538A-4C20-8837-D745204B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7DDCD-728C-4CEE-8BA5-34001675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B8D53-70C5-467D-B8F4-6D563EB4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33B2E-54E6-4059-AC28-755CB4B1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DACBE-FF30-4015-BA76-BBAF52DA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147CE-353D-4E04-A8F7-D1D30046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CE0FE-3C13-4C32-957D-697C0EF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4BC4-1806-414B-9B3B-03EA2556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9F442-62A4-48CA-BDEB-528EA86E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94541-E4E5-4810-8046-41D45F1E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B0103-D22E-4D04-BDDA-088DFF20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E8D63-403B-4E7B-B54C-645E4DEC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E303C-3842-4704-B365-8D0A3EF4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5BBB-50AE-40E5-B48C-F121EFE6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7DCA-98F2-4124-ACF5-6078B684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B645-BB64-429A-9690-647E6E72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21E5-6FC9-4524-A3C4-E7BF799F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8B64-64F2-4B32-9A73-F90E41A8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246-27CB-42A4-942A-C5DA09B5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67D3-1F9F-41D1-8D94-FA80077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A08E-57E8-4A9A-AAC5-4483B47C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B0AA-6573-4511-8AA3-3F167FD1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CD59-5C07-4D33-8EE1-8A9DAD23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E2AD-6455-4406-8CA1-2F86DCF4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0E96-0642-4371-98E6-43A2FC71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1E234-CBB5-42E6-B4F2-E8CBA6AA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E486-37B1-4AC3-8377-B09DB3C2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5D76-B13A-4EE5-B6DC-9AA95888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C722-5929-4F4C-9E34-D3AD68FB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5A3-82C7-4130-B164-3B23E738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E63D1-6B93-4E43-8E9B-6C6991F2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CC5E-B436-467E-808E-04E86EB6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143E4-DB46-4CE9-AAAF-7C38C5E6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AD43-20EE-45F0-811C-27AC5B3D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A171-89D7-4EC4-A111-E000C994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0B1D5-4C6F-48F0-AD85-C1B2829A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4AD9-E0DD-4272-B4E2-F97EC6BC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4AEE-CDC3-40DB-B37E-955AE2A6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6CA66-1873-49B9-8620-61E7E947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967A3-4882-4FE1-BACC-C9F0E9C7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0CC-6ACB-44BB-A58A-D5C8980A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F329-FFDB-48CF-BA53-6973248F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1E3C-C44C-4B86-A64A-ADA16BDA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2165-89A7-423F-AA7E-91CC4BF9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BB98-AB9E-45A0-8D88-08252161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AF9A-13B4-422C-A0C7-BAC79EDB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522D-575B-45E5-93B4-C335DECD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E3BCD-FA8E-4CC4-A7B3-38A62334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2288-88A9-45A5-8093-497D4EF0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6561-A1FA-4C1B-B82B-815AB4DA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749FA-5B84-471C-AED3-36FA24DC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47C-6A30-4C26-9035-1F678923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43D0C-B880-4AEF-A0AB-64993F51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B002-4C08-4EA1-9378-3798E000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7C646-9EC4-4A2B-A4BA-5113C0CF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4313E-0571-4074-B3ED-DAB12723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AA5A2-200B-406A-801D-CB037572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63E5D-380A-426C-90DD-3CF488C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FD89F-CA35-496C-A7EF-3C6C763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03F90-43F9-4C57-90FE-12661214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28298-C29A-4B1C-BB36-2C6E6623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7C7A-3EAE-4164-8158-EEED9E14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45A-91E9-44B0-85A1-9B39D6FE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1BDFB-0EFE-4B0D-B628-E7A98D9D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6E6DA-C340-49D3-8802-13E4A2FD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AD997-6B79-4172-A029-A031C198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F4FC9-1636-48E1-B6EF-0F3BDD64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6DC05-8718-4BBD-B597-2EC7E756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AD741-BAEA-48FF-A286-81225422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0FEF-5ED8-4547-A792-68C3242C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C2591-12D9-49DC-A8CF-C88AC891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908AB-A994-4BF0-99CC-DD62D705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823A6-DFF4-4E4A-91CF-C25B661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C99-2546-4F90-B64C-4109DC44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B5E5-6752-4138-A7AD-8DFA5144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B3880-9DE9-457A-90D1-FBF15FF0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61995-A536-44D7-A30D-9C1EE813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F52A3-0A5A-4A00-B2DA-3AB639DB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2F102-DD66-4981-B8B4-C58DCD3B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BB4A2-648D-4C3A-9896-3A1B7911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B165-3F3D-4CED-AF7C-419D2E23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CD667-856B-4962-9F66-AD7639D2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A13B8-F5E3-4A24-BCD3-BFB2C577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2DDA5-64ED-455C-B9AF-291A0D14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C7E-BD77-49BB-A79B-3E85BB40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3F833-785C-49B9-A9C2-AE7AE0DF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B97B4-FC69-484D-A0F1-D93316E8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733F4-EC7A-4500-8E46-DC6E66B9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C1FBF-05D7-4916-B53D-964B55CC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2F3A7-419B-49B5-9B3E-0E9CE694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B6AD1-A508-4ACD-B59C-E23AE12F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E71CF-50B9-44AC-80DF-334B7AD5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28E6-70A5-4833-BA42-5C4906F0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2D286-D69B-4A30-9EBF-D91E963A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A41F5-C333-4241-9772-3C141B49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C1F-61D8-4B88-AFE3-E17283DA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B1B23-30BB-4355-89C6-616C058C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E77DF-4011-4962-BE84-EF04A716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20484-4306-4F85-A870-0809B7E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FE2A5-1E8C-4983-933E-21546F10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94363-0209-429C-A1DB-44BD0185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080BB-C729-4F03-8A99-8291BBB8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28D04-D6CA-4A8F-ABD0-C3533A26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7523F-9960-4E86-AB2C-21FBEFDA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98CC5-A34A-402F-B49E-72FB43A9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C3709-879A-4BCB-9E86-B545A683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人才测评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》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HR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人力资源大全微信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yours1314di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E552-A8CD-4172-AA75-B9AF4621D2B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3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6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3FA9-A2B8-417A-A9EF-28BCB874270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4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675C-821F-4A3A-A4CA-A8DBD964B5A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2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2829-100E-4923-A0FA-2B8AD2EDC1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026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1027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1028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029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030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031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032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33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34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35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036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037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038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039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040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041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042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043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044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045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046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047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048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049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050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51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052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053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54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055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056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057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058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059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060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061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062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1063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1064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065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人才测评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》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HR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人力资源大全微信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yours1314di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EE79-503D-4B2D-8884-8A27A3FB7FD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2B14-0320-4434-94E9-2404EA6F00A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135E-C376-4D08-B223-CCA49E32A2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2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6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9B1A-77C9-4810-8666-AC675D2870A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0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4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179C-31E9-4A88-925B-0E9F257155F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8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2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9768-6B91-4545-8A90-E8DA02FC014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6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0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CE78-0087-403C-B686-4A3324EF1B2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4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8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6CB5-6A39-4217-9F88-CCBCE15C716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WordArt 4"/>
          <p:cNvSpPr txBox="1"/>
          <p:nvPr/>
        </p:nvSpPr>
        <p:spPr>
          <a:xfrm>
            <a:off x="1476360" y="1268280"/>
            <a:ext cx="604836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人事测评方法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grpSp>
        <p:nvGrpSpPr>
          <p:cNvPr id="973" name="Group 5"/>
          <p:cNvGrpSpPr/>
          <p:nvPr/>
        </p:nvGrpSpPr>
        <p:grpSpPr>
          <a:xfrm>
            <a:off x="5194440" y="4076640"/>
            <a:ext cx="2329920" cy="1963440"/>
            <a:chOff x="5194440" y="4076640"/>
            <a:chExt cx="2329920" cy="1963440"/>
          </a:xfrm>
        </p:grpSpPr>
        <p:sp>
          <p:nvSpPr>
            <p:cNvPr id="974" name="Film"/>
            <p:cNvSpPr/>
            <p:nvPr/>
          </p:nvSpPr>
          <p:spPr>
            <a:xfrm flipH="1">
              <a:off x="6552360" y="4576680"/>
              <a:ext cx="972000" cy="1463400"/>
            </a:xfrm>
            <a:custGeom>
              <a:avLst/>
              <a:gdLst>
                <a:gd name="textAreaLeft" fmla="*/ 223560 w 972000"/>
                <a:gd name="textAreaRight" fmla="*/ 768600 w 972000"/>
                <a:gd name="textAreaTop" fmla="*/ 550800 h 1463400"/>
                <a:gd name="textAreaBottom" fmla="*/ 910080 h 146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45c98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Sound"/>
            <p:cNvSpPr/>
            <p:nvPr/>
          </p:nvSpPr>
          <p:spPr>
            <a:xfrm flipH="1">
              <a:off x="5612040" y="4076640"/>
              <a:ext cx="1349640" cy="970560"/>
            </a:xfrm>
            <a:custGeom>
              <a:avLst/>
              <a:gdLst>
                <a:gd name="textAreaLeft" fmla="*/ 14400 w 1349640"/>
                <a:gd name="textAreaRight" fmla="*/ 672120 w 1349640"/>
                <a:gd name="textAreaTop" fmla="*/ 341280 h 970560"/>
                <a:gd name="textAreaBottom" fmla="*/ 609120 h 97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Photo"/>
            <p:cNvSpPr/>
            <p:nvPr/>
          </p:nvSpPr>
          <p:spPr>
            <a:xfrm flipH="1">
              <a:off x="5194440" y="4652640"/>
              <a:ext cx="1253520" cy="879480"/>
            </a:xfrm>
            <a:custGeom>
              <a:avLst/>
              <a:gdLst>
                <a:gd name="textAreaLeft" fmla="*/ 451800 w 1253520"/>
                <a:gd name="textAreaRight" fmla="*/ 798480 w 1253520"/>
                <a:gd name="textAreaTop" fmla="*/ 334800 h 879480"/>
                <a:gd name="textAreaBottom" fmla="*/ 68760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Music"/>
            <p:cNvSpPr/>
            <p:nvPr/>
          </p:nvSpPr>
          <p:spPr>
            <a:xfrm>
              <a:off x="5274720" y="5168160"/>
              <a:ext cx="1028160" cy="848880"/>
            </a:xfrm>
            <a:custGeom>
              <a:avLst/>
              <a:gdLst>
                <a:gd name="textAreaLeft" fmla="*/ 380160 w 1028160"/>
                <a:gd name="textAreaRight" fmla="*/ 996120 w 1028160"/>
                <a:gd name="textAreaTop" fmla="*/ 36360 h 848880"/>
                <a:gd name="textAreaBottom" fmla="*/ 210960 h 84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8" name="Ribbon1Sharp"/>
          <p:cNvSpPr/>
          <p:nvPr/>
        </p:nvSpPr>
        <p:spPr>
          <a:xfrm flipV="1" rot="10800000">
            <a:off x="1773000" y="5299560"/>
            <a:ext cx="2438280" cy="723960"/>
          </a:xfrm>
          <a:custGeom>
            <a:avLst/>
            <a:gdLst>
              <a:gd name="textAreaLeft" fmla="*/ 914400 w 2438280"/>
              <a:gd name="textAreaRight" fmla="*/ 1523880 w 2438280"/>
              <a:gd name="textAreaTop" fmla="*/ 80280 h 723960"/>
              <a:gd name="textAreaBottom" fmla="*/ 64368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6200" y="4800"/>
                </a:moveTo>
                <a:lnTo>
                  <a:pt x="13500" y="4800"/>
                </a:lnTo>
                <a:lnTo>
                  <a:pt x="13500" y="19200"/>
                </a:lnTo>
              </a:path>
              <a:path fill="none" w="21600" h="21600">
                <a:moveTo>
                  <a:pt x="16200" y="2400"/>
                </a:moveTo>
                <a:lnTo>
                  <a:pt x="13500" y="4800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ibbon1Sharp"/>
          <p:cNvSpPr/>
          <p:nvPr/>
        </p:nvSpPr>
        <p:spPr>
          <a:xfrm rot="10800000">
            <a:off x="3141720" y="5373360"/>
            <a:ext cx="2006640" cy="649080"/>
          </a:xfrm>
          <a:custGeom>
            <a:avLst/>
            <a:gdLst>
              <a:gd name="textAreaLeft" fmla="*/ 752400 w 2006640"/>
              <a:gd name="textAreaRight" fmla="*/ 1254240 w 2006640"/>
              <a:gd name="textAreaTop" fmla="*/ 72000 h 649080"/>
              <a:gd name="textAreaBottom" fmla="*/ 57708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6200" y="4800"/>
                </a:moveTo>
                <a:lnTo>
                  <a:pt x="13500" y="4800"/>
                </a:lnTo>
                <a:lnTo>
                  <a:pt x="13500" y="19200"/>
                </a:lnTo>
              </a:path>
              <a:path fill="none" w="21600" h="21600">
                <a:moveTo>
                  <a:pt x="16200" y="2400"/>
                </a:moveTo>
                <a:lnTo>
                  <a:pt x="13500" y="48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7FEB-4CA8-43BE-9CE9-B40B48794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人才测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》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HR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人力资源大全微信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s1314di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5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第三节  人事测量的基本类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一、标准化纸笔测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通过书面题目和答卷进行，应用最为广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优点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方便、经济、客观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缺点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缺乏行为测试功能、范围预先圈定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与自主行为无关、受考试技巧影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二、投射测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要求被试对摸棱两可的刺激（如：图形、画面等）作出描述，以揭示其心理特点。可细分为联想投射、构造投射、完成投射、选择投射、表露投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该法备受质疑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评价的人为性过强而难以公平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与被试的意愿关系密切、无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避免防御反应。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304F-8D14-4ACC-9100-1D8CEEB9E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75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三、行为模拟和观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自然观察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被试没有意识到的情况下进行观察记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优点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真实。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缺点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受条件限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设计观察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情景压力测验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通过布置任务要求被试完成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观察被试的行为特征。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工作样本测验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要求被试现场即时完成一项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际工作，观察被试的行为。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无领导小组讨论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由互不相识的应聘者组成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个任务小组，不指定负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人，进行自由讨论，拿出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策意见，由此观察被试的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特征。该法主要用于选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领导者。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（详见于后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32A-B6A2-40ED-B851-B686B032C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自我观察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由被试自己对自己进行观察记录。主要用于行为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四、工作情景综合测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文件筐测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要求被试处理一系列文件，然后针对其处理公文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方式、方法和结果进行评价。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面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结构化面试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按事先确定的提纲提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非结构化面试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不进行事先提纲准备的提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调查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形式多样，但多以问卷方式进行。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78A9-AD8C-4864-A568-8B45B3CA2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848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第四节  人事测量的实施与计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一、测量操作与误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测量操作程序的构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标准化指示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选择测量时限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选择测验环境条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引起误差的因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主试对测量结果的影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主试的人格特点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主试的期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被试对测量结果的影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测验技巧；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练习效应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应试动机；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测验焦虑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反应定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BBF6-5919-421B-B5F8-C40B2F757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52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ff33cc"/>
                </a:solidFill>
                <a:latin typeface="黑体"/>
                <a:ea typeface="黑体"/>
              </a:rPr>
              <a:t>♣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反应定势的主要表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求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快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与求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精确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的反应定势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谨慎者求精确，因而缓慢；粗心者求快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肯定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反应定势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在无法判断是非时，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人多于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位置反应定势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无法判断正确答案时，一般不选择第一个和最后一个待选答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长项反应定势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无法判断正确答案时，偏好选择文字较长的答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猜测反应定势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有些被试在无法判断正确答案时，从不猜测；有些则相反，甚至明知答错要扣分还要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66ccff"/>
                </a:solidFill>
                <a:latin typeface="黑体"/>
                <a:ea typeface="黑体"/>
              </a:rPr>
              <a:t>附：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常用猜测修正公式：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正确得分 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= R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黑体"/>
              </a:rPr>
              <a:t>–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W∕(n-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R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ffcc00"/>
                </a:solidFill>
                <a:latin typeface="黑体"/>
                <a:ea typeface="黑体"/>
              </a:rPr>
              <a:t>答对的题数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W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ffcc00"/>
                </a:solidFill>
                <a:latin typeface="黑体"/>
                <a:ea typeface="黑体"/>
              </a:rPr>
              <a:t>答错的题数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n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ffcc00"/>
                </a:solidFill>
                <a:latin typeface="黑体"/>
                <a:ea typeface="黑体"/>
              </a:rPr>
              <a:t>每题的选项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AAA-E907-45A1-864A-E111360A6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7752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二、计分要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一般程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计分步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记录反应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检索标准答案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反应与标准答案的比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问答题计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常见误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66ff99"/>
                </a:solidFill>
                <a:latin typeface="Arial"/>
                <a:ea typeface="黑体"/>
              </a:rPr>
              <a:t>宽容定势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：倾向于较高计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66ff99"/>
                </a:solidFill>
                <a:latin typeface="Arial"/>
                <a:ea typeface="黑体"/>
              </a:rPr>
              <a:t>晕轮效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：计分受一般印象左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ccff33"/>
                </a:solidFill>
                <a:latin typeface="Arial"/>
                <a:ea typeface="黑体"/>
              </a:rPr>
              <a:t>为克服上述误差，常把“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整体计分</a:t>
            </a:r>
            <a:r>
              <a:rPr b="1" lang="zh-CN" sz="2400" spc="-1" strike="noStrike">
                <a:solidFill>
                  <a:srgbClr val="ccff33"/>
                </a:solidFill>
                <a:latin typeface="Arial"/>
                <a:ea typeface="黑体"/>
              </a:rPr>
              <a:t>”（按总印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ccff33"/>
                </a:solidFill>
                <a:latin typeface="Arial"/>
                <a:ea typeface="黑体"/>
              </a:rPr>
              <a:t>计分）和“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分析计分</a:t>
            </a:r>
            <a:r>
              <a:rPr b="1" lang="zh-CN" sz="2400" spc="-1" strike="noStrike">
                <a:solidFill>
                  <a:srgbClr val="ccff33"/>
                </a:solidFill>
                <a:latin typeface="Arial"/>
                <a:ea typeface="黑体"/>
              </a:rPr>
              <a:t>”（按问题分别计分）结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A3BF-025D-42A9-8E68-E77CA5504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三、问答题计分的一般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对无关回答不予计分或单独计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确定标准答案或列出最佳答案样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公布分数时告之被试评分标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按题目顺序而不是按被试顺序评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评分时隐去被试的名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由不少于两个的主试进行评分，或每份试卷由一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反复进行两次评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四、答题“信心权数”的考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7D5D-A2B1-4B4F-906C-79192851F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第五节  人事测量结果的解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一、测量的实施与解释相分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原始分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通过与标准答案对比获得的分数，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能用于直接评价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标准分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以常模的标准差为计量单位、以常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平均值为基准衡量得到的分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常模参照解释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把原始分与常模比较，再按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准分得到的分数解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效标参照解释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通过与外在标准比较得到的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数解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要点：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分数的测量与解释两相分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CC2D-9771-428D-A764-FEDD5CFE6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48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二、常模的类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百分位常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百分等级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把所有分数按大小排列，再按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数等分为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等份，分数所处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等份位置即为百分等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标准分常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ccff33"/>
                </a:solidFill>
                <a:latin typeface="黑体"/>
                <a:ea typeface="黑体"/>
              </a:rPr>
              <a:t>z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分数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  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z = (x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黑体"/>
              </a:rPr>
              <a:t>–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M)∕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x: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原始分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; M: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平均值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: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标准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标准九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分数分为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级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平均值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准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其他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标准十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标准二十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6824-4BB7-4074-AA48-AD14EB601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311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黑体"/>
              </a:rPr>
              <a:t>第六节   信度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一、信度的类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重测信度（稳定性系数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：用同一测验，在两个不同时间对同一被试进行两次测试，然后计算两次测验结果的相关系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复本信度（等值性系数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：以两个功能等值但内容不同的测验测试同一群体，然后求得两次测试分数的相关系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折半信度（内部一致性信度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：通过把测试题分为两半（一般按提号的奇偶数分为两半）分别计分，然后再计算这两个分数的相关系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同质性信度（内容单一性信度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评分者信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：由两个独立的评分者对随机抽取的试卷打分，然后再求每分答卷两个评分的相关系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3C7F-D9C0-4AAB-9870-890138651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黑体"/>
                <a:ea typeface="黑体"/>
              </a:rPr>
              <a:t>参考书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用人事测量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王垒、姚宏、廖芳怡、肖敏  著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                                </a:t>
            </a: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经济科学出版社 </a:t>
            </a:r>
            <a:r>
              <a:rPr b="1" lang="en-US" sz="2400" spc="-1" strike="noStrike">
                <a:solidFill>
                  <a:srgbClr val="00ff00"/>
                </a:solidFill>
                <a:latin typeface="黑体"/>
                <a:ea typeface="黑体"/>
              </a:rPr>
              <a:t>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黑体"/>
                <a:ea typeface="黑体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人事测评技术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王继承    编著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广东经济出版社 </a:t>
            </a:r>
            <a:r>
              <a:rPr b="1" lang="en-US" sz="2400" spc="-1" strike="noStrike">
                <a:solidFill>
                  <a:srgbClr val="00ff00"/>
                </a:solidFill>
                <a:latin typeface="黑体"/>
                <a:ea typeface="黑体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人力资源考评系统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廖泉文  主编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山东人民出版社 </a:t>
            </a:r>
            <a:r>
              <a:rPr b="1" lang="en-US" sz="2400" spc="-1" strike="noStrike">
                <a:solidFill>
                  <a:srgbClr val="00ff00"/>
                </a:solidFill>
                <a:latin typeface="黑体"/>
                <a:ea typeface="黑体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C392-C459-49FD-B5FD-EB6DEA64C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931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二、影响信度的因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样本团体性质的影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样本团体的分数分布越广，信度系数越高，反之则越低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样本团体的异质性越大，信度系数越大，反之则越小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样本团体的能力越高，信度越高，反之则越低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测验题数的影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测验题数越多，信度越高，反之则越低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测验难度的影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当测验难度可以使分数分布范围最大时，信度最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D139-DF09-44A4-8475-A407F4314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7931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黑体"/>
              </a:rPr>
              <a:t>第七节   效度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一、效度的类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内容效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：反映测验内容与所欲测量的领域的一致性程度，没有可用的量化方法，一般依赖于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测验内容范围明确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测验内容取样有代表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效标关联效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：反映测验分数与外在参照标准的相关程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构想效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：反映测验能够测量到理论上的构想或特质的程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二、影响效度的因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测验题目的质量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测验时的干扰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被试的定势、动机、情绪和身心状态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测验的题数（越多效度越高）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样本团体的性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51BB-CAEC-4D18-BF5E-D0FF9568B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内容提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727236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66cc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66cc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人事测量概论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基本概念、历史发展、测量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型、分析方法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66cc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66cc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人事测量工具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三种基本测验、行为评估、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景测验、绩效测验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66cc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66cc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人事测量实务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组合原理、管理过程测量、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务岗位测量、人事测量案例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34B5-99AD-438A-89CA-C9AF936CC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第一章  人事测量概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5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黑体"/>
                <a:ea typeface="黑体"/>
              </a:rPr>
              <a:t>第一节  人事测量的概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一、什么是人事测量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人事测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心理测量为基础，针对特殊的人事管理目的（招聘、安置、考核、晋升、培训等）对人的素质进行系统评价，为人事管理开发提供参考依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二、人事测量的方法和手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心理测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结合行为科学和数学，评价特定个体在特定素质上相对于特定群体所处的水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情景模拟法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把被测对象置于某种预先设计的情景中，通过对象的自我表现了解其特定素质。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F6AB-1769-4B76-9686-061EF8B3E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0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访谈法、调查法和观察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三、心理测验的五个基本要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行为样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被选择用于了解个体特征的少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行为，由对特定问题的解决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构成。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标准化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通过测验编制、实施、记分和分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解释，保证对所有被测试者在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容、条件、记分过和解释系统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相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难度适宜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测试的难度可以把不同的被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试者区分开。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信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测试结果反映被测试者稳定、一贯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真实特征。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效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测量结果与所要考察的内容吻合的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C3B5-99D9-4389-A7E8-60ED547A1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黑体"/>
                <a:ea typeface="黑体"/>
              </a:rPr>
              <a:t>♣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实现标准化的途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测验题目的标准化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实施过程和记分的标准化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选用有代表性的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常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常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一组具有代表性的被试样本的测验成绩的分布结构，包括集中趋势（平均值等）和离散度（标准差等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用法：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把具体测试结果与常模比较，确定相对于基准值的相对位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信度的具体体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被试者在不同时间所测结果一致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同一测验内的题目所测的是同一种行为特征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不同评分者对对同一测验结果的评分一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5230-8166-4086-A748-0A1A5C4D3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78483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第二节  人事测量的发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一、智力测验：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Q</a:t>
            </a:r>
            <a:r>
              <a:rPr b="1" lang="zh-CN" sz="2000" spc="-1" strike="noStrike">
                <a:solidFill>
                  <a:srgbClr val="66ff99"/>
                </a:solidFill>
                <a:latin typeface="黑体"/>
                <a:ea typeface="黑体"/>
              </a:rPr>
              <a:t>（始于</a:t>
            </a:r>
            <a:r>
              <a:rPr b="1" lang="en-US" sz="2000" spc="-1" strike="noStrike">
                <a:solidFill>
                  <a:srgbClr val="66ff99"/>
                </a:solidFill>
                <a:latin typeface="黑体"/>
                <a:ea typeface="黑体"/>
              </a:rPr>
              <a:t>1905</a:t>
            </a:r>
            <a:r>
              <a:rPr b="1" lang="zh-CN" sz="2000" spc="-1" strike="noStrike">
                <a:solidFill>
                  <a:srgbClr val="66ff99"/>
                </a:solidFill>
                <a:latin typeface="黑体"/>
                <a:ea typeface="黑体"/>
              </a:rPr>
              <a:t>年，完善于</a:t>
            </a:r>
            <a:r>
              <a:rPr b="1" lang="en-US" sz="2000" spc="-1" strike="noStrike">
                <a:solidFill>
                  <a:srgbClr val="66ff99"/>
                </a:solidFill>
                <a:latin typeface="黑体"/>
                <a:ea typeface="黑体"/>
              </a:rPr>
              <a:t>20</a:t>
            </a:r>
            <a:r>
              <a:rPr b="1" lang="zh-CN" sz="2000" spc="-1" strike="noStrike">
                <a:solidFill>
                  <a:srgbClr val="66ff99"/>
                </a:solidFill>
                <a:latin typeface="黑体"/>
                <a:ea typeface="黑体"/>
              </a:rPr>
              <a:t>世纪中叶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通过不同年龄人群对同一组题目的得分，建立反映不同年龄人群智力的常模。用个体测试结果与常模的比较确定智力年龄。再把智力年龄除以实足年龄便得出智商</a:t>
            </a:r>
            <a:r>
              <a:rPr b="1" lang="en-US" sz="2400" spc="-1" strike="noStrike">
                <a:solidFill>
                  <a:srgbClr val="ccff33"/>
                </a:solidFill>
                <a:latin typeface="黑体"/>
                <a:ea typeface="黑体"/>
              </a:rPr>
              <a:t>IQ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ccff33"/>
                </a:solidFill>
                <a:latin typeface="黑体"/>
                <a:ea typeface="黑体"/>
              </a:rPr>
              <a:t>IQ = 100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×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智力年龄  实足年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IQ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高的含义：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可以完成实足年龄比自己大的人群才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完成的试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IQ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低的含义：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只能完成实足年龄比自己小的人群可以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完成的试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注：今天普遍使用</a:t>
            </a:r>
            <a:r>
              <a:rPr b="1" lang="zh-CN" sz="2400" spc="-1" strike="noStrike">
                <a:solidFill>
                  <a:srgbClr val="ccff33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离差智商</a:t>
            </a:r>
            <a:r>
              <a:rPr b="1" lang="zh-CN" sz="2400" spc="-1" strike="noStrike">
                <a:solidFill>
                  <a:srgbClr val="ccff33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的概念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5"/>
          <p:cNvSpPr/>
          <p:nvPr/>
        </p:nvSpPr>
        <p:spPr>
          <a:xfrm flipH="1">
            <a:off x="5940000" y="3284640"/>
            <a:ext cx="14436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77EC-A812-488B-9D78-E4E36CB5E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0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二、心理测量在美国的崛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第一次世界大战期间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917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），在选择军官时开始采用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智力测验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人格问卷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92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以后，开始兴起规模较大的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心理测验公司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94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代达到鼎盛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95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代后转入平稳发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三、心理测验商业应用的兴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智力测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分化能力性向测验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语言理解、语言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理、数学推理、抽象推理、空间推理、机械推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六种能力要素，引申出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种职业心理类型。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66ff99"/>
                </a:solidFill>
                <a:latin typeface="黑体"/>
                <a:ea typeface="黑体"/>
              </a:rPr>
              <a:t>具体能力测验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打字、精确度、灵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度、管理技能、数量分析、逻辑推理，等等。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EE45-352F-4873-855D-C74CF424D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7632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人格测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卡特尔</a:t>
            </a:r>
            <a:r>
              <a:rPr b="1" lang="en-US" sz="2400" spc="-1" strike="noStrike">
                <a:solidFill>
                  <a:srgbClr val="00ffff"/>
                </a:solidFill>
                <a:latin typeface="黑体"/>
                <a:ea typeface="黑体"/>
              </a:rPr>
              <a:t>16</a:t>
            </a: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因素人格问卷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用于人格结构的系统评价。</a:t>
            </a:r>
            <a:r>
              <a:rPr b="1" lang="zh-CN" sz="2400" spc="-1" strike="noStrike">
                <a:solidFill>
                  <a:srgbClr val="66ccff"/>
                </a:solidFill>
                <a:latin typeface="黑体"/>
                <a:ea typeface="黑体"/>
              </a:rPr>
              <a:t>（详见于后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梅耶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黑体"/>
              </a:rPr>
              <a:t>–</a:t>
            </a:r>
            <a:r>
              <a:rPr b="1" lang="en-US" sz="2400" spc="-1" strike="noStrike">
                <a:solidFill>
                  <a:srgbClr val="00ff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布里基斯人格特质问卷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用于团队成员的合作性测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ffff"/>
                </a:solidFill>
                <a:latin typeface="黑体"/>
                <a:ea typeface="黑体"/>
              </a:rPr>
              <a:t>DISC</a:t>
            </a: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人格测试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通过支配型、交际型、稳妥型和服从型的划分确定人的工作类型。</a:t>
            </a:r>
            <a:r>
              <a:rPr b="1" lang="zh-CN" sz="2400" spc="-1" strike="noStrike">
                <a:solidFill>
                  <a:srgbClr val="66ccff"/>
                </a:solidFill>
                <a:latin typeface="黑体"/>
                <a:ea typeface="黑体"/>
              </a:rPr>
              <a:t>（详见于后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职业兴趣测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通过社交型、艺术型、研究型、技能型、事务型和经营型的划分，鉴别人的职业兴趣。</a:t>
            </a:r>
            <a:r>
              <a:rPr b="1" lang="zh-CN" sz="2400" spc="-1" strike="noStrike">
                <a:solidFill>
                  <a:srgbClr val="66ccff"/>
                </a:solidFill>
                <a:latin typeface="黑体"/>
                <a:ea typeface="黑体"/>
              </a:rPr>
              <a:t>（详见于后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动机测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ccff33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对工作动机（不是生活动机）如成就动机、权力动机、亲和动机进行测试，确定人才的定位。</a:t>
            </a:r>
            <a:r>
              <a:rPr b="1" lang="zh-CN" sz="2400" spc="-1" strike="noStrike">
                <a:solidFill>
                  <a:srgbClr val="66ccff"/>
                </a:solidFill>
                <a:latin typeface="黑体"/>
                <a:ea typeface="黑体"/>
              </a:rPr>
              <a:t>（详见于后）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灯片编号占位符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D897-E4FB-465D-A1F2-E20C70805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08:30:53Z</dcterms:created>
  <dc:creator>HYQ</dc:creator>
  <dc:description/>
  <dc:language>en-US</dc:language>
  <cp:lastModifiedBy>忠信技术</cp:lastModifiedBy>
  <dcterms:modified xsi:type="dcterms:W3CDTF">2017-08-06T14:27:31Z</dcterms:modified>
  <cp:revision>28</cp:revision>
  <dc:subject/>
  <dc:title>幻灯片 1</dc:title>
</cp:coreProperties>
</file>