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CF9-0D56-4A9E-8E12-508D54D678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6461-BF20-4961-B176-D444D6896D91}" type="slidenum">
              <a:rPr b="0" lang="zh-CN" sz="1200" spc="-1" strike="noStrike">
                <a:solidFill>
                  <a:srgbClr val="17347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C13-9851-4EA0-9858-7CB83BB2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5A4-DB66-48C0-8379-67737D1A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456A-5090-48B7-BD68-F23BCDB4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F6E0E-8B3A-4E9E-9E07-6684431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D4A9-D219-435C-85FE-A53A1B9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77BBD-4212-4832-A953-683CEC4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BF07-B690-482B-A00F-DCB515A2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71801-634D-43B9-9831-054A4A5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9F97C-AFC0-4EA2-9107-D57CF70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171E-DE94-4DFC-9EAE-38EB6DEA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A3880-D8E4-4AD0-B0B4-5194E5DA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A3A0-B61F-4202-AA84-076EF07C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6D2-3189-4F5F-A293-1E83D26B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99FCE-3BA3-4EAC-B747-D7E621C3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2D363-2703-41E3-B9BC-489365A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B2942-AA3B-442F-9BD8-D46C2E48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52B3-D9E3-4BDC-885C-6462252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86FC6-3465-4AE2-8BD9-DF8420A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004E1-E635-42B9-8A18-955C8DE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E3AD-8BA6-4384-B56B-0A49564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86908-F72F-4D84-842E-44ECB1F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E8495-D4D0-4CC2-98EB-FB85671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09670-DA4F-44AA-89B2-FFECECAF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549-9453-4777-A050-D2CF9E08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93BAE-096C-4120-B63A-F5F83720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ABBD-C1DB-4695-A70B-A6ACEE6C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D8C5-BF79-477C-89B6-AB5CDED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84C9E-CE89-498A-BF44-CDBB7EEF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75BA9-3E9D-48FF-83EB-956A804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10E0-C4AD-400F-84D2-CB66E56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C42D-8564-448F-8A1A-758EC220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E97A6-3008-48FA-BE34-0C8CC6E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F79ED-1618-445B-95F3-F31084F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2ED7F-553F-4DC6-8BBC-439CBD4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B1DF-77F2-4C92-B45D-65582161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42A49-F617-4531-AB54-A695413D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5576A-BCD9-47D9-851D-12C853D6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F88D2-4973-41E7-BEE3-EA32B031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48AFE-263B-4E86-905E-9EF03878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4B880-A00E-422A-B852-543EC6F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D8C58-BEEC-42C7-A4ED-B2AD20D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AA6BB-9212-4679-B514-48CACB1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D4C82-2B00-46AB-BC40-33490E79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5FC3F-3470-4BB7-9E17-DC15C88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FF9D-1017-4F79-BD23-96729C9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0FE-0B41-4D1D-86F9-BBAFF33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13AB8-F4A7-4A82-B53D-874A1AF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5015-E2DC-45A3-842A-BE0BAEA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5F00C-8BAE-4958-B70C-C5A9A60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CD1F-44C4-406C-85AA-BEE55B31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4103B-9290-4ACC-8DC3-A0B343A3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5617E-48FE-4B14-8B4D-1726BA05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458AB-C0DC-44AF-A415-E1EAF94B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7D01D-ACC4-4D9C-B090-8EFBC05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F54A7-F6DF-4EFE-85BE-F26367C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349E0-648C-4C76-A737-BC0C4ABC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CA48-13F6-4C9C-895C-3221A053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DEDB7-12A0-4477-816D-EAF991A9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968A6-378F-413C-81D2-15BCDD1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67D7D-51C4-4AA9-B9FE-80230EC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26FA2-C505-4D8C-B636-B4439CD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0ADC0-B06F-4E59-A46A-C7A7EDF8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CBFB9-6A96-4674-9108-6BA2FBA3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6E5DB-A38D-416D-B4CF-7E6B026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5FF-1A7A-417A-A5E4-51327F90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9D4-BC84-4B3A-8CB9-255235A1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7DAB-2CB8-4D74-8D07-29AC8631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6C7A-D4ED-45BF-BAAC-9F00B98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253-1288-463E-8F02-8E8D0D06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3C76-3474-471B-BC00-0370A6E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BC3-E907-4F36-BA4B-CA5909C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6299-3E4E-489D-B517-9334F59A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62EC-D975-4A2A-AA0D-12AAA679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DF6-86CD-4E6D-A670-6A12F44A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8CC6-6C0E-4405-B1F0-631D25C2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ADC5-E6B1-4E06-8579-1E748B75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3A94-EBCF-4B71-914D-DCC2D6B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0B19-5739-4E0C-9BBB-962C41B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79BB-8C8D-4F90-A230-CF97D93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383-971E-41F5-929F-889A7E0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C8D7-4A32-4118-A5A0-DB884F4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E7EC-ACEF-49A6-9EA7-6BAA93E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EC29-6655-4C64-AC09-AF5CE70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BEE0-E265-478D-B040-E79C50A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78BC-77D8-4F9C-9C01-1B0D2E1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0E98-70E6-4EF4-84CD-49BA243B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EA90-4912-4D62-89FC-F687B4B9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4835-FB7C-4B24-AF0A-37E7A2E9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2157-255A-4FE4-A518-AD0B0E4A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A689-615E-426C-B18C-D8C38357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3C7-BBAB-4264-AD77-20456D6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7130-CB3F-4ADC-B922-64CD417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6B97-E22D-431A-8D78-F1B0B8A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FDC4-7F31-4D56-B53B-A632CB21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FD8B-4C7F-400A-8D6B-918A801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10F2-49B7-4DD2-BB72-8CD44D3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F911D-6B80-4CD4-8371-F02A0FA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F4C5-48F7-43F8-AE94-566FFAB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7E33-161C-4C8E-8D17-EB17693D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DE65-018D-4753-AFC9-AA5B54EA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6391-998B-4289-85BF-DCE1EBC6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745-DC4D-411F-A817-AE5F014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D63C-235C-443A-960A-BB11C49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BE455-36FA-4505-A49D-A7E618FB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67AA-8B8A-4B99-9FA3-6D1C0E3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83EC-23B5-4DE1-826B-167E4AB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9494-14BB-4A71-BCC8-79CDE318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00F8-35C3-42E4-AA41-F30275E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85D6-8FBE-4A13-A359-19C834E6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60A7-BDCA-4A21-8CD5-A7BE86B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1333-8A0A-4D9A-A3E5-45DFC85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E4B3-B06F-416C-B552-9151ABE0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D00-74E2-4068-B974-68B586DC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2F83-A499-4276-8BEC-E0C29A1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9E0B-2C33-4DA6-B09B-B385DACB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6F3F-E47E-4EAC-83D7-9FA5C12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0D0D-D214-4F73-AE61-AB145DC7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DE24D-605F-41B1-976C-EBD83676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CFBE-1EB8-4A8A-B310-121611E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D814-02FD-4AC0-9F63-CEB3BAB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2510-3208-45C1-B63B-09E9CD6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58A5-CFD5-4B30-8CE6-19491B8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01A2-451C-4142-833F-C4D8132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204-3017-4B95-86DF-430F0BED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336A-ADE8-4962-9576-3E5B1FF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DC4E-CEB9-462B-ACC7-027E4DE4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B2B3-F10B-4477-9C81-C135FBEE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EA0F-D8E6-49AB-B12B-410AD3E5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645B-EDB0-4508-AEAA-FC24F13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3AE5-F02E-4206-8FA7-ECC219CB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6A6D8-FAA1-4071-99D9-109C913E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E4DD-8F9B-44DE-8432-E69234CF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38C1-D9CF-4AED-AB56-EB5A7F3B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0B38-DB09-43F3-99BD-521A8CE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D62-7D06-495A-8F23-DEA0987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3E98-761F-450B-98C0-31FA553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BAD7-1930-4A33-85EC-E817EFA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E5EA-017F-4ABF-B366-A5BE5CA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79B8-56B2-4F6B-B676-2FA4B8A9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95B8-B38B-4115-B4BF-7857E135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28CC-30BE-4839-A5CE-531C1889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F096-EC25-4B30-8677-1C4E691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0F21-77B9-47AA-BE0A-680996F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5BD07-E836-4CE2-8543-82ECAF8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569AE-4380-4AB0-A756-11941A2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F28-9B5E-472D-9655-FD6045B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6823-6B67-47B5-A367-61389EB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2FB98-22A6-4B49-B85E-1F5913B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B55EA-1610-419D-97D5-3DEF962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A6FA-72D7-46AD-A007-8914050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D5A0-D01B-43D0-A2DD-6BB3D4A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0529-F63B-4A79-8832-83EDD473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F6A1A-CBAA-463B-806C-0911A758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8BB5-2FC0-4C07-8F28-9F6319DA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5B9E2-4C49-4AF1-B612-CE3F02E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263EE-07F0-4CA2-A990-F35754D5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C47D-ADED-44C4-9CF2-6761BCDCDB74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4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4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446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28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C8D7-0DB3-4B4F-AD80-4130EF44F9FE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1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93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495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dt" idx="31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0AC-0582-47A3-9181-2E50F11B2A5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7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1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42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544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dt" idx="34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629B-6413-47C3-91BB-56CBB138C9ED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90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91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2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593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dt" idx="37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7347d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72A7-47F5-4C17-B7A6-1AD08B78E112}" type="slidenum"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734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734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55" name="Picture 23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0" y="0"/>
            <a:ext cx="2195640" cy="98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A253-A3A2-4E19-8D44-EB7B1F27FF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0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1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103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931A-CBAF-48F2-A485-2FC34B00FDF7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0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152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dt" idx="10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95A-2ED1-4C0F-A541-1FCA03580F8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99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201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158-4E7B-40FC-8390-7CB881401F72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7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48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250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6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C5F7-2D1E-41A8-8D6B-4077773EEDA5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97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299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dt" idx="19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B49-4B8B-4CCF-8A47-494904B599F6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4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348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dt" idx="22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EFBC-6390-4701-A122-3329E623F32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94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95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397" name="Picture 32" descr="图片 1"/>
          <p:cNvPicPr/>
          <p:nvPr/>
        </p:nvPicPr>
        <p:blipFill>
          <a:blip r:embed="rId4"/>
          <a:srcRect l="10007" t="9393" r="55891" b="77329"/>
          <a:stretch/>
        </p:blipFill>
        <p:spPr>
          <a:xfrm>
            <a:off x="7039080" y="0"/>
            <a:ext cx="2104920" cy="692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图片 1"/>
          <p:cNvPicPr/>
          <p:nvPr/>
        </p:nvPicPr>
        <p:blipFill>
          <a:blip r:embed="rId5"/>
          <a:srcRect l="10007" t="9393" r="55891" b="77329"/>
          <a:stretch/>
        </p:blipFill>
        <p:spPr>
          <a:xfrm>
            <a:off x="2700360" y="0"/>
            <a:ext cx="2376360" cy="684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468000" y="6536880"/>
            <a:ext cx="2314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浙江西子富沃德电机有限公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2577-6DF3-4322-B188-89782E2D085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日期占位符 3"/>
          <p:cNvSpPr/>
          <p:nvPr/>
        </p:nvSpPr>
        <p:spPr>
          <a:xfrm>
            <a:off x="468360" y="6537240"/>
            <a:ext cx="2314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页脚占位符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《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》 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R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yours1314diy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826920" y="1628640"/>
            <a:ext cx="756000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"/>
                <a:ea typeface="MS PGothic"/>
              </a:rPr>
              <a:t>2009</a:t>
            </a:r>
            <a:r>
              <a:rPr b="1" lang="zh-CN" sz="4000" spc="-1" strike="noStrike">
                <a:solidFill>
                  <a:srgbClr val="ffffff"/>
                </a:solidFill>
                <a:latin typeface="Century"/>
                <a:ea typeface="MS PGothic"/>
              </a:rPr>
              <a:t>年大学生招聘与培养规划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entury"/>
                <a:ea typeface="MS PGothic"/>
              </a:rPr>
              <a:t>－雏鹰计划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1619280" y="4292640"/>
            <a:ext cx="54720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Century"/>
                <a:ea typeface="MS PGothic"/>
              </a:rPr>
              <a:t>2008</a:t>
            </a:r>
            <a:r>
              <a:rPr b="1" lang="ja-JP" sz="2600" spc="-1" strike="noStrike">
                <a:solidFill>
                  <a:srgbClr val="3366cc"/>
                </a:solidFill>
                <a:latin typeface="Century"/>
                <a:ea typeface="MS PGothic"/>
              </a:rPr>
              <a:t>年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600" spc="-1" strike="noStrike">
                <a:solidFill>
                  <a:srgbClr val="3366cc"/>
                </a:solidFill>
                <a:latin typeface="Century"/>
                <a:ea typeface="MS PGothic"/>
              </a:rPr>
              <a:t>西子富沃德电机有限公司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Century"/>
                <a:ea typeface="MS PGothic"/>
              </a:rPr>
              <a:t>人力资源部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灯片编号占位符 1"/>
          <p:cNvSpPr/>
          <p:nvPr/>
        </p:nvSpPr>
        <p:spPr>
          <a:xfrm>
            <a:off x="312408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409B-3E29-445F-9706-DED2BA2E54BC}" type="slidenum"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日期占位符 3"/>
          <p:cNvSpPr/>
          <p:nvPr/>
        </p:nvSpPr>
        <p:spPr>
          <a:xfrm>
            <a:off x="468360" y="6537240"/>
            <a:ext cx="2314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9" name="页脚占位符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《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》 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R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yours1314diy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907920"/>
            <a:ext cx="9144000" cy="561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7347d"/>
                </a:solidFill>
                <a:latin typeface="Arial"/>
                <a:ea typeface="MS PGothic"/>
              </a:rPr>
              <a:t> 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755640" y="1917720"/>
            <a:ext cx="1440000" cy="360360"/>
          </a:xfrm>
          <a:prstGeom prst="flowChartTerminator">
            <a:avLst/>
          </a:prstGeom>
          <a:solidFill>
            <a:srgbClr val="993300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准备阶段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3132000" y="1917720"/>
            <a:ext cx="1440000" cy="360360"/>
          </a:xfrm>
          <a:prstGeom prst="flowChartTerminator">
            <a:avLst/>
          </a:prstGeom>
          <a:solidFill>
            <a:srgbClr val="993300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施阶段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5219640" y="1917720"/>
            <a:ext cx="1440000" cy="360360"/>
          </a:xfrm>
          <a:prstGeom prst="flowChartTerminator">
            <a:avLst/>
          </a:prstGeom>
          <a:solidFill>
            <a:srgbClr val="993300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考核阶段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4" name="AutoShape 6"/>
          <p:cNvSpPr/>
          <p:nvPr/>
        </p:nvSpPr>
        <p:spPr>
          <a:xfrm>
            <a:off x="7308720" y="1917720"/>
            <a:ext cx="1440000" cy="360360"/>
          </a:xfrm>
          <a:prstGeom prst="flowChartTerminator">
            <a:avLst/>
          </a:prstGeom>
          <a:solidFill>
            <a:srgbClr val="993300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总结阶段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5" name="AutoShape 7"/>
          <p:cNvSpPr/>
          <p:nvPr/>
        </p:nvSpPr>
        <p:spPr>
          <a:xfrm>
            <a:off x="611280" y="2852640"/>
            <a:ext cx="1224000" cy="28908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招聘需求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6" name="AutoShape 8"/>
          <p:cNvSpPr/>
          <p:nvPr/>
        </p:nvSpPr>
        <p:spPr>
          <a:xfrm>
            <a:off x="395280" y="3789360"/>
            <a:ext cx="1584360" cy="28908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建立胜任素质模型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AutoShape 9"/>
          <p:cNvSpPr/>
          <p:nvPr/>
        </p:nvSpPr>
        <p:spPr>
          <a:xfrm>
            <a:off x="611280" y="4797360"/>
            <a:ext cx="1224000" cy="28908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提出改进意见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AutoShape 10"/>
          <p:cNvSpPr/>
          <p:nvPr/>
        </p:nvSpPr>
        <p:spPr>
          <a:xfrm>
            <a:off x="2124000" y="2781360"/>
            <a:ext cx="358920" cy="1655640"/>
          </a:xfrm>
          <a:prstGeom prst="flowChartAlternateProcess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确定招聘方式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AutoShape 11"/>
          <p:cNvSpPr/>
          <p:nvPr/>
        </p:nvSpPr>
        <p:spPr>
          <a:xfrm>
            <a:off x="3132000" y="2781360"/>
            <a:ext cx="1440000" cy="1655640"/>
          </a:xfrm>
          <a:prstGeom prst="flowChartAlternateProcess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设计面试方法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选择招聘渠道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发布招聘信息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筛选应聘简历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进行面试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面试评估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确认录用人员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AutoShape 12"/>
          <p:cNvSpPr/>
          <p:nvPr/>
        </p:nvSpPr>
        <p:spPr>
          <a:xfrm>
            <a:off x="5292720" y="2852640"/>
            <a:ext cx="1366920" cy="28908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拟订考核方式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AutoShape 13"/>
          <p:cNvSpPr/>
          <p:nvPr/>
        </p:nvSpPr>
        <p:spPr>
          <a:xfrm>
            <a:off x="5292720" y="3789360"/>
            <a:ext cx="1440000" cy="28908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按标准进行评估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AutoShape 14"/>
          <p:cNvSpPr/>
          <p:nvPr/>
        </p:nvSpPr>
        <p:spPr>
          <a:xfrm>
            <a:off x="5292720" y="4726080"/>
            <a:ext cx="1440000" cy="28872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进行末位淘汰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Line 15"/>
          <p:cNvSpPr/>
          <p:nvPr/>
        </p:nvSpPr>
        <p:spPr>
          <a:xfrm>
            <a:off x="1835280" y="299736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Line 16"/>
          <p:cNvSpPr/>
          <p:nvPr/>
        </p:nvSpPr>
        <p:spPr>
          <a:xfrm>
            <a:off x="2484360" y="299736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Line 17"/>
          <p:cNvSpPr/>
          <p:nvPr/>
        </p:nvSpPr>
        <p:spPr>
          <a:xfrm>
            <a:off x="4572000" y="29973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6" name="AutoShape 18"/>
          <p:cNvSpPr/>
          <p:nvPr/>
        </p:nvSpPr>
        <p:spPr>
          <a:xfrm>
            <a:off x="3132000" y="4726080"/>
            <a:ext cx="1440000" cy="35856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具体实施培训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Line 19"/>
          <p:cNvSpPr/>
          <p:nvPr/>
        </p:nvSpPr>
        <p:spPr>
          <a:xfrm>
            <a:off x="594036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Line 20"/>
          <p:cNvSpPr/>
          <p:nvPr/>
        </p:nvSpPr>
        <p:spPr>
          <a:xfrm>
            <a:off x="5940360" y="407664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5940360" y="407664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Line 22"/>
          <p:cNvSpPr/>
          <p:nvPr/>
        </p:nvSpPr>
        <p:spPr>
          <a:xfrm>
            <a:off x="3851280" y="443700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Line 23"/>
          <p:cNvSpPr/>
          <p:nvPr/>
        </p:nvSpPr>
        <p:spPr>
          <a:xfrm flipV="1">
            <a:off x="4427640" y="4076640"/>
            <a:ext cx="108108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2" name="Line 24"/>
          <p:cNvSpPr/>
          <p:nvPr/>
        </p:nvSpPr>
        <p:spPr>
          <a:xfrm>
            <a:off x="6877080" y="3933720"/>
            <a:ext cx="0" cy="93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Line 25"/>
          <p:cNvSpPr/>
          <p:nvPr/>
        </p:nvSpPr>
        <p:spPr>
          <a:xfrm>
            <a:off x="6732720" y="3933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Line 26"/>
          <p:cNvSpPr/>
          <p:nvPr/>
        </p:nvSpPr>
        <p:spPr>
          <a:xfrm>
            <a:off x="6732720" y="486900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5" name="Line 27"/>
          <p:cNvSpPr/>
          <p:nvPr/>
        </p:nvSpPr>
        <p:spPr>
          <a:xfrm>
            <a:off x="6875640" y="4365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6" name="Line 28"/>
          <p:cNvSpPr/>
          <p:nvPr/>
        </p:nvSpPr>
        <p:spPr>
          <a:xfrm>
            <a:off x="7020000" y="43657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Line 29"/>
          <p:cNvSpPr/>
          <p:nvPr/>
        </p:nvSpPr>
        <p:spPr>
          <a:xfrm>
            <a:off x="4788000" y="580536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8" name="AutoShape 30"/>
          <p:cNvSpPr/>
          <p:nvPr/>
        </p:nvSpPr>
        <p:spPr>
          <a:xfrm>
            <a:off x="2843280" y="5662440"/>
            <a:ext cx="1944720" cy="358920"/>
          </a:xfrm>
          <a:prstGeom prst="flowChartTerminator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岗位沟通与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Line 31"/>
          <p:cNvSpPr/>
          <p:nvPr/>
        </p:nvSpPr>
        <p:spPr>
          <a:xfrm>
            <a:off x="1187280" y="580536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Line 32"/>
          <p:cNvSpPr/>
          <p:nvPr/>
        </p:nvSpPr>
        <p:spPr>
          <a:xfrm flipV="1">
            <a:off x="118728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Line 33"/>
          <p:cNvSpPr/>
          <p:nvPr/>
        </p:nvSpPr>
        <p:spPr>
          <a:xfrm flipV="1">
            <a:off x="1187280" y="4076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Line 34"/>
          <p:cNvSpPr/>
          <p:nvPr/>
        </p:nvSpPr>
        <p:spPr>
          <a:xfrm flipV="1">
            <a:off x="1187280" y="3141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AutoShape 35"/>
          <p:cNvSpPr/>
          <p:nvPr/>
        </p:nvSpPr>
        <p:spPr>
          <a:xfrm>
            <a:off x="395280" y="1917720"/>
            <a:ext cx="216000" cy="287280"/>
          </a:xfrm>
          <a:prstGeom prst="rightArrow">
            <a:avLst>
              <a:gd name="adj1" fmla="val 27444"/>
              <a:gd name="adj2" fmla="val 69565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4" name="AutoShape 36"/>
          <p:cNvSpPr/>
          <p:nvPr/>
        </p:nvSpPr>
        <p:spPr>
          <a:xfrm>
            <a:off x="2484360" y="1917720"/>
            <a:ext cx="216000" cy="287280"/>
          </a:xfrm>
          <a:prstGeom prst="rightArrow">
            <a:avLst>
              <a:gd name="adj1" fmla="val 27444"/>
              <a:gd name="adj2" fmla="val 69565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5" name="AutoShape 37"/>
          <p:cNvSpPr/>
          <p:nvPr/>
        </p:nvSpPr>
        <p:spPr>
          <a:xfrm>
            <a:off x="4788000" y="1917720"/>
            <a:ext cx="215640" cy="287280"/>
          </a:xfrm>
          <a:prstGeom prst="rightArrow">
            <a:avLst>
              <a:gd name="adj1" fmla="val 27444"/>
              <a:gd name="adj2" fmla="val 69565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6" name="AutoShape 38"/>
          <p:cNvSpPr/>
          <p:nvPr/>
        </p:nvSpPr>
        <p:spPr>
          <a:xfrm>
            <a:off x="6877080" y="1917720"/>
            <a:ext cx="216000" cy="287280"/>
          </a:xfrm>
          <a:prstGeom prst="rightArrow">
            <a:avLst>
              <a:gd name="adj1" fmla="val 27444"/>
              <a:gd name="adj2" fmla="val 69565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7" name="AutoShape 39"/>
          <p:cNvSpPr/>
          <p:nvPr/>
        </p:nvSpPr>
        <p:spPr>
          <a:xfrm>
            <a:off x="7236000" y="2349360"/>
            <a:ext cx="1584000" cy="2519640"/>
          </a:xfrm>
          <a:prstGeom prst="flowChartAlternateProcess">
            <a:avLst/>
          </a:prstGeom>
          <a:solidFill>
            <a:srgbClr val="ffffcc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此次招聘的总结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面试有效性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岗位分布的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招聘问题的总结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招聘过程的改善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培训数据的统计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培训数据的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学员主管的调查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培训问题的总结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大学生信息概要培训效果的分析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8" name="Text Box 40"/>
          <p:cNvSpPr/>
          <p:nvPr/>
        </p:nvSpPr>
        <p:spPr>
          <a:xfrm>
            <a:off x="2937600" y="98100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PGothic"/>
              </a:rPr>
              <a:t>200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MS PGothic"/>
              </a:rPr>
              <a:t>大学生招聘及培养全过程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9" name="灯片编号占位符 1"/>
          <p:cNvSpPr/>
          <p:nvPr/>
        </p:nvSpPr>
        <p:spPr>
          <a:xfrm>
            <a:off x="312408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A3C2-D98F-47E9-925B-944C15D6F2AC}" type="slidenum"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日期占位符 2"/>
          <p:cNvSpPr/>
          <p:nvPr/>
        </p:nvSpPr>
        <p:spPr>
          <a:xfrm>
            <a:off x="468360" y="6537240"/>
            <a:ext cx="2314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ttp://www.xiziforward.net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1" name="页脚占位符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《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》 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HR</a:t>
            </a:r>
            <a:r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17347d"/>
                </a:solidFill>
                <a:latin typeface="Verdana"/>
                <a:ea typeface="宋体"/>
              </a:rPr>
              <a:t>yours1314diy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79280" y="981000"/>
          <a:ext cx="8785440" cy="5184720"/>
        </p:xfrm>
        <a:graphic>
          <a:graphicData uri="http://schemas.openxmlformats.org/drawingml/2006/table">
            <a:tbl>
              <a:tblPr/>
              <a:tblGrid>
                <a:gridCol w="1152720"/>
                <a:gridCol w="2663640"/>
                <a:gridCol w="1944720"/>
                <a:gridCol w="1584360"/>
                <a:gridCol w="144000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培训类别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7347d"/>
                          </a:solidFill>
                          <a:latin typeface="Arial"/>
                          <a:ea typeface="宋体"/>
                        </a:rPr>
                        <a:t>人力资源部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7347d"/>
                          </a:solidFill>
                          <a:latin typeface="Arial"/>
                          <a:ea typeface="宋体"/>
                        </a:rPr>
                        <a:t>业务主管和部门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7347d"/>
                          </a:solidFill>
                          <a:latin typeface="Arial"/>
                          <a:ea typeface="宋体"/>
                        </a:rPr>
                        <a:t>辅导老师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7347d"/>
                          </a:solidFill>
                          <a:latin typeface="Arial"/>
                          <a:ea typeface="宋体"/>
                        </a:rPr>
                        <a:t>相关人员 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432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432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AutoShape 52"/>
          <p:cNvSpPr/>
          <p:nvPr/>
        </p:nvSpPr>
        <p:spPr>
          <a:xfrm>
            <a:off x="179280" y="1470240"/>
            <a:ext cx="1123920" cy="44676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文化融合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179280" y="2117880"/>
            <a:ext cx="1123920" cy="44676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业务指导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AutoShape 54"/>
          <p:cNvSpPr/>
          <p:nvPr/>
        </p:nvSpPr>
        <p:spPr>
          <a:xfrm>
            <a:off x="179280" y="2765520"/>
            <a:ext cx="1123920" cy="44676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心态训练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6" name="AutoShape 55"/>
          <p:cNvSpPr/>
          <p:nvPr/>
        </p:nvSpPr>
        <p:spPr>
          <a:xfrm>
            <a:off x="179280" y="3429000"/>
            <a:ext cx="1123920" cy="4460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思维训练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7" name="AutoShape 56"/>
          <p:cNvSpPr/>
          <p:nvPr/>
        </p:nvSpPr>
        <p:spPr>
          <a:xfrm>
            <a:off x="179280" y="4221360"/>
            <a:ext cx="1123920" cy="44676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行为训练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8" name="AutoShape 57"/>
          <p:cNvSpPr/>
          <p:nvPr/>
        </p:nvSpPr>
        <p:spPr>
          <a:xfrm>
            <a:off x="179280" y="5575320"/>
            <a:ext cx="1123920" cy="4460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素养修炼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9" name="AutoShape 58"/>
          <p:cNvSpPr/>
          <p:nvPr/>
        </p:nvSpPr>
        <p:spPr>
          <a:xfrm>
            <a:off x="179280" y="4927680"/>
            <a:ext cx="1123920" cy="44676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宋体"/>
              </a:rPr>
              <a:t>习惯训练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0" name="AutoShape 59"/>
          <p:cNvSpPr/>
          <p:nvPr/>
        </p:nvSpPr>
        <p:spPr>
          <a:xfrm>
            <a:off x="1042920" y="6150960"/>
            <a:ext cx="7475760" cy="405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  <a:ea typeface="宋体"/>
              </a:rPr>
              <a:t>2009</a:t>
            </a: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宋体"/>
              </a:rPr>
              <a:t>大学毕业生培训－雏鹰计划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1" name="AutoShape 60"/>
          <p:cNvSpPr/>
          <p:nvPr/>
        </p:nvSpPr>
        <p:spPr>
          <a:xfrm>
            <a:off x="1386000" y="4273200"/>
            <a:ext cx="102528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绩效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2" name="AutoShape 61"/>
          <p:cNvSpPr/>
          <p:nvPr/>
        </p:nvSpPr>
        <p:spPr>
          <a:xfrm>
            <a:off x="1346040" y="1582200"/>
            <a:ext cx="102564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适应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3" name="AutoShape 62"/>
          <p:cNvSpPr/>
          <p:nvPr/>
        </p:nvSpPr>
        <p:spPr>
          <a:xfrm>
            <a:off x="1346040" y="2221920"/>
            <a:ext cx="102564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工作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4" name="AutoShape 63"/>
          <p:cNvSpPr/>
          <p:nvPr/>
        </p:nvSpPr>
        <p:spPr>
          <a:xfrm>
            <a:off x="1346040" y="2869560"/>
            <a:ext cx="102564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成长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5" name="AutoShape 64"/>
          <p:cNvSpPr/>
          <p:nvPr/>
        </p:nvSpPr>
        <p:spPr>
          <a:xfrm>
            <a:off x="1346040" y="3526920"/>
            <a:ext cx="102564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团队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6" name="AutoShape 65"/>
          <p:cNvSpPr/>
          <p:nvPr/>
        </p:nvSpPr>
        <p:spPr>
          <a:xfrm>
            <a:off x="1346040" y="5040000"/>
            <a:ext cx="1025640" cy="315360"/>
          </a:xfrm>
          <a:prstGeom prst="bevel">
            <a:avLst>
              <a:gd name="adj" fmla="val 6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发展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7" name="AutoShape 66"/>
          <p:cNvSpPr/>
          <p:nvPr/>
        </p:nvSpPr>
        <p:spPr>
          <a:xfrm>
            <a:off x="2484360" y="1588320"/>
            <a:ext cx="360360" cy="424188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公司介绍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8" name="AutoShape 67"/>
          <p:cNvSpPr/>
          <p:nvPr/>
        </p:nvSpPr>
        <p:spPr>
          <a:xfrm>
            <a:off x="2987640" y="1489680"/>
            <a:ext cx="360360" cy="44550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企业文化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09" name="AutoShape 68"/>
          <p:cNvSpPr/>
          <p:nvPr/>
        </p:nvSpPr>
        <p:spPr>
          <a:xfrm>
            <a:off x="3492360" y="1486440"/>
            <a:ext cx="360360" cy="444564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基本素养和知识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0" name="AutoShape 69"/>
          <p:cNvSpPr/>
          <p:nvPr/>
        </p:nvSpPr>
        <p:spPr>
          <a:xfrm>
            <a:off x="4140360" y="4214160"/>
            <a:ext cx="163656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工作方式方法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1" name="AutoShape 70"/>
          <p:cNvSpPr/>
          <p:nvPr/>
        </p:nvSpPr>
        <p:spPr>
          <a:xfrm>
            <a:off x="1332000" y="5658480"/>
            <a:ext cx="1008000" cy="295920"/>
          </a:xfrm>
          <a:prstGeom prst="flowChartAlternateProcess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7347d"/>
                </a:solidFill>
                <a:latin typeface="Arial"/>
                <a:ea typeface="MS PGothic"/>
              </a:rPr>
              <a:t>人才的基础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2" name="Line 71"/>
          <p:cNvSpPr/>
          <p:nvPr/>
        </p:nvSpPr>
        <p:spPr>
          <a:xfrm>
            <a:off x="179280" y="5516640"/>
            <a:ext cx="8785440" cy="0"/>
          </a:xfrm>
          <a:prstGeom prst="line">
            <a:avLst/>
          </a:prstGeom>
          <a:ln cap="rnd" w="1260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3" name="AutoShape 72"/>
          <p:cNvSpPr/>
          <p:nvPr/>
        </p:nvSpPr>
        <p:spPr>
          <a:xfrm>
            <a:off x="4211640" y="2198160"/>
            <a:ext cx="163656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日常工作指导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4" name="AutoShape 73"/>
          <p:cNvSpPr/>
          <p:nvPr/>
        </p:nvSpPr>
        <p:spPr>
          <a:xfrm>
            <a:off x="4211640" y="1550520"/>
            <a:ext cx="163656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团队融入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5" name="AutoShape 74"/>
          <p:cNvSpPr/>
          <p:nvPr/>
        </p:nvSpPr>
        <p:spPr>
          <a:xfrm>
            <a:off x="4211640" y="2845800"/>
            <a:ext cx="163656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工作激情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6" name="Text Box 75"/>
          <p:cNvSpPr/>
          <p:nvPr/>
        </p:nvSpPr>
        <p:spPr>
          <a:xfrm>
            <a:off x="6227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AutoShape 76"/>
          <p:cNvSpPr/>
          <p:nvPr/>
        </p:nvSpPr>
        <p:spPr>
          <a:xfrm>
            <a:off x="5888160" y="3493440"/>
            <a:ext cx="163656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同理心</a:t>
            </a:r>
            <a:r>
              <a:rPr b="1" lang="en-US" sz="1600" spc="-1" strike="noStrike">
                <a:solidFill>
                  <a:srgbClr val="17347d"/>
                </a:solidFill>
                <a:latin typeface="Arial"/>
                <a:ea typeface="MS PGothic"/>
              </a:rPr>
              <a:t>/</a:t>
            </a: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全局观 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AutoShape 77"/>
          <p:cNvSpPr/>
          <p:nvPr/>
        </p:nvSpPr>
        <p:spPr>
          <a:xfrm>
            <a:off x="6084720" y="4934880"/>
            <a:ext cx="136872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自我超越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AutoShape 78"/>
          <p:cNvSpPr/>
          <p:nvPr/>
        </p:nvSpPr>
        <p:spPr>
          <a:xfrm>
            <a:off x="5940360" y="5582880"/>
            <a:ext cx="1636920" cy="3942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47d"/>
                </a:solidFill>
                <a:latin typeface="Arial"/>
                <a:ea typeface="MS PGothic"/>
              </a:rPr>
              <a:t>自我约束</a:t>
            </a:r>
            <a:r>
              <a:rPr b="0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    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AutoShape 79"/>
          <p:cNvSpPr/>
          <p:nvPr/>
        </p:nvSpPr>
        <p:spPr>
          <a:xfrm>
            <a:off x="7956720" y="1737720"/>
            <a:ext cx="360360" cy="4019400"/>
          </a:xfrm>
          <a:prstGeom prst="bevel">
            <a:avLst>
              <a:gd name="adj" fmla="val 756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企业氛围感染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灯片编号占位符 1"/>
          <p:cNvSpPr/>
          <p:nvPr/>
        </p:nvSpPr>
        <p:spPr>
          <a:xfrm>
            <a:off x="312408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7EF-3024-4B81-8123-4E0D0FB40C9A}" type="slidenum">
              <a:rPr b="0" lang="zh-CN" sz="1200" spc="-1" strike="noStrike">
                <a:solidFill>
                  <a:srgbClr val="17347d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0:13:12Z</dcterms:created>
  <dc:creator>admin</dc:creator>
  <dc:description/>
  <dc:language>en-US</dc:language>
  <cp:lastModifiedBy>忠信技术</cp:lastModifiedBy>
  <dcterms:modified xsi:type="dcterms:W3CDTF">2017-08-06T14:28:45Z</dcterms:modified>
  <cp:revision>18</cp:revision>
  <dc:subject/>
  <dc:title>浙江西子富沃德电机有限公司 09校园招聘方案</dc:title>
</cp:coreProperties>
</file>