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B3FC-F2A1-4977-9AF6-B8809A909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7229-2961-4924-B882-4D1779A2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5C232-FDBB-4197-94EA-1BA7387E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D9155-67CC-4804-B093-C8BFA039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C0BF7-6A00-4326-BF6D-6DDE14EB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47CE8-0EA1-4B86-932E-880B316C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7E2DA-C1B9-440C-9ECE-DEB49442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F9F2C-73A0-4765-B122-F4A38046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3E61A-E9BE-4D39-A43F-6EC64D66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BA2C7-D459-4A6E-90C2-7A6CD0539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F39B3-9AB0-40C0-9AED-9E8C55016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073B47-42FB-408F-B52D-1731A9137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0EB4-7DB6-4C5D-8236-A0D2214CF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C3DA4-12E7-4241-BCEA-473247B2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FC188A-F0B7-40E0-AF5C-84B3F3C7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DA609D-03BA-477D-AD69-664E739C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2F08C2-635B-43F7-96BE-9CB03AC8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5F2680-29CB-4325-80A2-1354BA38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D6625D-382E-41F3-8FA1-1BC27130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FA250-B4DA-487A-858D-4D7AB449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C7253-737E-4059-BC5B-89A1F49A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2D43F0-DA40-4BE1-BB92-5D62B9BF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DD798-F3C0-48B2-A57F-814C5F54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7B30-7946-4D2A-B8C8-8C5C8778D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997404-EA34-4144-B313-58F1BC837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8D972-5531-488D-8552-2DA7933B8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3DC82-C733-4E86-9FA9-D86C4B88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BEA81-C487-438D-A036-A05CDCF4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5B926-8DD6-4139-A6C2-987DB708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4BB07-78CA-4ED0-A4E5-7A5C4323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2C1CF-117C-49B3-901F-D962C82F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4FEAA-FE81-428D-858A-B9281597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6668A-8DE1-4C1B-83C7-72502643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B0FCA-F9E5-4EFC-9E33-0F899D44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B738-1FDC-466D-A001-6D894095A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D7428-7AF4-4D77-B19A-FD5BB328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692518-6483-411A-983C-B2776A930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626CC-7733-456D-A3A5-ACA337D9F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AE784F-FD5D-4423-830D-45999E257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90BAB3-8170-4EE3-9002-E3A02185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48D60-7B98-4CCA-98F3-496591E0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BFE38A-69BA-4DE3-BBAB-2AEE7027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F13D81-F7ED-4B35-AD1E-C91DC7FF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E21537-E2D2-42EC-8807-47453177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62D6DC-D283-4139-90E7-5F9CFF1C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8260-101E-4F3E-9BBB-866DA58B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9F8599-7AFD-43C7-A25C-32A0AFDC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DCA332-3E67-4A3F-852B-C5F6E8EF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957FD-D32D-4842-9B59-1B18E228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752C25-6FE4-4480-9865-84EBC8964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D1BC23-AD88-4A3F-A506-CAC3985DF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9B5B-D8EA-42EF-8EE6-BA0D855C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6E6F-9C03-4729-9710-EB352068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215C-B320-4EF7-8F58-8670B8AC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42A9-51CC-4F80-BDA7-FC5DF9C8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E25B-9D85-46C0-A18B-FD8D9A01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9ADC-2AC0-4733-BE4F-8D229C2D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0AFF-3F2B-405D-9F8A-1AD75F78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2B0C-6651-49DB-917D-4AC15525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B841-05A2-4F59-8FC6-1D53B2FC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3414-9098-4C71-9432-FFAC2D06C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6636-8082-434C-8CDA-0CBF21821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DE7E7-EBB5-4415-A900-87B64D4F2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C70A6-7D48-49E4-A5F3-33AA0C7B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F4C62-E122-4077-A955-9FF63BE0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7892C-E7C0-44D3-BF45-40A7D6CB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22118-B76C-4A13-96FD-7368957A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644D-E854-4E5E-BB66-8EA89C7A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59C5F-A034-4C5E-8BCB-59F6E054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64F91-9045-410B-AA1E-AA5805F7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5D48F-848D-43C9-863E-3937D7D1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29F9E-820C-413E-A0D4-BBBA6C5A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31C28-4E07-4840-BB1F-85CACE77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275A8-66C0-4CC0-809B-205187351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D86A3-53F6-4A11-B6E5-D35F818D6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007C4-08F7-4A3F-B086-6148967DC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2CCAE-5727-4573-8A5A-749D1E52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A00B7-01CE-4135-B4CC-8A43B66C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DED0-F9FA-4A90-9C27-81E99F6D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C3211-B6EA-4655-9671-1436804A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9885F-2EF5-47E0-A540-DDCDDCE5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5DAF6-41B2-4823-BA38-BDC75239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451A3-5062-4969-AE7F-F2B17F62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33F79-332D-46A2-BA98-7156231A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3FE53-2A81-48E8-8A98-9F086AC7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3D1EC-38B9-4D2C-8A23-296A33EC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9A5FB-5768-458B-A0A8-6325F2BA7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A62EA-302F-4648-B52B-71FBB9898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F9C07-5098-45F9-A022-3BB2D5C95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6432-4E44-4671-9107-9C1C7CD9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D51F7-1156-4374-A2D9-AD98C7B1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E82E0-C88A-4AE5-BD01-9D8B2C53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0222E-00AE-4EA4-A7FC-B8454309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4ACF4-7581-403D-B310-700E7879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E921E-4BC9-4BCE-82CF-D9FC7456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3DF10-6009-4AA7-B09F-35DFF001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A6317-6D0D-4B12-9655-8AEAE43F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79DE8-C771-4E5F-B78F-D0C2B1A1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8E920-3BCA-4023-82B2-5E11E3C8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E7017-B43E-4554-A8FE-2B003923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584C-9B1D-442D-8C33-611F7A35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00F92-FE14-4924-8C48-62F338F91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48667-0FD3-4C6D-B0A5-E46DEDFC1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91E39-6F9B-4D52-A83D-9E04B410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8D974-7DA9-4728-864B-6816AA80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40C45-EBEB-4FDD-8CF5-A2F2A173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D63BF-7C2D-4FBB-B531-C17C3237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8E008-718C-4ECF-9665-79754889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194E5-E3D1-40E3-8C89-B7BCCDE6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16DE3-EAAB-41ED-9197-022E408F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B8429-EC29-49CA-81AE-2F8E7F9B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F3F8-4A4A-4E46-9C76-8B3C9941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A243E-E022-4A14-BAEB-E198845D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CEBE3-BF8E-4BBE-B7D7-999CFDE1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4ED93-9540-4CB3-918B-E446F38CA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B5D79-ACEA-45A2-BF64-2C9E14293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142A6-F055-4EF0-8A59-B206131D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78BF4-553F-4C02-90AC-5E87A660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7347C-456F-4B71-A237-AA289837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EA7EB-AC07-4CA6-9156-6CAD60B9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0B21C-7E2E-4DDD-9E15-45223128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A22F1-54EC-4DB3-A2E5-81DA1042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6264-E145-497A-AABD-BE4C0E58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9686A-B9F8-454F-A645-F5224335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E0201-0A25-40AE-8178-A6B3CFF5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DE0DA-CD61-4B4D-8A84-20D07C1C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55126-5B58-435F-BD71-EBAC41963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3F22C-249E-4C4A-A0D9-88CC319E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CE111-20BA-4973-AEA7-59C5B33F7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78BE4-C1AA-4184-80D3-AA186224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797C0-FA0F-4942-A659-88B66A91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8A79E-9EEC-40BF-B1DA-0E8A8445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D54F5-AB02-4E5E-88DD-B3E498E0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9A09-2635-4B6F-BC77-3E4FD8BD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2090B-68B2-4E40-B804-F9296D27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63BB0-FBEB-46B2-97AA-EC1F6A1C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28346-C7AF-4258-B45D-047A546F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70F47-52A7-4454-9276-131FDB22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FB75F-5935-4B4B-84BA-8B5CDC51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B48BA-7DC7-43B8-A89E-0C7BE2984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12892-C035-4AA6-B3C4-E70BC2F8B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2B1356-10D2-4C87-BC66-3827EE95F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7327C-C1A5-423C-A9EA-786A6F4F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4103AF-D0D7-44B0-9E2D-20AF8B26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人才测评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》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R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人力资源大全微信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ours1314di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D360-309F-4F50-9562-F8C386A3F5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95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6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6B9F-4503-4DDB-B06A-ADC4568FC2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39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0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04CC-E0BE-4565-86FB-1F7601CBE2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83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4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E07B-9DC9-4C62-B43A-7C77E6F20F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人才测评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》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R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人力资源大全微信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ours1314di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EEB1-6E82-4A08-B809-37D9785741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87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0B68-E123-4959-8BF9-F81DD875B5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3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6393-E410-473D-9BBB-100A59DC30A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75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365D-54FC-41C0-B77D-4E210534A4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19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D1D1-A87B-40D3-8B36-D6B1FA854A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63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21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FFFE-1362-4B77-8B36-70B4B348E3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07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8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A3EE-7365-402C-85E8-6453CA208B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5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FC40-7C8E-4280-9A3D-B2D2D28394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三德医疗招聘复试题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岗位：副总经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灯片编号占位符 1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24F5-11E8-4761-A93C-8BAB2106CAC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人才测评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》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R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人力资源大全微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rs1314di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2209680" y="114300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个公司中由于进入的时间先后形成如下管理格局：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管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, 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管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人能力排序为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&gt;C&gt;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分别假设你的身份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,B,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下一步你会采取什么行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3"/>
          <p:cNvSpPr/>
          <p:nvPr/>
        </p:nvSpPr>
        <p:spPr>
          <a:xfrm>
            <a:off x="3180960" y="5105520"/>
            <a:ext cx="50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若个人能力排序为：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&gt;A&gt;B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呢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灯片编号占位符 1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97FA-FD6A-4843-B6FD-A9CE7E64AE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2438280" y="-76320"/>
            <a:ext cx="624852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你负责执行的某个销售政策中，有一个销售经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你意见不统一。你会采取什么行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意见项目组大多数人反对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仍拒绝改正，你怎么办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意见得到大多数人的支持，而你坚信政策是对的，又该怎么办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灯片编号占位符 1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A4AF-0336-45CF-BBF5-E7C56034F6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c0039"/>
                </a:solidFill>
                <a:latin typeface="Arial"/>
              </a:rPr>
              <a:t>案例：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如果您是大力公司的决策者，您将做何决定，您的行动方案是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灯片编号占位符 1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719D-D5C2-4F8E-8912-BF333B8D98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2361960" y="685800"/>
            <a:ext cx="64767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力公司是一家医药企业，资产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元，主要客户为全国公立医院，目前公司产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经进入市场成熟期，销量稳定。日前，公司决定通过一系列的市场政策，扩大市场占有量，使之达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灯片编号占位符 1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3EC7-35B5-4B80-9985-6375BCE08C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6"/>
          <p:cNvSpPr/>
          <p:nvPr/>
        </p:nvSpPr>
        <p:spPr>
          <a:xfrm>
            <a:off x="2286000" y="228600"/>
            <a:ext cx="670572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市场占有率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.8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销售渠道为终端销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销商推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销商销售贡献率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1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未进行广告投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术会议推广在前八个月销售量分别占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3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华北、华东、华南地区打击商业贿赂力度较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收款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8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内大型行业内展销会将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月后在郑州举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客户数量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19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家，其中新客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家，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相比，老客户流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销售队伍稳定，但接受新事物较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灯片编号占位符 1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18A7-624D-4CAB-895B-A7C01A4F44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忠信技术</cp:lastModifiedBy>
  <dcterms:modified xsi:type="dcterms:W3CDTF">2017-08-06T14:28:4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