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master05_imag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master05_imag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Tahoma"/>
                <a:ea typeface="华文中宋"/>
              </a:rPr>
              <a:t>无领导小组讨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68360" y="4076640"/>
            <a:ext cx="6553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侯玉波  博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北京大学心理学系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北京大学－香港青年协会青少年发展研究中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03280" y="1916280"/>
            <a:ext cx="58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B  </a:t>
            </a:r>
            <a:r>
              <a:rPr b="1" lang="zh-CN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分析能力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理解问题的本质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解决问题的思路清楚，角度新颖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能够综合不同的信息，深化自己的认识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有悟性，理会问题的速度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6.2 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无领导小组讨论与能力的对应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二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971640" y="1773360"/>
            <a:ext cx="6553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C  </a:t>
            </a:r>
            <a:r>
              <a:rPr b="1" lang="zh-CN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应变能力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遇到压力和矛盾时积极寻求解决方法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情境发生变化时能够调整自己的行为方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遇到挫折时仍然积极面对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难题面前能够从多角度考虑问题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6.3 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无领导小组讨论与能力的对应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三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971640" y="1197000"/>
            <a:ext cx="511308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D  </a:t>
            </a:r>
            <a:r>
              <a:rPr b="1" lang="zh-CN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团队精神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很快融入到小组讨论中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为小组的整体利益着想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有独立的意见，但必要时会妥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为他人提供帮助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尊重他人，善于倾听他人意见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6.4 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无领导小组讨论与能力的对应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四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332000" y="1268280"/>
            <a:ext cx="51847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E  </a:t>
            </a:r>
            <a:r>
              <a:rPr b="1" lang="zh-CN" sz="2400" spc="-1" strike="noStrike">
                <a:solidFill>
                  <a:srgbClr val="990000"/>
                </a:solidFill>
                <a:latin typeface="华文中宋"/>
                <a:ea typeface="华文中宋"/>
              </a:rPr>
              <a:t>人际影响力以及自信心：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观点得到小组成员的认可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组成员愿意按照其建议行事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靠命令方式压制他人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善于把大家的意见引向一致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积极发言，敢于发表不同的意见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强调自己观点时有说服力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6.5 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无领导小组讨论与能力的对应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五</a:t>
            </a:r>
            <a:r>
              <a:rPr b="1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3:13:34Z</dcterms:created>
  <dc:creator>ty</dc:creator>
  <dc:description/>
  <dc:language>en-US</dc:language>
  <cp:lastModifiedBy>忠信技术</cp:lastModifiedBy>
  <dcterms:modified xsi:type="dcterms:W3CDTF">2017-08-06T14:28:50Z</dcterms:modified>
  <cp:revision>187</cp:revision>
  <dc:subject/>
  <dc:title>自我、思维方式对成年人 情绪表达方式的影响</dc:title>
</cp:coreProperties>
</file>