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1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13.wmf" ContentType="image/x-wmf"/>
  <Override PartName="/ppt/media/image6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9.wmf" ContentType="image/x-wmf"/>
  <Override PartName="/ppt/media/image34.wmf" ContentType="image/x-wmf"/>
  <Override PartName="/ppt/media/image24.gif" ContentType="image/gif"/>
  <Override PartName="/ppt/media/image12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16.wmf" ContentType="image/x-wmf"/>
  <Override PartName="/ppt/media/image17.jpeg" ContentType="image/jpeg"/>
  <Override PartName="/ppt/media/type.wav" ContentType="audio/x-wav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111111"/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DISCOVER  SALES  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95280"/>
            <a:ext cx="1828800" cy="5562720"/>
          </a:xfrm>
          <a:prstGeom prst="rect">
            <a:avLst/>
          </a:prstGeom>
          <a:solidFill>
            <a:srgbClr val="b2b2b2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840" y="259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  <a:ea typeface="黑体"/>
              </a:rPr>
              <a:t>症状与诊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50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1840" y="3276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  <a:ea typeface="黑体"/>
              </a:rPr>
              <a:t>发现维生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3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1840" y="3962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  <a:ea typeface="黑体"/>
              </a:rPr>
              <a:t>找到特效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7680" y="489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0480" y="624852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/04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73640" y="22860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 Black"/>
              </a:rPr>
              <a:t>D S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034880" y="3049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华文中宋"/>
              </a:rPr>
              <a:t>销售人员的招聘和甄选诊测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480" y="482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184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  <a:ea typeface="黑体"/>
              </a:rPr>
              <a:t>全流程控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10552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1828800"/>
            <a:ext cx="5410080" cy="2104920"/>
          </a:xfrm>
          <a:prstGeom prst="rect">
            <a:avLst/>
          </a:prstGeom>
          <a:solidFill>
            <a:srgbClr val="003366"/>
          </a:solidFill>
          <a:ln w="73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H R &amp; SALES &amp;                         S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9920" y="4413240"/>
            <a:ext cx="275724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6880" y="1568520"/>
            <a:ext cx="4076280" cy="520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销售部门和其他部门离职率对比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7086600" cy="3389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7880" y="3048120"/>
            <a:ext cx="20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招聘费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频率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单位成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00720" y="5791320"/>
            <a:ext cx="3838320" cy="5814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单位岗位招聘成本最大的是销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16880" y="1703520"/>
            <a:ext cx="3306600" cy="520560"/>
          </a:xfrm>
          <a:prstGeom prst="rect">
            <a:avLst/>
          </a:prstGeom>
          <a:solidFill>
            <a:srgbClr val="ffcc00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同工种的个人绩效差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81080" y="2514600"/>
          <a:ext cx="67057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514600"/>
                    <a:ext cx="67057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229560" y="5410080"/>
            <a:ext cx="4326120" cy="106884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绝对不是技术和经验密集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但它的个体差异和招聘测评难度最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gy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7315200" cy="557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93400" y="20574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知道天上那块云彩会有雨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0028_" descr=""/>
          <p:cNvPicPr/>
          <p:nvPr/>
        </p:nvPicPr>
        <p:blipFill>
          <a:blip r:embed="rId2"/>
          <a:stretch/>
        </p:blipFill>
        <p:spPr>
          <a:xfrm>
            <a:off x="2438280" y="4616280"/>
            <a:ext cx="19051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3040" y="1828800"/>
            <a:ext cx="4277160" cy="520560"/>
          </a:xfrm>
          <a:prstGeom prst="rect">
            <a:avLst/>
          </a:prstGeom>
          <a:solidFill>
            <a:srgbClr val="003366"/>
          </a:solid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华文中宋"/>
                <a:ea typeface="华文中宋"/>
              </a:rPr>
              <a:t>超过</a:t>
            </a:r>
            <a:r>
              <a:rPr b="1" lang="zh-CN" sz="2800" spc="-1" strike="noStrike">
                <a:solidFill>
                  <a:srgbClr val="00cc99"/>
                </a:solidFill>
                <a:latin typeface="华文中宋"/>
                <a:ea typeface="华文中宋"/>
              </a:rPr>
              <a:t>80%</a:t>
            </a:r>
            <a:r>
              <a:rPr b="1" lang="zh-CN" sz="2800" spc="-1" strike="noStrike">
                <a:solidFill>
                  <a:srgbClr val="00cc99"/>
                </a:solidFill>
                <a:latin typeface="华文中宋"/>
                <a:ea typeface="华文中宋"/>
              </a:rPr>
              <a:t>的企业在使用共同的招聘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819520"/>
            <a:ext cx="5257800" cy="2879640"/>
          </a:xfrm>
          <a:prstGeom prst="rect">
            <a:avLst/>
          </a:prstGeom>
          <a:solidFill>
            <a:srgbClr val="003366"/>
          </a:solidFill>
          <a:ln w="63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上的工作经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. 3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岁以下，大专以上的文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积极主动能吃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良好的形象和表达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一定的社会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6982_" descr=""/>
          <p:cNvPicPr/>
          <p:nvPr/>
        </p:nvPicPr>
        <p:blipFill>
          <a:blip r:embed="rId1"/>
          <a:stretch/>
        </p:blipFill>
        <p:spPr>
          <a:xfrm>
            <a:off x="5257800" y="4929120"/>
            <a:ext cx="35812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52680" y="1905120"/>
            <a:ext cx="3124440" cy="581400"/>
          </a:xfrm>
          <a:prstGeom prst="rect">
            <a:avLst/>
          </a:prstGeom>
          <a:solidFill>
            <a:srgbClr val="ff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二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4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200400"/>
            <a:ext cx="6629400" cy="1752480"/>
          </a:xfrm>
          <a:prstGeom prst="flowChartMerge">
            <a:avLst/>
          </a:prstGeom>
          <a:solidFill>
            <a:srgbClr val="ffcc00"/>
          </a:solidFill>
          <a:ln w="54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发现销售维生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51400" y="1828800"/>
            <a:ext cx="1643760" cy="581400"/>
          </a:xfrm>
          <a:prstGeom prst="rect">
            <a:avLst/>
          </a:prstGeom>
          <a:solidFill>
            <a:srgbClr val="99ccff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建立陌生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52280" y="3657600"/>
            <a:ext cx="1887480" cy="581400"/>
          </a:xfrm>
          <a:prstGeom prst="rect">
            <a:avLst/>
          </a:prstGeom>
          <a:solidFill>
            <a:srgbClr val="ff99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别人施加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743200"/>
            <a:ext cx="237528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发现和满足客户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4200" y="4495680"/>
            <a:ext cx="1887480" cy="5814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持续的愉悦服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4080" y="5486400"/>
            <a:ext cx="587520" cy="581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贯化的自我执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064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2771640" cy="1073160"/>
          </a:xfrm>
          <a:prstGeom prst="rect">
            <a:avLst/>
          </a:prstGeom>
          <a:ln w="0">
            <a:noFill/>
          </a:ln>
        </p:spPr>
      </p:pic>
      <p:pic>
        <p:nvPicPr>
          <p:cNvPr id="139" name="pic241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987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209680"/>
            <a:ext cx="662940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建立关系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拒绝中修复的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048120"/>
            <a:ext cx="29876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最优质的弹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得州的死刑实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站在讲台上的感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站聊天室的测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客户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33720" y="2209680"/>
            <a:ext cx="662940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建立你企业的自信度标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657600"/>
            <a:ext cx="662940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检测应聘者的自信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029200"/>
            <a:ext cx="662940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培养销售者的自信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62680" y="1752480"/>
            <a:ext cx="387072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现需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强烈的理解欲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66688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最优质的海绵体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奥斯廷公爵的智慧之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朋友的糖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厅的服务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273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27720" y="2362320"/>
            <a:ext cx="373932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影响别人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强烈的说服欲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8400" y="3147840"/>
            <a:ext cx="1460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陈阿士的问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5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婚姻的感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沉锚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995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273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0000" y="1828800"/>
            <a:ext cx="411480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服务他人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强烈的被赞赏欲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4520" y="2766960"/>
            <a:ext cx="20095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来自上帝的惩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现场观察电话销售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麦当劳的服务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扫阳光的孩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客户的档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27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5480" y="1981080"/>
            <a:ext cx="2570400" cy="58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觉有恒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贯化的自我管理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022560"/>
            <a:ext cx="3429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精确的时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风格和韧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天的业务短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麦当劳的招聘模式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律和他律的区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90920" y="1828800"/>
            <a:ext cx="4930560" cy="581400"/>
          </a:xfrm>
          <a:prstGeom prst="rect">
            <a:avLst/>
          </a:prstGeom>
          <a:solidFill>
            <a:srgbClr val="ffcc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其他需要考虑的外围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5160" y="2743200"/>
            <a:ext cx="187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断的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处理细节的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流的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积极性和紧迫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团队合作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3160" y="5486400"/>
            <a:ext cx="3381120" cy="39888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案例：销售管理部资料人员的数理分析能力测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6760" y="60580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中国每年有多少人口出生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91840" y="1600200"/>
            <a:ext cx="3350520" cy="581400"/>
          </a:xfrm>
          <a:prstGeom prst="rect">
            <a:avLst/>
          </a:prstGeom>
          <a:solidFill>
            <a:srgbClr val="ffcc00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同行业的销售特质组合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2284560"/>
          <a:ext cx="745812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4560"/>
                    <a:ext cx="74581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332080" y="3429000"/>
            <a:ext cx="4983120" cy="106200"/>
          </a:xfrm>
          <a:custGeom>
            <a:avLst/>
            <a:gdLst/>
            <a:ahLst/>
            <a:rect l="l" t="t" r="r" b="b"/>
            <a:pathLst>
              <a:path w="3062" h="105">
                <a:moveTo>
                  <a:pt x="0" y="86"/>
                </a:moveTo>
                <a:cubicBezTo>
                  <a:pt x="25" y="94"/>
                  <a:pt x="51" y="105"/>
                  <a:pt x="77" y="105"/>
                </a:cubicBezTo>
                <a:cubicBezTo>
                  <a:pt x="135" y="105"/>
                  <a:pt x="185" y="68"/>
                  <a:pt x="240" y="57"/>
                </a:cubicBezTo>
                <a:cubicBezTo>
                  <a:pt x="262" y="53"/>
                  <a:pt x="285" y="51"/>
                  <a:pt x="307" y="48"/>
                </a:cubicBezTo>
                <a:cubicBezTo>
                  <a:pt x="424" y="54"/>
                  <a:pt x="480" y="53"/>
                  <a:pt x="576" y="86"/>
                </a:cubicBezTo>
                <a:cubicBezTo>
                  <a:pt x="923" y="40"/>
                  <a:pt x="1272" y="48"/>
                  <a:pt x="1622" y="38"/>
                </a:cubicBezTo>
                <a:cubicBezTo>
                  <a:pt x="1810" y="44"/>
                  <a:pt x="1992" y="60"/>
                  <a:pt x="2179" y="48"/>
                </a:cubicBezTo>
                <a:cubicBezTo>
                  <a:pt x="2266" y="25"/>
                  <a:pt x="2359" y="12"/>
                  <a:pt x="2448" y="0"/>
                </a:cubicBezTo>
                <a:cubicBezTo>
                  <a:pt x="2553" y="5"/>
                  <a:pt x="2628" y="13"/>
                  <a:pt x="2726" y="28"/>
                </a:cubicBezTo>
                <a:cubicBezTo>
                  <a:pt x="2806" y="25"/>
                  <a:pt x="2886" y="26"/>
                  <a:pt x="2966" y="19"/>
                </a:cubicBezTo>
                <a:cubicBezTo>
                  <a:pt x="2992" y="17"/>
                  <a:pt x="3017" y="0"/>
                  <a:pt x="3043" y="0"/>
                </a:cubicBezTo>
                <a:cubicBezTo>
                  <a:pt x="3049" y="0"/>
                  <a:pt x="3056" y="0"/>
                  <a:pt x="3062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352680" y="1905120"/>
            <a:ext cx="3124440" cy="581400"/>
          </a:xfrm>
          <a:prstGeom prst="rect">
            <a:avLst/>
          </a:prstGeom>
          <a:solidFill>
            <a:srgbClr val="ff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三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84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200400"/>
            <a:ext cx="6629400" cy="1752480"/>
          </a:xfrm>
          <a:prstGeom prst="flowChartMerge">
            <a:avLst/>
          </a:prstGeom>
          <a:solidFill>
            <a:srgbClr val="ffcc00"/>
          </a:solidFill>
          <a:ln w="54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找到自己的特效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51040" y="291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9080" y="152388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的身高是有什么决定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的老化标准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_8220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724280" cy="3317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24920" y="6019920"/>
            <a:ext cx="20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吴士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98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的第一次面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00123" descr=""/>
          <p:cNvPicPr/>
          <p:nvPr/>
        </p:nvPicPr>
        <p:blipFill>
          <a:blip r:embed="rId1"/>
          <a:stretch/>
        </p:blipFill>
        <p:spPr>
          <a:xfrm>
            <a:off x="2057400" y="48769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174" name="Icon5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81480" y="2590920"/>
            <a:ext cx="3838320" cy="581400"/>
          </a:xfrm>
          <a:prstGeom prst="rect">
            <a:avLst/>
          </a:prstGeom>
          <a:solidFill>
            <a:srgbClr val="ffcc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人才甄选素质模型的建立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1000" y="3467160"/>
            <a:ext cx="63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Black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=a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X1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+b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X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+cX3+d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X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+eX5+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00078" descr=""/>
          <p:cNvPicPr/>
          <p:nvPr/>
        </p:nvPicPr>
        <p:blipFill>
          <a:blip r:embed="rId3"/>
          <a:stretch/>
        </p:blipFill>
        <p:spPr>
          <a:xfrm>
            <a:off x="3581280" y="19051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78" name="00078" descr=""/>
          <p:cNvPicPr/>
          <p:nvPr/>
        </p:nvPicPr>
        <p:blipFill>
          <a:blip r:embed="rId4"/>
          <a:stretch/>
        </p:blipFill>
        <p:spPr>
          <a:xfrm>
            <a:off x="4572000" y="49528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Icon3" descr=""/>
          <p:cNvPicPr/>
          <p:nvPr/>
        </p:nvPicPr>
        <p:blipFill>
          <a:blip r:embed="rId5"/>
          <a:stretch/>
        </p:blipFill>
        <p:spPr>
          <a:xfrm>
            <a:off x="6629400" y="4876920"/>
            <a:ext cx="1600200" cy="121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43400" y="4038480"/>
            <a:ext cx="333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Black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被测试人员的预期业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24080" y="2743200"/>
            <a:ext cx="3810240" cy="1905120"/>
          </a:xfrm>
          <a:custGeom>
            <a:avLst/>
            <a:gdLst>
              <a:gd name="textAreaLeft" fmla="*/ 837720 w 3810240"/>
              <a:gd name="textAreaRight" fmla="*/ 2972520 w 3810240"/>
              <a:gd name="textAreaTop" fmla="*/ 418680 h 1905120"/>
              <a:gd name="textAreaBottom" fmla="*/ 1486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4876920"/>
            <a:ext cx="1524240" cy="380880"/>
          </a:xfrm>
          <a:prstGeom prst="rect">
            <a:avLst/>
          </a:prstGeom>
          <a:solidFill>
            <a:srgbClr val="6666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334120"/>
            <a:ext cx="914400" cy="304560"/>
          </a:xfrm>
          <a:prstGeom prst="rect">
            <a:avLst/>
          </a:prstGeom>
          <a:solidFill>
            <a:srgbClr val="3333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209680"/>
            <a:ext cx="457200" cy="3812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2860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133720"/>
            <a:ext cx="45720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209680"/>
            <a:ext cx="457200" cy="381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1752480"/>
            <a:ext cx="457200" cy="381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9907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1905120"/>
            <a:ext cx="45720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1523880"/>
            <a:ext cx="457200" cy="3812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1600200"/>
            <a:ext cx="4572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1828800"/>
            <a:ext cx="30456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1676520"/>
            <a:ext cx="45720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2819520"/>
            <a:ext cx="457200" cy="380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1143000"/>
            <a:ext cx="457200" cy="3808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2096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1447920"/>
            <a:ext cx="304920" cy="304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3716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14479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82880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2286000"/>
            <a:ext cx="304560" cy="30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1295280"/>
            <a:ext cx="304560" cy="3049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617220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324480"/>
            <a:ext cx="304920" cy="2286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58672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5943600"/>
            <a:ext cx="304920" cy="3049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29718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销售人员统计数据筛选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98040" y="4724280"/>
            <a:ext cx="164376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优秀销售素质筛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4320" y="5334120"/>
            <a:ext cx="1826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行业和企业特征筛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1800" y="5943600"/>
            <a:ext cx="1460880" cy="459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得到的优良种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00800" y="1752480"/>
            <a:ext cx="1460880" cy="8254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现有销售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各种测试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724280"/>
            <a:ext cx="198144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8960" y="4267080"/>
            <a:ext cx="1278000" cy="825480"/>
          </a:xfrm>
          <a:prstGeom prst="rect">
            <a:avLst/>
          </a:prstGeom>
          <a:solidFill>
            <a:srgbClr val="ffcc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实际销售业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分离筛选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9876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4724280"/>
            <a:ext cx="13716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867280" y="502920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943600" y="617220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638680" y="556272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00800" y="213372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kk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762120" cy="733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95480" y="3733920"/>
            <a:ext cx="30492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962520"/>
            <a:ext cx="30492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3276720"/>
            <a:ext cx="30492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2895480"/>
            <a:ext cx="30492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15520" y="284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婚姻状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504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体重身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27320" y="37339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党 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1320" y="3063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民  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98200" y="38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校专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5715000"/>
            <a:ext cx="1523880" cy="990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617220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5443560"/>
            <a:ext cx="2286000" cy="520560"/>
          </a:xfrm>
          <a:prstGeom prst="rect">
            <a:avLst/>
          </a:prstGeom>
          <a:solidFill>
            <a:srgbClr val="00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我们就要找这样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429000"/>
            <a:ext cx="30456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4040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校成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627000" y="1752480"/>
            <a:ext cx="319824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凭什么要做这个工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52578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2971800"/>
            <a:ext cx="0" cy="32004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457200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819520"/>
            <a:ext cx="739800" cy="398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优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67480" y="5867280"/>
            <a:ext cx="739800" cy="398880"/>
          </a:xfrm>
          <a:prstGeom prst="rect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威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5867280"/>
            <a:ext cx="739800" cy="398880"/>
          </a:xfrm>
          <a:prstGeom prst="rect">
            <a:avLst/>
          </a:prstGeom>
          <a:solidFill>
            <a:srgbClr val="99cc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劣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2819520"/>
            <a:ext cx="739800" cy="398880"/>
          </a:xfrm>
          <a:prstGeom prst="rect">
            <a:avLst/>
          </a:prstGeom>
          <a:solidFill>
            <a:srgbClr val="00ff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机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27400" y="3352680"/>
            <a:ext cx="140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自己的原始资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提升业绩的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招聘选拔的经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9080" y="335268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实现工作效果的突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掌握人力统计的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为行业的招聘专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2200" y="480060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销售职能不太专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数据统计没有经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其他部门人员不配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560" y="4876920"/>
            <a:ext cx="170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要新增加预算和费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模型不精确很难堪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可能会得罪以前的主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BD00028_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6332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00ui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52" name="gif009" descr=""/>
          <p:cNvPicPr/>
          <p:nvPr/>
        </p:nvPicPr>
        <p:blipFill>
          <a:blip r:embed="rId2"/>
          <a:stretch/>
        </p:blipFill>
        <p:spPr>
          <a:xfrm>
            <a:off x="7162920" y="5097600"/>
            <a:ext cx="1420560" cy="126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617560" y="19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81480" y="3124080"/>
            <a:ext cx="3838320" cy="581400"/>
          </a:xfrm>
          <a:prstGeom prst="rect">
            <a:avLst/>
          </a:prstGeom>
          <a:solidFill>
            <a:srgbClr val="00ffff"/>
          </a:solidFill>
          <a:ln w="540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需要抽取多少样本才有代表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6640" y="31021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人员的招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要达到什么样的目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734280" y="2467080"/>
            <a:ext cx="40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坐的各位</a:t>
            </a: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平均身高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以代表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华文中宋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安全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 Black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标准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 Black"/>
                <a:ea typeface="华文中宋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理想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032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2833560" cy="2232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2880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样的数量和样本的差异度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523880" y="1828800"/>
          <a:ext cx="75186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75186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967120" y="144792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企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位在岗优秀销售人员测试部分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00ui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62" name="gif009" descr=""/>
          <p:cNvPicPr/>
          <p:nvPr/>
        </p:nvPicPr>
        <p:blipFill>
          <a:blip r:embed="rId2"/>
          <a:stretch/>
        </p:blipFill>
        <p:spPr>
          <a:xfrm>
            <a:off x="7162920" y="5097600"/>
            <a:ext cx="1420560" cy="1261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617560" y="19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62840" y="2971800"/>
            <a:ext cx="4082040" cy="581400"/>
          </a:xfrm>
          <a:prstGeom prst="rect">
            <a:avLst/>
          </a:prstGeom>
          <a:solidFill>
            <a:srgbClr val="00ffff"/>
          </a:solidFill>
          <a:ln w="540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确认你的优秀标准有统计意义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14360" y="1793880"/>
            <a:ext cx="2375280" cy="459720"/>
          </a:xfrm>
          <a:prstGeom prst="rect">
            <a:avLst/>
          </a:prstGeom>
          <a:solidFill>
            <a:srgbClr val="ff99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关于优秀销售标准的真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3600" y="2611440"/>
            <a:ext cx="334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领导喜欢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不等于是优秀的销售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业绩量高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不等于是优秀的销售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客户喜欢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不等于是优秀的销售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业绩成长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快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等于是优秀的销售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89720" y="5562720"/>
            <a:ext cx="485640" cy="459720"/>
          </a:xfrm>
          <a:prstGeom prst="rect">
            <a:avLst/>
          </a:prstGeom>
          <a:solidFill>
            <a:srgbClr val="ff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优秀销售人员的访谈感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00ui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269" name="gif009" descr=""/>
          <p:cNvPicPr/>
          <p:nvPr/>
        </p:nvPicPr>
        <p:blipFill>
          <a:blip r:embed="rId2"/>
          <a:stretch/>
        </p:blipFill>
        <p:spPr>
          <a:xfrm>
            <a:off x="7162920" y="5097600"/>
            <a:ext cx="1420560" cy="1261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617560" y="1995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47720" y="3048120"/>
            <a:ext cx="3350520" cy="581400"/>
          </a:xfrm>
          <a:prstGeom prst="rect">
            <a:avLst/>
          </a:prstGeom>
          <a:solidFill>
            <a:srgbClr val="00ffff"/>
          </a:solidFill>
          <a:ln w="540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怎样分析判定电话测试结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499560" y="1905120"/>
            <a:ext cx="43704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间统一控制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-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速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---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音量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----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节奏起伏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连续平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措辞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组织清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结构不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我推销能力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积极肯定—消极被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438280" y="1600200"/>
            <a:ext cx="3505320" cy="581400"/>
          </a:xfrm>
          <a:prstGeom prst="rect">
            <a:avLst/>
          </a:prstGeom>
          <a:solidFill>
            <a:srgbClr val="ffcc00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格特质测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87080" y="2413080"/>
            <a:ext cx="1857240" cy="39888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格特质平均分的分布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20280" y="3048120"/>
            <a:ext cx="399384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外向                      平均线                          内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3581280"/>
            <a:ext cx="0" cy="2743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429000"/>
            <a:ext cx="1425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活动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社会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冒险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冲动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露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缺乏理智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缺乏责任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99880" y="3276720"/>
            <a:ext cx="729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非活动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非社会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谨慎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控制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掩饰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理智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责任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1480" y="3276720"/>
            <a:ext cx="467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429000"/>
            <a:ext cx="51120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41760" y="32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58128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396252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441972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480060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65440" y="49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525780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27280" y="56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563868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41760" y="58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6019920"/>
            <a:ext cx="3276720" cy="0"/>
          </a:xfrm>
          <a:prstGeom prst="line">
            <a:avLst/>
          </a:prstGeom>
          <a:ln w="349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388620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350532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4267080"/>
            <a:ext cx="759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72428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5867280"/>
            <a:ext cx="759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510552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556272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3124080"/>
            <a:ext cx="763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5715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PMingLiU"/>
              </a:rPr>
              <a:t>第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PMingLiU"/>
              </a:rPr>
              <a:t>一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PMingLiU"/>
              </a:rPr>
              <a:t>步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zh-CN" sz="2400" spc="-1" strike="noStrike">
                <a:solidFill>
                  <a:srgbClr val="3333cc"/>
                </a:solidFill>
                <a:latin typeface="PMingLiU"/>
              </a:rPr>
              <a:t>先看散布图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catter Plot) -</a:t>
            </a:r>
            <a:r>
              <a:rPr b="1" i="1" lang="zh-CN" sz="2400" spc="-1" strike="noStrike">
                <a:solidFill>
                  <a:srgbClr val="3333cc"/>
                </a:solidFill>
                <a:latin typeface="PMingLiU"/>
              </a:rPr>
              <a:t>了解相关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0" y="4876920"/>
            <a:ext cx="1284120" cy="1296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17560" y="2070000"/>
            <a:ext cx="4973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5719" t="10905" r="12304" b="8745"/>
          <a:stretch/>
        </p:blipFill>
        <p:spPr>
          <a:xfrm>
            <a:off x="228600" y="2438280"/>
            <a:ext cx="2031840" cy="12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2209680" y="914400"/>
            <a:ext cx="2210040" cy="1252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rcRect l="2530" t="17137" r="11743" b="147"/>
          <a:stretch/>
        </p:blipFill>
        <p:spPr>
          <a:xfrm>
            <a:off x="4800600" y="1676520"/>
            <a:ext cx="1878120" cy="987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rcRect l="1447" t="15608" r="13623" b="147"/>
          <a:stretch/>
        </p:blipFill>
        <p:spPr>
          <a:xfrm>
            <a:off x="6845400" y="1663560"/>
            <a:ext cx="1785960" cy="100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rcRect l="0" t="0" r="10158" b="147"/>
          <a:stretch/>
        </p:blipFill>
        <p:spPr>
          <a:xfrm>
            <a:off x="4795920" y="3298680"/>
            <a:ext cx="1993680" cy="1192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rcRect l="5857" t="0" r="17315" b="147"/>
          <a:stretch/>
        </p:blipFill>
        <p:spPr>
          <a:xfrm>
            <a:off x="6931080" y="3298680"/>
            <a:ext cx="1612800" cy="1192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67560" y="5013360"/>
            <a:ext cx="1774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66120" y="5003640"/>
            <a:ext cx="1778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7040" y="4363920"/>
            <a:ext cx="17784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37480" y="4597560"/>
            <a:ext cx="1760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89280" y="4430880"/>
            <a:ext cx="17604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79640" y="4830840"/>
            <a:ext cx="1760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28600" y="4114800"/>
            <a:ext cx="3206880" cy="1616040"/>
            <a:chOff x="228600" y="4114800"/>
            <a:chExt cx="3206880" cy="1616040"/>
          </a:xfrm>
        </p:grpSpPr>
        <p:sp>
          <p:nvSpPr>
            <p:cNvPr id="316" name=""/>
            <p:cNvSpPr/>
            <p:nvPr/>
          </p:nvSpPr>
          <p:spPr>
            <a:xfrm>
              <a:off x="228600" y="4114800"/>
              <a:ext cx="3206880" cy="1616040"/>
            </a:xfrm>
            <a:custGeom>
              <a:avLst/>
              <a:gdLst/>
              <a:ahLst/>
              <a:rect l="l" t="t" r="r" b="b"/>
              <a:pathLst>
                <a:path w="2020" h="1018">
                  <a:moveTo>
                    <a:pt x="2020" y="1018"/>
                  </a:moveTo>
                  <a:lnTo>
                    <a:pt x="0" y="0"/>
                  </a:lnTo>
                  <a:lnTo>
                    <a:pt x="0" y="1018"/>
                  </a:lnTo>
                  <a:lnTo>
                    <a:pt x="2020" y="1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4114800"/>
              <a:ext cx="3206880" cy="1616040"/>
            </a:xfrm>
            <a:custGeom>
              <a:avLst/>
              <a:gdLst/>
              <a:ahLst/>
              <a:rect l="l" t="t" r="r" b="b"/>
              <a:pathLst>
                <a:path w="2020" h="1018">
                  <a:moveTo>
                    <a:pt x="0" y="0"/>
                  </a:moveTo>
                  <a:lnTo>
                    <a:pt x="2020" y="0"/>
                  </a:lnTo>
                  <a:lnTo>
                    <a:pt x="2020" y="10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4114800"/>
              <a:ext cx="3206880" cy="1616040"/>
            </a:xfrm>
            <a:custGeom>
              <a:avLst/>
              <a:gdLst/>
              <a:ahLst/>
              <a:rect l="l" t="t" r="r" b="b"/>
              <a:pathLst>
                <a:path w="2020" h="1018">
                  <a:moveTo>
                    <a:pt x="2020" y="1018"/>
                  </a:moveTo>
                  <a:lnTo>
                    <a:pt x="0" y="0"/>
                  </a:lnTo>
                  <a:lnTo>
                    <a:pt x="0" y="1018"/>
                  </a:lnTo>
                  <a:lnTo>
                    <a:pt x="2020" y="1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4114800"/>
              <a:ext cx="3206880" cy="1616040"/>
            </a:xfrm>
            <a:custGeom>
              <a:avLst/>
              <a:gdLst/>
              <a:ahLst/>
              <a:rect l="l" t="t" r="r" b="b"/>
              <a:pathLst>
                <a:path w="2020" h="1018">
                  <a:moveTo>
                    <a:pt x="0" y="0"/>
                  </a:moveTo>
                  <a:lnTo>
                    <a:pt x="2020" y="0"/>
                  </a:lnTo>
                  <a:lnTo>
                    <a:pt x="2020" y="10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360" y="4437000"/>
              <a:ext cx="1841400" cy="971640"/>
            </a:xfrm>
            <a:custGeom>
              <a:avLst/>
              <a:gdLst/>
              <a:ahLst/>
              <a:rect l="l" t="t" r="r" b="b"/>
              <a:pathLst>
                <a:path w="1160" h="612">
                  <a:moveTo>
                    <a:pt x="0" y="612"/>
                  </a:moveTo>
                  <a:lnTo>
                    <a:pt x="1160" y="612"/>
                  </a:lnTo>
                  <a:lnTo>
                    <a:pt x="1160" y="0"/>
                  </a:lnTo>
                  <a:lnTo>
                    <a:pt x="0" y="0"/>
                  </a:lnTo>
                  <a:lnTo>
                    <a:pt x="0" y="612"/>
                  </a:lnTo>
                  <a:lnTo>
                    <a:pt x="0" y="61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5996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8372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0928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8932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0120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2532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148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2336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4748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364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4588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6964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5580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6804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9324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940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9020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1540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0192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380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756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2408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3596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6008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4624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5848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8224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6840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064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0584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00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3160" y="546876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5400" y="5468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03520" y="5408640"/>
              <a:ext cx="144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2568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4784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7000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748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0964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32160" y="5408640"/>
              <a:ext cx="144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54320" y="5408640"/>
              <a:ext cx="144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7792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0008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2240" y="540864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200" y="44654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6400" y="44654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0160" y="44654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200" y="4649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6400" y="4649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0160" y="4649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200" y="483408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6400" y="483408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0160" y="483408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200" y="50133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6400" y="50133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0160" y="50133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4520" y="519732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6400" y="51973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0160" y="51973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7120" y="538164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8280" y="5381640"/>
              <a:ext cx="11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160" y="53816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23960" y="4478400"/>
              <a:ext cx="68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23960" y="4662360"/>
              <a:ext cx="68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23960" y="4842000"/>
              <a:ext cx="68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23960" y="5025960"/>
              <a:ext cx="68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23960" y="5210280"/>
              <a:ext cx="68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23960" y="5389560"/>
              <a:ext cx="68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2240" y="5408640"/>
              <a:ext cx="17812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92360" y="4455720"/>
              <a:ext cx="1440" cy="93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46480" y="469908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0000" y="4694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40000" y="469404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33520" y="469404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33520" y="469908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27400" y="469908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65440" y="4938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8960" y="493380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58960" y="493380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52480" y="493380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52480" y="493884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46360" y="4938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4760" y="4694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38280" y="469116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38280" y="469116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8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2160" y="469116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32160" y="469404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680" y="46940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32040" y="497520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5560" y="497196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25560" y="497196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8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19440" y="4971960"/>
              <a:ext cx="612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19440" y="497520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4400" y="497520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35120" y="46353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30440" y="463068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30440" y="463068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9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24320" y="4630680"/>
              <a:ext cx="612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24320" y="463536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17840" y="46353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2160" y="46483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680" y="46450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25680" y="464508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8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560" y="464508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560" y="464832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13080" y="46483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6920" y="50306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30440" y="502596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30440" y="502596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23960" y="502596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23960" y="50306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17840" y="50306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4400" y="526104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07920" y="525600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07920" y="525600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01800" y="5256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01800" y="526104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95320" y="526104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92240" y="51973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3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85760" y="51926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5760" y="51926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8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79640" y="5192640"/>
              <a:ext cx="612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9640" y="519732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3160" y="5197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44760" y="50911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38280" y="508644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38280" y="508644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32160" y="508644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32160" y="509112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5680" y="50911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1920" y="44686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25800" y="446400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5800" y="4464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19320" y="446400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19320" y="446868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12840" y="44686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58840" y="52052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52720" y="520236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52720" y="520236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8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6240" y="520236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6240" y="52052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39760" y="52052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62160" y="44686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56040" y="446400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56040" y="4464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51000" y="4464000"/>
              <a:ext cx="504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12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51000" y="4468680"/>
              <a:ext cx="504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44880" y="44686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57360" y="50356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50880" y="50306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50880" y="5030640"/>
              <a:ext cx="648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9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44760" y="503064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12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44760" y="50356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38280" y="503568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2280" y="472752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87600" y="4722840"/>
              <a:ext cx="4680" cy="14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87600" y="472284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9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81480" y="472284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11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81480" y="4727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75000" y="472752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01800" y="527040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0"/>
                  </a:moveTo>
                  <a:lnTo>
                    <a:pt x="0" y="15"/>
                  </a:lnTo>
                  <a:lnTo>
                    <a:pt x="4" y="2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1800" y="5265720"/>
              <a:ext cx="73080" cy="284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18"/>
                  </a:moveTo>
                  <a:lnTo>
                    <a:pt x="42" y="0"/>
                  </a:lnTo>
                  <a:lnTo>
                    <a:pt x="46" y="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68400" y="524340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0"/>
                  </a:moveTo>
                  <a:lnTo>
                    <a:pt x="0" y="14"/>
                  </a:lnTo>
                  <a:lnTo>
                    <a:pt x="4" y="1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68400" y="523872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7"/>
                  </a:moveTo>
                  <a:lnTo>
                    <a:pt x="39" y="0"/>
                  </a:lnTo>
                  <a:lnTo>
                    <a:pt x="43" y="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30320" y="5214960"/>
              <a:ext cx="73080" cy="284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0"/>
                  </a:moveTo>
                  <a:lnTo>
                    <a:pt x="0" y="15"/>
                  </a:lnTo>
                  <a:lnTo>
                    <a:pt x="4" y="1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30320" y="5205240"/>
              <a:ext cx="73080" cy="334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lnTo>
                    <a:pt x="42" y="0"/>
                  </a:lnTo>
                  <a:lnTo>
                    <a:pt x="46" y="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96920" y="518796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7" y="0"/>
                  </a:moveTo>
                  <a:lnTo>
                    <a:pt x="0" y="11"/>
                  </a:lnTo>
                  <a:lnTo>
                    <a:pt x="4" y="1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96920" y="517824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7" y="6"/>
                  </a:moveTo>
                  <a:lnTo>
                    <a:pt x="43" y="0"/>
                  </a:lnTo>
                  <a:lnTo>
                    <a:pt x="0" y="17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65320" y="51595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lnTo>
                    <a:pt x="0" y="12"/>
                  </a:lnTo>
                  <a:lnTo>
                    <a:pt x="4" y="1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65320" y="515124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5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25440" y="513252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7" y="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25440" y="5122800"/>
              <a:ext cx="74880" cy="2844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7" y="6"/>
                  </a:moveTo>
                  <a:lnTo>
                    <a:pt x="43" y="0"/>
                  </a:lnTo>
                  <a:lnTo>
                    <a:pt x="0" y="18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93840" y="5100480"/>
              <a:ext cx="73080" cy="320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0"/>
                  </a:moveTo>
                  <a:lnTo>
                    <a:pt x="0" y="14"/>
                  </a:lnTo>
                  <a:lnTo>
                    <a:pt x="4" y="2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93840" y="50958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3"/>
                  </a:moveTo>
                  <a:lnTo>
                    <a:pt x="42" y="0"/>
                  </a:lnTo>
                  <a:lnTo>
                    <a:pt x="0" y="17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60440" y="5072040"/>
              <a:ext cx="68400" cy="284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0"/>
                  </a:moveTo>
                  <a:lnTo>
                    <a:pt x="0" y="15"/>
                  </a:lnTo>
                  <a:lnTo>
                    <a:pt x="4" y="1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60440" y="5064120"/>
              <a:ext cx="68400" cy="316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5"/>
                  </a:moveTo>
                  <a:lnTo>
                    <a:pt x="39" y="0"/>
                  </a:lnTo>
                  <a:lnTo>
                    <a:pt x="0" y="20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22360" y="504504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2360" y="5035680"/>
              <a:ext cx="73080" cy="284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6"/>
                  </a:moveTo>
                  <a:lnTo>
                    <a:pt x="42" y="0"/>
                  </a:lnTo>
                  <a:lnTo>
                    <a:pt x="0" y="18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8960" y="501804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0"/>
                  </a:moveTo>
                  <a:lnTo>
                    <a:pt x="0" y="11"/>
                  </a:lnTo>
                  <a:lnTo>
                    <a:pt x="4" y="1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500868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6"/>
                  </a:moveTo>
                  <a:lnTo>
                    <a:pt x="39" y="0"/>
                  </a:lnTo>
                  <a:lnTo>
                    <a:pt x="0" y="17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50880" y="4989600"/>
              <a:ext cx="73080" cy="284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0"/>
                  </a:moveTo>
                  <a:lnTo>
                    <a:pt x="0" y="12"/>
                  </a:lnTo>
                  <a:lnTo>
                    <a:pt x="4" y="1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50880" y="4979880"/>
              <a:ext cx="73080" cy="2880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6"/>
                  </a:moveTo>
                  <a:lnTo>
                    <a:pt x="42" y="0"/>
                  </a:lnTo>
                  <a:lnTo>
                    <a:pt x="0" y="18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17840" y="4957560"/>
              <a:ext cx="72720" cy="320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0"/>
                  </a:moveTo>
                  <a:lnTo>
                    <a:pt x="0" y="14"/>
                  </a:lnTo>
                  <a:lnTo>
                    <a:pt x="4" y="2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17840" y="4952880"/>
              <a:ext cx="7272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3"/>
                  </a:moveTo>
                  <a:lnTo>
                    <a:pt x="43" y="0"/>
                  </a:lnTo>
                  <a:lnTo>
                    <a:pt x="0" y="17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85880" y="49291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lnTo>
                    <a:pt x="0" y="15"/>
                  </a:lnTo>
                  <a:lnTo>
                    <a:pt x="3" y="1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85880" y="492588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2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46360" y="49021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0"/>
                  </a:moveTo>
                  <a:lnTo>
                    <a:pt x="0" y="15"/>
                  </a:lnTo>
                  <a:lnTo>
                    <a:pt x="4" y="1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46360" y="489276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6"/>
                  </a:moveTo>
                  <a:lnTo>
                    <a:pt x="43" y="0"/>
                  </a:lnTo>
                  <a:lnTo>
                    <a:pt x="0" y="21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14400" y="487512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0"/>
                  </a:moveTo>
                  <a:lnTo>
                    <a:pt x="0" y="11"/>
                  </a:lnTo>
                  <a:lnTo>
                    <a:pt x="3" y="1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14400" y="486576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6"/>
                  </a:moveTo>
                  <a:lnTo>
                    <a:pt x="42" y="0"/>
                  </a:lnTo>
                  <a:lnTo>
                    <a:pt x="0" y="17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81360" y="4865760"/>
              <a:ext cx="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1360" y="48657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81360" y="484668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0"/>
                  </a:moveTo>
                  <a:lnTo>
                    <a:pt x="0" y="12"/>
                  </a:lnTo>
                  <a:lnTo>
                    <a:pt x="4" y="1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81360" y="4836960"/>
              <a:ext cx="66600" cy="288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2" y="6"/>
                  </a:moveTo>
                  <a:lnTo>
                    <a:pt x="38" y="0"/>
                  </a:lnTo>
                  <a:lnTo>
                    <a:pt x="0" y="18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41480" y="4819680"/>
              <a:ext cx="7452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7" y="0"/>
                  </a:moveTo>
                  <a:lnTo>
                    <a:pt x="0" y="11"/>
                  </a:lnTo>
                  <a:lnTo>
                    <a:pt x="4" y="1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930320" y="4794120"/>
            <a:ext cx="745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47" y="6"/>
                </a:moveTo>
                <a:lnTo>
                  <a:pt x="43" y="0"/>
                </a:lnTo>
                <a:lnTo>
                  <a:pt x="0" y="17"/>
                </a:lnTo>
                <a:lnTo>
                  <a:pt x="4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98720" y="4770360"/>
            <a:ext cx="66600" cy="33480"/>
          </a:xfrm>
          <a:custGeom>
            <a:avLst/>
            <a:gdLst/>
            <a:ahLst/>
            <a:rect l="l" t="t" r="r" b="b"/>
            <a:pathLst>
              <a:path w="42" h="21">
                <a:moveTo>
                  <a:pt x="42" y="0"/>
                </a:moveTo>
                <a:lnTo>
                  <a:pt x="0" y="15"/>
                </a:lnTo>
                <a:lnTo>
                  <a:pt x="4" y="21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98720" y="4767120"/>
            <a:ext cx="66600" cy="27000"/>
          </a:xfrm>
          <a:custGeom>
            <a:avLst/>
            <a:gdLst/>
            <a:ahLst/>
            <a:rect l="l" t="t" r="r" b="b"/>
            <a:pathLst>
              <a:path w="42" h="17">
                <a:moveTo>
                  <a:pt x="42" y="2"/>
                </a:moveTo>
                <a:lnTo>
                  <a:pt x="38" y="0"/>
                </a:lnTo>
                <a:lnTo>
                  <a:pt x="0" y="17"/>
                </a:lnTo>
                <a:lnTo>
                  <a:pt x="4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8840" y="4743360"/>
            <a:ext cx="7488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47" y="0"/>
                </a:moveTo>
                <a:lnTo>
                  <a:pt x="0" y="15"/>
                </a:lnTo>
                <a:lnTo>
                  <a:pt x="4" y="17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8840" y="4734000"/>
            <a:ext cx="74880" cy="33120"/>
          </a:xfrm>
          <a:custGeom>
            <a:avLst/>
            <a:gdLst/>
            <a:ahLst/>
            <a:rect l="l" t="t" r="r" b="b"/>
            <a:pathLst>
              <a:path w="47" h="21">
                <a:moveTo>
                  <a:pt x="47" y="6"/>
                </a:moveTo>
                <a:lnTo>
                  <a:pt x="43" y="0"/>
                </a:lnTo>
                <a:lnTo>
                  <a:pt x="0" y="21"/>
                </a:lnTo>
                <a:lnTo>
                  <a:pt x="4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27240" y="471636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0"/>
                </a:moveTo>
                <a:lnTo>
                  <a:pt x="0" y="11"/>
                </a:lnTo>
                <a:lnTo>
                  <a:pt x="4" y="17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27240" y="470700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6"/>
                </a:moveTo>
                <a:lnTo>
                  <a:pt x="42" y="0"/>
                </a:lnTo>
                <a:lnTo>
                  <a:pt x="0" y="17"/>
                </a:lnTo>
                <a:lnTo>
                  <a:pt x="4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93840" y="4687920"/>
            <a:ext cx="68400" cy="28440"/>
          </a:xfrm>
          <a:custGeom>
            <a:avLst/>
            <a:gdLst/>
            <a:ahLst/>
            <a:rect l="l" t="t" r="r" b="b"/>
            <a:pathLst>
              <a:path w="43" h="18">
                <a:moveTo>
                  <a:pt x="43" y="0"/>
                </a:moveTo>
                <a:lnTo>
                  <a:pt x="0" y="12"/>
                </a:lnTo>
                <a:lnTo>
                  <a:pt x="4" y="18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93840" y="4678200"/>
            <a:ext cx="68400" cy="28800"/>
          </a:xfrm>
          <a:custGeom>
            <a:avLst/>
            <a:gdLst/>
            <a:ahLst/>
            <a:rect l="l" t="t" r="r" b="b"/>
            <a:pathLst>
              <a:path w="43" h="18">
                <a:moveTo>
                  <a:pt x="43" y="6"/>
                </a:moveTo>
                <a:lnTo>
                  <a:pt x="39" y="0"/>
                </a:lnTo>
                <a:lnTo>
                  <a:pt x="0" y="18"/>
                </a:lnTo>
                <a:lnTo>
                  <a:pt x="4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55760" y="466092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0"/>
                </a:moveTo>
                <a:lnTo>
                  <a:pt x="0" y="11"/>
                </a:lnTo>
                <a:lnTo>
                  <a:pt x="4" y="17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55760" y="465120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6"/>
                </a:moveTo>
                <a:lnTo>
                  <a:pt x="42" y="0"/>
                </a:lnTo>
                <a:lnTo>
                  <a:pt x="0" y="17"/>
                </a:lnTo>
                <a:lnTo>
                  <a:pt x="4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22360" y="465120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3"/>
                </a:moveTo>
                <a:lnTo>
                  <a:pt x="0" y="0"/>
                </a:lnTo>
                <a:lnTo>
                  <a:pt x="0" y="0"/>
                </a:lnTo>
                <a:lnTo>
                  <a:pt x="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22360" y="465120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22360" y="4632480"/>
            <a:ext cx="73080" cy="28440"/>
          </a:xfrm>
          <a:custGeom>
            <a:avLst/>
            <a:gdLst/>
            <a:ahLst/>
            <a:rect l="l" t="t" r="r" b="b"/>
            <a:pathLst>
              <a:path w="46" h="18">
                <a:moveTo>
                  <a:pt x="46" y="0"/>
                </a:moveTo>
                <a:lnTo>
                  <a:pt x="0" y="12"/>
                </a:lnTo>
                <a:lnTo>
                  <a:pt x="4" y="18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22360" y="4624560"/>
            <a:ext cx="73080" cy="2664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5"/>
                </a:moveTo>
                <a:lnTo>
                  <a:pt x="43" y="0"/>
                </a:lnTo>
                <a:lnTo>
                  <a:pt x="0" y="17"/>
                </a:lnTo>
                <a:lnTo>
                  <a:pt x="4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90760" y="4600440"/>
            <a:ext cx="66600" cy="32040"/>
          </a:xfrm>
          <a:custGeom>
            <a:avLst/>
            <a:gdLst/>
            <a:ahLst/>
            <a:rect l="l" t="t" r="r" b="b"/>
            <a:pathLst>
              <a:path w="42" h="20">
                <a:moveTo>
                  <a:pt x="42" y="0"/>
                </a:moveTo>
                <a:lnTo>
                  <a:pt x="0" y="15"/>
                </a:lnTo>
                <a:lnTo>
                  <a:pt x="3" y="2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90760" y="4595760"/>
            <a:ext cx="66600" cy="28800"/>
          </a:xfrm>
          <a:custGeom>
            <a:avLst/>
            <a:gdLst/>
            <a:ahLst/>
            <a:rect l="l" t="t" r="r" b="b"/>
            <a:pathLst>
              <a:path w="42" h="18">
                <a:moveTo>
                  <a:pt x="42" y="3"/>
                </a:moveTo>
                <a:lnTo>
                  <a:pt x="38" y="0"/>
                </a:lnTo>
                <a:lnTo>
                  <a:pt x="0" y="18"/>
                </a:lnTo>
                <a:lnTo>
                  <a:pt x="4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51240" y="4573440"/>
            <a:ext cx="7272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46" y="0"/>
                </a:moveTo>
                <a:lnTo>
                  <a:pt x="0" y="14"/>
                </a:lnTo>
                <a:lnTo>
                  <a:pt x="4" y="17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51240" y="4564080"/>
            <a:ext cx="72720" cy="31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46" y="6"/>
                </a:moveTo>
                <a:lnTo>
                  <a:pt x="43" y="0"/>
                </a:lnTo>
                <a:lnTo>
                  <a:pt x="0" y="20"/>
                </a:lnTo>
                <a:lnTo>
                  <a:pt x="4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452600"/>
            <a:ext cx="3897360" cy="32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286000" y="4495320"/>
            <a:ext cx="53352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8"/>
          <a:srcRect l="9981" t="12316" r="14322" b="8422"/>
          <a:stretch/>
        </p:blipFill>
        <p:spPr>
          <a:xfrm>
            <a:off x="2362320" y="2438280"/>
            <a:ext cx="1981080" cy="1187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9"/>
          <a:srcRect l="7993" t="7907" r="14322" b="2719"/>
          <a:stretch/>
        </p:blipFill>
        <p:spPr>
          <a:xfrm>
            <a:off x="304920" y="1066680"/>
            <a:ext cx="1904760" cy="1116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6684840" y="20098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84840" y="39225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2666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PMingLiU"/>
              </a:rPr>
              <a:t>尺寸单位不一样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3333cc"/>
                </a:solidFill>
                <a:latin typeface="PMingLiU"/>
              </a:rPr>
              <a:t>图形就不一样</a:t>
            </a:r>
            <a:br>
              <a:rPr sz="1800"/>
            </a:b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3333cc"/>
                </a:solidFill>
                <a:latin typeface="PMingLiU"/>
              </a:rPr>
              <a:t>做专案时不要运用此技巧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57400" y="434340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8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多项式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ynomial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920" y="1981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直线型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r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4267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PMingLiU"/>
              </a:rPr>
              <a:t>可能的异常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44956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</a:rPr>
              <a:t>例外点应拿掉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</a:rPr>
              <a:t>目的是要找出正常状况下的相关性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358128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PMingLiU"/>
              </a:rPr>
              <a:t>雾里看花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PMingLiU"/>
              </a:rPr>
              <a:t>别做线性回归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35812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分层型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atifi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 Population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124080" y="2133720"/>
            <a:ext cx="4724640" cy="358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124080" y="1904760"/>
            <a:ext cx="0" cy="3809880"/>
          </a:xfrm>
          <a:prstGeom prst="line">
            <a:avLst/>
          </a:prstGeom>
          <a:ln w="5400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5715000"/>
            <a:ext cx="4876920" cy="0"/>
          </a:xfrm>
          <a:prstGeom prst="line">
            <a:avLst/>
          </a:prstGeom>
          <a:ln w="5400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3640" y="2895480"/>
            <a:ext cx="948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实际的销售业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46720" y="5935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心理问卷的测评分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77240" y="563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25680" y="190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8348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55960" y="375588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8120" y="3886200"/>
            <a:ext cx="4724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334120" y="2133720"/>
            <a:ext cx="0" cy="3581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48200" y="1668600"/>
            <a:ext cx="790200" cy="3988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录用标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94556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业绩不达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97724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业绩优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761240" y="3657600"/>
            <a:ext cx="1095120" cy="3988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业绩合格标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93080" y="2209680"/>
            <a:ext cx="1210320" cy="398880"/>
          </a:xfrm>
          <a:prstGeom prst="rect">
            <a:avLst/>
          </a:prstGeom>
          <a:solidFill>
            <a:srgbClr val="00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错误拒绝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79080" y="5181480"/>
            <a:ext cx="1210320" cy="398880"/>
          </a:xfrm>
          <a:prstGeom prst="rect">
            <a:avLst/>
          </a:prstGeom>
          <a:solidFill>
            <a:srgbClr val="00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错误录用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0760" y="5181480"/>
            <a:ext cx="1356840" cy="398880"/>
          </a:xfrm>
          <a:prstGeom prst="rect">
            <a:avLst/>
          </a:prstGeom>
          <a:solidFill>
            <a:srgbClr val="00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确淘汰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1840" y="2209680"/>
            <a:ext cx="1356840" cy="398880"/>
          </a:xfrm>
          <a:prstGeom prst="rect">
            <a:avLst/>
          </a:prstGeom>
          <a:solidFill>
            <a:srgbClr val="00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确录用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952880" y="37332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952880" y="34290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5486400" y="44956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6095880" y="39618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5486400" y="39618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724280" y="36576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5104800" y="35812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41148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5790600" y="42670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5790600" y="40384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5486400" y="41904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5867280" y="28954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6019200" y="30474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6172200" y="28954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6247800" y="30474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5867280" y="33526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5715000" y="35046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6705000" y="2971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7238880" y="27432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6933600" y="2971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6400800" y="3276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6019200" y="34290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6553080" y="32004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33720" y="5753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6400800" y="29718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6553080" y="3124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 flipV="1">
            <a:off x="5562000" y="36576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7238880" y="28954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6172200" y="26668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5486400" y="3276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5638680" y="32004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790600" y="2971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5943600" y="3124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6095880" y="3276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790600" y="35812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6324480" y="28188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6476400" y="2971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6629400" y="3124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6247800" y="32004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6553080" y="27432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705000" y="26668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6858000" y="28188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7010280" y="29718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7086600" y="27432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390800" y="25146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809880" y="45720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429000" y="49528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29200" y="45720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3733200" y="49528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4724280" y="40384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190400" y="45720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190400" y="4114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4495680" y="48762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4114800" y="48762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3961800" y="44190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4495680" y="39618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4343400" y="47242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3809880" y="4419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3276000" y="5257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114800" y="47242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4267080" y="48762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9000" y="50292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3961800" y="45720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4876200" y="39618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581280" y="49528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3657600" y="46476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3809880" y="48006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3886200" y="50292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4343400" y="4267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4495680" y="4419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4647600" y="45720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4800600" y="47242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4647600" y="4114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4800600" y="4267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4952880" y="4419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4876200" y="41904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5029200" y="41148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5181480" y="4267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267080" y="50292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190400" y="42670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4343400" y="4419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4495680" y="45720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4647600" y="472428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5104800" y="44190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3886200" y="47242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4419000" y="41148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572000" y="4267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4724280" y="44190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4876200" y="45720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5181480" y="40384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952880" y="4267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3581280" y="5104800"/>
            <a:ext cx="7632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3276000" y="5029200"/>
            <a:ext cx="7596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581280" y="48006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4038480" y="42670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4190400" y="44190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343400" y="45720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495680" y="472428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647600" y="4876200"/>
            <a:ext cx="75960" cy="759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4800600" y="5029200"/>
            <a:ext cx="76320" cy="7632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352680" y="1905120"/>
            <a:ext cx="3124440" cy="581400"/>
          </a:xfrm>
          <a:prstGeom prst="rect">
            <a:avLst/>
          </a:prstGeom>
          <a:solidFill>
            <a:srgbClr val="ff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四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84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3200400"/>
            <a:ext cx="6629400" cy="1752480"/>
          </a:xfrm>
          <a:prstGeom prst="flowChartMerge">
            <a:avLst/>
          </a:prstGeom>
          <a:solidFill>
            <a:srgbClr val="ffcc00"/>
          </a:solidFill>
          <a:ln w="54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切全部由你来控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41720" y="315900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7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41720" y="315900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7" y="0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16240" y="315900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5"/>
                </a:moveTo>
                <a:lnTo>
                  <a:pt x="7" y="0"/>
                </a:lnTo>
                <a:lnTo>
                  <a:pt x="7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16240" y="3159000"/>
            <a:ext cx="11160" cy="648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0" y="0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1720" y="3841920"/>
            <a:ext cx="11160" cy="61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7" y="0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41720" y="3384720"/>
            <a:ext cx="823680" cy="12600"/>
          </a:xfrm>
          <a:custGeom>
            <a:avLst/>
            <a:gdLst/>
            <a:ahLst/>
            <a:rect l="l" t="t" r="r" b="b"/>
            <a:pathLst>
              <a:path w="519" h="11">
                <a:moveTo>
                  <a:pt x="0" y="0"/>
                </a:moveTo>
                <a:lnTo>
                  <a:pt x="519" y="11"/>
                </a:lnTo>
                <a:lnTo>
                  <a:pt x="5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41720" y="3384720"/>
            <a:ext cx="823680" cy="12600"/>
          </a:xfrm>
          <a:custGeom>
            <a:avLst/>
            <a:gdLst/>
            <a:ahLst/>
            <a:rect l="l" t="t" r="r" b="b"/>
            <a:pathLst>
              <a:path w="519" h="11">
                <a:moveTo>
                  <a:pt x="519" y="11"/>
                </a:moveTo>
                <a:lnTo>
                  <a:pt x="0" y="11"/>
                </a:lnTo>
                <a:lnTo>
                  <a:pt x="0" y="0"/>
                </a:lnTo>
                <a:lnTo>
                  <a:pt x="519" y="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6880" y="3841920"/>
            <a:ext cx="11160" cy="61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6"/>
                </a:moveTo>
                <a:lnTo>
                  <a:pt x="7" y="0"/>
                </a:lnTo>
                <a:lnTo>
                  <a:pt x="7" y="6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3841920"/>
            <a:ext cx="11160" cy="61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0" y="0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3862440"/>
            <a:ext cx="1116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7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0080" y="3405240"/>
            <a:ext cx="1116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7" y="0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5400" y="3405240"/>
            <a:ext cx="814680" cy="12600"/>
          </a:xfrm>
          <a:custGeom>
            <a:avLst/>
            <a:gdLst/>
            <a:ahLst/>
            <a:rect l="l" t="t" r="r" b="b"/>
            <a:pathLst>
              <a:path w="513" h="11">
                <a:moveTo>
                  <a:pt x="0" y="0"/>
                </a:moveTo>
                <a:lnTo>
                  <a:pt x="513" y="11"/>
                </a:lnTo>
                <a:lnTo>
                  <a:pt x="51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5400" y="3405240"/>
            <a:ext cx="814680" cy="12600"/>
          </a:xfrm>
          <a:custGeom>
            <a:avLst/>
            <a:gdLst/>
            <a:ahLst/>
            <a:rect l="l" t="t" r="r" b="b"/>
            <a:pathLst>
              <a:path w="513" h="11">
                <a:moveTo>
                  <a:pt x="513" y="11"/>
                </a:moveTo>
                <a:lnTo>
                  <a:pt x="0" y="11"/>
                </a:lnTo>
                <a:lnTo>
                  <a:pt x="0" y="0"/>
                </a:lnTo>
                <a:lnTo>
                  <a:pt x="513" y="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4600" y="3405240"/>
            <a:ext cx="1080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5"/>
                </a:moveTo>
                <a:lnTo>
                  <a:pt x="7" y="0"/>
                </a:lnTo>
                <a:lnTo>
                  <a:pt x="7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4600" y="3405240"/>
            <a:ext cx="10800" cy="61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0"/>
                </a:moveTo>
                <a:lnTo>
                  <a:pt x="0" y="0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4600" y="3629160"/>
            <a:ext cx="1080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80080" y="3889440"/>
            <a:ext cx="11160" cy="61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7" y="0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44880" y="3889440"/>
            <a:ext cx="11160" cy="61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0" y="0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94400" y="3957480"/>
            <a:ext cx="11160" cy="64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7" y="0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03760" y="3500280"/>
            <a:ext cx="814680" cy="12960"/>
          </a:xfrm>
          <a:custGeom>
            <a:avLst/>
            <a:gdLst/>
            <a:ahLst/>
            <a:rect l="l" t="t" r="r" b="b"/>
            <a:pathLst>
              <a:path w="513" h="11">
                <a:moveTo>
                  <a:pt x="0" y="0"/>
                </a:moveTo>
                <a:lnTo>
                  <a:pt x="513" y="11"/>
                </a:lnTo>
                <a:lnTo>
                  <a:pt x="51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03760" y="3500280"/>
            <a:ext cx="814680" cy="12960"/>
          </a:xfrm>
          <a:custGeom>
            <a:avLst/>
            <a:gdLst/>
            <a:ahLst/>
            <a:rect l="l" t="t" r="r" b="b"/>
            <a:pathLst>
              <a:path w="513" h="11">
                <a:moveTo>
                  <a:pt x="513" y="11"/>
                </a:moveTo>
                <a:lnTo>
                  <a:pt x="0" y="11"/>
                </a:lnTo>
                <a:lnTo>
                  <a:pt x="0" y="0"/>
                </a:lnTo>
                <a:lnTo>
                  <a:pt x="513" y="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92600" y="3500280"/>
            <a:ext cx="11160" cy="1296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6"/>
                </a:moveTo>
                <a:lnTo>
                  <a:pt x="7" y="0"/>
                </a:lnTo>
                <a:lnTo>
                  <a:pt x="7" y="1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68920" y="3957480"/>
            <a:ext cx="11160" cy="648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0" y="0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92600" y="3629160"/>
            <a:ext cx="11160" cy="79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17640" y="3159000"/>
            <a:ext cx="11160" cy="1440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11"/>
                </a:moveTo>
                <a:lnTo>
                  <a:pt x="0" y="5"/>
                </a:lnTo>
                <a:lnTo>
                  <a:pt x="7" y="0"/>
                </a:lnTo>
                <a:lnTo>
                  <a:pt x="7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41680" y="2913120"/>
            <a:ext cx="11160" cy="28440"/>
          </a:xfrm>
          <a:custGeom>
            <a:avLst/>
            <a:gdLst/>
            <a:ahLst/>
            <a:rect l="l" t="t" r="r" b="b"/>
            <a:pathLst>
              <a:path w="7" h="23">
                <a:moveTo>
                  <a:pt x="7" y="23"/>
                </a:moveTo>
                <a:lnTo>
                  <a:pt x="0" y="6"/>
                </a:lnTo>
                <a:lnTo>
                  <a:pt x="7" y="0"/>
                </a:lnTo>
                <a:lnTo>
                  <a:pt x="7" y="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78320" y="2689200"/>
            <a:ext cx="11160" cy="20520"/>
          </a:xfrm>
          <a:custGeom>
            <a:avLst/>
            <a:gdLst/>
            <a:ahLst/>
            <a:rect l="l" t="t" r="r" b="b"/>
            <a:pathLst>
              <a:path w="7" h="17">
                <a:moveTo>
                  <a:pt x="7" y="17"/>
                </a:moveTo>
                <a:lnTo>
                  <a:pt x="0" y="0"/>
                </a:lnTo>
                <a:lnTo>
                  <a:pt x="7" y="5"/>
                </a:lnTo>
                <a:lnTo>
                  <a:pt x="7" y="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31840" y="5638680"/>
            <a:ext cx="219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用來找尋主要的改善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000" y="4416480"/>
            <a:ext cx="289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經銷制度   產銷協調  營銷組織   客戶庫存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581280"/>
            <a:ext cx="2160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268280"/>
          <a:ext cx="86868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6868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14400" y="53341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招聘选拔、业绩目标、薪资标准、奖金制度、培训制度、考评制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033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我選的蘋果是哪一顆 </a:t>
            </a:r>
            <a:r>
              <a:rPr b="1" i="1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i="1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為什麼 </a:t>
            </a:r>
            <a:r>
              <a:rPr b="1" i="1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? -</a:t>
            </a:r>
            <a:r>
              <a:rPr b="1" i="1" lang="zh-TW" sz="2400" spc="-1" strike="noStrike">
                <a:solidFill>
                  <a:srgbClr val="000000"/>
                </a:solidFill>
                <a:latin typeface="黑体"/>
                <a:ea typeface="黑体"/>
              </a:rPr>
              <a:t>柏拉圖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105520"/>
            <a:ext cx="1219320" cy="914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5334120" y="1981080"/>
            <a:ext cx="33526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54160" y="1523880"/>
            <a:ext cx="2314440" cy="520560"/>
          </a:xfrm>
          <a:prstGeom prst="rect">
            <a:avLst/>
          </a:prstGeom>
          <a:solidFill>
            <a:srgbClr val="ffcc00"/>
          </a:solidFill>
          <a:ln w="47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销售人员招聘流程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20520" y="2819520"/>
            <a:ext cx="100368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招聘广告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46480" y="2994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27360" y="467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1600" y="2079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30360" y="2286000"/>
            <a:ext cx="100368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岗位定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43480" y="4038480"/>
            <a:ext cx="72936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电话初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39120" y="5181480"/>
            <a:ext cx="72936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组面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99760" y="3429000"/>
            <a:ext cx="114084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基础资料的筛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16160" y="4648320"/>
            <a:ext cx="100368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特质初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75080" y="505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49520" y="4648320"/>
            <a:ext cx="100368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销售特质测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51040" y="5965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6360" y="5791320"/>
            <a:ext cx="100368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工作场景测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91600" y="6324480"/>
            <a:ext cx="141516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综合评分和录用决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89320" y="232236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华文中宋"/>
              </a:rPr>
              <a:t>21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级台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7016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8280" y="1905120"/>
            <a:ext cx="2057400" cy="914400"/>
          </a:xfrm>
          <a:prstGeom prst="flowChartMagneticTape">
            <a:avLst/>
          </a:prstGeom>
          <a:solidFill>
            <a:srgbClr val="ff6600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14600" y="2057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35840" y="33526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如何观察应聘者的身体语言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707200" y="1828800"/>
            <a:ext cx="1576800" cy="581400"/>
          </a:xfrm>
          <a:prstGeom prst="rect">
            <a:avLst/>
          </a:prstGeom>
          <a:solidFill>
            <a:srgbClr val="00ffff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目  光 凝 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00200" y="2819520"/>
            <a:ext cx="1155960" cy="581400"/>
          </a:xfrm>
          <a:prstGeom prst="rect">
            <a:avLst/>
          </a:prstGeom>
          <a:solidFill>
            <a:srgbClr val="ccffff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撒谎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66680" y="3733920"/>
            <a:ext cx="1155960" cy="581400"/>
          </a:xfrm>
          <a:prstGeom prst="rect">
            <a:avLst/>
          </a:prstGeom>
          <a:solidFill>
            <a:srgbClr val="66ff66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手掌姿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00600" y="3505320"/>
            <a:ext cx="1155960" cy="581400"/>
          </a:xfrm>
          <a:prstGeom prst="rect">
            <a:avLst/>
          </a:prstGeom>
          <a:solidFill>
            <a:srgbClr val="ffcc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握手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6000" y="4724280"/>
            <a:ext cx="1155960" cy="581400"/>
          </a:xfrm>
          <a:prstGeom prst="rect">
            <a:avLst/>
          </a:prstGeom>
          <a:solidFill>
            <a:srgbClr val="ffcc00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评价手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19840" y="5715000"/>
            <a:ext cx="1400040" cy="581400"/>
          </a:xfrm>
          <a:prstGeom prst="rect">
            <a:avLst/>
          </a:prstGeom>
          <a:solidFill>
            <a:srgbClr val="cc99ff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脚位和座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966400" y="1703520"/>
            <a:ext cx="1674360" cy="5205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工作兴趣的面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22440" y="26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30320" y="2895480"/>
            <a:ext cx="359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喜欢打玻璃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永远对他点头微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最为舒适轻松的状况下展示他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403880" cy="55627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895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1600200"/>
            <a:ext cx="7346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勇敢和创新的招聘者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谢谢您的参与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让我们成为朋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共同进步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181480" y="5118120"/>
            <a:ext cx="3962520" cy="17398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72800" y="3067200"/>
            <a:ext cx="713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—————————————————————————————————————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本资料选自国内最具含金量，最全面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力资源顶级方法与实操大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0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实战精华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资料每年升级，全国各地免费送货，货到付款，详情咨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445773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无需验证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96440" y="1668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程为你创造什么样的价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8280" y="2590920"/>
            <a:ext cx="2133720" cy="16761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572000" y="3048120"/>
            <a:ext cx="2209680" cy="6858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78640" y="2666880"/>
            <a:ext cx="1552320" cy="398880"/>
          </a:xfrm>
          <a:prstGeom prst="rect">
            <a:avLst/>
          </a:prstGeom>
          <a:solidFill>
            <a:srgbClr val="ffcc00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是我们需要的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191120"/>
            <a:ext cx="1523880" cy="12189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03840" y="5638680"/>
            <a:ext cx="1400040" cy="398880"/>
          </a:xfrm>
          <a:prstGeom prst="rect">
            <a:avLst/>
          </a:prstGeom>
          <a:solidFill>
            <a:srgbClr val="00ff00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是我们拒绝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181480" y="5257800"/>
            <a:ext cx="914400" cy="3808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099080" y="20732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安徽，甘肃，四川三个分公司招聘效果比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876920"/>
            <a:ext cx="8077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419720"/>
            <a:ext cx="8077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92000" y="3440160"/>
            <a:ext cx="25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招聘模式销售目标达成率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华文中宋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24120" y="499284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旧招聘模式销售目标达成率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华文中宋"/>
              </a:rPr>
              <a:t>5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7400" y="1523880"/>
            <a:ext cx="6781680" cy="5031720"/>
          </a:xfrm>
          <a:prstGeom prst="rect">
            <a:avLst/>
          </a:prstGeom>
          <a:solidFill>
            <a:srgbClr val="ffff00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你对以下的观点看法如何</a:t>
            </a: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方正综艺简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极不同意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意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同意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极其同意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秀的销售人员走到那里都是很能干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秀的销售人员基本上都是能说会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销售中行业中过去的经验特别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努力，每个员工都能做好任何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销售人员的发展和提高重在弥补弱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级对每一个销售人员应该一视同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优秀业绩最重要的是要按照标准方法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受教育程度决定了一个人的内在和外在气质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销售人员热情和信心决定了销售的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好的社会关系可以推断销售的成功可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523880"/>
            <a:ext cx="5410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你的得分是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以下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独具慧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:  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觉不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:  3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3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糊地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以上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待提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E01616_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438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352680" y="1905120"/>
            <a:ext cx="3124440" cy="581400"/>
          </a:xfrm>
          <a:prstGeom prst="rect">
            <a:avLst/>
          </a:prstGeom>
          <a:solidFill>
            <a:srgbClr val="ff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00400"/>
            <a:ext cx="6629400" cy="1752480"/>
          </a:xfrm>
          <a:prstGeom prst="flowChartMerge">
            <a:avLst/>
          </a:prstGeom>
          <a:solidFill>
            <a:srgbClr val="ffcc00"/>
          </a:solidFill>
          <a:ln w="54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症状的诊断和探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9-13T11:35:35Z</dcterms:modified>
  <cp:revision>761</cp:revision>
  <dc:subject/>
  <dc:title>PowerPoint Presentation</dc:title>
</cp:coreProperties>
</file>